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234-FD29-43E0-B0B0-0CE110D8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9BA-6801-434F-B4F2-A6A641D2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47A-9433-4C2B-9E8E-16B42AB7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CD0-6CA6-4370-A1B9-DDE214C1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08DF-E654-4677-B244-2B7D6916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F9F5-4045-450F-B648-E7C67957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1980-4C47-4DF8-BC49-613AC625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B7D3-2046-4C40-9686-AE04BE87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3AB4-A76A-4027-92DC-C4E1F843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D12D-87B9-471B-9228-00CEC7A3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8EEF-0BC1-4B51-8D69-8F7CCEDC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CDB-9534-4EEE-81F6-71E500FF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0D36-F31F-4217-9782-E7EBD0D0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0400-DCEB-49BA-9460-79C5FC28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A557-814D-43DF-8853-84AD98D4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AE82-827F-420D-864E-9D5A5B49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0077-0243-4AC7-80CE-2310DA13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547-E026-482E-A9E0-B9C66D1D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724-E628-410F-948C-BE2C5474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CF4-15DE-4CC6-AB10-C203CD2A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B58-D961-4DF4-A180-9EA62AB5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A0A-DCB4-4275-9992-F249EA41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CFE-05FE-452A-B0B3-DA7801C8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DA3-F68B-4908-859B-F39FA687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D833-7B55-4698-90E0-C524E6136D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DFCD-E92F-4570-BBB3-E39B0DA0BA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nuary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B3C2-D81E-4E2C-BDB6-60935C0F99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ember performance indicated a sixth straight month of declining scores since scores peaked in Ju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une – 154.6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uly – 153.1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gust – 151.3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ptember – 142.5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tober – 137.3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vember – 132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ember – 129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tial scores for December indicate 34 QSEs passed / 1 non-wind-only QSEs failed the meas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FC0-210F-41D9-9A49-11F211CA06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2006 Resource Plan 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E7A-6A95-4431-A4E4-546082AD68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vent Investigations in Progr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t 3, 2006 Bryan area event re-opened for further investigation of restoration and situational awarene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EECP events in December will be revie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. 22, 2006 loss of generation in Eastern ERCOT and manual LaaR deployment is under inves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763-C706-4A7F-B3F7-D3B24FF05B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006 Self-Certif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certification from QSE and Resources are due on Jan. 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ssion self-certifications due in December are being reviewed; several smaller companies received these for the first ti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9E8-FF8A-41D0-A0E8-2257182CA8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ERCOT</cp:lastModifiedBy>
  <dcterms:modified xsi:type="dcterms:W3CDTF">2007-01-10T17:27:26Z</dcterms:modified>
  <cp:revision>271</cp:revision>
  <dc:subject/>
  <dc:title>PRR 525 Compliance Analysis</dc:title>
</cp:coreProperties>
</file>