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A41-D3F3-482F-861F-DC272F28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853-7C51-438B-B26D-72847205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2D6-76CA-42B1-98B1-CA8A15E8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5C9-4290-4A1A-8547-DE9A317F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C83-CD45-4315-991D-BEBE38DD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910-95E6-4601-B678-15696707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064-D9C2-49DE-ADC5-D9DA20ED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335-BAEA-43D4-90CC-FF2643C1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9FE-63B9-4F69-8748-9122B924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1D8-43F3-45D3-98BE-588E7CF7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255-2A68-4976-B368-029766D4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A5C-C1F3-4938-98D6-0BC660D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3FC8-83F6-452C-A77A-6903FD480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95520" y="3166920"/>
            <a:ext cx="5952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tandard Development activities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3962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uar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66680" y="990720"/>
          <a:ext cx="6782040" cy="47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90720"/>
                    <a:ext cx="678204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553080" y="59436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Project 2007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368360" y="923760"/>
          <a:ext cx="6861240" cy="46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923760"/>
                    <a:ext cx="686124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19320" y="990720"/>
          <a:ext cx="6708600" cy="472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08600" cy="47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368360" y="1295280"/>
          <a:ext cx="6407280" cy="367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295280"/>
                    <a:ext cx="640728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66680" y="1066680"/>
          <a:ext cx="64072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64072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 txBox="1"/>
          <p:nvPr/>
        </p:nvSpPr>
        <p:spPr>
          <a:xfrm>
            <a:off x="2743200" y="3809880"/>
            <a:ext cx="3276720" cy="3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Questions?</a:t>
            </a:r>
            <a:endParaRPr b="0" lang="en-US" sz="2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1:28:57Z</dcterms:created>
  <dc:creator>farz</dc:creator>
  <dc:description/>
  <dc:language>en-US</dc:language>
  <cp:lastModifiedBy>farz</cp:lastModifiedBy>
  <dcterms:modified xsi:type="dcterms:W3CDTF">2007-01-08T00:07:10Z</dcterms:modified>
  <cp:revision>6</cp:revision>
  <dc:subject/>
  <dc:title>Slide 1</dc:title>
</cp:coreProperties>
</file>