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BA5DF-AEBB-4B03-9A52-022ABEC9B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83074-5CA1-496C-867E-2E47467CA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85E3C-B141-41DC-873B-4EB16434B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6442B-4314-41C3-91CE-C50B8ACA3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2B87F-642E-4AEF-8D6C-620BC7A89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C429C-6F7C-415B-9B2D-0E62A71F5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3FE23-A111-4C64-AFB6-21D0C3F4B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DE8B8-C1AD-4D65-8825-42AEC7162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C7332-9EE1-4D8E-B0D7-E09600EA3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C52F3-ABF9-40C5-AFA0-07E8BD552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381F7-8689-412C-9BDC-75DF3A0CB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0FE89-AE9F-49D3-ADF5-2938C0117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EE1D-8570-43C2-9140-69204438E3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5440" y="87480"/>
            <a:ext cx="9043920" cy="6701760"/>
            <a:chOff x="55440" y="87480"/>
            <a:chExt cx="9043920" cy="6701760"/>
          </a:xfrm>
        </p:grpSpPr>
        <p:sp>
          <p:nvSpPr>
            <p:cNvPr id="6"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4038480" y="6346800"/>
            <a:ext cx="990720" cy="4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
          <p:cNvSpPr/>
          <p:nvPr/>
        </p:nvSpPr>
        <p:spPr>
          <a:xfrm>
            <a:off x="762120" y="2133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exas Regional Entity Standards Development Process Overvie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Reliability Standards Development Process Step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xas RE Reliability Standards Manager (RSM) is assigned the task of ensuring that the development, revision or deletion of Standards is in accordance with the Texas RE Standards Development Process  </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SM will manage the Standards Development Process and coordinate and facilitate all actions</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approval of a draft Standard action by the ERCOT Board, the RSM will notify the membership of such action of the Board</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SM will take whatever steps are necessary to have a Standard reviewed and/or approved by NERC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6" name=""/>
          <p:cNvSpPr/>
          <p:nvPr/>
        </p:nvSpPr>
        <p:spPr>
          <a:xfrm>
            <a:off x="533520" y="304920"/>
            <a:ext cx="8229600" cy="114300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Questions</a:t>
            </a:r>
            <a:endParaRPr b="0" lang="en-US" sz="4000" spc="-1" strike="noStrike">
              <a:solidFill>
                <a:srgbClr val="000000"/>
              </a:solidFill>
              <a:latin typeface="Arial"/>
            </a:endParaRPr>
          </a:p>
        </p:txBody>
      </p:sp>
      <p:sp>
        <p:nvSpPr>
          <p:cNvPr id="67" name=""/>
          <p:cNvSpPr/>
          <p:nvPr/>
        </p:nvSpPr>
        <p:spPr>
          <a:xfrm>
            <a:off x="3429000" y="1295280"/>
            <a:ext cx="2438280" cy="4114800"/>
          </a:xfrm>
          <a:prstGeom prst="rect">
            <a:avLst/>
          </a:prstGeom>
          <a:noFill/>
          <a:ln w="0">
            <a:noFill/>
          </a:ln>
          <a:effectLst>
            <a:outerShdw dist="71785" dir="270000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68" name=""/>
          <p:cNvSpPr/>
          <p:nvPr/>
        </p:nvSpPr>
        <p:spPr>
          <a:xfrm>
            <a:off x="3429000" y="1295280"/>
            <a:ext cx="2438280" cy="4114800"/>
          </a:xfrm>
          <a:prstGeom prst="rect">
            <a:avLst/>
          </a:prstGeom>
          <a:noFill/>
          <a:ln w="0">
            <a:noFill/>
          </a:ln>
          <a:effectLst>
            <a:outerShdw dist="81185" dir="1312197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ffff00"/>
                </a:solidFill>
                <a:latin typeface="Arial"/>
              </a:rPr>
              <a:t>?</a:t>
            </a:r>
            <a:endParaRPr b="0" lang="en-US" sz="3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Delegation Agreement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o Forma</a:t>
            </a:r>
            <a:r>
              <a:rPr b="0" lang="en-US" sz="2400" spc="-1" strike="noStrike">
                <a:solidFill>
                  <a:srgbClr val="000000"/>
                </a:solidFill>
                <a:latin typeface="Arial"/>
              </a:rPr>
              <a:t> Delegation Agreement</a:t>
            </a:r>
            <a:endParaRPr b="0" lang="en-US" sz="24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Regional Entity must represent to the ERO that it will meet the statutory and regulatory requirements for governance and has developed programs and procedures for Standards development and Regional enforcement</a:t>
            </a:r>
            <a:endParaRPr b="0" lang="en-US" sz="20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a:t>
            </a:r>
            <a:endParaRPr b="0" lang="en-US" sz="2000" spc="-1" strike="noStrike">
              <a:solidFill>
                <a:srgbClr val="000000"/>
              </a:solidFill>
              <a:latin typeface="Arial"/>
            </a:endParaRPr>
          </a:p>
          <a:p>
            <a:pPr lvl="2" marL="1131480" indent="-22608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ency among the Regional Entity Delegation Agreements</a:t>
            </a:r>
            <a:endParaRPr b="0" lang="en-US" sz="1800" spc="-1" strike="noStrike">
              <a:solidFill>
                <a:srgbClr val="000000"/>
              </a:solidFill>
              <a:latin typeface="Arial"/>
            </a:endParaRPr>
          </a:p>
          <a:p>
            <a:pPr lvl="2" marL="1131480" indent="-22608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elements are to be standardized to facilitate uniformity in ERO-Regional Entity relationships, Regional Entity processes, accountability, and enforcement of Reliability Standards</a:t>
            </a:r>
            <a:endParaRPr b="0" lang="en-US" sz="1800" spc="-1" strike="noStrike">
              <a:solidFill>
                <a:srgbClr val="000000"/>
              </a:solidFill>
              <a:latin typeface="Arial"/>
            </a:endParaRPr>
          </a:p>
          <a:p>
            <a:pPr lvl="2" marL="1131480" indent="-22608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l Entity processes should be uniform unless Regional facts require a difference</a:t>
            </a:r>
            <a:endParaRPr b="0" lang="en-US" sz="1800" spc="-1" strike="noStrike">
              <a:solidFill>
                <a:srgbClr val="000000"/>
              </a:solidFill>
              <a:latin typeface="Arial"/>
            </a:endParaRPr>
          </a:p>
          <a:p>
            <a:pPr lvl="2" marL="1131480" indent="-22608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l differences and unique system needs are addressed by addenda to each Regional Entity’s individual Delegation Agre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Reliability Standards Development Proces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ility Standards adopted by NERC set forth the reliability requirements for planning and operating the Bulk Power System, as specifically applicable to the ERCOT Region </a:t>
            </a:r>
            <a:endParaRPr b="0" lang="en-US" sz="2400" spc="-1" strike="noStrike">
              <a:solidFill>
                <a:srgbClr val="000000"/>
              </a:solidFill>
              <a:latin typeface="Arial"/>
            </a:endParaRPr>
          </a:p>
          <a:p>
            <a:pPr marL="343080" indent="-343080">
              <a:lnSpc>
                <a:spcPct val="8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four (34) “common attributes” that each Regional Entity’s Standards Development Process must satisfy</a:t>
            </a:r>
            <a:endParaRPr b="0" lang="en-US" sz="2400" spc="-1" strike="noStrike">
              <a:solidFill>
                <a:srgbClr val="000000"/>
              </a:solidFill>
              <a:latin typeface="Arial"/>
            </a:endParaRPr>
          </a:p>
          <a:p>
            <a:pPr marL="343080" indent="-343080">
              <a:lnSpc>
                <a:spcPct val="8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individual Delegation Agreements, the specific language from each Regional Entity’s Standards Development Process that supports each “common attribute” must be provided  </a:t>
            </a:r>
            <a:endParaRPr b="0" lang="en-US" sz="2400" spc="-1" strike="noStrike">
              <a:solidFill>
                <a:srgbClr val="000000"/>
              </a:solidFill>
              <a:latin typeface="Arial"/>
            </a:endParaRPr>
          </a:p>
          <a:p>
            <a:pPr marL="343080" indent="-343080">
              <a:lnSpc>
                <a:spcPct val="8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tial differences from each “common attribute” must be explained and justifi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Reliability Standards Development Proces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Specific Reliability Standards are to be developed consistent with the philosophies contained in the Texas RE Standards Development Process: </a:t>
            </a:r>
            <a:endParaRPr b="0" lang="en-US" sz="24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in a fair and open process that provides an opportunity for all interested parties to participate</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have an adverse impact on competitive electricity markets that is not necessary for reliability</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level of Bulk Power System reliability that is adequate to protect public health, safety, welfare, and national security and does not have a significant adverse impact on reliability</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a justifiable difference between regions or between sub-regions within the Regional geographic are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Reliability Standards Development Process Step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a Standards Authorization Request (SAR) to develop, revise or delete a Regional Reliability Standard</a:t>
            </a:r>
            <a:endParaRPr b="0" lang="en-US" sz="2400" spc="-1" strike="noStrike">
              <a:solidFill>
                <a:srgbClr val="000000"/>
              </a:solidFill>
              <a:latin typeface="Arial"/>
            </a:endParaRPr>
          </a:p>
          <a:p>
            <a:pPr marL="609480" indent="-6094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iability Standards Committee accepts the SAR </a:t>
            </a:r>
            <a:endParaRPr b="0" lang="en-US" sz="2400" spc="-1" strike="noStrike">
              <a:solidFill>
                <a:srgbClr val="000000"/>
              </a:solidFill>
              <a:latin typeface="Arial"/>
            </a:endParaRPr>
          </a:p>
          <a:p>
            <a:pPr marL="609480" indent="-6094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S forms a Standard Drafting Team (SDT)</a:t>
            </a:r>
            <a:endParaRPr b="0" lang="en-US" sz="2400" spc="-1" strike="noStrike">
              <a:solidFill>
                <a:srgbClr val="000000"/>
              </a:solidFill>
              <a:latin typeface="Arial"/>
            </a:endParaRPr>
          </a:p>
          <a:p>
            <a:pPr marL="609480" indent="-6094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k product of the SDT will consist of:</a:t>
            </a:r>
            <a:endParaRPr b="0" lang="en-US" sz="2400" spc="-1" strike="noStrike">
              <a:solidFill>
                <a:srgbClr val="000000"/>
              </a:solidFill>
              <a:latin typeface="Arial"/>
            </a:endParaRPr>
          </a:p>
          <a:p>
            <a:pPr lvl="1" marL="990720" indent="-533520">
              <a:lnSpc>
                <a:spcPct val="90000"/>
              </a:lnSpc>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Standard consistent with the SAR</a:t>
            </a:r>
            <a:endParaRPr b="0" lang="en-US" sz="2000" spc="-1" strike="noStrike">
              <a:solidFill>
                <a:srgbClr val="000000"/>
              </a:solidFill>
              <a:latin typeface="Arial"/>
            </a:endParaRPr>
          </a:p>
          <a:p>
            <a:pPr lvl="1" marL="990720" indent="-533520">
              <a:lnSpc>
                <a:spcPct val="90000"/>
              </a:lnSpc>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the impact on neighboring Regions</a:t>
            </a:r>
            <a:endParaRPr b="0" lang="en-US" sz="2000" spc="-1" strike="noStrike">
              <a:solidFill>
                <a:srgbClr val="000000"/>
              </a:solidFill>
              <a:latin typeface="Arial"/>
            </a:endParaRPr>
          </a:p>
          <a:p>
            <a:pPr lvl="1" marL="990720" indent="-533520">
              <a:lnSpc>
                <a:spcPct val="90000"/>
              </a:lnSpc>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Plan</a:t>
            </a:r>
            <a:endParaRPr b="0" lang="en-US" sz="2000" spc="-1" strike="noStrike">
              <a:solidFill>
                <a:srgbClr val="000000"/>
              </a:solidFill>
              <a:latin typeface="Arial"/>
            </a:endParaRPr>
          </a:p>
          <a:p>
            <a:pPr lvl="1" marL="990720" indent="-533520">
              <a:lnSpc>
                <a:spcPct val="90000"/>
              </a:lnSpc>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of any existing Standard that will be impacted</a:t>
            </a:r>
            <a:endParaRPr b="0" lang="en-US" sz="2000" spc="-1" strike="noStrike">
              <a:solidFill>
                <a:srgbClr val="000000"/>
              </a:solidFill>
              <a:latin typeface="Arial"/>
            </a:endParaRPr>
          </a:p>
          <a:p>
            <a:pPr lvl="1" marL="990720" indent="-533520">
              <a:lnSpc>
                <a:spcPct val="90000"/>
              </a:lnSpc>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reports/work papers that provide technical support</a:t>
            </a:r>
            <a:endParaRPr b="0" lang="en-US" sz="2000" spc="-1" strike="noStrike">
              <a:solidFill>
                <a:srgbClr val="000000"/>
              </a:solidFill>
              <a:latin typeface="Arial"/>
            </a:endParaRPr>
          </a:p>
          <a:p>
            <a:pPr lvl="1" marL="990720" indent="-533520">
              <a:lnSpc>
                <a:spcPct val="90000"/>
              </a:lnSpc>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ived impact should the draft Standard be approved</a:t>
            </a:r>
            <a:r>
              <a:rPr b="0" lang="en-US" sz="28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Reliability Standards Development Process Step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SC verifies that the draft Standard is consistent with the SAR</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aft Standard is posted on the Texas RE Website for a 30-day comment period</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comments received, the SDT will convene to consider changes to the draft Standard</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s to all comments will be posted and based on the comments, the draft Standard may be reposted</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RSC concurrence that all SAR requirements are met, the draft Standard and Implementation Plan are posted for vote by the Texas RE Membershi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Reliability Standards Development Process Steps</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xas RE registered ballot body shall vote on the draft Standard during a 15-day period.</a:t>
            </a:r>
            <a:endParaRPr b="0" lang="en-US" sz="24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members of the Texas RE</a:t>
            </a:r>
            <a:r>
              <a:rPr b="0" i="1" lang="en-US" sz="2000" spc="-1" strike="noStrike">
                <a:solidFill>
                  <a:srgbClr val="000000"/>
                </a:solidFill>
                <a:latin typeface="Arial"/>
              </a:rPr>
              <a:t> </a:t>
            </a:r>
            <a:r>
              <a:rPr b="0" lang="en-US" sz="2000" spc="-1" strike="noStrike">
                <a:solidFill>
                  <a:srgbClr val="000000"/>
                </a:solidFill>
                <a:latin typeface="Arial"/>
              </a:rPr>
              <a:t>are eligible to participate in voting on proposed new Standards, Standard revisions, or Standard deletions</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ember company shall have one vote and designate a person as the primary representative and a secondary contact as the backup for voting</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tes shall be submitted electronically</a:t>
            </a:r>
            <a:endParaRPr b="0" lang="en-US" sz="2000" spc="-1" strike="noStrike">
              <a:solidFill>
                <a:srgbClr val="000000"/>
              </a:solidFill>
              <a:latin typeface="Arial"/>
            </a:endParaRPr>
          </a:p>
          <a:p>
            <a:pPr lvl="2" marL="1143000" indent="-228600">
              <a:lnSpc>
                <a:spcPct val="90000"/>
              </a:lnSpc>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east one (1) Texas RE Member Representative from five (5) of the seven (7) ERCOT Market Participant Segments must vote to constitute a quorum </a:t>
            </a:r>
            <a:endParaRPr b="0" lang="en-US" sz="1800" spc="-1" strike="noStrike">
              <a:solidFill>
                <a:srgbClr val="000000"/>
              </a:solidFill>
              <a:latin typeface="Arial"/>
            </a:endParaRPr>
          </a:p>
          <a:p>
            <a:pPr lvl="2" marL="1143000" indent="-228600">
              <a:lnSpc>
                <a:spcPct val="90000"/>
              </a:lnSpc>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egment shall have one (1) Segment Vote </a:t>
            </a:r>
            <a:endParaRPr b="0" lang="en-US" sz="1800" spc="-1" strike="noStrike">
              <a:solidFill>
                <a:srgbClr val="000000"/>
              </a:solidFill>
              <a:latin typeface="Arial"/>
            </a:endParaRPr>
          </a:p>
          <a:p>
            <a:pPr lvl="2" marL="1143000" indent="-228600">
              <a:lnSpc>
                <a:spcPct val="90000"/>
              </a:lnSpc>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resentative of each voting Texas RE Member shall receive an equal fraction of its Segment Vo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Reliability Standards Development Process Step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draft Standard receives 4.67 (2/3 of 7 Segments) or greater affirmative votes during the 15-day voting period, the RSC will forward the Standard to the ERCOT Board for action </a:t>
            </a:r>
            <a:endParaRPr b="0" lang="en-US" sz="24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draft Standard does not receive 4.67 or greater affirmative votes during the 15-day voting period, the RSC may:</a:t>
            </a:r>
            <a:endParaRPr b="0" lang="en-US" sz="24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 the SAR and remand back to the SDT</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the SDT to reconsider or modify certain aspects of the draft Standard and/or implementation plan</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 termination of all work on the development of the Standard action under consideration and so notify the ERCOT Boar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Reliability Standards Development Process Steps</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draft Standard that receives 4.67 or greater affirmative votes, the ERCOT Board will either:</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 the proposed Regional Reliability Standard;</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nd the proposed Regional Reliability Standard to the RSC with comments and instructions; or</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pprove the proposed Regional Reliability Standard action without recourse.</a:t>
            </a:r>
            <a:endParaRPr b="0" lang="en-US" sz="20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n ERCOT-Specific Reliability Standard is approved by the ERCOT Board, the Standard will be submitted to NERC for approval and filing with FER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0:14:27Z</dcterms:created>
  <dc:creator>OTStrain01</dc:creator>
  <dc:description/>
  <dc:language>en-US</dc:language>
  <cp:lastModifiedBy>ftafreshi</cp:lastModifiedBy>
  <dcterms:modified xsi:type="dcterms:W3CDTF">2007-01-10T19:12:23Z</dcterms:modified>
  <cp:revision>163</cp:revision>
  <dc:subject/>
  <dc:title>Slide 1</dc:title>
</cp:coreProperties>
</file>