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A48-39F2-4A70-A44B-23E1894B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CA0-644F-410F-AA33-9F8C5CFF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043-FB6C-4E82-A13F-7418EF49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CF5-E9D5-4DB5-BE8F-08126DD1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439-53E4-4158-8B83-AF2FD13F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330-FB5F-4423-A2D1-857A2C01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061-8808-4624-B6D3-4581CE75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F79-AF72-4619-BB3B-92CF748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E3B-0919-4837-9E9B-CD6D719F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0BA-31A0-4DD5-9E21-7AD13F93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931-2568-42F0-BE50-55FF229D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717-4803-48CB-9CFF-0A4F8A1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A072-0A62-4B09-93D7-838A3216D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3048120"/>
            <a:ext cx="70102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ERC Standards Development Activities 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962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990720" y="0"/>
          <a:ext cx="7315200" cy="655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73152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066680" y="457200"/>
          <a:ext cx="7239240" cy="580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457200"/>
                    <a:ext cx="723924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62120" y="671400"/>
          <a:ext cx="7619760" cy="536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71400"/>
                    <a:ext cx="76197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143000" y="838080"/>
          <a:ext cx="6629400" cy="487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838080"/>
                    <a:ext cx="6629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838080" y="1066680"/>
          <a:ext cx="6908760" cy="2171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69087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2743200" y="3809880"/>
            <a:ext cx="3581280" cy="3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Questions?</a:t>
            </a:r>
            <a:endParaRPr b="0" lang="en-US" sz="2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787480" y="304920"/>
            <a:ext cx="3660840" cy="59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457200"/>
            <a:ext cx="20574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xRE Regional Standards Development flow chart … From: Appendix D of the Delegation agre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09680" y="152280"/>
            <a:ext cx="4730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28:57Z</dcterms:created>
  <dc:creator>farz</dc:creator>
  <dc:description/>
  <dc:language>en-US</dc:language>
  <cp:lastModifiedBy>ftafreshi</cp:lastModifiedBy>
  <dcterms:modified xsi:type="dcterms:W3CDTF">2007-01-10T16:25:31Z</dcterms:modified>
  <cp:revision>13</cp:revision>
  <dc:subject/>
  <dc:title>Slide 1</dc:title>
</cp:coreProperties>
</file>