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A861-268C-4E7E-BB09-36AAB09A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A77B-C78A-4697-947D-0D0BDA18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92EEB-6B61-423B-AF90-97F1ED7D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4F61B-6B5A-42C8-B19F-6C8DC7AF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A0C7E-70CA-4ECF-A782-FA91D5F19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C631F-06B2-4B62-8C7D-BB0AF2F7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F42CA-2802-4FD0-A0A2-B00952B3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8AD29-CFE8-44FA-99A8-59509CC5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8D0D-A096-4991-96C1-572CD6D1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4E6F-9826-46ED-B241-C5D16B7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D3F1-1D75-4DF6-BDA1-1133F43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179F3-2C5E-4995-8F30-32CF682A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4A2-7623-40CB-BD00-7DB1DB969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view of Dec 2006 Invoices Incid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/08/06 – 12/10/06 – Tibco RBP migra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/14/06 - Invoices published through Tibco for the first time in Prod.  Staff noticed formatting of Late Fees not displayed properly.  Root cause: Tibco configuration of XML formatting.  Notice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/15/06 AM – Staff noticed 22 of 125 invoices contained incorrect dollar amounts. Root cause: Tibco configuration of decimal placing. Notice s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/15/06 PM – Reposted invoices to correct dollar amounts (manually corrected).  Late fee formatting was not fixed at this time.  Notice s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/18/06 PM – Tibco fix received.  Reposted invoices to correct Late Fee formatting.  Notice sen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barnes</cp:lastModifiedBy>
  <dcterms:modified xsi:type="dcterms:W3CDTF">2007-01-08T18:33:52Z</dcterms:modified>
  <cp:revision>56</cp:revision>
  <dc:subject/>
  <dc:title>Instructions</dc:title>
</cp:coreProperties>
</file>