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FE38-8E50-41D8-852B-2E91AF66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D94F-1175-47E5-96DB-D737F424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D752-E7CC-4782-808E-6CCE7801B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E08DF-1FE5-44AA-85A9-4958D7BD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210A-9518-4A21-B7C7-0AF75386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27520-26EA-4F56-9369-AA2A394F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FFAD-6BE0-44A1-990B-1BBEFBEC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20106-D11D-4F38-AAE0-14E50662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6E91-7C48-4B80-910E-145FB43D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348F-01AA-4599-B17D-D2652B55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AA170-240E-4F50-A3CE-D4F3A9A3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C0475-E9C6-487D-81B8-5AB9D0B2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B87C-87EA-4418-9712-2FC86D06E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ttlement &amp; Billing Extra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erchanged Field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01/09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ttlement &amp; Billing Extr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gration Timel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/21/2006 – Production Migration of changes to PR 40042_06 Lodestar Batch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/22/2006 – Production Stabilization begin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9/22/2006 – 10/22/2006 – Market testing/review of stabilization f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/10/2006 – Go l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/11/2006 – First set of Load, Generation and Settlement &amp; Billing extracts produced from 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changed colum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Settlement &amp; Billing Extracts posted 11/14 - 11/19 (no extracts run/posted 11/11-11/13 to introduce lag) had the Generation_Unit_Code and Transaction_Date fields interchanged in the Settlement_Interval CSV fil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_Unit_Code is stored as VARCHAR(64) and Transaction_Date is stored as DATE. Therefore, when the Generation_Unit_Code attempted to insert into the Transaction_Date field, the record would fail to load into the data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 not found in internal or market t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ata is sent to QSEs representing gen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ic corrected prior to the production of this extract on 11/20/2006 using DDL version 10, which was posted on 10/14/2002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01/09/200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1D66-9671-4E45-A0CF-3860DB0170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Enterprise Information Services (EIS)</dc:creator>
  <dc:description/>
  <dc:language>en-US</dc:language>
  <cp:lastModifiedBy>balbracht</cp:lastModifiedBy>
  <dcterms:modified xsi:type="dcterms:W3CDTF">2007-01-08T23:44:39Z</dcterms:modified>
  <cp:revision>69</cp:revision>
  <dc:subject>EIS BI Layer</dc:subject>
  <dc:title>EIS BI Layer Overview</dc:title>
</cp:coreProperties>
</file>