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563CD-9734-4827-B2C5-6A50F6FB11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5CF1-A5F9-4A73-98C8-DEBC404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DF296-EAF2-4B9F-91D5-AF2EF94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067BC-F3C9-41DF-9D70-495EA145F9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BA1B-F721-4FB8-B65E-C22DDFD3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746B-9DD4-4D6D-BC28-896DF906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6578E-5B69-4EAD-8E47-4C3CC0E2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28FA-1B33-404A-B41A-364DBC8A5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9067-FD14-4B50-BF41-C3FA2B36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1059-0194-45EC-A667-9F84E8E0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9C8A-C022-41A8-AD86-2D13B1715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74FE-145B-417E-AC85-93D6373A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9C59-A86A-4B3D-BE7C-D8838AF03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Reliant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January 9,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732F5-BD6E-43C4-9B67-797605EAF8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8305920" cy="441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9AA9-5EFC-443B-A159-42B77828291E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828800"/>
            <a:ext cx="85341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xisting Profile Evaluation and New Profile Recommend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Voting Package approved at Nov. 16, 2006 COPS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AC approved on Dec. 1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efore BOD on Dec. 12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5/15/2007 Implementation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917E-250B-4975-9885-EDFCB3F11DE5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828800"/>
            <a:ext cx="85341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S sample selection round tw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.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Number of additional meters pending accuracy and allocation criter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.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review on Jan. 30,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99A9D-282E-461C-AB9B-38F3D48692B9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828800"/>
            <a:ext cx="853416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ing new profile requests – Oil &amp; 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RCOT Recommendation in favor of a flat profile was approved by PWG consensus at the June 28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hanged to ERCOT Sponsored and supported by PWG see next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imbursement has been waived by Reques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PS approves concept at Septem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AC approves concept at October Mee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PWG working on LPGRR on Oct. 25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PGRR017 posted for comments on Oct. 26, 200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modified the decision tree language on 12/2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WG to review IA and or CBA on Jan. 30, 200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timated 8/7/2007 implementation 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886C7-DC3F-41C6-8508-FB1F8745EEE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13716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6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752480"/>
            <a:ext cx="853416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Stabilizing Annual Validation Migration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nnual Validation 2006 per weekly upd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ll transactions comple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esidential 99.9% and Business 99.9% reconciled with TDS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 to be drafted to clarify completion metri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LPGRR draft submitted on default assignments by weather z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7855E-F4C4-42E7-8690-8673FDFAF0B0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5238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762280" y="2133720"/>
            <a:ext cx="3257640" cy="38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E4889-45B2-414A-B183-AA29C84D2A0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9,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Windows XP ver. 2.2</cp:lastModifiedBy>
  <dcterms:modified xsi:type="dcterms:W3CDTF">2006-12-21T16:12:31Z</dcterms:modified>
  <cp:revision>205</cp:revision>
  <dc:subject/>
  <dc:title>PowerPoint Presentation</dc:title>
</cp:coreProperties>
</file>