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EEE03-11B1-4176-B8D8-02C6A7C33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6FB54-A773-4BC0-8C81-1CAF4D258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C5CCA-CF34-4C09-97EA-7BEC1324C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41D08-F63F-499F-9E6B-F8872BC62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D9371-9962-41AB-8176-794DDD5C4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FEDC8-DCF3-4AA7-8CBB-BEF387634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6ECC9-4A23-4A87-B512-2BECE1F95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C0A79-7A6E-4780-817E-5ADF06ADD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B063E-E1E7-43A8-BDB1-5DDE160CD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1BCEA-F58E-4F2C-BEC7-1F0C55248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5617A-C741-4F1E-A1D6-714C45BF6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13652-68C2-47BC-8070-6DAC262B9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D1E8-63AF-4D9E-A068-61ED46D1D5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4038480" y="634680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7" name=""/>
          <p:cNvSpPr/>
          <p:nvPr/>
        </p:nvSpPr>
        <p:spPr>
          <a:xfrm>
            <a:off x="762120" y="2133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exas Regional Entity 2007 Budget Overview</a:t>
            </a:r>
            <a:endParaRPr b="0" lang="en-US" sz="4400" spc="-1" strike="noStrike">
              <a:solidFill>
                <a:srgbClr val="000000"/>
              </a:solidFill>
              <a:latin typeface="Arial"/>
            </a:endParaRPr>
          </a:p>
        </p:txBody>
      </p:sp>
      <p:sp>
        <p:nvSpPr>
          <p:cNvPr id="48" name=""/>
          <p:cNvSpPr/>
          <p:nvPr/>
        </p:nvSpPr>
        <p:spPr>
          <a:xfrm>
            <a:off x="1447920" y="388944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arry D. Grimm</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RCOT Compli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mpliance</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RCOT Compliance currently leading an effort to register all Entities that are users, owners, and operators of the Bulk Electric System that will be responsible for complying with NERC Reliability Standards</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30 Generator Owners (GO)</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6 Generator Operators (QSEs with Resources) </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6 Transmission Owners (TO)/Transmission Planners (TP)</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 Distribution Providers (DP with primary responsibility of under-frequency and/or under-voltage load shedding)</a:t>
            </a:r>
            <a:endParaRPr b="0" lang="en-US" sz="20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RCOT ISO registered as [Reliability Coordinator (RC), Transmission Operator (TOP), Balancing Authority (BA), Planning Authority (PA), Transmission Service Provider (TSP), Resource Planner (RP)]</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mpliance Monitoring &amp; Enforcement</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ight (8) monitoring processes used by the Compliance Enforcement Authority (CEA) to collect information in order to make assessments of compliance with Reliability Standards by Registered Entities:</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mpliance Audits</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lf-Certification</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pot Checking</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mpliance Violation Investigations</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lf-Reporting</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iodic Data Submittals</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xception Reporting </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mplai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mpliance Audits</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ducting compliance audits of all responsible entities is a key component of the Compliance Enforcement Program</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mpliance Audits conducted on 3-year cycle</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ansmission Owners/Planners</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8 audits/year</a:t>
            </a:r>
            <a:endParaRPr b="0" lang="en-US" sz="20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stribution Providers with UFLS responsibilities</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audit/year</a:t>
            </a:r>
            <a:endParaRPr b="0" lang="en-US" sz="20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enerator Operators (QSEs with Resources)</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9 audits/year</a:t>
            </a:r>
            <a:endParaRPr b="0" lang="en-US" sz="20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enerator Owners</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43 audits/yea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ore Audits &amp; Certifica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liability Readiness Audits – Conducted to ensure that operators of the Bulk Electric System have the facilities, tools, processes, and procedures in place to operate reliably under future conditions</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f-Certifications – Conducted in years when an entity does not receive a Compliance Audit requiring an entity to certify that it is in compliance with each designated measure or disclose any non-compliance</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ganization Certification – Required of some registered entities to meet certain criteria to demonstrate that they are able to perform the tasks required by the standard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More Audits &amp; Certification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liability Readiness Audits </a:t>
            </a:r>
            <a:endParaRPr b="0" lang="en-US" sz="24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urrently conducted on a 3-year cycle</a:t>
            </a:r>
            <a:endParaRPr b="0" lang="en-US" sz="20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ransmission Operator Sub-Entities LCC – 5 audits/year</a:t>
            </a:r>
            <a:endParaRPr b="0" lang="en-US" sz="20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RC TOPs and RCs - ~61 audits/year conducted – some require Texas RE participation</a:t>
            </a:r>
            <a:endParaRPr b="0" lang="en-US" sz="20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y be conducted on QSEs with Resources in the future</a:t>
            </a:r>
            <a:endParaRPr b="0" lang="en-US" sz="2000" spc="-1" strike="noStrike">
              <a:solidFill>
                <a:srgbClr val="000000"/>
              </a:solidFill>
              <a:latin typeface="Arial"/>
            </a:endParaRPr>
          </a:p>
          <a:p>
            <a:pPr marL="339480" indent="-3394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lf-Certifications </a:t>
            </a:r>
            <a:endParaRPr b="0" lang="en-US" sz="24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40 self-certifications/year</a:t>
            </a:r>
            <a:endParaRPr b="0" lang="en-US" sz="2000" spc="-1" strike="noStrike">
              <a:solidFill>
                <a:srgbClr val="000000"/>
              </a:solidFill>
              <a:latin typeface="Arial"/>
            </a:endParaRPr>
          </a:p>
          <a:p>
            <a:pPr marL="339480" indent="-3394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ganization Certification  </a:t>
            </a:r>
            <a:endParaRPr b="0" lang="en-US" sz="24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quired for those entities registered as RCs, TOPs, &amp; BAs</a:t>
            </a:r>
            <a:endParaRPr b="0" lang="en-US" sz="20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y be required in the future for those entities performing delegated TOP and BA ta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79" name=""/>
          <p:cNvSpPr/>
          <p:nvPr/>
        </p:nvSpPr>
        <p:spPr>
          <a:xfrm>
            <a:off x="533520" y="304920"/>
            <a:ext cx="8229600" cy="114300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Questions</a:t>
            </a:r>
            <a:endParaRPr b="0" lang="en-US" sz="4000" spc="-1" strike="noStrike">
              <a:solidFill>
                <a:srgbClr val="000000"/>
              </a:solidFill>
              <a:latin typeface="Arial"/>
            </a:endParaRPr>
          </a:p>
        </p:txBody>
      </p:sp>
      <p:sp>
        <p:nvSpPr>
          <p:cNvPr id="80" name=""/>
          <p:cNvSpPr/>
          <p:nvPr/>
        </p:nvSpPr>
        <p:spPr>
          <a:xfrm>
            <a:off x="3429000" y="1295280"/>
            <a:ext cx="2438280" cy="4114800"/>
          </a:xfrm>
          <a:prstGeom prst="rect">
            <a:avLst/>
          </a:prstGeom>
          <a:noFill/>
          <a:ln w="0">
            <a:noFill/>
          </a:ln>
          <a:effectLst>
            <a:outerShdw dist="71785" dir="270000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81" name=""/>
          <p:cNvSpPr/>
          <p:nvPr/>
        </p:nvSpPr>
        <p:spPr>
          <a:xfrm>
            <a:off x="3429000" y="1295280"/>
            <a:ext cx="2438280" cy="4114800"/>
          </a:xfrm>
          <a:prstGeom prst="rect">
            <a:avLst/>
          </a:prstGeom>
          <a:noFill/>
          <a:ln w="0">
            <a:noFill/>
          </a:ln>
          <a:effectLst>
            <a:outerShdw dist="81185" dir="1312197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ffff00"/>
                </a:solidFill>
                <a:latin typeface="Arial"/>
              </a:rPr>
              <a:t>?</a:t>
            </a:r>
            <a:endParaRPr b="0" lang="en-US" sz="3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49"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Introduction</a:t>
            </a:r>
            <a:endParaRPr b="0" lang="en-US" sz="4000" spc="-1" strike="noStrike">
              <a:solidFill>
                <a:srgbClr val="000000"/>
              </a:solidFill>
              <a:latin typeface="Arial"/>
            </a:endParaRPr>
          </a:p>
        </p:txBody>
      </p:sp>
      <p:sp>
        <p:nvSpPr>
          <p:cNvPr id="50"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ignificant change and activity since the Energy Policy Act (EPA) of 2005 was signed into law by President Bush on August 8, 2005.</a:t>
            </a:r>
            <a:endParaRPr b="0" lang="en-US" sz="2800" spc="-1" strike="noStrike">
              <a:solidFill>
                <a:srgbClr val="000000"/>
              </a:solidFill>
              <a:latin typeface="Arial"/>
            </a:endParaRPr>
          </a:p>
          <a:p>
            <a:pPr marL="339480" indent="-339480">
              <a:spcBef>
                <a:spcPts val="7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ctober 24, 2006:  FERC conditionally accepts the 2007 NERC and Regional  Entity (RE) budgets</a:t>
            </a:r>
            <a:endParaRPr b="0" lang="en-US" sz="2800" spc="-1" strike="noStrike">
              <a:solidFill>
                <a:srgbClr val="000000"/>
              </a:solidFill>
              <a:latin typeface="Arial"/>
            </a:endParaRPr>
          </a:p>
          <a:p>
            <a:pPr marL="339480" indent="-339480">
              <a:spcBef>
                <a:spcPts val="7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ovember 17, 2006:  ERCOT submits to NERC the proposed Delegation Agreement between NERC and the Texas Regional Entity, including all required Exhibits and Attachments</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Budget</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Texas RE shall have a separate budget</a:t>
            </a:r>
            <a:r>
              <a:rPr b="0" lang="en-US" sz="2800" spc="-1" strike="noStrike">
                <a:solidFill>
                  <a:srgbClr val="ffff00"/>
                </a:solidFill>
                <a:latin typeface="Arial"/>
              </a:rPr>
              <a:t> </a:t>
            </a:r>
            <a:endParaRPr b="0" lang="en-US" sz="2800" spc="-1" strike="noStrike">
              <a:solidFill>
                <a:srgbClr val="000000"/>
              </a:solidFill>
              <a:latin typeface="Arial"/>
            </a:endParaRPr>
          </a:p>
          <a:p>
            <a:pPr lvl="1" marL="743040" indent="-285840">
              <a:lnSpc>
                <a:spcPct val="8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ubmitted to the ERCOT Board for approval</a:t>
            </a:r>
            <a:endParaRPr b="0" lang="en-US" sz="2000" spc="-1" strike="noStrike">
              <a:solidFill>
                <a:srgbClr val="000000"/>
              </a:solidFill>
              <a:latin typeface="Arial"/>
            </a:endParaRPr>
          </a:p>
          <a:p>
            <a:pPr lvl="1" marL="743040" indent="-285840">
              <a:lnSpc>
                <a:spcPct val="8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rtion of the budget for activities not related to Delegated Authority but are for Protocol Compliance activities will be approved by the PUCT </a:t>
            </a:r>
            <a:endParaRPr b="0" lang="en-US" sz="2000" spc="-1" strike="noStrike">
              <a:solidFill>
                <a:srgbClr val="000000"/>
              </a:solidFill>
              <a:latin typeface="Arial"/>
            </a:endParaRPr>
          </a:p>
          <a:p>
            <a:pPr marL="343080" indent="-343080">
              <a:lnSpc>
                <a:spcPct val="8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business and affairs of the Texas RE shall be managed directly by the ERCOT Board, or a subcommittee thereof</a:t>
            </a:r>
            <a:endParaRPr b="0" lang="en-US" sz="2400" spc="-1" strike="noStrike">
              <a:solidFill>
                <a:srgbClr val="000000"/>
              </a:solidFill>
              <a:latin typeface="Arial"/>
            </a:endParaRPr>
          </a:p>
          <a:p>
            <a:pPr marL="343080" indent="-343080">
              <a:lnSpc>
                <a:spcPct val="8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ERC to pursue non-payments with assistance from applicable government authorities as necessary</a:t>
            </a:r>
            <a:endParaRPr b="0" lang="en-US" sz="2400" spc="-1" strike="noStrike">
              <a:solidFill>
                <a:srgbClr val="000000"/>
              </a:solidFill>
              <a:latin typeface="Arial"/>
            </a:endParaRPr>
          </a:p>
          <a:p>
            <a:pPr marL="343080" indent="-343080">
              <a:lnSpc>
                <a:spcPct val="8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nalty moneys received by the Texas RE applied as a general offset to entity’s budget requirements for the subsequent fiscal yea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3"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2007 Budget</a:t>
            </a:r>
            <a:endParaRPr b="0" lang="en-US" sz="4000" spc="-1" strike="noStrike">
              <a:solidFill>
                <a:srgbClr val="000000"/>
              </a:solidFill>
              <a:latin typeface="Arial"/>
            </a:endParaRPr>
          </a:p>
        </p:txBody>
      </p:sp>
      <p:sp>
        <p:nvSpPr>
          <p:cNvPr id="54"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tal Texas RE Funding = $5,514,219</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tatutory (NERC &amp; Regional Standards) = $4,870,755</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n-Statutory (Protocol &amp; Operating Guides) = $643,464</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tal Personnel Expenses = $2,689,835</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2 FTEs</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tal Meeting Expenses = $96,859</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cludes travel expenses</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tal Operating Expenses = $2,727,525</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cludes funding for 6 projects for data gathering &amp; reporting</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ditional Funding for NERC = $1,394,183</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tivities funded through the ERO funding mechanism</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2007 Texas RE Budget &amp; Funding</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ues, fees, and other charges allocated among all Load-Serving Entities on the basis of net-energy-for-load</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llected from QSEs using current mechanisms </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ERCOT System Administration Fee consists of two (2) components:</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RCOT Admin Fee – Supports ERCOT activities</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lectric Reliability Fee – Funds the operation of the Electric Reliability Organization and the Texas RE </a:t>
            </a:r>
            <a:endParaRPr b="0" lang="en-US" sz="20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Texas RE submits monthly invoices to Load-Serving Entities (QSEs)</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Texas RE to notify NERC of any non-payments by LSEs (QS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Organization</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Texas RE will consist of four functional areas:</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mpliance</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liability Standards </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egal/Regulatory/Enforcement</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rporate Operations</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l possible compliance actions for violations of NERC and ERCOT-Specific Standards and ERCOT reliability-based Protocols and Operating Guides requirements will be referred to the PUCT for action</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UCT to be used as Texas RE Hearing Body</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ue process provided to any entity that is reported to have violated a standar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59" name=""/>
          <p:cNvSpPr/>
          <p:nvPr/>
        </p:nvSpPr>
        <p:spPr>
          <a:xfrm>
            <a:off x="53352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Proposed Organization</a:t>
            </a:r>
            <a:endParaRPr b="0" lang="en-US" sz="4000" spc="-1" strike="noStrike">
              <a:solidFill>
                <a:srgbClr val="000000"/>
              </a:solidFill>
              <a:latin typeface="Arial"/>
            </a:endParaRPr>
          </a:p>
        </p:txBody>
      </p:sp>
      <p:sp>
        <p:nvSpPr>
          <p:cNvPr id="60" name=""/>
          <p:cNvSpPr/>
          <p:nvPr/>
        </p:nvSpPr>
        <p:spPr>
          <a:xfrm>
            <a:off x="533520" y="163044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000000"/>
              </a:solidFill>
              <a:latin typeface="Arial"/>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63" name=""/>
          <p:cNvGraphicFramePr/>
          <p:nvPr/>
        </p:nvGraphicFramePr>
        <p:xfrm>
          <a:off x="295200" y="1676520"/>
          <a:ext cx="8848800" cy="5505480"/>
        </p:xfrm>
        <a:graphic>
          <a:graphicData uri="http://schemas.openxmlformats.org/presentationml/2006/ole">
            <p:oleObj r:id="rId1" spid="">
              <p:embed/>
              <p:pic>
                <p:nvPicPr>
                  <p:cNvPr id="64" name="" descr=""/>
                  <p:cNvPicPr/>
                  <p:nvPr/>
                </p:nvPicPr>
                <p:blipFill>
                  <a:blip r:embed="rId2"/>
                  <a:stretch/>
                </p:blipFill>
                <p:spPr>
                  <a:xfrm>
                    <a:off x="295200" y="1676520"/>
                    <a:ext cx="8848800" cy="550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liability Standards</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Texas RE Reliability Standards Manager (RSM) is assigned the task of ensuring that the development, revision or deletion of Reliability Standards is in accordance with the Texas RE Standards Development Process  </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RSM will manage the Standards Development Process and coordinate and facilitate all actions</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pect 87 Standards for enforcement by the summer of 2007</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No or only a discretionary “grace period” for penalties and sanctions for violations is anticip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Compliance</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date, most of the focus of the ERCOT Compliance Program has been on the ERCOT ISO and those ERCOT Entities that are performing delegated Balancing Authority (BA) and Transmission Operator (TOP) Tasks</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cludes 26 QSEs with Resources and 16 Transmission Operator Sub-Entities</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ome selected Reliability Standards and Requirements have applied to other Entities such as Generator and Transmission Owners</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ERC has directed that an adequate and appropriate compliance registry must be established for ERO compliance and enforc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OTStrain01</dc:creator>
  <dc:description/>
  <dc:language>en-US</dc:language>
  <cp:lastModifiedBy>L. Grimm</cp:lastModifiedBy>
  <dcterms:modified xsi:type="dcterms:W3CDTF">2006-12-29T18:16:50Z</dcterms:modified>
  <cp:revision>216</cp:revision>
  <dc:subject/>
  <dc:title>Slide 1</dc:title>
</cp:coreProperties>
</file>