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D4DAA-76FA-4828-9225-CA7025A23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7CEE-B420-4B30-BC9A-949FF190A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1DA9-5D88-4FEF-B26B-30D7BAA0A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2F09-BD17-4CB3-8BBB-6799738AC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33A6F-6289-433A-8B11-E9197174DA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25EA2-D7E0-439B-A30B-73DE91DF86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2A166-A1E4-4BB3-A4EC-798C70730D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0A503-35AE-43D5-8A2D-92ED8B972A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6EB41-747F-43AD-8BCD-190F7B5B15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E7864-BB47-4896-8F27-E2C145E6E6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BBB1E-2AAC-40CB-8A4C-D5324FB00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D2C7-96E0-4803-81A7-C5E6AD965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CD934-5F49-40F5-BCCD-0410534315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6C574-2548-4D2D-A198-5C2E9AB773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14B31-6873-4E34-B77C-89A2FB8F86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18537-4FD3-4E12-84DF-EC6F0A20F7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3E52F-46DB-4EF9-B92D-3A209CD6B8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F455-9D26-43E2-9A96-FAEA760C3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422D-DA01-48AB-8B5F-3AC950DE7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FFCB-0CF5-4B5A-8A27-5D8F49CD5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27D7-8B45-450A-AFF9-BDAD73F13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DAC0-B42B-44AF-BA5B-C9228A076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7680-9A9B-473B-A4DB-E7794285F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7450-B99A-4D4D-9652-D07245EF6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676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EF44-2AA9-4B6D-8BF6-B1A5E518E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2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42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533160" y="61722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009920" y="6243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9883-A2F2-4F35-81EE-C3E19C831A9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66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CSC Utilization Report</a:t>
            </a:r>
            <a:br>
              <a:rPr sz="5000"/>
            </a:br>
            <a:r>
              <a:rPr b="1" lang="en-US" sz="5000" spc="-1" strike="noStrike">
                <a:solidFill>
                  <a:srgbClr val="000066"/>
                </a:solidFill>
                <a:latin typeface="Arial Narrow"/>
              </a:rPr>
              <a:t>Q3 - 2006</a:t>
            </a:r>
            <a:endParaRPr b="1" lang="en-US" sz="5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December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W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Sep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D39D-3BCA-4372-90E9-307384DC79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E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Sep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F359-C488-4411-82A8-8E85A2DFE6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N_H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4600" y="3733920"/>
            <a:ext cx="4343400" cy="2570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2280" y="914400"/>
            <a:ext cx="441972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7E0E0-01FE-4FF0-A9EC-049FC3CE6D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S_N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419112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267080" cy="249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4114800" cy="25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EC16-0733-4112-82CC-38649F4EE4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S_H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90920" y="3886200"/>
            <a:ext cx="396216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962160" cy="2417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4267080" cy="24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771D-8F47-41A0-BA46-4742146FB5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66"/>
                </a:solidFill>
                <a:latin typeface="Arial Narrow"/>
              </a:rPr>
              <a:t>Duration Curves: N_W</a:t>
            </a:r>
            <a:endParaRPr b="1" lang="en-US" sz="31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4419720" cy="25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914400"/>
            <a:ext cx="441936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9D37-0FAF-4853-BB32-A654BD0643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: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n – Sep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11480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343400" cy="2438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114800" cy="2505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34340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9817E-35C3-47A3-BFBF-631FD51E6D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Unused CSC capacity: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Jan – Sep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4191120" cy="2571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990720"/>
            <a:ext cx="4419360" cy="2666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419720" y="3809880"/>
            <a:ext cx="4419360" cy="25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5889-D3EF-4CE1-BD84-AE94CEA7BE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Costs of Over-constraining vs. Under-constraining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5334120"/>
            <a:ext cx="4191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all binding intervals where the actual CSC flow is less than 100% of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actual flow and 100% of the limit, times th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5334120"/>
            <a:ext cx="4343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ng intervals where the actual flow is greater than the CSC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y the difference between the flow and the limit, times the average Shadow Pr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4191120" cy="4496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03F6-C941-4E83-AC5C-944E917754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 Narrow"/>
              </a:rPr>
              <a:t>Outline</a:t>
            </a:r>
            <a:endParaRPr b="1" lang="en-US" sz="42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al congestion – costs and qua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and binding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CSC flows vs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s of over cons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00666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ate, costs are lower than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9045-7797-462C-AA3A-6799C07A0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CSC Congestion Charges collected from QSEs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2120" y="5105520"/>
          <a:ext cx="7575480" cy="1212840"/>
        </p:xfrm>
        <a:graphic>
          <a:graphicData uri="http://schemas.openxmlformats.org/drawingml/2006/table">
            <a:tbl>
              <a:tblPr/>
              <a:tblGrid>
                <a:gridCol w="1371600"/>
                <a:gridCol w="761760"/>
                <a:gridCol w="838440"/>
                <a:gridCol w="838080"/>
                <a:gridCol w="838080"/>
                <a:gridCol w="914400"/>
                <a:gridCol w="914400"/>
                <a:gridCol w="109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ill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Yr t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5 Yr t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~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~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51BD3-EAE9-4C7A-A0A1-7F93C0E299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 Narrow"/>
              </a:rPr>
              <a:t>Number of Intervals Constraints were Binding</a:t>
            </a:r>
            <a:endParaRPr b="1" lang="en-US" sz="27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05120" y="5410080"/>
          <a:ext cx="5586120" cy="912960"/>
        </p:xfrm>
        <a:graphic>
          <a:graphicData uri="http://schemas.openxmlformats.org/drawingml/2006/table">
            <a:tbl>
              <a:tblPr/>
              <a:tblGrid>
                <a:gridCol w="892080"/>
                <a:gridCol w="781200"/>
                <a:gridCol w="780840"/>
                <a:gridCol w="825480"/>
                <a:gridCol w="988920"/>
                <a:gridCol w="658800"/>
                <a:gridCol w="65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5837-E233-4937-9E45-2D7166D827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Interval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3520" y="914400"/>
          <a:ext cx="7924680" cy="535608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  <a:gridCol w="609480"/>
                <a:gridCol w="533520"/>
                <a:gridCol w="609480"/>
                <a:gridCol w="609480"/>
                <a:gridCol w="609840"/>
                <a:gridCol w="533160"/>
                <a:gridCol w="609840"/>
                <a:gridCol w="609480"/>
                <a:gridCol w="609480"/>
                <a:gridCol w="685800"/>
                <a:gridCol w="76212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7228-33D5-4399-BC6C-3C8252F3BF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Summary of Zonal Congestion Occurrences - Days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914400"/>
          <a:ext cx="7848360" cy="5140440"/>
        </p:xfrm>
        <a:graphic>
          <a:graphicData uri="http://schemas.openxmlformats.org/drawingml/2006/table">
            <a:tbl>
              <a:tblPr/>
              <a:tblGrid>
                <a:gridCol w="539640"/>
                <a:gridCol w="612720"/>
                <a:gridCol w="615960"/>
                <a:gridCol w="539640"/>
                <a:gridCol w="615960"/>
                <a:gridCol w="615960"/>
                <a:gridCol w="613080"/>
                <a:gridCol w="539640"/>
                <a:gridCol w="641160"/>
                <a:gridCol w="590760"/>
                <a:gridCol w="612720"/>
                <a:gridCol w="625320"/>
                <a:gridCol w="68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288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2880">
                      <a:solidFill>
                        <a:srgbClr val="5f5f5f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5f5f5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5f5f5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98AB-F4D1-4C47-856B-8AF019F1D9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N_H</a:t>
            </a:r>
            <a:br>
              <a:rPr sz="32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Sep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34C6-3696-4AB1-8CEF-C8176F569B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N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Sep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0678-6529-42E8-A1ED-BCD688788D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CSC Limits vs Actual Flows: S_H</a:t>
            </a:r>
            <a:br>
              <a:rPr sz="30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Jan – Sep 2006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Garza / December,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756F-ED7C-403A-949D-4A098EFC48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9:22:49Z</dcterms:created>
  <dc:creator>Beth Garza</dc:creator>
  <dc:description/>
  <dc:language>en-US</dc:language>
  <cp:lastModifiedBy>ercot/if</cp:lastModifiedBy>
  <dcterms:modified xsi:type="dcterms:W3CDTF">2006-12-07T22:12:18Z</dcterms:modified>
  <cp:revision>9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