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46DD-7E93-45AB-BE48-7450114FF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8694-CBFB-4890-A14C-0BB7E810B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9F10-6929-41EE-BABB-AD4C2CF97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A843-5C4E-458E-B566-1A0625B13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CBD9-A128-4062-A1C5-84581230A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5208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51520" y="134100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522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5208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51520" y="2344320"/>
            <a:ext cx="27612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45F1-42CB-45F8-9CF0-1BA05F5FF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1A26-E9B3-4C05-B4B6-807422648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3C41-7EE3-47B4-928F-8944E380C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1176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6AC3-540B-42B4-BA53-99A63E26C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779F-9756-4C60-988D-B6E1F6AE0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46800" y="234432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9892-9F62-4EEB-860A-36459D859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46800" y="1341000"/>
            <a:ext cx="4185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52280" y="2344320"/>
            <a:ext cx="85759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A4CE-5C64-4B73-BBD5-795E1A33D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D9BF7CFC-9B6E-451F-B2C1-CD1C73F9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41000"/>
            <a:ext cx="8575920" cy="19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524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1412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1412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1124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2552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56664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71280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712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0520" y="2704680"/>
            <a:ext cx="8291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MS Up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Side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58520" y="5601240"/>
            <a:ext cx="17629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        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Mary Anne Brelin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Eagle Energy Partn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Picture (Metafile)"/>
          <p:cNvPicPr/>
          <p:nvPr/>
        </p:nvPicPr>
        <p:blipFill>
          <a:blip r:embed="rId1"/>
          <a:stretch/>
        </p:blipFill>
        <p:spPr>
          <a:xfrm>
            <a:off x="7072200" y="5373720"/>
            <a:ext cx="167652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SWG Goals Upda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201680"/>
            <a:ext cx="856944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2A6D-8704-46E2-BEA6-7519595CA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SWG Meeting This Friday December 15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0520" y="1150920"/>
            <a:ext cx="7848720" cy="527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223B-74F9-4D40-9D01-2BD9B51E8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C Workshop Updat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520" y="1074240"/>
            <a:ext cx="8229600" cy="53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Aft>
                <a:spcPts val="7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 scheduled additional workshops regarding Demand Response Programs in ERCOT (Project 32853) on Friday December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onday December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uesday December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ginning at 9:30 in the Commissioners Hear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Aft>
                <a:spcPts val="751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Aft>
                <a:spcPts val="7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s at the December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eting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Controllable Loads (Mark Patter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DSWG discussion of manual deployment process (Steve Kr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 in Replacement Reserves Market (Mark Patter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ing Responsive and Non-Spinning Reserve Bids (Steve Kr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ing Up-Load Program (Floyd Tref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buClr>
                <a:srgbClr val="00279f"/>
              </a:buClr>
              <a:buSzPct val="125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s will be posted to: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http://www.puc.state.tx.us/electric/projects/32853/32853.c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Aft>
                <a:spcPts val="751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s originally scheduled for the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been postponed until Janu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Aft>
                <a:spcPts val="751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B9D8-C0D1-4778-8597-50D6C40B6F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440" y="3117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aR Update on Participation in RPR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8240" y="1074240"/>
            <a:ext cx="815328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rly 2006 ERCOT identified 3 problems related to LaaR modeling which impacted the RPRS process and caused incorrec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 effort not to delay the implementation of RPRS, ERCOT elected to temporarily disable LaaR participation in RPRS until problems were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believes modeling LaaR as negative generation will correct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tch (modified code) is expected to be migrated into the test environment in early Dec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uccessful testing ERCOT plans to migrate patch into production during the Januar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buClr>
                <a:srgbClr val="000000"/>
              </a:buClr>
              <a:buSzPct val="120000"/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R should be able to participate in March 2007 when Replacement Reserve service procurement is reins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B364-10E1-4540-A5D7-24C2D0AC3D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anne.brelinsky</cp:lastModifiedBy>
  <dcterms:modified xsi:type="dcterms:W3CDTF">2006-12-12T22:33:49Z</dcterms:modified>
  <cp:revision>55</cp:revision>
  <dc:subject/>
  <dc:title>DSWG Update to WMS</dc:title>
</cp:coreProperties>
</file>