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0FBB-7357-4A7D-8B0A-ED5081653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1407-FB87-4F4C-9E7F-9F7B8C2D3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6F67-E0CC-463F-8EE8-EFEA6FF5C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061B-C4AC-4066-B2C7-DA5AB310F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163C-BAF1-4D8D-88E3-2527A411C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7604F-E9F1-464A-9BD0-86CEF408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E6F22-BE1D-434C-867C-F0EB1C8A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743A1-9479-4E84-86D9-2D52B58A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05C8A-1AA0-4D5D-8406-38E6A4E2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101EA-EA08-43AE-AC5D-3CB060F4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CEA8-4DC4-44AA-AEED-D3E52EB0EB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A6F76-7AAD-4089-B7A8-C7511BDE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E38EB-DF9A-44CB-850A-568A6A48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F283A-2F52-44A2-8D35-D5883D1C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0AAD6-6F6D-4BD2-BB0D-CECA4C35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55793-8128-4E59-95E6-642CB634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1C874-2CEA-4141-9530-8BF7602E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604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716520" y="336240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7159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521604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716520" y="4193280"/>
            <a:ext cx="142848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7CC24-729D-47FC-B30A-B4A27FB2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0466-CFFC-48D7-B971-B151AB482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7458-F991-49D0-A424-6BE57044B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7920" y="1323000"/>
            <a:ext cx="5791320" cy="55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47A5-1966-4F8F-A60C-D3D00D873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292D-029F-42BE-B73B-2014DA116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15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89680" y="419328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B9CB-3E3D-4968-9F10-DEA03E13F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1592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89680" y="3362400"/>
            <a:ext cx="216504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15920" y="4193280"/>
            <a:ext cx="443700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274F-615A-46D8-B8CD-A1287EB07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30320"/>
            <a:ext cx="9144000" cy="22860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409800"/>
            <a:ext cx="914400" cy="3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4A7B-E70F-46D1-BFD2-31F6E586457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130320"/>
            <a:ext cx="1427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5520" y="700200"/>
            <a:ext cx="1285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04360" y="6429240"/>
            <a:ext cx="8077320" cy="3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29D4-1255-484B-8A39-50FC4F008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5600" y="2174040"/>
            <a:ext cx="7569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n GATF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351160" y="2923920"/>
            <a:ext cx="4788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lesale Market Sub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13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colm Smi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TF Chairm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1480" y="2131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Task Force Meeting Summary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Generation Adequacy Task Force met four times in 2006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ly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vember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48480" y="2286000"/>
            <a:ext cx="2574720" cy="26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69E9-E843-4741-94B2-56B2922F7DB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9080" y="261720"/>
            <a:ext cx="7175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Major CDR Issues </a:t>
            </a:r>
            <a:endParaRPr b="1" lang="en-US" sz="32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1800" y="1895400"/>
            <a:ext cx="8616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8080"/>
              </a:buClr>
              <a:buSzPct val="11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ad Forecasts  --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Discussed, No Change Recommen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8080"/>
              </a:buClr>
              <a:buSzPct val="11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ARs –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Discussed, No Change Recommen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8080"/>
              </a:buClr>
              <a:buSzPct val="11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mand Response –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Discussed, No Change Recommen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808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isting Resour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8080"/>
              </a:buClr>
              <a:buSzPct val="11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C Ties –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Reaffirmed Current Pro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8080"/>
              </a:buClr>
              <a:buSzPct val="11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witchable’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– Reaffirmed Current Proc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808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b8f8d"/>
                </a:solidFill>
                <a:latin typeface="Verdana"/>
              </a:rPr>
              <a:t>Wind – </a:t>
            </a:r>
            <a:r>
              <a:rPr b="1" i="1" lang="en-US" sz="2100" spc="-1" strike="noStrike" u="sng">
                <a:solidFill>
                  <a:srgbClr val="5b8f8d"/>
                </a:solidFill>
                <a:uFillTx/>
                <a:latin typeface="Verdana"/>
              </a:rPr>
              <a:t>Still Under Revie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b8f8d"/>
                </a:solidFill>
                <a:latin typeface="Verdana"/>
              </a:rPr>
              <a:t>Mothballed/Retirement Units</a:t>
            </a:r>
            <a:r>
              <a:rPr b="0" lang="en-US" sz="2100" spc="-1" strike="noStrike">
                <a:solidFill>
                  <a:srgbClr val="5b8f8d"/>
                </a:solidFill>
                <a:latin typeface="Verdana"/>
              </a:rPr>
              <a:t> –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100" spc="-1" strike="noStrike" u="sng">
                <a:solidFill>
                  <a:srgbClr val="5b8f8d"/>
                </a:solidFill>
                <a:uFillTx/>
                <a:latin typeface="Verdana"/>
              </a:rPr>
              <a:t>Still Under Revie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b8f8d"/>
                </a:solidFill>
                <a:latin typeface="Verdana"/>
              </a:rPr>
              <a:t>Private Networks</a:t>
            </a:r>
            <a:r>
              <a:rPr b="0" lang="en-US" sz="2100" spc="-1" strike="noStrike">
                <a:solidFill>
                  <a:srgbClr val="5b8f8d"/>
                </a:solidFill>
                <a:latin typeface="Verdana"/>
              </a:rPr>
              <a:t> –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100" spc="-1" strike="noStrike" u="sng">
                <a:solidFill>
                  <a:srgbClr val="5b8f8d"/>
                </a:solidFill>
                <a:uFillTx/>
                <a:latin typeface="Verdana"/>
              </a:rPr>
              <a:t>Still Under Revie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808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b8f8d"/>
                </a:solidFill>
                <a:latin typeface="Verdana"/>
              </a:rPr>
              <a:t>New Generation – </a:t>
            </a:r>
            <a:r>
              <a:rPr b="1" i="1" lang="en-US" sz="2100" spc="-1" strike="noStrike" u="sng">
                <a:solidFill>
                  <a:srgbClr val="5b8f8d"/>
                </a:solidFill>
                <a:uFillTx/>
                <a:latin typeface="Verdana"/>
              </a:rPr>
              <a:t>Still Under Revie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03040" y="1382760"/>
            <a:ext cx="65152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date, the GATF has addres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E95D-A83B-40AA-BD8C-A8C8B9DA421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9080" y="20052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5f5d"/>
                </a:solidFill>
                <a:latin typeface="Arial"/>
              </a:rPr>
              <a:t>Next Steps</a:t>
            </a:r>
            <a:endParaRPr b="1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1600" y="1536840"/>
            <a:ext cx="847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F will meet on January 12, 2007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unconfirmed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finalize approach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ew Gen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thballed/Retired Un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rivate Use Net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TF will submit a Final Report to WMS in Februa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pdate Report on GATF Activities--December 13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CC64-C360-44E9-B386-46366118B6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320640" y="2057400"/>
            <a:ext cx="34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a3b6c"/>
                </a:solidFill>
                <a:latin typeface="Arial"/>
              </a:rPr>
              <a:t>Question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Brian Bartos</dc:creator>
  <dc:description/>
  <dc:language>en-US</dc:language>
  <cp:lastModifiedBy>bbartos</cp:lastModifiedBy>
  <dcterms:modified xsi:type="dcterms:W3CDTF">2006-12-12T15:19:58Z</dcterms:modified>
  <cp:revision>152</cp:revision>
  <dc:subject/>
  <dc:title>Slide 1</dc:title>
</cp:coreProperties>
</file>