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6225A-833E-4312-8D8D-474D88925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FA64E-E5D2-4AA4-9470-EE5216737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E37C6-BEE1-49F1-9EBF-8118F89B7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B3542-E810-42DB-B6FD-CC846A8C0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5E3EB-144E-4515-9B3F-3E87F169A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21855-C473-4626-8798-E9DE95BEA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BA63D-6B76-41C3-A346-E4EFB8E4D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67AF4-7494-4162-899D-D0A543B54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94152-5268-48A4-8B73-3E090090E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64550-F3BE-4D50-8861-96C3CD598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AB8F6-5DBE-499B-B461-F18050C7F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26F54-ADCE-46D1-910C-E74D799CB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D2F33-BBE7-428A-BB19-9D788C4687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3760" y="304920"/>
            <a:ext cx="9191520" cy="609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228600" y="460440"/>
            <a:ext cx="8686800" cy="5943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23920" y="455760"/>
            <a:ext cx="8696160" cy="5952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quency Response Summar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Response has improved slightl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QSE’s are getting calls from the ERCOT Frequency Desk Operator indicating the QSE is short of it’s Responsive Reserve Obligation.  This can occur anytime the QSE has adequate RRS at 60 Hz, but due to governor response, will have less when frequency is low.</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quency Response at the B+30 has improved but some “squelching” contin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57240" y="460440"/>
            <a:ext cx="9029520" cy="594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200160"/>
            <a:ext cx="9144000" cy="6464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254160"/>
            <a:ext cx="9144000" cy="635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 Frequency Respons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d 27 events May – Sept 20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mmend May – Sept Bias of 636 MW/0.1 H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Bias setting of 520 MW/0.1 Hz continues through April 2007.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to report 2007 Bias settings to NERC by Dec 29,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35080" y="46656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235080" y="46656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3920" y="465120"/>
            <a:ext cx="8696160" cy="593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6T04:55:21Z</dcterms:created>
  <dc:creator>Sydney Niemeyer</dc:creator>
  <dc:description/>
  <dc:language>en-US</dc:language>
  <cp:lastModifiedBy>Sydney Niemeyer</cp:lastModifiedBy>
  <dcterms:modified xsi:type="dcterms:W3CDTF">2006-12-06T15:08:41Z</dcterms:modified>
  <cp:revision>4</cp:revision>
  <dc:subject/>
  <dc:title>Slide 1</dc:title>
</cp:coreProperties>
</file>