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BA59-B797-4C7F-9D32-839AF1209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1A29-3D07-4CB7-A89A-F42F8E96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A06-586F-49C5-A2FF-464A0C1C3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FFD-2B33-43C3-9620-221C806B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3560-209B-4D16-8879-B51D0236A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8949-FA0B-406D-BAE2-48C997F5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86CB-2C22-445B-897C-7A80C9F4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039D-73E8-45F5-A062-C5720179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CA72-62AC-40D4-B0C4-9D709A1F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1CD0-F041-447B-9DB7-CC7FD893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5C94-ABCE-4175-A442-9D2EE5AD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52A2-1B4C-4CE3-957B-0D1272C0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5334-9918-4D3B-A746-FDC7782B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64DF-22DD-4E17-A554-5F83FF76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803D-E94E-4F75-A6E2-D7B6A873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702C-6ED1-43DD-9C02-DA37DB7F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2F55-B7CC-488A-A808-623DCE8D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97A-5229-4A9A-8C79-02EA3893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455-5989-452D-89E7-1EB3660A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F81-1293-49CA-B212-01CB845B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D5B-97C4-466D-BC78-51E24978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8453-A23B-4727-9974-FC1D362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3DC-C54F-491B-AC58-E4567DD4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33F-E2A0-4D0C-B9B3-D51C0135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2E80-74E8-4BE8-8DA4-024D8FC92D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6AF-570C-4405-8017-D558D8DA42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92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Q: What is the Unit’s Primary Fuel Type?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571500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716 wind units with 1669.6 MW are exclu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447920" y="1752480"/>
          <a:ext cx="7009920" cy="3885840"/>
        </p:xfrm>
        <a:graphic>
          <a:graphicData uri="http://schemas.openxmlformats.org/drawingml/2006/table">
            <a:tbl>
              <a:tblPr/>
              <a:tblGrid>
                <a:gridCol w="3771720"/>
                <a:gridCol w="945000"/>
                <a:gridCol w="979200"/>
                <a:gridCol w="1314000"/>
              </a:tblGrid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mary Fu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 of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of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W Capa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UMINOUS C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5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NDFILL 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9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URAL 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658.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2 Fuel O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9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CL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t Co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RCHASED STE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-BITUMINOUS C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6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88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d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021.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480" y="1608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2004 ROS - What is the unit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maximum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net sustain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limit when using its alternative fu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58128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Alternate Fue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Registered Outpu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 Antiqua"/>
              </a:rPr>
              <a:t>Max. Net Sustainable Output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istillate Fuel Oi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23,50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8,67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esidual Fuel Oil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2,955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3,12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ther Ga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Book Antiqu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757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71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Jet Fue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164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15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ropan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 8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77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atural Gas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320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3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27,777 MW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3,040  MW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080" y="2971800"/>
            <a:ext cx="385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f the 150 dual fuel capable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89040" y="1522440"/>
            <a:ext cx="66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2004 ROS -Hours of Operation on current inven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6197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Q: How many hours can the unit operate using your current inventory of alternative fuel, at its maximum sustainable capacity?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166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f the 87 operational dual fuel capable units that responded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00200" y="2666880"/>
          <a:ext cx="6629400" cy="357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662940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295280" y="2514600"/>
          <a:ext cx="7313760" cy="367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73137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re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1600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the winter peak load is 48000M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ume the natural gas curtailment is 5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57800" y="2514600"/>
            <a:ext cx="2209680" cy="533520"/>
          </a:xfrm>
          <a:prstGeom prst="wedgeEllipseCallout">
            <a:avLst>
              <a:gd name="adj1" fmla="val -34625"/>
              <a:gd name="adj2" fmla="val 12976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Capacity Shor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14600" y="2895480"/>
            <a:ext cx="533520" cy="228600"/>
          </a:xfrm>
          <a:prstGeom prst="wedgeRectCallout">
            <a:avLst>
              <a:gd name="adj1" fmla="val -64879"/>
              <a:gd name="adj2" fmla="val 12638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-3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2895480"/>
            <a:ext cx="685800" cy="228600"/>
          </a:xfrm>
          <a:prstGeom prst="wedgeRectCallout">
            <a:avLst>
              <a:gd name="adj1" fmla="val 63194"/>
              <a:gd name="adj2" fmla="val 27083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116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895480"/>
            <a:ext cx="533520" cy="228600"/>
          </a:xfrm>
          <a:prstGeom prst="wedgeRectCallout">
            <a:avLst>
              <a:gd name="adj1" fmla="val -73513"/>
              <a:gd name="adj2" fmla="val 13402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9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5680" y="2895480"/>
            <a:ext cx="533520" cy="228600"/>
          </a:xfrm>
          <a:prstGeom prst="wedgeRectCallout">
            <a:avLst>
              <a:gd name="adj1" fmla="val -69347"/>
              <a:gd name="adj2" fmla="val 17569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Verdana"/>
              </a:rPr>
              <a:t>448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nalysis--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al capacity from natural gas: 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46931.7M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natural gas(34619.7)+dual fuel(12312)=46931.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f the natural gas supply decrease 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remain capacity from natural gas: 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17309.85 MW </a:t>
            </a: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(34619.7*(100%-50%)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capacity of dual fuel can supply for the 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first 24 hour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is: 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12312 M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total system available capacity without wind/hydro is: </a:t>
            </a: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48332.05MW </a:t>
            </a:r>
            <a:br>
              <a:rPr sz="1600"/>
            </a:br>
            <a:r>
              <a:rPr b="0" lang="en-US" sz="1200" spc="-1" strike="noStrike">
                <a:solidFill>
                  <a:srgbClr val="ff3300"/>
                </a:solidFill>
                <a:latin typeface="Verdana"/>
              </a:rPr>
              <a:t>(natural gas(17309.85)+dual fuel(12312)+coal/lignite(13788.2)+nuclear(4922))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6:15:04Z</dcterms:created>
  <dc:creator>shsien</dc:creator>
  <dc:description/>
  <dc:language>en-US</dc:language>
  <cp:lastModifiedBy>jdumas</cp:lastModifiedBy>
  <dcterms:modified xsi:type="dcterms:W3CDTF">2006-12-07T14:54:09Z</dcterms:modified>
  <cp:revision>39</cp:revision>
  <dc:subject/>
  <dc:title>Winter Fuel Survey</dc:title>
</cp:coreProperties>
</file>