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B06-9893-4658-99D6-60CCED27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6366-EA48-4C05-9ACD-6E2C2ED1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6684-1931-46E1-B8EF-E7B92A31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7553-6843-4541-A4DF-8581E076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6E7-DE1E-47C1-BA7A-DB2C1014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C123-7474-4EA1-AFEF-BF42E2E9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8550-8C79-4315-BB45-5A6DFDF3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927-CDAA-46B2-B963-F34B654E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0C3-5104-41A3-AD9B-16572058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C09-1278-47A1-8FEC-F22F2DF8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5BEE-C78B-4DEA-83FB-D46DAA20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8B4-DC50-4037-BF5E-DEA1F60E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81BA-3E18-4B4D-8173-7A6FFA8BA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tp://www.nerc.com/pub/sys/all_updl/standards/rs/CIP-001-1.pdf" TargetMode="External"/><Relationship Id="rId2" Type="http://schemas.openxmlformats.org/officeDocument/2006/relationships/hyperlink" Target="ftp://www.nerc.com/pub/sys/all_updl/standards/rs/COM-001-1.pdf" TargetMode="External"/><Relationship Id="rId3" Type="http://schemas.openxmlformats.org/officeDocument/2006/relationships/hyperlink" Target="ftp://www.nerc.com/pub/sys/all_updl/standards/rs/COM-002-2.pdf" TargetMode="External"/><Relationship Id="rId4" Type="http://schemas.openxmlformats.org/officeDocument/2006/relationships/hyperlink" Target="ftp://www.nerc.com/pub/sys/all_updl/standards/rs/EOP-002-2.pdf" TargetMode="External"/><Relationship Id="rId5" Type="http://schemas.openxmlformats.org/officeDocument/2006/relationships/hyperlink" Target="ftp://www.nerc.com/pub/sys/all_updl/standards/rs/EOP-003-1.pdf" TargetMode="External"/><Relationship Id="rId6" Type="http://schemas.openxmlformats.org/officeDocument/2006/relationships/hyperlink" Target="ftp://www.nerc.com/pub/sys/all_updl/standards/rs/EOP-004-1.pdf" TargetMode="External"/><Relationship Id="rId7" Type="http://schemas.openxmlformats.org/officeDocument/2006/relationships/hyperlink" Target="ftp://www.nerc.com/pub/sys/all_updl/standards/rs/EOP-005-1.pdf" TargetMode="External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tp://www.nerc.com/pub/sys/all_updl/standards/rs/FAC-010-1.pdf" TargetMode="External"/><Relationship Id="rId2" Type="http://schemas.openxmlformats.org/officeDocument/2006/relationships/hyperlink" Target="ftp://www.nerc.com/pub/sys/all_updl/standards/rs/FAC-011-1.pdf" TargetMode="External"/><Relationship Id="rId3" Type="http://schemas.openxmlformats.org/officeDocument/2006/relationships/hyperlink" Target="ftp://www.nerc.com/pub/sys/all_updl/standards/rs/FAC-014-1.pdf" TargetMode="External"/><Relationship Id="rId4" Type="http://schemas.openxmlformats.org/officeDocument/2006/relationships/hyperlink" Target="ftp://www.nerc.com/pub/sys/all_updl/standards/rs/INT-001-2.pdf" TargetMode="External"/><Relationship Id="rId5" Type="http://schemas.openxmlformats.org/officeDocument/2006/relationships/hyperlink" Target="ftp://www.nerc.com/pub/sys/all_updl/standards/rs/INT-003-2.pdf" TargetMode="External"/><Relationship Id="rId6" Type="http://schemas.openxmlformats.org/officeDocument/2006/relationships/hyperlink" Target="ftp://www.nerc.com/pub/sys/all_updl/standards/rs/INT-004-1.pdf" TargetMode="External"/><Relationship Id="rId7" Type="http://schemas.openxmlformats.org/officeDocument/2006/relationships/hyperlink" Target="ftp://www.nerc.com/pub/sys/all_updl/standards/rs/INT-005-1.pdf" TargetMode="External"/><Relationship Id="rId8" Type="http://schemas.openxmlformats.org/officeDocument/2006/relationships/hyperlink" Target="ftp://www.nerc.com/pub/sys/all_updl/standards/rs/INT-006-1.pdf" TargetMode="External"/><Relationship Id="rId9" Type="http://schemas.openxmlformats.org/officeDocument/2006/relationships/hyperlink" Target="ftp://www.nerc.com/pub/sys/all_updl/standards/rs/INT-007-1.pdf" TargetMode="External"/><Relationship Id="rId10" Type="http://schemas.openxmlformats.org/officeDocument/2006/relationships/hyperlink" Target="ftp://www.nerc.com/pub/sys/all_updl/standards/rs/INT-008-1.pdf" TargetMode="External"/><Relationship Id="rId11" Type="http://schemas.openxmlformats.org/officeDocument/2006/relationships/hyperlink" Target="ftp://www.nerc.com/pub/sys/all_updl/standards/rs/INT-009-1.pdf" TargetMode="External"/><Relationship Id="rId12" Type="http://schemas.openxmlformats.org/officeDocument/2006/relationships/hyperlink" Target="ftp://www.nerc.com/pub/sys/all_updl/standards/rs/INT-010-1.pdf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tp://www.nerc.com/pub/sys/all_updl/standards/rs/IRO-001-1.pdf" TargetMode="External"/><Relationship Id="rId2" Type="http://schemas.openxmlformats.org/officeDocument/2006/relationships/hyperlink" Target="ftp://www.nerc.com/pub/sys/all_updl/standards/rs/IRO-002-1.pdf" TargetMode="External"/><Relationship Id="rId3" Type="http://schemas.openxmlformats.org/officeDocument/2006/relationships/hyperlink" Target="ftp://www.nerc.com/pub/sys/all_updl/standards/rs/IRO-005-2.pdf" TargetMode="External"/><Relationship Id="rId4" Type="http://schemas.openxmlformats.org/officeDocument/2006/relationships/hyperlink" Target="ftp://www.nerc.com/pub/sys/all_updl/standards/rs/MOD-024-1.pdf" TargetMode="External"/><Relationship Id="rId5" Type="http://schemas.openxmlformats.org/officeDocument/2006/relationships/hyperlink" Target="ftp://www.nerc.com/pub/sys/all_updl/standards/rs/MOD-025-1.pdf" TargetMode="External"/><Relationship Id="rId6" Type="http://schemas.openxmlformats.org/officeDocument/2006/relationships/hyperlink" Target="ftp://www.nerc.com/pub/sys/all_updl/standards/rs/PER-004-1.pdf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tp://www.nerc.com/pub/sys/all_updl/standards/rs/PRC-001-1.pdf" TargetMode="External"/><Relationship Id="rId2" Type="http://schemas.openxmlformats.org/officeDocument/2006/relationships/hyperlink" Target="ftp://www.nerc.com/pub/sys/all_updl/standards/rs/PRC-002-1.pdf" TargetMode="External"/><Relationship Id="rId3" Type="http://schemas.openxmlformats.org/officeDocument/2006/relationships/hyperlink" Target="ftp://www.nerc.com/pub/sys/all_updl/standards/rs/TOP-001-1.pdf" TargetMode="External"/><Relationship Id="rId4" Type="http://schemas.openxmlformats.org/officeDocument/2006/relationships/hyperlink" Target="ftp://www.nerc.com/pub/sys/all_updl/standards/rs/TOP-002-2.pdf" TargetMode="External"/><Relationship Id="rId5" Type="http://schemas.openxmlformats.org/officeDocument/2006/relationships/hyperlink" Target="ftp://www.nerc.com/pub/sys/all_updl/standards/rs/TOP-004-1.pdf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RC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ITIES &amp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DEVELOP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mber 7, 2006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6280" y="2919240"/>
            <a:ext cx="75614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s to following slides on NERC Board Approved Standar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 1 is the NERC 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umn 2 a hyperlink to the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. 3 is the NERC Board’s approved date for the standard to take a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. 4 contains notes on which version, if any, is now in a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. 5 indicates whether active enforcement is planned in 2007 – either the new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 version of a standard will be used as sh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pages show current postings for standards still in the development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NERC Board Approved Standards</a:t>
            </a:r>
            <a:br>
              <a:rPr sz="2800"/>
            </a:b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 Effective 2007 – subject to inclusion in 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09480" y="914400"/>
          <a:ext cx="7772040" cy="5289480"/>
        </p:xfrm>
        <a:graphic>
          <a:graphicData uri="http://schemas.openxmlformats.org/drawingml/2006/table">
            <a:tbl>
              <a:tblPr/>
              <a:tblGrid>
                <a:gridCol w="840600"/>
                <a:gridCol w="2291040"/>
                <a:gridCol w="2129040"/>
                <a:gridCol w="1197360"/>
                <a:gridCol w="131400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iability Standards Approv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 CEP NERC RE. ST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Nu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 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itical Infrastructure Prot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IP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Sabotage Repor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 Phased-in Implemen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P-001-0 effective sinc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P-001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9933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M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Telecommunica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-001-0 effective sinc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-001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M-002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Communications and Coordinatio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-002-1 effective since 11/1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ergency Preparedness and Oper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OP-002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Capacity and Energy Emergenc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2-1 effective since 11/1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1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OP-003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Load Shedding Pla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3-0 effective sinc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3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OP-004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Disturbance Repor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4-0 effective sinc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OP-005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System Restoration Pla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/2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5-0 effective sinc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OP-005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00200" y="2286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Approved Standards Effectiv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914400" y="838080"/>
          <a:ext cx="7620120" cy="5683320"/>
        </p:xfrm>
        <a:graphic>
          <a:graphicData uri="http://schemas.openxmlformats.org/drawingml/2006/table">
            <a:tbl>
              <a:tblPr/>
              <a:tblGrid>
                <a:gridCol w="824040"/>
                <a:gridCol w="2246040"/>
                <a:gridCol w="2087640"/>
                <a:gridCol w="1173240"/>
                <a:gridCol w="128916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iability Standards Approv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 CEP NERC RE. ST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Nu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 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96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ties Design, Connections and Maintena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33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AC-010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System Operating Limits Methodology for the Planning Horiz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AC-011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System Operating Limits Methodology for the Operations Horiz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FAC-014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Establish and Communicate System Operating Lim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hange Scheduling and Coordin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1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Interchange Infor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-001-0 effective sinc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3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Interchange Transaction Infor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-003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4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Interchange Transaction Modific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-004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5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7"/>
                        </a:rPr>
                        <a:t>Interchange Authority Distributes Arranged Interch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6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Response to Interchange Authorit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7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Interchange Confir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8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Interchange Authority Distributes Statu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09-1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Implementation of Interchan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T-010-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Interchange Coordination Exemp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19320" y="380880"/>
            <a:ext cx="670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Approved Standards Effectiv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38080" y="914400"/>
          <a:ext cx="7696080" cy="5670720"/>
        </p:xfrm>
        <a:graphic>
          <a:graphicData uri="http://schemas.openxmlformats.org/drawingml/2006/table">
            <a:tbl>
              <a:tblPr/>
              <a:tblGrid>
                <a:gridCol w="830520"/>
                <a:gridCol w="2270880"/>
                <a:gridCol w="2108880"/>
                <a:gridCol w="1184040"/>
                <a:gridCol w="130176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iability Standards Approv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 CEP NERC RE. ST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Nu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 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970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connection Reliability Operations and Coordin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RO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Reliability Coordination – Responsibilities and Authori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O-001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O-001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RO-002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Reliability Coordination – Facili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O-002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RO-005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Reliability Coordination – Current-Day Oper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O-005-1  effective 11/1/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ling, Data, and Analys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OD-024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Verification of Generator Gross and Net Real Power Cap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hased in implementation: R1 and R2- 4/1/2006 R3- 01/01/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-024-1 R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OD-025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Verification of Generator Gross and Net Reactive Power Cap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hased-in Implementation: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quirement 1 and Requirement 2 — January 1, 2007 </a:t>
                      </a:r>
                      <a:br>
                        <a:rPr sz="900"/>
                      </a:b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quirement 3: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anuary 1, 2008 — 1st 20% complian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anuary 1, 2009 — 2nd 20% complian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anuary 1, 2010 — 3rd 20% complian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anuary 1, 2011 — 4th 20% complian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January 1, 2012 — 5th 20% compliant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sonnel Performance, Training, and Qualific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ER-004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Reliability Coordination – Staff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-004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-004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00200" y="2286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Times New Roman"/>
              </a:rPr>
              <a:t>Approved Standards Effective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838080"/>
          <a:ext cx="8610480" cy="5262840"/>
        </p:xfrm>
        <a:graphic>
          <a:graphicData uri="http://schemas.openxmlformats.org/drawingml/2006/table">
            <a:tbl>
              <a:tblPr/>
              <a:tblGrid>
                <a:gridCol w="930240"/>
                <a:gridCol w="2538360"/>
                <a:gridCol w="2359080"/>
                <a:gridCol w="1326960"/>
                <a:gridCol w="1455840"/>
              </a:tblGrid>
              <a:tr h="368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iability Standards Approv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TE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07 CEP NERC RE. ST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Numb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ctive 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ction and Contr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C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System Protection Coordin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C-001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C-002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Define and Document Disturbance Monitoring Equipment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/2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C-002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mission Oper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P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Reliability Responsibilities and Authoriti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001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P-002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Normal Operations Plann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002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P-004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Transmission Oper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004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004-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P-006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  <a:ea typeface="Times New Roman"/>
                        </a:rPr>
                        <a:t>Monitoring System Condi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006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TOP-008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  <a:ea typeface="Times New Roman"/>
                        </a:rPr>
                        <a:t>Response to Transmission Limit Viol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/1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-008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ltage and React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AR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  <a:ea typeface="Times New Roman"/>
                        </a:rPr>
                        <a:t>Voltage and Reactive Cont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/2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-001-0 effective 4/1/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-001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AR-002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  <a:ea typeface="Times New Roman"/>
                        </a:rPr>
                        <a:t>Generator Operation for Maintaining Network Voltage Schedu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/2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295280" y="492120"/>
          <a:ext cx="655344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92120"/>
                    <a:ext cx="655344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1103400"/>
            <a:ext cx="754380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20:03:07Z</dcterms:created>
  <dc:creator>ftafreshi</dc:creator>
  <dc:description/>
  <dc:language>en-US</dc:language>
  <cp:lastModifiedBy>ERCOT</cp:lastModifiedBy>
  <dcterms:modified xsi:type="dcterms:W3CDTF">2006-12-06T20:01:50Z</dcterms:modified>
  <cp:revision>8</cp:revision>
  <dc:subject/>
  <dc:title>Slide 1</dc:title>
</cp:coreProperties>
</file>