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000-9048-407B-A11D-EBD9DBFE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05D-F146-4F31-BEBF-D9838A8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AC95-C62A-4CE0-8A53-D87FEF3F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75FB-8555-465E-AAB0-A42AAEC7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DAE3-A32B-481D-8EB7-BD6F32DF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628F-D892-44CB-AEE7-F663CD4F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D5B-F35B-44EB-9618-E8D85B2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03EA-E6C2-42CD-857A-3AB3C402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719-7BE7-41C1-B0C1-FF392089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781-0BBF-4745-BA7B-DCF89982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1F93-5208-4DCD-A598-A7729D72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AFB-369D-435F-9AC7-BCB07D0F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05AC-8C47-459E-958A-377159697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98360"/>
            <a:ext cx="8686800" cy="6659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276720" y="6324480"/>
            <a:ext cx="15228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95680" y="6248520"/>
            <a:ext cx="30492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838080"/>
            <a:ext cx="30492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86364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609480"/>
            <a:ext cx="358128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TMPTHS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Creek – Temple Switch / Tradinghouse – Temple Pecan Creek 345 kV Dc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5181480"/>
            <a:ext cx="358128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HILMAR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l Country – Marion / Hill Country – STP 345 kV Dc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571500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4800600" y="60451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38680" y="5715000"/>
            <a:ext cx="26672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MARZOR5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on – Clear Springs / Marion – Zorn 345 kV Dc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198360"/>
            <a:ext cx="8686800" cy="665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6720" y="6324480"/>
            <a:ext cx="152280" cy="228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6248520"/>
            <a:ext cx="304920" cy="304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11430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857640" y="457200"/>
            <a:ext cx="304920" cy="6858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781680" y="457200"/>
            <a:ext cx="533520" cy="12193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762120"/>
            <a:ext cx="28191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loaded Ele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 Creek – Temple Pecan Creek 138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019920"/>
            <a:ext cx="32004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loaded Ele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uin – Seguin West 138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105160" y="624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876560" y="6324480"/>
            <a:ext cx="152280" cy="38124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5029200" y="6400800"/>
            <a:ext cx="76320" cy="152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04920"/>
            <a:ext cx="35053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s indicate direction of pre-contingency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886200" y="6400800"/>
            <a:ext cx="533520" cy="763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5257800"/>
            <a:ext cx="36576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loaded Elemen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on – Skyline 345 k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733560" y="5638320"/>
            <a:ext cx="75960" cy="83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6476760"/>
            <a:ext cx="1066320" cy="228960"/>
            <a:chOff x="3429000" y="6476760"/>
            <a:chExt cx="1066320" cy="228960"/>
          </a:xfrm>
        </p:grpSpPr>
        <p:sp>
          <p:nvSpPr>
            <p:cNvPr id="67" name=""/>
            <p:cNvSpPr/>
            <p:nvPr/>
          </p:nvSpPr>
          <p:spPr>
            <a:xfrm flipH="1">
              <a:off x="4266720" y="6553080"/>
              <a:ext cx="228600" cy="1526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3886200" y="6476760"/>
              <a:ext cx="380880" cy="2286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429000" y="6477120"/>
              <a:ext cx="457200" cy="15228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7010280" y="838080"/>
            <a:ext cx="30492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ber 1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ral Texas Cong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-Time Contingency Analysis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" y="2795760"/>
            <a:ext cx="876312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ber 1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ral Texas Cong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 DMARZOR5 with DHILMAR5 overloads shows that as the flow on the Marion – Skyline decreases, the flow on the Seguin – Seguin West increa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ion increases/decreases in the South was effecting the North-South Con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systems are not capable of identifying units that have inverse effects in activated OC2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D will optimize the cost of the deplo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ber 1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ral Texas Cong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27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Factor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RZOR5: -9.1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ILMAR5: +48.4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MARZOR5: -9.8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ILMAR5: +21.2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48320" y="2027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Factor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RZOR5: +8.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MPTHS5: -7.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RZOR5: +12.6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MPTHS5: -7.3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RZOR5: +5.1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TMPTHS5: -8.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ber 1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ral Texas Cong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:30  Retracted OC2 for DTMPTHS5 overloading 1300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:04  Re-issued OC2 for DTMPTHS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:06  Issued OC2 for DMARZOR5 overloading 428T4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:58  Issued OC2 fro DHILMAR5 overloading MAR_S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:21  Retracted OC2 for DHILMAR5 and DMARZOR5 due to OC2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d with unit specific OOME instruction (18:36  Re-issued OC2 for DMARZOR5 overloading 428T4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:31  Retracted OC2 for DTMPTHS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tober 17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entral Texas Cong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9051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53341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22860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2286000"/>
            <a:ext cx="4495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327672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3276720"/>
            <a:ext cx="198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0574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3124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0574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3886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3124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21337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29718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4: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90512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2: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1905120"/>
            <a:ext cx="53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4: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9718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: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373392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:5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8:3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1981080"/>
            <a:ext cx="533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2:3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337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TMPTHS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962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ILMAR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048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RZOR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724280"/>
            <a:ext cx="129528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616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31240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4114800"/>
            <a:ext cx="1219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601992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s Manual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629400"/>
            <a:ext cx="53352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1T23:38:54Z</dcterms:created>
  <dc:creator>chadthompson</dc:creator>
  <dc:description/>
  <dc:language>en-US</dc:language>
  <cp:lastModifiedBy>jdumas</cp:lastModifiedBy>
  <dcterms:modified xsi:type="dcterms:W3CDTF">2006-12-07T14:58:12Z</dcterms:modified>
  <cp:revision>30</cp:revision>
  <dc:subject/>
  <dc:title>Slide 1</dc:title>
</cp:coreProperties>
</file>