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28080"/>
            <a:ext cx="899172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2E81A18-A49D-4131-90F7-613A1DD3E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010280" y="63054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jdondeti@ercot.com" TargetMode="External"/><Relationship Id="rId2" Type="http://schemas.openxmlformats.org/officeDocument/2006/relationships/hyperlink" Target="mailto:bpeterson@erco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66840"/>
            <a:ext cx="7772400" cy="26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Energy Management System </a:t>
            </a:r>
            <a:br>
              <a:rPr sz="2400"/>
            </a:br>
            <a:r>
              <a:rPr b="0" lang="en-GB" sz="2400" spc="-1" strike="noStrike">
                <a:solidFill>
                  <a:srgbClr val="808080"/>
                </a:solidFill>
                <a:latin typeface="Arial Black"/>
              </a:rPr>
              <a:t>Requirement Documents</a:t>
            </a:r>
            <a:br>
              <a:rPr sz="24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br>
              <a:rPr sz="1600"/>
            </a:br>
            <a:r>
              <a:rPr b="0" i="1" lang="en-US" sz="1400" spc="-1" strike="noStrike">
                <a:solidFill>
                  <a:srgbClr val="808080"/>
                </a:solidFill>
                <a:latin typeface="Arial"/>
              </a:rPr>
              <a:t>December 5, 2006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Jay Dondeti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EMS Project Engineer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– Day-Ahead Oper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"/>
          <p:cNvSpPr/>
          <p:nvPr/>
        </p:nvSpPr>
        <p:spPr>
          <a:xfrm>
            <a:off x="455760" y="730080"/>
            <a:ext cx="84024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-Powered Generation Resource Production Potential (4.2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nd Power Forecasting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-term wind power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-term wind power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 of WGRPP to Q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ing Forecasted ERCOT System Conditions (4.2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ynamic Ratings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ather assumptions used in Dynamic Ratings Processor for po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ad Forecasting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ed load for the next seven days for po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 Estimator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casted load distribution factors for the next seven days for po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– Transmission Security Analysi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455760" y="730080"/>
            <a:ext cx="84024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Sequence, Including RUC (5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ynamic Ratings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on of Dynamic Ratings for future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I to provide ratings to Transmission Security Analysis in RU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ADA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breaker and switch statuses for HRU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 Estimator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pted load distribution factors for RUC study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twork Security and Stability Analysis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constraints to protect the ERCOT System against voltage collap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Network Security Analysis to analyze future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voltage stability analysis to analyze future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Network Security Analysis of RUC is not part of 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ad Forecasting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-term load forecast data for Transmission Security Analysis in RU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– Real-Time Oper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455760" y="730080"/>
            <a:ext cx="8402400" cy="54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Operations (6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ADA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and output telemetry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metry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s to oth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shing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ced Outage Detection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ing of status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ion of forced ou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eration Sub-system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 limit calcul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illary service capacity moni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Frequency Control (LF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s to oth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ynamic Ratings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ion of Dynamic Ratings in real-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ing Dynamic Ratings to Real-Time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ltage Support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 reactive device switching and minimizes the dependence on generation-supplied reactiv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– Real-Time Operation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455760" y="730080"/>
            <a:ext cx="8402400" cy="36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Operations (6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 Estimator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mode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topology bui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 load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esti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pology consistency analy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s to oth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twork Security and Stability Analysis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Securit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age stabilit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ient stabilit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ission constraint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s to oth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Approval Pla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"/>
          <p:cNvSpPr/>
          <p:nvPr/>
        </p:nvSpPr>
        <p:spPr>
          <a:xfrm>
            <a:off x="455760" y="730080"/>
            <a:ext cx="8402400" cy="54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cember 22, 20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PTF comments due to 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would encourage comments to be submitted when rea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S team (ERCOT and Vendors) will be available for cla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anuary 8, 2007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RCOT response due to T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ubmits response to TPTF com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ubmits updated EMS requirements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January 23, 2007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PTF approves EMS Requirements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SzPct val="140000"/>
              <a:buFont typeface="Arial"/>
              <a:buChar char="*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se items are target dates, and will be greatly dependent on the quantity of comments and magnitude of changes requir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RCOT Contact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455760" y="730080"/>
            <a:ext cx="8402400" cy="28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Project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y Dond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dondeti@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12) 248-66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&amp; MMS Artifact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l Peter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peterson@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512) 248-66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 &amp; Answer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30480" y="2558880"/>
            <a:ext cx="18180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"/>
          <p:cNvSpPr/>
          <p:nvPr/>
        </p:nvSpPr>
        <p:spPr>
          <a:xfrm>
            <a:off x="455760" y="730080"/>
            <a:ext cx="61560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S Requirements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S Requirements Approv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Cont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455760" y="730080"/>
            <a:ext cx="831024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339840" indent="-33984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mplementation purposes the Texas Nodal systems are categorized into the following major sys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Management System (E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Management System (M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estion Revenue Rights System (CR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Model Management System (NM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Systems (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troduction Continued…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455760" y="730080"/>
            <a:ext cx="8310240" cy="54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339840" indent="-33984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quirement analysis purposes the Energy Management System (EMS) is classified, based on functionality,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ergy Management System (Over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S Data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ced Outage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namic R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tion Sub-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 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twork Security and Stability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tag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ag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d Power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5080">
              <a:lnSpc>
                <a:spcPct val="90000"/>
              </a:lnSpc>
              <a:spcBef>
                <a:spcPts val="1125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ad Foreca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Introduction Continued…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455760" y="730080"/>
            <a:ext cx="8310240" cy="32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spAutoFit/>
          </a:bodyPr>
          <a:p>
            <a:pPr marL="339840" indent="-33984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S requirements documents have been written compliant to the May 2006 version of the Texas Nodal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S requirements documents were submitted to TPTF on 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ec for review and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1250"/>
              </a:spcBef>
              <a:buClr>
                <a:srgbClr val="0099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pics covered in the white papers recently submitted to TPTF by  the MMS and EMS teams, primarily impact the Generation Sub-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– Overview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"/>
          <p:cNvSpPr/>
          <p:nvPr/>
        </p:nvSpPr>
        <p:spPr>
          <a:xfrm>
            <a:off x="455760" y="730080"/>
            <a:ext cx="840240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MS Overview Require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ocument provides a high level description of the scope and functionality of various components within the 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RCOT recommends that the reviewers read this description prior to reviewing the rest of th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S covers the following four major activities described in the Texas Nodal Protoc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ment Activities for the ERCOT System (Section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-Ahead Operations (Section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 Security Analysis (Section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Operations (Section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0000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– Overview Continued…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"/>
          <p:cNvSpPr/>
          <p:nvPr/>
        </p:nvSpPr>
        <p:spPr>
          <a:xfrm>
            <a:off x="455760" y="730080"/>
            <a:ext cx="8402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4000" y="1209600"/>
          <a:ext cx="8546760" cy="4525560"/>
        </p:xfrm>
        <a:graphic>
          <a:graphicData uri="http://schemas.openxmlformats.org/drawingml/2006/table">
            <a:tbl>
              <a:tblPr/>
              <a:tblGrid>
                <a:gridCol w="3341880"/>
                <a:gridCol w="1301040"/>
                <a:gridCol w="1301400"/>
                <a:gridCol w="1301040"/>
                <a:gridCol w="1301400"/>
              </a:tblGrid>
              <a:tr h="934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8080"/>
                      </a:solidFill>
                    </a:lnR>
                    <a:lnT>
                      <a:noFill/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Management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ctiv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Section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Day Ahead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Section 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Transmission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ecurity 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Section 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Real-time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Section 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EMS Data Mod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C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orced Outage Det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Dynamic Ratin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eneration Sub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tate Estima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32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Network Security and Stability Analy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oltage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utage E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Wind Power Foreca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6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Load Forecas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808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5760">
                      <a:solidFill>
                        <a:srgbClr val="008080"/>
                      </a:solidFill>
                    </a:lnT>
                    <a:lnB w="5760">
                      <a:solidFill>
                        <a:srgbClr val="00808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2808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– Management Activities for the ERCOT System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"/>
          <p:cNvSpPr/>
          <p:nvPr/>
        </p:nvSpPr>
        <p:spPr>
          <a:xfrm>
            <a:off x="455760" y="730080"/>
            <a:ext cx="8402400" cy="42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Operations Modeling and Telemetry (3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ta Model Requirement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(CIM) with Network Model Management System (NMMS) for Network Operation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with NMMS for network di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ynamic Ratings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data for Dynamic Ratings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ate Estimator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Estimator performance standards related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 facility and Study State Estim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ADA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metry criteria related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etwork Security and Stability Analysis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 of Special Protection Systems and Remedial Action Pl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rollover 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132840"/>
            <a:ext cx="89917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MS Requirements – Management Activities for the ERCOT System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Continued…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455760" y="730080"/>
            <a:ext cx="8402400" cy="55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age Coordination (3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utage Evaluation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ority list unit commitment, and disp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udy Network Security Analys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sible generation plan to alleviate over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age sensitivity factor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Forecasting (3.12) &amp; Long-Term Demand Forecasts (3.2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oad Forecasting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-term load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-term load and demand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-training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ble Production Potential (3.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ind Power Forecasting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-term wind power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-term wind power forec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buClr>
                <a:srgbClr val="009999"/>
              </a:buClr>
              <a:buFont typeface="Wingdings" charset="2"/>
              <a:buChar char="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tage Support (3.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9999"/>
              </a:buClr>
              <a:buFont typeface="Wingdings" charset="2"/>
              <a:buChar char="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Voltage Support Requi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7680" indent="-233280">
              <a:lnSpc>
                <a:spcPct val="10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ommend Voltage Profile for all Electrical B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20:16:50Z</dcterms:created>
  <dc:creator>smoorty</dc:creator>
  <dc:description/>
  <dc:language>en-US</dc:language>
  <cp:lastModifiedBy>EILTF 112706</cp:lastModifiedBy>
  <dcterms:modified xsi:type="dcterms:W3CDTF">2006-12-07T20:28:21Z</dcterms:modified>
  <cp:revision>436</cp:revision>
  <dc:subject/>
  <dc:title>MMS Requirements Presentation to TPTF 11/07/2006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