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CACA-9B97-4E3C-BC90-06BEB97B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977-0B58-44AE-B69F-7A80491A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D0A-90AE-44E7-89AF-07B661FB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DCC9-B871-457A-ADB3-0241A142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59D0-8719-41C5-96F0-5A41F274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947-125F-4806-BF23-6FA92164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A13-EDBF-4785-9C09-C97F9E1A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3F7-3E7A-4A73-8449-C99E3523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54E-3740-43FD-BD42-FBE58861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738-9EFB-44C2-9750-5FBAC353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E7B5-BD24-4C12-BD11-E124A262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A616-457F-49F0-8A6F-1A6518C1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586560" y="611352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32680" y="5952960"/>
            <a:ext cx="263988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297480" y="5872320"/>
            <a:ext cx="278928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389640" y="5979960"/>
            <a:ext cx="2384640" cy="75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316560" y="5846760"/>
            <a:ext cx="2679840" cy="84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589800" y="611496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9440" y="1307880"/>
            <a:ext cx="774396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9360" y="4633200"/>
            <a:ext cx="77770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391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EB12-3DD8-4BA4-B1E9-2E8819FEA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rms/ttpt/index.html" TargetMode="External"/><Relationship Id="rId2" Type="http://schemas.openxmlformats.org/officeDocument/2006/relationships/hyperlink" Target="http://www.ercot.com/committees/board/tac/rms/ttpt/index.html" TargetMode="External"/><Relationship Id="rId3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2438280" y="152280"/>
          <a:ext cx="45720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52280"/>
                    <a:ext cx="45720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4572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S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43000" y="54100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 6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 the LSE certification process at ER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developed by ERC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prefers not to place in R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“Key Documents” section on TTPT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rcot.com/committees/board/tac/rms/ttpt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SE Certifica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DUNS+4 Reference for cla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d “Flight Test” to “Texas Retail Market testing” to parallel the new verbiage in the Flight Orientation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clarifying language in section 3.1 regarding Retail Testing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d reference to Random Testing in the Responsibilities section of the Flight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Appendix H for Random ANSI X 12 and Business Validation Testing Procedur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sting was a document in the retail testing Website file cabinet, which requires a lo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it to TMTP makes Random Testing off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MTP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tion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prove the updated Texas Market Test Plan/Retail Commercial Operations (TMTP); Version 1.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21:54:01Z</dcterms:created>
  <dc:creator>00206072</dc:creator>
  <dc:description/>
  <dc:language>en-US</dc:language>
  <cp:lastModifiedBy>cmoore</cp:lastModifiedBy>
  <dcterms:modified xsi:type="dcterms:W3CDTF">2006-11-21T18:46:22Z</dcterms:modified>
  <cp:revision>7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71511570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POLR Workshop Planning call/RMS Agenda Planning call for 12-6-06 RMS Meeting</vt:lpwstr>
  </property>
  <property fmtid="{D5CDD505-2E9C-101B-9397-08002B2CF9AE}" pid="6" name="_NewReviewCycle">
    <vt:lpwstr/>
  </property>
</Properties>
</file>