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A53-E3EC-4241-8F2E-82D88A55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218-CEAB-4D4C-AB8B-D97D583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25A-260B-4372-967B-4488C107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11F-895C-4708-9354-2F87BDAA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77B-A9FC-455E-B6C9-27B96D34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C3D-4796-40A0-A8D6-E5878098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351-B9A9-417C-B2D8-94C8E7D8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9BA-71D7-4309-98A7-0376864D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819-CCEE-4483-A165-3529592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776-6B62-43AE-8132-E974015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204-9BC5-4BEA-B8F9-5761CE9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9A6-CA62-41D0-9DEE-5E376BC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BB6D-2B83-4492-BE9A-D956BADF7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tail Market Subcommitte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ember 6, 2006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formance Measures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rd</a:t>
            </a:r>
            <a:r>
              <a:rPr b="0" lang="en-US" sz="36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Quarter 2006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Transaction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19320"/>
          <a:ext cx="8686800" cy="5105160"/>
        </p:xfrm>
        <a:graphic>
          <a:graphicData uri="http://schemas.openxmlformats.org/drawingml/2006/table">
            <a:tbl>
              <a:tblPr/>
              <a:tblGrid>
                <a:gridCol w="1447920"/>
                <a:gridCol w="1552320"/>
                <a:gridCol w="1016280"/>
                <a:gridCol w="1191960"/>
                <a:gridCol w="1143000"/>
                <a:gridCol w="1192320"/>
                <a:gridCol w="1143000"/>
              </a:tblGrid>
              <a:tr h="4698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98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ket Metrics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7,8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7,26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,1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8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90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1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5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,3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,8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6,3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6,8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,1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5,2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5,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,0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,7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8,3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2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,7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,1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,6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,08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,1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,5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,9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,4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,2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3,2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,2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8600" y="1219320"/>
          <a:ext cx="8686800" cy="5029200"/>
        </p:xfrm>
        <a:graphic>
          <a:graphicData uri="http://schemas.openxmlformats.org/drawingml/2006/table">
            <a:tbl>
              <a:tblPr/>
              <a:tblGrid>
                <a:gridCol w="1523880"/>
                <a:gridCol w="1476360"/>
                <a:gridCol w="1016280"/>
                <a:gridCol w="1191960"/>
                <a:gridCol w="1143000"/>
                <a:gridCol w="1192320"/>
                <a:gridCol w="1143000"/>
              </a:tblGrid>
              <a:tr h="5349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C #24462 Performance Meas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8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ket Metrics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2 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3 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a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Q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,1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1,4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,8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2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1.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3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,1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.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1,4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,8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7.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,5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97.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8,7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6.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,8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,1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5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,7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.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,8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8,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,4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4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4_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,5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,9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,7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Recei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,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,6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8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2 S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0,6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,0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,3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7_04 S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9,7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1,5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4,3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28600" y="6400800"/>
            <a:ext cx="800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- 814_04 does not have impact of 814_28 PT (Permit Pending) rem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dgoodman</cp:lastModifiedBy>
  <cp:lastPrinted>2002-09-24T18:27:58Z</cp:lastPrinted>
  <dcterms:modified xsi:type="dcterms:W3CDTF">2006-11-28T14:58:35Z</dcterms:modified>
  <cp:revision>415</cp:revision>
  <dc:subject/>
  <dc:title>PowerPoint Presentation</dc:title>
</cp:coreProperties>
</file>