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49B7-2207-4FD4-A826-CC70A4A3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E9097-32E0-4BF6-9672-267BEB4F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D760-915C-4C03-845D-1A647476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735BE-E196-4D24-8972-357C7241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A470-2B61-4512-AD00-EF7AF869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E1A8-E325-4E90-A58C-3FB7833F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6D5B-D6E5-4CFA-9087-00CE6D8E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3A91-8B97-447C-BE83-74668B98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34FA-4BEB-4560-8E53-4A07BA3C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67AB-D09E-4CD7-9E76-8CDADEF4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1A49-3E5F-435A-BCE6-D8BD1BF2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86288-A518-4554-A84D-B7F1F640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CE08-1726-4C90-95CD-DF8636473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200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Year-To-Date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1143000"/>
          <a:ext cx="72518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2518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vember 2006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219320"/>
          <a:ext cx="7456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745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54040" y="1066680"/>
          <a:ext cx="62359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066680"/>
                    <a:ext cx="62359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</cp:lastModifiedBy>
  <dcterms:modified xsi:type="dcterms:W3CDTF">2006-12-04T20:31:15Z</dcterms:modified>
  <cp:revision>39</cp:revision>
  <dc:subject/>
  <dc:title>Instructions</dc:title>
</cp:coreProperties>
</file>