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9998-AC0F-4B51-8349-A0CBDCE9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5E72-0B45-48C6-B5B8-594E8C309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A9C0-4283-41AC-9DA7-E5CA43F7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A53C-C2BD-4456-9F4B-AFD0149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1B21-CCF3-4171-9044-E9097F57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1D86-EA22-4EC9-A568-BB046D91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548D-72A6-4340-9BCE-B94BCB8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C77A-B07C-4647-A723-11EA434A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87AC-6A87-4D4F-B0D5-7D4EB4D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4F1B-4F3D-4C22-B8B0-A50FCBA4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8B4D-BCF8-4E13-BD46-D867E97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3C87-DAC9-4D1D-940F-31EFEE05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4A38-9663-476A-A425-C41020E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F7D56-558C-49A7-8A3C-5A70E97A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10ED-36B7-40AB-AB49-FD09B659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6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cember 6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1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 – Flight 1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for Flight 1006 completed successfully on Monday, November 27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testing included MarkeTrak API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1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193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light - 01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rket Orientation, originally scheduled for 12/05/06, was cance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deadline:  12/13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Kick-Off Conference Call: 12/19/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1/12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begins:  01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scheduled to conclude: 02/27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herri slagowski</cp:lastModifiedBy>
  <dcterms:modified xsi:type="dcterms:W3CDTF">2006-12-08T17:21:32Z</dcterms:modified>
  <cp:revision>62</cp:revision>
  <dc:subject/>
  <dc:title>Instructions</dc:title>
</cp:coreProperties>
</file>