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C2674-BB49-4911-9247-739AE0078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F8650-79CA-4987-8F06-DC042A79C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97A40-1949-450B-80CF-89ADF5834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11ACC-AAFF-4172-9609-2249F11EF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3DABC-FEB6-4BC8-9A37-A01EB0F80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A05FB-CB3E-4D1A-905F-C9BE72E9C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87644-FE14-4282-9BF6-A0AD50BBB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1260B-889A-4197-8B5F-F6DA56E83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CB31F-4CE2-45E0-84F5-934E2EB4A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6C512-7C4E-4803-ADBA-B2C12DE32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C1409-52D8-4C00-9337-B3A0F40FB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A217B-65E7-483C-B3FD-C0AD832D9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F964-9358-4DEC-AE1E-8FDA6A480A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1"/>
          <p:cNvSpPr>
            <a:spLocks noGrp="1"/>
          </p:cNvSpPr>
          <p:nvPr>
            <p:ph type="title"/>
          </p:nvPr>
        </p:nvSpPr>
        <p:spPr>
          <a:xfrm>
            <a:off x="457200" y="883800"/>
            <a:ext cx="8229600" cy="483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mergency Interruptible Load</a:t>
            </a:r>
            <a:br>
              <a:rPr sz="3200"/>
            </a:br>
            <a:r>
              <a:rPr b="0" lang="en-US" sz="3200" spc="-1" strike="noStrike">
                <a:solidFill>
                  <a:srgbClr val="ffff99"/>
                </a:solidFill>
                <a:latin typeface="Arial"/>
              </a:rPr>
              <a:t>Task Force</a:t>
            </a:r>
            <a:br>
              <a:rPr sz="4000"/>
            </a:br>
            <a:br>
              <a:rPr sz="4000"/>
            </a:br>
            <a:br>
              <a:rPr sz="4000"/>
            </a:br>
            <a:r>
              <a:rPr b="0" lang="en-US" sz="4000" spc="-1" strike="noStrike">
                <a:solidFill>
                  <a:srgbClr val="ffff99"/>
                </a:solidFill>
                <a:latin typeface="Arial"/>
              </a:rPr>
              <a:t>Report to WMS</a:t>
            </a:r>
            <a:br>
              <a:rPr sz="4000"/>
            </a:br>
            <a:br>
              <a:rPr sz="4000"/>
            </a:br>
            <a:br>
              <a:rPr sz="4000"/>
            </a:br>
            <a:r>
              <a:rPr b="0" lang="en-US" sz="2000" spc="-1" strike="noStrike">
                <a:solidFill>
                  <a:srgbClr val="ffff99"/>
                </a:solidFill>
                <a:latin typeface="Arial"/>
              </a:rPr>
              <a:t>December 13,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ckground</a:t>
            </a:r>
            <a:endParaRPr b="0" lang="en-US" sz="3200" spc="-1" strike="noStrike">
              <a:solidFill>
                <a:srgbClr val="000000"/>
              </a:solidFill>
              <a:latin typeface="Arial"/>
            </a:endParaRPr>
          </a:p>
        </p:txBody>
      </p:sp>
      <p:graphicFrame>
        <p:nvGraphicFramePr>
          <p:cNvPr id="47" name=""/>
          <p:cNvGraphicFramePr/>
          <p:nvPr/>
        </p:nvGraphicFramePr>
        <p:xfrm>
          <a:off x="457200" y="1143000"/>
          <a:ext cx="8229600" cy="5105160"/>
        </p:xfrm>
        <a:graphic>
          <a:graphicData uri="http://schemas.openxmlformats.org/drawingml/2006/table">
            <a:tbl>
              <a:tblPr/>
              <a:tblGrid>
                <a:gridCol w="1371600"/>
                <a:gridCol w="6858000"/>
              </a:tblGrid>
              <a:tr h="1275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ct. 2005</a:t>
                      </a:r>
                      <a:endParaRPr b="0" lang="en-US" sz="1800" spc="-1" strike="noStrike">
                        <a:solidFill>
                          <a:srgbClr val="000000"/>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C resource adequacy draft rule includes Emergency Load Response (ELR) proposal; numerous parties submit comments</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776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ly 2006</a:t>
                      </a:r>
                      <a:endParaRPr b="0" lang="en-US" sz="1800" spc="-1" strike="noStrike">
                        <a:solidFill>
                          <a:srgbClr val="000000"/>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R section dropped from proposed rule; deferred to Demand Response project (32852)</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74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t. 2006</a:t>
                      </a:r>
                      <a:endParaRPr b="0" lang="en-US" sz="1800" spc="-1" strike="noStrike">
                        <a:solidFill>
                          <a:srgbClr val="000000"/>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proposes Emergency Interruptible Load Program (EILP) at PUC Demand Response Workshop</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776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ct. 2006</a:t>
                      </a:r>
                      <a:endParaRPr b="0" lang="en-US" sz="1800" spc="-1" strike="noStrike">
                        <a:solidFill>
                          <a:srgbClr val="000000"/>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MS formed EIL TF to draft PRR(s) / NPRR(s) for WMS review at December 13 WMS meeting</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ILTF Charge</a:t>
            </a:r>
            <a:endParaRPr b="0" lang="en-US" sz="3200" spc="-1" strike="noStrike">
              <a:solidFill>
                <a:srgbClr val="000000"/>
              </a:solidFill>
              <a:latin typeface="Arial"/>
            </a:endParaRPr>
          </a:p>
        </p:txBody>
      </p:sp>
      <p:sp>
        <p:nvSpPr>
          <p:cNvPr id="51"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mergency Interruptible Load Task Force (EILTF) is to draft one or more PRRs/NPRRs by the December 2006 meeting of WMS that provides ERCOT with a load interruption ancillary service to be deployed within 10 minutes of instruction as part of the EECP immediately prior to firm load shedding.  The EIL TF is specifically charged to address each of the following issue areas:</a:t>
            </a:r>
            <a:endParaRPr b="0" lang="en-US" sz="1800" spc="-1" strike="noStrike">
              <a:solidFill>
                <a:srgbClr val="000000"/>
              </a:solidFill>
              <a:latin typeface="Arial"/>
            </a:endParaRPr>
          </a:p>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Qualifications &amp; requirements</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Dispatch and recall</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Who gets paid</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How they are paid</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Who pays</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Effect on clearing price</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Compliance issues</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Coordination with other ancillary services</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Self-provision</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Contract duration</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Procurement:  contract vs. auctio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RCOT EILP Proposal</a:t>
            </a:r>
            <a:endParaRPr b="0" lang="en-US" sz="3200" spc="-1" strike="noStrike">
              <a:solidFill>
                <a:srgbClr val="000000"/>
              </a:solidFill>
              <a:latin typeface="Arial"/>
            </a:endParaRPr>
          </a:p>
        </p:txBody>
      </p:sp>
      <p:sp>
        <p:nvSpPr>
          <p:cNvPr id="55"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defined EILP as a service provided by loads willing to interrupt in exchange for a payment during emergency condi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would procure EIL service on the market’s behalf (approximately 1000 MW) through long-term contracts (one or two yea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L would be deployed during EECP after LaaRs are deployed but before firm load shedding, when no additional resources (generation or load) are available at any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loyed by ERCOT as a single block through QS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Rs needed for verification, but no telemetry or UFR require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e in 10 minutes or l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double counting” LaaRs, BUL, or price responsive lo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sues and Tradeoffs</a:t>
            </a:r>
            <a:endParaRPr b="0" lang="en-US" sz="3200" spc="-1" strike="noStrike">
              <a:solidFill>
                <a:srgbClr val="000000"/>
              </a:solidFill>
              <a:latin typeface="Arial"/>
            </a:endParaRPr>
          </a:p>
        </p:txBody>
      </p:sp>
      <p:sp>
        <p:nvSpPr>
          <p:cNvPr id="5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fications / Participation</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widespread participation with efficacious participation </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atch</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tree v. the “big red button”</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v. Auction / Long-term v. Near-term</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ctions afford more price discovery than contract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term procurement affords more flexibility to EILS participants</a:t>
            </a:r>
            <a:endParaRPr b="0" lang="en-US" sz="24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participation of small loads and batch processors</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ly lowers overall service cost to the market</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 contracts easier to administrate and imp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ILTF draft PRRs</a:t>
            </a:r>
            <a:endParaRPr b="0" lang="en-US" sz="3200" spc="-1" strike="noStrike">
              <a:solidFill>
                <a:srgbClr val="000000"/>
              </a:solidFill>
              <a:latin typeface="Arial"/>
            </a:endParaRPr>
          </a:p>
        </p:txBody>
      </p:sp>
      <p:sp>
        <p:nvSpPr>
          <p:cNvPr id="63"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draft PRRs present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s A and B:  capacity servi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s C and D:  energy only service</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Features in all draft PR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term auction procurement methodolog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ILS created as new Step 3 of EEC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ILS procured, settled, dispatched through QSEs (no big red button)</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Differenc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ment of price responsiveness between Options A and B</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acity v. Energ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tlement, Effect on MC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ILTF draft PRRs  - Next Steps</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ember WMS review</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MS may endorse none, one or more options to be fil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nuary PRS review</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ume Urgent Status will be grant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bruary TAC revie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bruary Board revie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ective upon system implementation (target Spring ’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22:47:16Z</dcterms:created>
  <dc:creator>Mark Bruce</dc:creator>
  <dc:description/>
  <dc:language>en-US</dc:language>
  <cp:lastModifiedBy>Mark Bruce</cp:lastModifiedBy>
  <dcterms:modified xsi:type="dcterms:W3CDTF">2006-12-07T15:31:49Z</dcterms:modified>
  <cp:revision>11</cp:revision>
  <dc:subject/>
  <dc:title>Qualifications / Requirements</dc:title>
</cp:coreProperties>
</file>