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28080"/>
            <a:ext cx="8991720" cy="2452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E596AE3-4363-49D7-96EF-970B523D9AE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59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2681280"/>
            <a:ext cx="6400800" cy="1387440"/>
          </a:xfrm>
          <a:prstGeom prst="rect">
            <a:avLst/>
          </a:prstGeom>
          <a:noFill/>
          <a:ln w="12600">
            <a:solidFill>
              <a:srgbClr val="269626"/>
            </a:solidFill>
            <a:miter/>
          </a:ln>
        </p:spPr>
        <p:txBody>
          <a:bodyPr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ed By:</a:t>
            </a:r>
            <a:br>
              <a:rPr sz="2100"/>
            </a:br>
            <a:r>
              <a:rPr b="1" lang="en-US" sz="2100" spc="-1" strike="noStrike">
                <a:solidFill>
                  <a:srgbClr val="000000"/>
                </a:solidFill>
                <a:latin typeface="Arial"/>
              </a:rPr>
              <a:t>Sai Moorty</a:t>
            </a:r>
            <a:br>
              <a:rPr sz="2100"/>
            </a:br>
            <a:r>
              <a:rPr b="1" lang="en-US" sz="2100" spc="-1" strike="noStrike">
                <a:solidFill>
                  <a:srgbClr val="000000"/>
                </a:solidFill>
                <a:latin typeface="Arial"/>
              </a:rPr>
              <a:t>MMS Project Engineer</a:t>
            </a:r>
            <a:endParaRPr b="1" lang="en-US" sz="2100" spc="-1" strike="noStrike">
              <a:solidFill>
                <a:srgbClr val="000000"/>
              </a:solidFill>
              <a:latin typeface="Arial"/>
            </a:endParaRPr>
          </a:p>
        </p:txBody>
      </p:sp>
      <p:sp>
        <p:nvSpPr>
          <p:cNvPr id="47" name=""/>
          <p:cNvSpPr/>
          <p:nvPr/>
        </p:nvSpPr>
        <p:spPr>
          <a:xfrm>
            <a:off x="0" y="28440"/>
            <a:ext cx="9144000" cy="528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MS/MMS Agenda – </a:t>
            </a:r>
            <a:r>
              <a:rPr b="1" i="1" lang="en-US" sz="1700" spc="-1" strike="noStrike">
                <a:solidFill>
                  <a:srgbClr val="ffffff"/>
                </a:solidFill>
                <a:latin typeface="Arial Black"/>
              </a:rPr>
              <a:t>Overview of Submitted White Paper Requirement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49"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ce and disposition from TPTF of concepts described in White Papers</a:t>
            </a:r>
            <a:endParaRPr b="0"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design direction based upon TPTF feedback</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nalysis of Real-Time Operations related to Load Frequency Control (LFC) and its interaction with Security Constrained Economic Dispatch (SCED) raised some issues. </a:t>
            </a:r>
            <a:endParaRPr b="0"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 discussions between ERCOT, Vendors (AREVA and ABB) and Floyd Trefny (Consultant) resulted in decision to submit White Papers to TPTF for review.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1"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Point above HASL Flags</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not be necessary to implement either the “Base Point above HASL” or “Pseudo-Resource Dispatch” flags in the ICCP telemetry to QS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Pseudo-Resource Dispatch will be provided in the MIS Secure Are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L And LDL During Start up and AS Recall</a:t>
            </a:r>
            <a:r>
              <a:rPr b="1" lang="en-US"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Responsive Reserve recall if the calculated HDL falls below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L = LDL = Max (POWERTELEM - (SCED Down Ramp Rate * 5), LAS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Generation Resource startup when POWERTELEM is above 90% but less than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L = HDL = Min (Actual Gen + (SCED Up Ramp Rate * 5), HAS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Generation Resource startup when POWERTELEM falls below 90% of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L = LDL = POWERTELEM </a:t>
            </a:r>
            <a:endParaRPr b="0" lang="en-US" sz="14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Base points Calculation and Deployment</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SCED failure, Emergency Base Points will be calculated and issued to QSEs through Generation Subsystem in the EMS. Distribution of Emergency Base Points will cause the current regulation deployment to be reset the same as an update of the SCED solu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3"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incidental Deployment of Up and Down Regulation</a:t>
            </a:r>
            <a:r>
              <a:rPr b="1"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FC should not be artificially constrained in a way that regulation deployment of some QSEs may have opposite signs from the other QSEs</a:t>
            </a:r>
            <a:endParaRPr b="0" lang="en-US" sz="14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cillary Service Schedules and Deployment Telemetry</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the set of data to be telemetered from QSE to ERCOT to include the Ancillary Service Resource Responsibility for each participating Resource</a:t>
            </a:r>
            <a:endParaRPr b="0" lang="en-US" sz="1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5"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ve Reserve Deployment and Recall</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s deployment of RRS to QSEs will include the following two signals</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RS capacity deployment signal wherein each QSE will simply adjust their RRS schedule on their Resources and wait for SCED to produce new Base Points that can include additional Responsive Reserve MW requirement.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RS energy deployment signal that requires each QSEs to produce that additional energy through their own deployment to its Resources providing RRS. </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telemetry to ERCOT will include the following two signal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to  indicate the RRS Resource Responsibility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to indicate the remaining RRS Ancillary Service Schedule that is the difference between the RRS Resource Responsibility amount and deployed amount. </a:t>
            </a:r>
            <a:endParaRPr b="0" lang="en-US" sz="14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pin Deployment Notification and Availability</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are requested to provide to ERCOT two data items related to Non-Spin:</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pin Responsibility (reflects Non-Spin obligation for the Resource where deployed or not deployed)</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pin Ancillary Service Schedule (normally equal to Non-Spin responsibility, changes to zero when the QSE makes the Resource available for dispatch following an ERCOT request for Non-Spin deployment, and returns to the Non-Spin responsibility value when ERCOT recalls Non-Spin).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D Base Point Dispatch</a:t>
            </a:r>
            <a:r>
              <a:rPr b="1" lang="en-US"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will receive the following two Base Point values for each Resource:</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 Point as calculated by SCED at every SCED execution </a:t>
            </a:r>
            <a:endParaRPr b="0" lang="en-US" sz="1400" spc="-1" strike="noStrike">
              <a:solidFill>
                <a:srgbClr val="000000"/>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pdated Desired Base Point updated every 4 seconds by LFC.  The Updated Desired Base Points represent the ERCOT desired control each LFC cycle</a:t>
            </a:r>
            <a:endParaRPr b="0" lang="en-US" sz="14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20:16:50Z</dcterms:created>
  <dc:creator>smoorty</dc:creator>
  <dc:description/>
  <dc:language>en-US</dc:language>
  <cp:lastModifiedBy>smoorty</cp:lastModifiedBy>
  <dcterms:modified xsi:type="dcterms:W3CDTF">2006-12-07T17:25:46Z</dcterms:modified>
  <cp:revision>435</cp:revision>
  <dc:subject/>
  <dc:title>MMS Requirements Presentation to TPTF 11/07/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