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28080"/>
            <a:ext cx="899172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AE08D9D4-E066-4FEE-8632-FAA42447C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63054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jdondeti@ercot.com" TargetMode="External"/><Relationship Id="rId2" Type="http://schemas.openxmlformats.org/officeDocument/2006/relationships/hyperlink" Target="mailto:bpeterson@erco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66840"/>
            <a:ext cx="7772400" cy="26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Energy Management System </a:t>
            </a:r>
            <a:br>
              <a:rPr sz="24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Requirement Documents</a:t>
            </a:r>
            <a:br>
              <a:rPr sz="2400"/>
            </a:b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1600"/>
            </a:b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December 5, 2006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Jay Dondeti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EMS Project Engineer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– Day-Ahead Opera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455760" y="730080"/>
            <a:ext cx="84024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-Powered Generation Resource Production Potential (4.2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nd Power Forecasting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-term wind power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-term wind power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of WGRPP to Q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ing Forecasted ERCOT System Conditions (4.2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ynamic Ratings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ther assumptions used in Dynamic Ratings Processor for po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ad Forecasting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ed load for the next seven days for po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 Estimator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ed load distribution factors for the next seven days for po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– Transmission Security Analysi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455760" y="730080"/>
            <a:ext cx="84024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Sequence, Including RUC (5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ynamic Ratings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on of Dynamic Ratings for future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I to provide ratings to Transmission Security Analysis in RU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ADA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breaker and switch statuses for HRU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 Estimator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load distribution factors for RUC study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twork Security and Stability Analysis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constraints to protect the ERCOT System against voltage collap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Network Security Analysis to analyze future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voltage stability analysis to analyze future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Network Security Analysis of RUC is not part of 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ad Forecasting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-term load forecast data for Transmission Security Analysis in RU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– Real-Time Opera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455760" y="730080"/>
            <a:ext cx="8402400" cy="54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Operations (6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ADA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and output telemetry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metry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s to oth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shing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ced Outage Detection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ing of status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ion of forced ou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eration Sub-system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limit calc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illary service capacity mon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Frequency Control (LF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s to oth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ynamic Ratings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on of Dynamic Ratings in real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ing Dynamic Ratings to Real-Time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ltage Support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 reactive device switching and minimizes the dependence on generation-supplied reactiv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– Real-Time Opera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455760" y="730080"/>
            <a:ext cx="8402400" cy="36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Operations (6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 Estimator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mode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topology bui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load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esti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ology consistency analy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s to oth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twork Security and Stability Analysis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Securit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age stabilit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ient stabilit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ission constrain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s to oth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Approval Pla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455760" y="730080"/>
            <a:ext cx="8402400" cy="54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cember 22, 20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PTF comments due to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would encourage comments to be submitted when 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S team (ERCOT and Vendors) will be available for cla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anuary 8, 2007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RCOT response due to T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ubmits response to TPTF com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ubmits updated EMS requirements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anuary 23, 2007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PTF approves EMS Requirements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SzPct val="140000"/>
              <a:buFont typeface="Arial"/>
              <a:buChar char="*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items are target dates, and will be greatly dependent on the quantity of comments and magnitude of changes requir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COT Contac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455760" y="730080"/>
            <a:ext cx="8402400" cy="28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Project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y Dond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dondeti@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12) 248-66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&amp; MMS Artifact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ll Pet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peterson@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12) 248-66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 &amp; Answer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30480" y="2558880"/>
            <a:ext cx="18180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455760" y="730080"/>
            <a:ext cx="61560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S Requirements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S Requirements Approv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Cont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455760" y="730080"/>
            <a:ext cx="831024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339840" indent="-33984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mplementation purposes the Texas Nodal systems are categorized into the following major sys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Management System (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Management System (M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estion Revenue Rights System (C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Model Management System (NM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Systems (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troduction Continued…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455760" y="730080"/>
            <a:ext cx="8310240" cy="54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339840" indent="-33984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quirement analysis purposes the Energy Management System (EMS) is classified, based on functionality,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Management System (Over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S Data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ced Outage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namic R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tion Sub-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 Est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work Security and Stabilit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tag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ag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 Power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d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troduction Continued…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455760" y="730080"/>
            <a:ext cx="8310240" cy="32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339840" indent="-33984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S requirements documents have been written compliant to the May 2006 version of the Texas Nodal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S requirements documents were submitted to TPTF on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c for review and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pics covered in the white papers recently submitted to TPTF by  the MMS and EMS teams, primarily impact the Generation Sub-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– Overview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55760" y="730080"/>
            <a:ext cx="840240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MS Overview Require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ocument provides a high level description of the scope and functionality of various components within the 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COT recommends that the reviewers read this description prior to reviewing the rest of th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S covers the following four major activities described in the Texas Nodal Protoc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Activities for the ERCOT System (Section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-Ahead Operations (Section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 Security Analysis (Section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Operations (Section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0000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– Overview Continued…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455760" y="730080"/>
            <a:ext cx="84024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209600"/>
          <a:ext cx="8546760" cy="4525560"/>
        </p:xfrm>
        <a:graphic>
          <a:graphicData uri="http://schemas.openxmlformats.org/drawingml/2006/table">
            <a:tbl>
              <a:tblPr/>
              <a:tblGrid>
                <a:gridCol w="3341880"/>
                <a:gridCol w="1301040"/>
                <a:gridCol w="1301400"/>
                <a:gridCol w="1301040"/>
                <a:gridCol w="1301400"/>
              </a:tblGrid>
              <a:tr h="934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agement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Section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Day Ahead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Section 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Transmission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ecurity 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Section 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al-tim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Section 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EMS Data Mod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C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orced Outage Det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Dynamic Ra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eneration Sub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tate Estim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Network Security and Stability 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oltage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utage E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ind Power Foreca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oad Foreca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– Management Activities for the ERCOT System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455760" y="730080"/>
            <a:ext cx="8402400" cy="42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Operations Modeling and Telemetry (3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 Model Requirement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(CIM) with Network Model Management System (NMMS) for Network Operation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with NMMS for network di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ynamic Ratings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data for Dynamic Ratings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 Estimator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Estimator performance standards related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facility and Study State Estim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ADA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metry criteria related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twork Security and Stability Analysis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Special Protection Systems and Remedial Action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rollover 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13284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– Management Activities for the ERCOT System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Continued…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455760" y="730080"/>
            <a:ext cx="8402400" cy="55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age Coordination (3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age Evaluation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list unit commitment, and disp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Network Security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sible generation plan to alleviate over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age sensitivity factor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Forecasting (3.12) &amp; Long-Term Demand Forecasts (3.2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ad Forecasting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-term load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-term load and demand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-training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ble Production Potential (3.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nd Power Forecasting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-term wind power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-term wind power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Support (3.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ltage Support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 Voltage Profile for all Electrical B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20:16:50Z</dcterms:created>
  <dc:creator>smoorty</dc:creator>
  <dc:description/>
  <dc:language>en-US</dc:language>
  <cp:lastModifiedBy>EILTF 112706</cp:lastModifiedBy>
  <dcterms:modified xsi:type="dcterms:W3CDTF">2006-12-07T20:28:21Z</dcterms:modified>
  <cp:revision>436</cp:revision>
  <dc:subject/>
  <dc:title>MMS Requirements Presentation to TPTF 11/07/200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