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45F13F-B88E-4446-8538-6A58ADFC5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dicates that non-passing sco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E47A3-8545-4AFA-960C-0A4F36DBB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AB3F0-E911-4086-AF69-FF0052D12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B5AFD-C68E-4FD4-AB84-7CCAA72EE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A4ED0-08A6-400A-BE7F-44D56B34B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7190F2-C97F-4296-9CD5-734D5EA42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8FCD6-FCF4-44CC-AF74-2C58E6CF4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F0D3B-EC19-4650-A79C-1BC7F9665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08967-1A7A-47E5-A36A-88E9CE988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0BA3A-12A7-48D9-A89E-53A746711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84186-DD9C-4053-A5C1-586022C98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9E80B-2314-44FB-9BA5-C983B8FB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0642A-25CA-42D1-90A3-7B69DDCC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E6216-5F8C-4751-A9E3-E79135828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F8E7D-9BB8-45B0-93FF-DF30B9A2B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1D339-7F71-4112-AAA9-8D08E0BAC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64AB0-FE07-4F79-87F1-1866FF7A6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5ACDD-9B52-46BA-AFA6-90A385F65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E6427-C6FD-4F75-8357-F2A38AC26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41E24-1063-42E1-BB6E-3A27A9B49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1508C-A861-47F1-9495-6776F6714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000B0-1927-40BE-AA34-F258D4499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4670E-A5DB-43B0-87D0-26E06D463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A1706-BAAD-4AA4-A747-B7A04DBB2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0C73D-E823-4CF6-B24E-856ED9431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38D5-E76B-4B47-870F-75394CE0B14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 descr=""/>
          <p:cNvPicPr/>
          <p:nvPr/>
        </p:nvPicPr>
        <p:blipFill>
          <a:blip r:embed="rId3"/>
          <a:stretch/>
        </p:blipFill>
        <p:spPr>
          <a:xfrm>
            <a:off x="0" y="0"/>
            <a:ext cx="155268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16DD-3C17-4EDD-8AE9-84AEFFE02AC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0" y="0"/>
            <a:ext cx="1552680" cy="74304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mpliance Update</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5800" y="3428640"/>
            <a:ext cx="777240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S</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ember 2006</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CDBC012F-750E-435E-B86C-041786F2B6F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rol Performance Highlights</a:t>
            </a:r>
            <a:endParaRPr b="0" lang="en-US" sz="36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RC CPS1 Performance</a:t>
            </a:r>
            <a:endParaRPr b="0" lang="en-US" sz="26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vember performance indicated a fifth straight month of declining scores since scores peaked in June, which is not entirely unexpected with more outages and less generation on-lin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tober </a:t>
            </a:r>
            <a:r>
              <a:rPr b="0" lang="en-US" sz="1900" spc="-1" strike="noStrike">
                <a:solidFill>
                  <a:srgbClr val="000000"/>
                </a:solidFill>
                <a:latin typeface="Verdana"/>
              </a:rPr>
              <a:t>– </a:t>
            </a:r>
            <a:r>
              <a:rPr b="0" lang="en-US" sz="1800" spc="-1" strike="noStrike">
                <a:solidFill>
                  <a:srgbClr val="000000"/>
                </a:solidFill>
                <a:latin typeface="Verdana"/>
              </a:rPr>
              <a:t>137.3</a:t>
            </a:r>
            <a:r>
              <a:rPr b="0" lang="en-US" sz="1900" spc="-1" strike="noStrike">
                <a:solidFill>
                  <a:srgbClr val="000000"/>
                </a:solidFill>
                <a:latin typeface="Verdana"/>
              </a:rPr>
              <a:t> </a:t>
            </a:r>
            <a:endParaRPr b="0" lang="en-US" sz="19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vember – 132.0</a:t>
            </a:r>
            <a:endParaRPr b="0" lang="en-US" sz="18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R 525 Performance</a:t>
            </a:r>
            <a:endParaRPr b="0" lang="en-US" sz="26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liminary scores for November indicate 32 QSEs passed / 1 non-wind-only QSE failed the measur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ores posted on the ERCOT Compliance Websi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wind generation is now in separate subQSEs</a:t>
            </a:r>
            <a:endParaRPr b="0" lang="en-US" sz="20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RS/NSRS Performance – initial scoring under new criteria in progres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1547384-83CC-4C43-974F-71666A7B9E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RCOT’s CPS1 Monthly Trend</a:t>
            </a:r>
            <a:endParaRPr b="0" lang="en-US" sz="3800" spc="-1" strike="noStrike">
              <a:solidFill>
                <a:srgbClr val="000000"/>
              </a:solidFill>
              <a:latin typeface="Verdana"/>
            </a:endParaRPr>
          </a:p>
        </p:txBody>
      </p:sp>
      <p:pic>
        <p:nvPicPr>
          <p:cNvPr id="99"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08CCE613-13C4-42B5-9FDB-70AD76760D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00200" y="304920"/>
            <a:ext cx="697536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525 Passing 10-Min Interval </a:t>
            </a:r>
            <a:br>
              <a:rPr sz="3400"/>
            </a:br>
            <a:r>
              <a:rPr b="0" lang="en-US" sz="3400" spc="-1" strike="noStrike">
                <a:solidFill>
                  <a:srgbClr val="000000"/>
                </a:solidFill>
                <a:latin typeface="Verdana"/>
              </a:rPr>
              <a:t>Percentage Trends</a:t>
            </a:r>
            <a:endParaRPr b="0" lang="en-US" sz="3400" spc="-1" strike="noStrike">
              <a:solidFill>
                <a:srgbClr val="000000"/>
              </a:solidFill>
              <a:latin typeface="Verdana"/>
            </a:endParaRPr>
          </a:p>
        </p:txBody>
      </p:sp>
      <p:pic>
        <p:nvPicPr>
          <p:cNvPr id="101"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BCC86C2F-1B4F-4407-847B-6C4345381D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ERC ERO Development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posed Delegation Agreement, Exhibits, &amp; Related Documents for the Texas Regional Entity were submitted to NERC on November 17</a:t>
            </a:r>
            <a:r>
              <a:rPr b="0" lang="en-US" sz="1800" spc="-1" strike="noStrike" baseline="30000">
                <a:solidFill>
                  <a:srgbClr val="000000"/>
                </a:solidFill>
                <a:latin typeface="Verdana"/>
              </a:rPr>
              <a:t>th.  </a:t>
            </a:r>
            <a:r>
              <a:rPr b="0" lang="en-US" sz="1800" spc="-1" strike="noStrike">
                <a:solidFill>
                  <a:srgbClr val="000000"/>
                </a:solidFill>
                <a:latin typeface="Verdana"/>
              </a:rPr>
              <a:t> </a:t>
            </a:r>
            <a:endParaRPr b="0" lang="en-US" sz="18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RC has a docket on these: </a:t>
            </a:r>
            <a:r>
              <a:rPr b="0" lang="en-US" sz="1900" spc="-1" strike="noStrike">
                <a:solidFill>
                  <a:srgbClr val="000000"/>
                </a:solidFill>
                <a:latin typeface="Verdana"/>
              </a:rPr>
              <a:t>Delegation Agreement Between the North American Electric Reliability Corporation and Texas Regional Entity, a division of ERCOT, Docket No. RR07-1-000</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re are still approvals within ERCOT necessary, discussed at the TAC meeting last month &amp; on January agenda.</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siderable work on standards remains – list of revisions in progress attached.  Some of these revisions are in response to FERC comments. </a:t>
            </a:r>
            <a:endParaRPr b="0" lang="en-US" sz="19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COT Compliance Staff participating with NERC on 2nd ERCOT Local Control Center Reliability Readiness Audits – TXU Electric Delivery (December)</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27D85F8E-350F-404E-8A1C-1C8224859B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Self - Certifications</a:t>
            </a:r>
            <a:endParaRPr b="0" lang="en-US" sz="3500" spc="-1" strike="noStrike">
              <a:solidFill>
                <a:srgbClr val="000000"/>
              </a:solidFill>
              <a:latin typeface="Verdana"/>
            </a:endParaRPr>
          </a:p>
        </p:txBody>
      </p:sp>
      <p:sp>
        <p:nvSpPr>
          <p:cNvPr id="105" name="PlaceHolder 2"/>
          <p:cNvSpPr>
            <a:spLocks noGrp="1"/>
          </p:cNvSpPr>
          <p:nvPr>
            <p:ph/>
          </p:nvPr>
        </p:nvSpPr>
        <p:spPr>
          <a:xfrm>
            <a:off x="1219320" y="1904760"/>
            <a:ext cx="7238880" cy="3809880"/>
          </a:xfrm>
          <a:prstGeom prst="rect">
            <a:avLst/>
          </a:prstGeom>
          <a:noFill/>
          <a:ln w="0">
            <a:noFill/>
          </a:ln>
        </p:spPr>
        <p:txBody>
          <a:bodyPr lIns="90000" rIns="90000" tIns="46800" bIns="46800" anchor="t">
            <a:normAutofit fontScale="99000"/>
          </a:bodyPr>
          <a:p>
            <a:pPr marL="464760" indent="-464760">
              <a:spcBef>
                <a:spcPts val="9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en-US" sz="3800" spc="-1" strike="noStrike">
                <a:solidFill>
                  <a:srgbClr val="000000"/>
                </a:solidFill>
                <a:latin typeface="Verdana"/>
              </a:rPr>
              <a:t>ERCOT TO/TDSP – due 12/1/06 (most are in)</a:t>
            </a:r>
            <a:endParaRPr b="0" lang="en-US" sz="3800" spc="-1" strike="noStrike">
              <a:solidFill>
                <a:srgbClr val="000000"/>
              </a:solidFill>
              <a:latin typeface="Verdana"/>
            </a:endParaRPr>
          </a:p>
          <a:p>
            <a:pPr marL="464760" indent="-464760">
              <a:spcBef>
                <a:spcPts val="9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source Entities – due 1/10/07</a:t>
            </a:r>
            <a:endParaRPr b="0" lang="en-US" sz="3800" spc="-1" strike="noStrike">
              <a:solidFill>
                <a:srgbClr val="000000"/>
              </a:solidFill>
              <a:latin typeface="Verdana"/>
            </a:endParaRPr>
          </a:p>
          <a:p>
            <a:pPr marL="464760" indent="-464760">
              <a:spcBef>
                <a:spcPts val="9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QSEs – due 1/10/07 (for those not audited in 2006)</a:t>
            </a:r>
            <a:endParaRPr b="0" lang="en-US" sz="3800" spc="-1" strike="noStrike">
              <a:solidFill>
                <a:srgbClr val="000000"/>
              </a:solidFill>
              <a:latin typeface="Verdana"/>
            </a:endParaRPr>
          </a:p>
        </p:txBody>
      </p:sp>
      <p:sp>
        <p:nvSpPr>
          <p:cNvPr id="4" name="PlaceHolder 3"/>
          <p:cNvSpPr>
            <a:spLocks noGrp="1"/>
          </p:cNvSpPr>
          <p:nvPr>
            <p:ph type="sldNum" idx="3"/>
          </p:nvPr>
        </p:nvSpPr>
        <p:spPr/>
        <p:txBody>
          <a:bodyPr/>
          <a:p>
            <a:fld id="{143A7C40-9491-41EF-BD73-FD66A6F3B0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Events investigations (Closed)</a:t>
            </a:r>
            <a:endParaRPr b="0" lang="en-US" sz="3500" spc="-1" strike="noStrike">
              <a:solidFill>
                <a:srgbClr val="000000"/>
              </a:solidFill>
              <a:latin typeface="Verdana"/>
            </a:endParaRPr>
          </a:p>
        </p:txBody>
      </p:sp>
      <p:sp>
        <p:nvSpPr>
          <p:cNvPr id="107" name="PlaceHolder 2"/>
          <p:cNvSpPr>
            <a:spLocks noGrp="1"/>
          </p:cNvSpPr>
          <p:nvPr>
            <p:ph/>
          </p:nvPr>
        </p:nvSpPr>
        <p:spPr>
          <a:xfrm>
            <a:off x="1219320" y="1904760"/>
            <a:ext cx="7238880" cy="38098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17 EECP - Continued review by PUCT</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olations have been followed up by PUCT inquiry</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dditional administrative penalties have been levied by PUCT</a:t>
            </a:r>
            <a:endParaRPr b="0" lang="en-US" sz="1900" spc="-1" strike="noStrike">
              <a:solidFill>
                <a:srgbClr val="000000"/>
              </a:solidFill>
              <a:latin typeface="Verdana"/>
            </a:endParaRPr>
          </a:p>
          <a:p>
            <a:pPr lvl="1" marL="9079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6/12 Central Texas Disturbance </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enerator protective system coordination followup continues.  </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re were no clear violations of OG or standards.   </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G and NERC Standards language on coordination of generation and transmission protection is not clear and difficult to enforce.</a:t>
            </a: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CD137BD0-91BF-4F64-980D-E5D4EB50D9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304920"/>
            <a:ext cx="78487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Event Investigation </a:t>
            </a:r>
            <a:r>
              <a:rPr b="0" lang="en-US" sz="2000" spc="-1" strike="noStrike">
                <a:solidFill>
                  <a:srgbClr val="000000"/>
                </a:solidFill>
                <a:latin typeface="Verdana"/>
              </a:rPr>
              <a:t>– </a:t>
            </a:r>
            <a:br>
              <a:rPr sz="2000"/>
            </a:br>
            <a:r>
              <a:rPr b="0" lang="en-US" sz="3200" spc="-1" strike="noStrike">
                <a:solidFill>
                  <a:srgbClr val="000000"/>
                </a:solidFill>
                <a:latin typeface="Verdana"/>
              </a:rPr>
              <a:t>9/28 SPS Operation in North Texas</a:t>
            </a:r>
            <a:endParaRPr b="0" lang="en-US" sz="3200" spc="-1" strike="noStrike">
              <a:solidFill>
                <a:srgbClr val="000000"/>
              </a:solidFill>
              <a:latin typeface="Verdana"/>
            </a:endParaRPr>
          </a:p>
        </p:txBody>
      </p:sp>
      <p:sp>
        <p:nvSpPr>
          <p:cNvPr id="109" name="PlaceHolder 2"/>
          <p:cNvSpPr>
            <a:spLocks noGrp="1"/>
          </p:cNvSpPr>
          <p:nvPr>
            <p:ph/>
          </p:nvPr>
        </p:nvSpPr>
        <p:spPr>
          <a:xfrm>
            <a:off x="533520" y="1828800"/>
            <a:ext cx="8153280" cy="46483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S operation tripped &gt; 1000 MW generation -  a NERC DCS event.  Recovery met NERC requirement (15 minutes).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COT Operations &amp; Planning determined that the SPS operated correctly.  Although plant did not decrease output per design, transmission equipment correctly tripped the line to the plant.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lant personnel identified failure in plant controls, took corrective actions and made improvements to generator-owned equipment.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DSP &amp; generator each maintained their portions of the SPS as required.  The companies proactively scheduled joint testing activities.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SE SCADA failed, incorrectly indicating full plant output after the unit trip.  QSE operators validated plant status after ERCOT Operations called for confirmation, just after the event.  Equipment issues were addressed &amp; enhancements made.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Arial"/>
              </a:rPr>
              <a:t>ERCOT Compliance recommends review of expectations for generation-owned SPS components.  Generation company ownership of SPS equipment is not recognized in official ERCOT approvals or in Operating Guides 7.2.2.(13).</a:t>
            </a: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FCB68E3E-8D5A-4B8C-92F7-1AD5C389C2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10/3 Bryan area event</a:t>
            </a:r>
            <a:endParaRPr b="0" lang="en-US" sz="3500" spc="-1" strike="noStrike">
              <a:solidFill>
                <a:srgbClr val="000000"/>
              </a:solidFill>
              <a:latin typeface="Verdana"/>
            </a:endParaRPr>
          </a:p>
        </p:txBody>
      </p:sp>
      <p:sp>
        <p:nvSpPr>
          <p:cNvPr id="111" name="PlaceHolder 2"/>
          <p:cNvSpPr>
            <a:spLocks noGrp="1"/>
          </p:cNvSpPr>
          <p:nvPr>
            <p:ph/>
          </p:nvPr>
        </p:nvSpPr>
        <p:spPr>
          <a:xfrm>
            <a:off x="304560" y="1752480"/>
            <a:ext cx="8001000" cy="4267440"/>
          </a:xfrm>
          <a:prstGeom prst="rect">
            <a:avLst/>
          </a:prstGeom>
          <a:noFill/>
          <a:ln w="0">
            <a:noFill/>
          </a:ln>
        </p:spPr>
        <p:txBody>
          <a:bodyPr lIns="90000" rIns="90000" tIns="46800" bIns="46800" anchor="t">
            <a:normAutofit/>
          </a:bodyPr>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parate compliance report will be issued shortly</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ummary to date:</a:t>
            </a:r>
            <a:endParaRPr b="0" lang="en-US" sz="19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pects of relaying arrangement at Gibbons Creek did not meet Operating Guides requirements for new substations but these facilities were “grandfathered”</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ly ERCOT and TDSPs coordinated their grid management activities including load shed, with minor issues in communications and </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aR performance following manual deployment did not meet 10 minute criteria at 5 QSEs</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COT met NERC DCS frequency recovery standard, and no NERC Interconnection Reliability Operating Limit (IROL – major transmission security) violations were identified.</a:t>
            </a:r>
            <a:endParaRPr b="0" lang="en-US" sz="1800" spc="-1" strike="noStrike">
              <a:solidFill>
                <a:srgbClr val="000000"/>
              </a:solidFill>
              <a:latin typeface="Verdana"/>
            </a:endParaRPr>
          </a:p>
          <a:p>
            <a:pPr lvl="2" marL="1305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0" lang="en-US" sz="10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079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D612DEE8-49E0-4041-925E-2CD355AC6C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22:17:43Z</dcterms:created>
  <dc:creator>lrobinson</dc:creator>
  <dc:description/>
  <dc:language>en-US</dc:language>
  <cp:lastModifiedBy>ERCOT</cp:lastModifiedBy>
  <dcterms:modified xsi:type="dcterms:W3CDTF">2006-12-06T19:59:04Z</dcterms:modified>
  <cp:revision>245</cp:revision>
  <dc:subject/>
  <dc:title>PRR 525 Compliance Analysis</dc:title>
</cp:coreProperties>
</file>