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1A7-C162-4FE1-9711-E88C199C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DDA-2712-4F8D-B893-758EABC6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563-71F4-4859-A185-A34F3D00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F41-9A70-460F-A6B1-49DB93CC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ECC-B808-4FFE-8DBA-4DE902C7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BD7-62ED-4E5C-AE68-751E95A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FAB-8A8D-43FB-A64C-C1AEFD13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78DE-2951-4A11-AB82-1856D941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2DD-8CE7-4653-983F-094AD426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CCF-06F1-4FCE-BC40-6B69295B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624-665E-46A7-89AE-47F3E29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422-9FB1-4B40-A352-0E1C57C3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40C5-E856-463C-B792-6DDCC6CD3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tp://www.nerc.com/pub/sys/all_updl/standards/rs/CIP-001-1.pdf" TargetMode="External"/><Relationship Id="rId2" Type="http://schemas.openxmlformats.org/officeDocument/2006/relationships/hyperlink" Target="ftp://www.nerc.com/pub/sys/all_updl/standards/rs/COM-001-1.pdf" TargetMode="External"/><Relationship Id="rId3" Type="http://schemas.openxmlformats.org/officeDocument/2006/relationships/hyperlink" Target="ftp://www.nerc.com/pub/sys/all_updl/standards/rs/COM-002-2.pdf" TargetMode="External"/><Relationship Id="rId4" Type="http://schemas.openxmlformats.org/officeDocument/2006/relationships/hyperlink" Target="ftp://www.nerc.com/pub/sys/all_updl/standards/rs/EOP-002-2.pdf" TargetMode="External"/><Relationship Id="rId5" Type="http://schemas.openxmlformats.org/officeDocument/2006/relationships/hyperlink" Target="ftp://www.nerc.com/pub/sys/all_updl/standards/rs/EOP-003-1.pdf" TargetMode="External"/><Relationship Id="rId6" Type="http://schemas.openxmlformats.org/officeDocument/2006/relationships/hyperlink" Target="ftp://www.nerc.com/pub/sys/all_updl/standards/rs/EOP-004-1.pdf" TargetMode="External"/><Relationship Id="rId7" Type="http://schemas.openxmlformats.org/officeDocument/2006/relationships/hyperlink" Target="ftp://www.nerc.com/pub/sys/all_updl/standards/rs/EOP-005-1.pdf" TargetMode="External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tp://www.nerc.com/pub/sys/all_updl/standards/rs/FAC-010-1.pdf" TargetMode="External"/><Relationship Id="rId2" Type="http://schemas.openxmlformats.org/officeDocument/2006/relationships/hyperlink" Target="ftp://www.nerc.com/pub/sys/all_updl/standards/rs/FAC-011-1.pdf" TargetMode="External"/><Relationship Id="rId3" Type="http://schemas.openxmlformats.org/officeDocument/2006/relationships/hyperlink" Target="ftp://www.nerc.com/pub/sys/all_updl/standards/rs/FAC-014-1.pdf" TargetMode="External"/><Relationship Id="rId4" Type="http://schemas.openxmlformats.org/officeDocument/2006/relationships/hyperlink" Target="ftp://www.nerc.com/pub/sys/all_updl/standards/rs/INT-001-2.pdf" TargetMode="External"/><Relationship Id="rId5" Type="http://schemas.openxmlformats.org/officeDocument/2006/relationships/hyperlink" Target="ftp://www.nerc.com/pub/sys/all_updl/standards/rs/INT-003-2.pdf" TargetMode="External"/><Relationship Id="rId6" Type="http://schemas.openxmlformats.org/officeDocument/2006/relationships/hyperlink" Target="ftp://www.nerc.com/pub/sys/all_updl/standards/rs/INT-004-1.pdf" TargetMode="External"/><Relationship Id="rId7" Type="http://schemas.openxmlformats.org/officeDocument/2006/relationships/hyperlink" Target="ftp://www.nerc.com/pub/sys/all_updl/standards/rs/INT-005-1.pdf" TargetMode="External"/><Relationship Id="rId8" Type="http://schemas.openxmlformats.org/officeDocument/2006/relationships/hyperlink" Target="ftp://www.nerc.com/pub/sys/all_updl/standards/rs/INT-006-1.pdf" TargetMode="External"/><Relationship Id="rId9" Type="http://schemas.openxmlformats.org/officeDocument/2006/relationships/hyperlink" Target="ftp://www.nerc.com/pub/sys/all_updl/standards/rs/INT-007-1.pdf" TargetMode="External"/><Relationship Id="rId10" Type="http://schemas.openxmlformats.org/officeDocument/2006/relationships/hyperlink" Target="ftp://www.nerc.com/pub/sys/all_updl/standards/rs/INT-008-1.pdf" TargetMode="External"/><Relationship Id="rId11" Type="http://schemas.openxmlformats.org/officeDocument/2006/relationships/hyperlink" Target="ftp://www.nerc.com/pub/sys/all_updl/standards/rs/INT-009-1.pdf" TargetMode="External"/><Relationship Id="rId12" Type="http://schemas.openxmlformats.org/officeDocument/2006/relationships/hyperlink" Target="ftp://www.nerc.com/pub/sys/all_updl/standards/rs/INT-010-1.pdf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tp://www.nerc.com/pub/sys/all_updl/standards/rs/IRO-001-1.pdf" TargetMode="External"/><Relationship Id="rId2" Type="http://schemas.openxmlformats.org/officeDocument/2006/relationships/hyperlink" Target="ftp://www.nerc.com/pub/sys/all_updl/standards/rs/IRO-002-1.pdf" TargetMode="External"/><Relationship Id="rId3" Type="http://schemas.openxmlformats.org/officeDocument/2006/relationships/hyperlink" Target="ftp://www.nerc.com/pub/sys/all_updl/standards/rs/IRO-005-2.pdf" TargetMode="External"/><Relationship Id="rId4" Type="http://schemas.openxmlformats.org/officeDocument/2006/relationships/hyperlink" Target="ftp://www.nerc.com/pub/sys/all_updl/standards/rs/MOD-024-1.pdf" TargetMode="External"/><Relationship Id="rId5" Type="http://schemas.openxmlformats.org/officeDocument/2006/relationships/hyperlink" Target="ftp://www.nerc.com/pub/sys/all_updl/standards/rs/MOD-025-1.pdf" TargetMode="External"/><Relationship Id="rId6" Type="http://schemas.openxmlformats.org/officeDocument/2006/relationships/hyperlink" Target="ftp://www.nerc.com/pub/sys/all_updl/standards/rs/PER-004-1.pdf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tp://www.nerc.com/pub/sys/all_updl/standards/rs/PRC-001-1.pdf" TargetMode="External"/><Relationship Id="rId2" Type="http://schemas.openxmlformats.org/officeDocument/2006/relationships/hyperlink" Target="ftp://www.nerc.com/pub/sys/all_updl/standards/rs/PRC-002-1.pdf" TargetMode="External"/><Relationship Id="rId3" Type="http://schemas.openxmlformats.org/officeDocument/2006/relationships/hyperlink" Target="ftp://www.nerc.com/pub/sys/all_updl/standards/rs/TOP-001-1.pdf" TargetMode="External"/><Relationship Id="rId4" Type="http://schemas.openxmlformats.org/officeDocument/2006/relationships/hyperlink" Target="ftp://www.nerc.com/pub/sys/all_updl/standards/rs/TOP-002-2.pdf" TargetMode="External"/><Relationship Id="rId5" Type="http://schemas.openxmlformats.org/officeDocument/2006/relationships/hyperlink" Target="ftp://www.nerc.com/pub/sys/all_updl/standards/rs/TOP-004-1.pdf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C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ITIES &a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DEVELOP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mber 7, 2006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6280" y="2919240"/>
            <a:ext cx="7561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 to following slides on NERC Board Approved Standar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1 is the NERC 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2 a hyperlink to the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. 3 is the NERC Board’s approved date for the standard to take a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. 4 contains notes on which version, if any, is now in a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. 5 indicates whether active enforcement is planned in 2007 – either the new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version of a standard will be used as sh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pages show current postings for standards still in the development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NERC Board Approved Standards</a:t>
            </a:r>
            <a:br>
              <a:rPr sz="2800"/>
            </a:b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 Effective 2007 – subject to inclusion in 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09480" y="914400"/>
          <a:ext cx="7772040" cy="5289480"/>
        </p:xfrm>
        <a:graphic>
          <a:graphicData uri="http://schemas.openxmlformats.org/drawingml/2006/table">
            <a:tbl>
              <a:tblPr/>
              <a:tblGrid>
                <a:gridCol w="840600"/>
                <a:gridCol w="2291040"/>
                <a:gridCol w="2129040"/>
                <a:gridCol w="1197360"/>
                <a:gridCol w="131400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iability Standards Approv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 CEP NERC RE. ST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Nu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tical Infrastructure Prot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P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Sabotage Repor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 Phased-in Implemen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P-001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P-001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M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Telecommunica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-001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-001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M-002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Communications and Coordina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-002-1 effective since 11/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ergency Preparedness and Oper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OP-002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Capacity and Energy Emergenc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2-1 effective since 11/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1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OP-003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Load Shedding Pla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3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3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OP-00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Disturbance Repor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4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OP-005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System Restoration Pla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/2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5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5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2286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pproved Standards Effectiv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14400" y="838080"/>
          <a:ext cx="7620120" cy="5683320"/>
        </p:xfrm>
        <a:graphic>
          <a:graphicData uri="http://schemas.openxmlformats.org/drawingml/2006/table">
            <a:tbl>
              <a:tblPr/>
              <a:tblGrid>
                <a:gridCol w="824040"/>
                <a:gridCol w="2246040"/>
                <a:gridCol w="2087640"/>
                <a:gridCol w="1173240"/>
                <a:gridCol w="128916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iability Standards Approv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 CEP NERC RE. ST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Nu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96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ties Design, Connections and Maintena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AC-010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System Operating Limits Methodology for the Planning Horiz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AC-011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System Operating Limits Methodology for the Operations Horiz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AC-014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Establish and Communicate System Operating Lim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hange Scheduling and Coordin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1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Interchange Infor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-001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3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Interchange Transaction Infor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-003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Interchange Transaction Modific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-004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5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Interchange Authority Distributes Arranged Interch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6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Response to Interchange Authorit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7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Interchange Confir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8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Interchange Authority Distributes Statu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9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Implementation of Interch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10-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Interchange Coordination Exemp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38088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pproved Standards Effectiv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38080" y="914400"/>
          <a:ext cx="7696080" cy="5670720"/>
        </p:xfrm>
        <a:graphic>
          <a:graphicData uri="http://schemas.openxmlformats.org/drawingml/2006/table">
            <a:tbl>
              <a:tblPr/>
              <a:tblGrid>
                <a:gridCol w="830520"/>
                <a:gridCol w="2270880"/>
                <a:gridCol w="2108880"/>
                <a:gridCol w="1184040"/>
                <a:gridCol w="130176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iability Standards Approv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 CEP NERC RE. ST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Nu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70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onnection Reliability Operations and Coordin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RO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Reliability Coordination – Responsibilities and Authori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O-001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O-001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RO-002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Reliability Coordination – Facili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O-002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RO-005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Reliability Coordination – Current-Day Oper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O-005-1  effective 11/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ing, Data, and Analys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OD-02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Verification of Generator Gross and Net Real Power Cap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hased in implementation: R1 and R2- 4/1/2006 R3- 01/01/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-024-1 R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OD-025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Verification of Generator Gross and Net Reactive Power Cap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hased-in Implementation: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quirement 1 and Requirement 2 — January 1, 2007 </a:t>
                      </a:r>
                      <a:br>
                        <a:rPr sz="900"/>
                      </a:b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quirement 3: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anuary 1, 2008 — 1st 20% complia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anuary 1, 2009 — 2nd 20% complia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anuary 1, 2010 — 3rd 20% complia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anuary 1, 2011 — 4th 20% complia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anuary 1, 2012 — 5th 20% compliant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nel Performance, Training, and Qual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ER-00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Reliability Coordination – Staff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-004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-004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2286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pproved Standards Effectiv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838080"/>
          <a:ext cx="8610480" cy="5262840"/>
        </p:xfrm>
        <a:graphic>
          <a:graphicData uri="http://schemas.openxmlformats.org/drawingml/2006/table">
            <a:tbl>
              <a:tblPr/>
              <a:tblGrid>
                <a:gridCol w="930240"/>
                <a:gridCol w="2538360"/>
                <a:gridCol w="2359080"/>
                <a:gridCol w="1326960"/>
                <a:gridCol w="145584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iability Standards Approv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 CEP NERC RE. ST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Nu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tion and Contr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C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System Protection Coordin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C-001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C-002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Define and Document Disturbance Monitoring Equipment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/2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C-002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mission Oper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Reliability Responsibilities and Authori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1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-002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Normal Operations 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2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-00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Transmission Oper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4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4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-006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  <a:ea typeface="Times New Roman"/>
                        </a:rPr>
                        <a:t>Monitoring System Condi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6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-008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  <a:ea typeface="Times New Roman"/>
                        </a:rPr>
                        <a:t>Response to Transmission Limit Viol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8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nd Re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AR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  <a:ea typeface="Times New Roman"/>
                        </a:rPr>
                        <a:t>Voltage and Reactive Cont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2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-001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AR-002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  <a:ea typeface="Times New Roman"/>
                        </a:rPr>
                        <a:t>Generator Operation for Maintaining Network Voltage Schedu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/2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295280" y="492120"/>
          <a:ext cx="655344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92120"/>
                    <a:ext cx="655344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103400"/>
            <a:ext cx="75438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0:03:07Z</dcterms:created>
  <dc:creator>ftafreshi</dc:creator>
  <dc:description/>
  <dc:language>en-US</dc:language>
  <cp:lastModifiedBy>ERCOT</cp:lastModifiedBy>
  <dcterms:modified xsi:type="dcterms:W3CDTF">2006-12-06T20:01:50Z</dcterms:modified>
  <cp:revision>8</cp:revision>
  <dc:subject/>
  <dc:title>Slide 1</dc:title>
</cp:coreProperties>
</file>