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80FF-CEB2-4C9D-8552-5086A3CF7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24A1-CC3A-443B-AF8C-C350F1D25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BDE9-60C5-4A60-9DD0-211B33C47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6B2C-BE69-4857-8B75-7433255FB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A852-299B-446B-B119-5ABE1E41B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063A-5CBC-4C02-8C23-69B4BD289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1C3B-17EC-4861-95D3-D633BC8C9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C72E-20AB-4409-BA1D-B10456505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E06D-2018-4A48-93F8-6C75051B5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B2D9-39CC-4CC5-A9FD-0522BBC6B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0143-5893-4096-8AFE-6282BE3D7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79D7-F25C-4039-9F4B-55ABC956A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941-143E-4A32-B39B-39D6A2A1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5084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otential PRR672 Phase 2 &amp; 3  Timelin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8153640" cy="49532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0cbcb"/>
              </a:gs>
            </a:gsLst>
            <a:lin ang="5400000"/>
          </a:gradFill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pproximate Timeline to Initiate PRR672 Phase 2 &amp; 3 Project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assumes approval at each level and no other events impacting the schedu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3962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390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3390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804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438156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 2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209680"/>
            <a:ext cx="1168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30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38156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5740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te on Revised IA, CBA and Priorit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675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267080" y="28954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36232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C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13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704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362320"/>
            <a:ext cx="111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 DPO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86040" y="2895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5181480"/>
            <a:ext cx="129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R672 Phase 2&amp;3 Ini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85764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394160"/>
            <a:ext cx="67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209680"/>
            <a:ext cx="129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te on IA, CBA and Priorit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657600" y="31240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38156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225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204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438156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418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23880" y="48765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361960" y="48765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9960" y="5105520"/>
            <a:ext cx="1193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BP Stab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410080"/>
            <a:ext cx="99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 Revise IA and C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43815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580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4824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5181480"/>
            <a:ext cx="119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x Set 3.0 Impl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248520" y="4876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76920" y="28954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3623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945E-3B6C-4E00-96F5-666546788A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emonsour</cp:lastModifiedBy>
  <dcterms:modified xsi:type="dcterms:W3CDTF">2006-12-05T16:39:06Z</dcterms:modified>
  <cp:revision>172</cp:revision>
  <dc:subject/>
  <dc:title>Slide 1</dc:title>
</cp:coreProperties>
</file>