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7B5-74B3-4B0E-966A-FDADC6F6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14E-32DF-46E8-AE7A-B38EA161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8B0-A885-4463-8B3C-9AF0BF74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55F-FCBB-4807-9F12-F1A8CB34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233-3590-492A-A624-0898E091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DAC-F68A-4C14-9497-E985ACC7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F3F-8C54-4526-8D8F-D059DA48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91F-7D3A-4522-A7F5-E83F01CA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EB9-E29E-48E1-9860-E8B44080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84C-C837-40B0-836C-A6047324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DD0-681C-4F2B-9FC9-2221B376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B87-2F2E-4DDE-BDD6-A0645455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305B-DF32-489D-975B-A33933CB6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57520" y="2590920"/>
            <a:ext cx="228600" cy="45720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S Decision Process For System Chan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ransition To Nodal Marke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4600" y="5867280"/>
            <a:ext cx="826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R/SCR “stops” through either a PRS rejection based on the system impact analysis or a PRR removing the bo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for an existing, but yet to be initiated,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lternatives include using contractors, establishing that the PRR/SCR will be completed in the subsequent budget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rejecting/removing the PRR/SCR, or manual workaround until Nod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080" y="3051000"/>
            <a:ext cx="68076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ig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8840" y="2286000"/>
            <a:ext cx="849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ost-No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Benef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6600" y="2212920"/>
            <a:ext cx="114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dal Re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1676520"/>
            <a:ext cx="134460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Benef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weighs Imp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 Nodal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2000" y="327672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1640" y="183528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381480"/>
            <a:ext cx="12189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reates Pre-Nodal Benefi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920" y="221616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3480" y="490680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51480" y="4905360"/>
            <a:ext cx="10112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Refer to TPT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Nodal PR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70080" y="213984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24120" y="313056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9600" y="259704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6440" y="2722680"/>
            <a:ext cx="70668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33"/>
                </a:solidFill>
                <a:latin typeface="Arial"/>
              </a:rPr>
              <a:t>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560" y="1143000"/>
            <a:ext cx="525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7480" y="522756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85840" y="5327640"/>
            <a:ext cx="22989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Recommendation for rejection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36840" y="4419720"/>
            <a:ext cx="26647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Yes – Recommendation for approval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4" idx="0"/>
            <a:endCxn id="45" idx="1"/>
          </p:cNvCxnSpPr>
          <p:nvPr/>
        </p:nvCxnSpPr>
        <p:spPr>
          <a:xfrm flipH="1" flipV="1" rot="5400000">
            <a:off x="433080" y="2415240"/>
            <a:ext cx="589320" cy="682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4" idx="2"/>
            <a:endCxn id="53" idx="1"/>
          </p:cNvCxnSpPr>
          <p:nvPr/>
        </p:nvCxnSpPr>
        <p:spPr>
          <a:xfrm flipH="1" rot="16200000">
            <a:off x="88560" y="4218120"/>
            <a:ext cx="1161360" cy="56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3" idx="2"/>
            <a:endCxn id="60" idx="1"/>
          </p:cNvCxnSpPr>
          <p:nvPr/>
        </p:nvCxnSpPr>
        <p:spPr>
          <a:xfrm flipH="1" rot="16200000">
            <a:off x="1680480" y="5033880"/>
            <a:ext cx="181800" cy="62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3" idx="0"/>
            <a:endCxn id="66" idx="1"/>
          </p:cNvCxnSpPr>
          <p:nvPr/>
        </p:nvCxnSpPr>
        <p:spPr>
          <a:xfrm flipH="1" flipV="1" rot="5400000">
            <a:off x="4082760" y="2130480"/>
            <a:ext cx="149040" cy="5401440"/>
          </a:xfrm>
          <a:prstGeom prst="bentConnector4">
            <a:avLst>
              <a:gd name="adj1" fmla="val 152784"/>
              <a:gd name="adj2" fmla="val 546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45" idx="2"/>
            <a:endCxn id="50" idx="1"/>
          </p:cNvCxnSpPr>
          <p:nvPr/>
        </p:nvCxnSpPr>
        <p:spPr>
          <a:xfrm flipH="1" rot="16200000">
            <a:off x="1354320" y="2777760"/>
            <a:ext cx="919440" cy="640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3209040" y="2521080"/>
            <a:ext cx="130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ERCOT 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Availabl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96240" y="303228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ernatives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45" idx="0"/>
            <a:endCxn id="68" idx="1"/>
          </p:cNvCxnSpPr>
          <p:nvPr/>
        </p:nvCxnSpPr>
        <p:spPr>
          <a:xfrm flipH="1" rot="16200000">
            <a:off x="2134080" y="1645200"/>
            <a:ext cx="434520" cy="1715760"/>
          </a:xfrm>
          <a:prstGeom prst="bentConnector4">
            <a:avLst>
              <a:gd name="adj1" fmla="val -52321"/>
              <a:gd name="adj2" fmla="val 623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970440" y="297828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8" idx="2"/>
            <a:endCxn id="69" idx="1"/>
          </p:cNvCxnSpPr>
          <p:nvPr/>
        </p:nvCxnSpPr>
        <p:spPr>
          <a:xfrm flipH="1" rot="16200000">
            <a:off x="3961080" y="2819880"/>
            <a:ext cx="236160" cy="434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8" idx="0"/>
            <a:endCxn id="46" idx="1"/>
          </p:cNvCxnSpPr>
          <p:nvPr/>
        </p:nvCxnSpPr>
        <p:spPr>
          <a:xfrm flipH="1" flipV="1" rot="5400000">
            <a:off x="4192920" y="2057400"/>
            <a:ext cx="132480" cy="795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6" idx="2"/>
            <a:endCxn id="57" idx="1"/>
          </p:cNvCxnSpPr>
          <p:nvPr/>
        </p:nvCxnSpPr>
        <p:spPr>
          <a:xfrm flipH="1" rot="16200000">
            <a:off x="5338080" y="2455560"/>
            <a:ext cx="269280" cy="48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238720" y="175896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46" idx="0"/>
            <a:endCxn id="47" idx="1"/>
          </p:cNvCxnSpPr>
          <p:nvPr/>
        </p:nvCxnSpPr>
        <p:spPr>
          <a:xfrm flipH="1" flipV="1" rot="5400000">
            <a:off x="5514120" y="1631160"/>
            <a:ext cx="295920" cy="86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6858000" y="4451400"/>
            <a:ext cx="9144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Nodal change request approv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83480" y="106668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47" idx="0"/>
            <a:endCxn id="58" idx="1"/>
          </p:cNvCxnSpPr>
          <p:nvPr/>
        </p:nvCxnSpPr>
        <p:spPr>
          <a:xfrm flipH="1" flipV="1" rot="5400000">
            <a:off x="6983640" y="1038960"/>
            <a:ext cx="422280" cy="85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6707160" y="259704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25920" y="380988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82840" y="3879720"/>
            <a:ext cx="525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50" idx="2"/>
            <a:endCxn id="81" idx="1"/>
          </p:cNvCxnSpPr>
          <p:nvPr/>
        </p:nvCxnSpPr>
        <p:spPr>
          <a:xfrm flipH="1" rot="16200000">
            <a:off x="2884320" y="3592440"/>
            <a:ext cx="257760" cy="54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316640" y="522612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50080" y="5327640"/>
            <a:ext cx="70668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33"/>
                </a:solidFill>
                <a:latin typeface="Arial"/>
              </a:rPr>
              <a:t>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66" idx="2"/>
            <a:endCxn id="84" idx="1"/>
          </p:cNvCxnSpPr>
          <p:nvPr/>
        </p:nvCxnSpPr>
        <p:spPr>
          <a:xfrm flipH="1" rot="16200000">
            <a:off x="7344360" y="5033160"/>
            <a:ext cx="377280" cy="435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796160" y="4011480"/>
            <a:ext cx="525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17000" y="388620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66" idx="0"/>
            <a:endCxn id="86" idx="1"/>
          </p:cNvCxnSpPr>
          <p:nvPr/>
        </p:nvCxnSpPr>
        <p:spPr>
          <a:xfrm flipH="1" flipV="1" rot="5400000">
            <a:off x="7391520" y="4046760"/>
            <a:ext cx="328680" cy="481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32360" y="1176480"/>
            <a:ext cx="362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Rs/SCRs addressing PUC Orders/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 reviewed upon completion of PUC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743200" y="2742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/>
          <p:nvPr/>
        </p:nvCxnSpPr>
        <p:spPr>
          <a:xfrm flipH="1" rot="16200000">
            <a:off x="4884480" y="3178800"/>
            <a:ext cx="237240" cy="43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5183280" y="3403440"/>
            <a:ext cx="525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8006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5720" y="281952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2400" y="332424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2133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97720" y="3247920"/>
            <a:ext cx="70668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33"/>
                </a:solidFill>
                <a:latin typeface="Arial"/>
              </a:rPr>
              <a:t>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024160" y="3052800"/>
            <a:ext cx="352440" cy="8002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29240" y="2438280"/>
            <a:ext cx="380880" cy="60984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214760" y="2538360"/>
            <a:ext cx="352440" cy="15238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9:00:12Z</dcterms:created>
  <dc:creator>Reliant</dc:creator>
  <dc:description/>
  <dc:language>en-US</dc:language>
  <cp:lastModifiedBy>emonsour</cp:lastModifiedBy>
  <dcterms:modified xsi:type="dcterms:W3CDTF">2006-11-17T02:51:12Z</dcterms:modified>
  <cp:revision>18</cp:revision>
  <dc:subject/>
  <dc:title>System Change Analysis</dc:title>
</cp:coreProperties>
</file>