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96F-27C6-420B-87B4-BDA0F228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D91-613C-4CD8-9FBE-C993C85A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8AF1-6D92-4CE2-8F96-7AB083E2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717-32A3-4304-A79B-F21FE299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7DD8-BEE6-45F3-8993-E77A0330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E903-A0E1-4961-A69D-E25CCA2D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0DE8-7F7B-4D19-AF08-C87C83BE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EB4E-482F-476D-A237-698C092B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1E41-3B5E-474D-8BEA-F0E281BD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596-2A3E-46C3-B0E6-A10C8C0D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9C9-C6BF-4B54-A64A-A11CA988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635-6276-436E-9C49-64C034A0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354B-E708-41CE-A0E5-8F3D43305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12/1/06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jor Discussion Items at 11/9/06 ROS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 credits for participation in ERCOT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reditation for Storm Drills, Annual Seminar, Black Start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Trai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TF Upd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like ROS to review State Estimator plans and da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– ROS suggest NDSWG review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like ROS review of EMS documents due out 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giving – ROS agenda item for 12/7/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Section 8 Preliminary Review by PDCW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/ OWG request to cancel dril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nodal training and implementation burden, there 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time to prepare and execute storm drills.  R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to cancel 2007 Hurricane Drill and 2008 Col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 Dr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y body membership of W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ROS Working Groups now call for membership by TR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CT, and NER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12/1/06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ems to be considered at 12/7/06 ROS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TF EMS Doc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TF will release EMS documents at Thanksgiving, and wants R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in early December.  (Problematic as the documents ha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been released as of 11/28/0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LP Propos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 to review effectiveness of the various proposals from a reliabil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al Non-Spin Deployment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 to review WMS changes to previously endorsed propo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ter Fuel Re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TAC request, ROS will review the ERCOT update of the 200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 stu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0:03:10Z</dcterms:created>
  <dc:creator>Paul Breitzman</dc:creator>
  <dc:description/>
  <dc:language>en-US</dc:language>
  <cp:lastModifiedBy>Paul Breitzman</cp:lastModifiedBy>
  <dcterms:modified xsi:type="dcterms:W3CDTF">2006-11-30T19:55:35Z</dcterms:modified>
  <cp:revision>24</cp:revision>
  <dc:subject/>
  <dc:title>ROS Report to TAC – 2/2/06 Major Discussion Items at 1/13/06 RO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84848155</vt:r8>
  </property>
  <property fmtid="{D5CDD505-2E9C-101B-9397-08002B2CF9AE}" pid="3" name="_AuthorEmail">
    <vt:lpwstr>PaulB@gplops.org</vt:lpwstr>
  </property>
  <property fmtid="{D5CDD505-2E9C-101B-9397-08002B2CF9AE}" pid="4" name="_AuthorEmailDisplayName">
    <vt:lpwstr>Breitzman, Paul</vt:lpwstr>
  </property>
  <property fmtid="{D5CDD505-2E9C-101B-9397-08002B2CF9AE}" pid="5" name="_EmailSubject">
    <vt:lpwstr>TAC tomorrow</vt:lpwstr>
  </property>
</Properties>
</file>