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7E6FD9-DF31-4DF6-A90C-35BAC8DBC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month ROS asked TAC to approve a document on Non-spin deployment.  TAC asked that WMS review it before they took action.  John Dumas presented a document.  The document had been reviewed by ROS, but as usual, WMS made some revisions.  There were some minor “errors” corrected (max/min) that were not controversial.  Time was committed in December to further consider the subject.  It was agreed that with the minor corrections, the document could move forw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F has meet three times, including this past Monday.  Subgroups were formed to draft PRRs and I don’t know how many times each of them has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primary concepts have evolved (energy only and Capacity pa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Rs were written for each of these and reviewed at the Monday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a sub group within each primary concept for which PRR are also being drafted.  These will consist largely of modifications to the two primary PR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 will commit time to these at our December meeting.  We may be able to narrow the field of PRRs down to one, but if we can’t, the parrallel paths will continue through the PR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staff has been asked to participate and comment on the propos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would like to point out here that the EILP PRRs will bring about a clash between the very real constrains that ERCOT faces regarding human resources and budget VS cost to the market.  That is, we can produce a PRR that will be simple and cheap to administer but costs the Market some huge amount of money (100 million is not out of the ball park).  On the other hand, we may be able to come up with something that costs only a few 10s of million but will cost a couple hundred thousand extra to implement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Rs TAC and the Commission have asked for will be forthcomming.  I still don’t know how much stakeholder support they will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y Interruptible Load Program Task Force (EIL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ruce stated that the EILPTF had met on 10/31/06 and 11/8/06 and reviewed seven proposals for EILP products framed as Ancillary Services.  Mr. Bruce intends to continue use of the WMS listserve for communication of EILPTF events, because of the anticipated short life of the task force.  Mr. Bruce reported that there are two major camps with thre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lead by Alice Jackson of Occidental Chemical Corp. – consists of a capacity product.  This group will meet on 11/21/06 in Houston at the offices of Occid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lead by Mr. R. Jones – will meet on 11/20/06 at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lead by Mr. Smith of Chaparral – consists of a capacity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ruce has planned a full meeting of the EILPTF on 11/27/06 for the purpose of reviewing the three options for completeness.  He plans to bring them to the December WMS meeting for discussion.  Mr. Bruce’s goal is to have a PRR ready for the January PRS meeting, anticipating that an Urgent PRR can be implemented by ERCOT Staff during spring 20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ing group had not meet prior to WMS meeting, but Gary Miller and John Dumas reported on continuing efforts to refine the interactions between RPRS and Non-spin giving WMS the opportunity to weigh in on the issue and whether or not we though a PRR was necessary.  There was mixed opinion, but most of the members did not feel the need to change directions or issue a PRR so no action was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Miller explained that historically ERCOT has allowed QSEs to borrow units for retesting, but that ERCOT no longer wants to continue the practice.  Mr. Miller continued that initially, he thought that such a change in practice would require only a change in procedure and not a PRR.  After additional review, it was determined that a PRR should be submitted.  Mr. Miller noted that because the Protocols already allow for provisional qualification of Balancing Up Loads (BULs) for 90 days, for consistency, provisional qualification for Ancillary Service should also be formally documented.  The draft includes ERCOT Staff’s suggestion of provisional qualification for 45 days in lieu of allowing borrowing of units.  Mr. Greer asked how the provisional qualification would be verified or whether it is aspirational.  Mr. Dumas responded that it cannot be verified, but it can eliminate situations where two QSEs qualify based on the same Resource.   Mr. Greer asked if ERCOT Staff will develop procedures.  Mr. Dumas responded that ERCOT Staff will use the current testing procedures and issue a letter to QSEs containing a specific deadline for qualification.  Mr. Bruce clarified that uncontrollable renewable resources only require down balancing testing.  Mr. Dumas confirmed that ERCOT Staff has allowed provisional qualification for uncontrollable renewab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Greer made a motion to endorse the draft PRR for provisional qualification of Ancillary Service testing as posted; Mr. R. Jones seconded the motion.  WMS unanimously voted in favor of the motion.  All Market Segments were present for the vo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ce chair of CMWG moved on to better things and M. Wagner was nominated as the new vice chair.  She was unanimously approved by WMS.  No action is required of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continues on the Nodal assignment to more fully develop the process of determining which constraints are competitive.  The IMM will have considerable authority to make changes, however, it is hoped and anticipated that changes will have an appropriate notic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concern raised that the notification that the Valley units would NOT retire would impact the choice of CSCs for 2007.  There was some discussion regarding how and when information regarding changes in participant plans should be made, however after re-examining transmission impacts from the plants, it was decided that the decisions made earlier and already approved by the Board were sound and nothing needed to be done.  It would have been most unfortunate if this had not been the case as we were reminded that market participants act very quickly on Board decisions and that changing CSCs would have been very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s regarding letting the market know things as early as possible led to a public prediction that STP would in fact change zones in 2008.  There is no process to determine this officially in advance, but today’s studies indicate it will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n update on the work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open items remaining on its 2006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2 (Develop a description of demand side opportunities for the Nodal Market Design) will continue into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3 (Develop a Price Responsive Load participation Program for all customer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5 (Compare demand response resource programs being run in other ISO markets) will be completed at the next DSWG mee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d PRR650,</a:t>
            </a:r>
            <a:r>
              <a:rPr b="0" lang="en-US" sz="1200" spc="-1" strike="noStrike" u="sng">
                <a:solidFill>
                  <a:srgbClr val="000000"/>
                </a:solidFill>
                <a:uFillTx/>
                <a:latin typeface="Arial"/>
              </a:rPr>
              <a:t> Balancing Energy Price Adjustment Due to Non-Spinning Reserve Service Energy Deployment,</a:t>
            </a:r>
            <a:r>
              <a:rPr b="0" lang="en-US" sz="1200" spc="-1" strike="noStrike">
                <a:solidFill>
                  <a:srgbClr val="000000"/>
                </a:solidFill>
                <a:latin typeface="Arial"/>
              </a:rPr>
              <a:t> specifically whether it is possible for ERCOT Staff to post prices sooner than the next day and closer to r</a:t>
            </a:r>
            <a:r>
              <a:rPr b="0" lang="en-US" sz="1200" spc="-1" strike="noStrike" u="sng">
                <a:solidFill>
                  <a:srgbClr val="000000"/>
                </a:solidFill>
                <a:uFillTx/>
                <a:latin typeface="Arial"/>
              </a:rPr>
              <a:t>R</a:t>
            </a:r>
            <a:r>
              <a:rPr b="0" lang="en-US" sz="1200" spc="-1" strike="noStrike">
                <a:solidFill>
                  <a:srgbClr val="000000"/>
                </a:solidFill>
                <a:latin typeface="Arial"/>
              </a:rPr>
              <a:t>eal-t</a:t>
            </a:r>
            <a:r>
              <a:rPr b="0" lang="en-US" sz="1200" spc="-1" strike="noStrike" u="sng">
                <a:solidFill>
                  <a:srgbClr val="000000"/>
                </a:solidFill>
                <a:uFillTx/>
                <a:latin typeface="Arial"/>
              </a:rPr>
              <a:t>T</a:t>
            </a:r>
            <a:r>
              <a:rPr b="0" lang="en-US" sz="1200" spc="-1" strike="noStrike">
                <a:solidFill>
                  <a:srgbClr val="000000"/>
                </a:solidFill>
                <a:latin typeface="Arial"/>
              </a:rPr>
              <a: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is made a presentation at the last TAC meeting that included a slide showing a marked change in scheduling practice by QSEs in Sept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informal requests for WMS to figure out what the slide ment.  Brandon wittle gave an analysis of the data.  There was a change in scheduling practice.  There has not been a determination of why.  Load dropped, gas price dropped, heat rate stayed about the same which means that the impact on energy prices associated with the change in practice is not lar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s that there may now be a tendency to over schedule and depend on down balancing bids to match up to load vs the other way around.  If marginal cost pricing is employed for both up and down bids, the effect on pricing is same for either pract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will continue its discussion in December and will include a comparison of on-line capacity vs load to see if actual commitment practices have chang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9501-6EF0-42F9-B3FF-2547FC7E7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57C9-40A8-462C-A278-63EE315E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15C8E-14CF-4CA0-9D9B-3CEAB9693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08B4E-BDE1-440A-84BD-AAF413641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7C6AB-1152-43DE-8788-F0AB401DF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DF33C-5A24-4CFE-A474-A7536AEEF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D0D70-A026-4A91-BE58-F705A5124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AEBEF-59CE-4ACA-B289-CAE787A0F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E2656-2BE3-431C-A86B-562EEC968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AB96-7CB5-45C0-8996-5C0927CC5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B0852-5F43-43DB-9557-2E80BD080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B33F8-405B-491B-A51E-6B2B0496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4E947-D09C-4821-B605-E09FF268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EFAB4-2F43-4097-B9D3-4B599933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675D8-3553-426E-9BF5-5462BD7F6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835BA-1B89-47A5-BF0A-913787A1B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5070C-7BA0-40A5-BF51-4624D4A5B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8327-9396-45FB-BEE2-A308D97ED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CF915-08AA-42A8-B028-273A035BB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D312-E401-411F-8142-ABE9B929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ADAD-1974-4F6A-BFF3-8D1967AF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4D83-FAD2-424E-9F75-0F9680871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6F30-0F95-42EF-83AA-EEE4100A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6399-2F71-4C33-B848-2B2CFEC5D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BE6E-F917-491D-9DF5-EF2FDF17D9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E2E7-EED8-4E77-A5FD-A66B536D97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9029E2A3-D592-498D-AD24-FA9176D552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change in scheduling pattern analysi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al Non-Spinning Reserve Service (NSRS) Deployment Procedu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CA4BDC4-1B4E-4F6A-B8C1-78639FD59D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Interruptible Load Program Task For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21E0C56-D804-4FD1-BEDE-7D0D37A899A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ERCOT Staff Present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Very long discussion on  EIL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3269282-BD3C-4191-BB4F-522ECA57BC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and Non-Sp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llary Service Requalific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613110A-3590-4394-83BB-D87E49B05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Vice Chair (M. Wagn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al assign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act of continued operation of the Valley plants on the 2007 CSC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diction of STP switching zones in 2008</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9EF0A67-65DF-4F18-A958-EF966ECBC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description of demand side opportunities for the Nodal Market Design</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Price Responsive Load participation Program for all customer segments</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demand response resource programs being run in other ISO market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FF13C27-A43A-419F-9F73-22B09E8B3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change in scheduling pattern analysi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6E96F8A-94EE-4D82-8FB1-6E49124F8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0" y="957240"/>
          <a:ext cx="9144000" cy="5440320"/>
        </p:xfrm>
        <a:graphic>
          <a:graphicData uri="http://schemas.openxmlformats.org/presentationml/2006/ole">
            <p:oleObj progId="Excel.Sheet.12" r:id="rId2" spid="">
              <p:embed/>
              <p:pic>
                <p:nvPicPr>
                  <p:cNvPr id="102" name="" descr=""/>
                  <p:cNvPicPr/>
                  <p:nvPr/>
                </p:nvPicPr>
                <p:blipFill>
                  <a:blip r:embed="rId3"/>
                  <a:stretch/>
                </p:blipFill>
                <p:spPr>
                  <a:xfrm>
                    <a:off x="0" y="957240"/>
                    <a:ext cx="9144000" cy="5440320"/>
                  </a:xfrm>
                  <a:prstGeom prst="rect">
                    <a:avLst/>
                  </a:prstGeom>
                  <a:ln w="0">
                    <a:noFill/>
                  </a:ln>
                </p:spPr>
              </p:pic>
            </p:oleObj>
          </a:graphicData>
        </a:graphic>
      </p:graphicFrame>
      <p:sp>
        <p:nvSpPr>
          <p:cNvPr id="2" name="PlaceHolder 1"/>
          <p:cNvSpPr>
            <a:spLocks noGrp="1"/>
          </p:cNvSpPr>
          <p:nvPr>
            <p:ph type="sldNum" idx="3"/>
          </p:nvPr>
        </p:nvSpPr>
        <p:spPr/>
        <p:txBody>
          <a:bodyPr/>
          <a:p>
            <a:fld id="{1DE0323C-10A6-498A-92AC-9107B01E8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304920" y="685800"/>
          <a:ext cx="9296640" cy="5662440"/>
        </p:xfrm>
        <a:graphic>
          <a:graphicData uri="http://schemas.openxmlformats.org/presentationml/2006/ole">
            <p:oleObj progId="Excel.Sheet.12" r:id="rId2" spid="">
              <p:embed/>
              <p:pic>
                <p:nvPicPr>
                  <p:cNvPr id="104" name="" descr=""/>
                  <p:cNvPicPr/>
                  <p:nvPr/>
                </p:nvPicPr>
                <p:blipFill>
                  <a:blip r:embed="rId3"/>
                  <a:stretch/>
                </p:blipFill>
                <p:spPr>
                  <a:xfrm>
                    <a:off x="-304920" y="685800"/>
                    <a:ext cx="9296640" cy="5662440"/>
                  </a:xfrm>
                  <a:prstGeom prst="rect">
                    <a:avLst/>
                  </a:prstGeom>
                  <a:ln w="0">
                    <a:noFill/>
                  </a:ln>
                </p:spPr>
              </p:pic>
            </p:oleObj>
          </a:graphicData>
        </a:graphic>
      </p:graphicFrame>
      <p:sp>
        <p:nvSpPr>
          <p:cNvPr id="105" name=""/>
          <p:cNvSpPr/>
          <p:nvPr/>
        </p:nvSpPr>
        <p:spPr>
          <a:xfrm>
            <a:off x="7162920" y="4267080"/>
            <a:ext cx="1981080" cy="198144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43848DFC-3BF8-4C4D-83D9-611A00C4B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228600" y="685800"/>
          <a:ext cx="8915400" cy="5518080"/>
        </p:xfrm>
        <a:graphic>
          <a:graphicData uri="http://schemas.openxmlformats.org/presentationml/2006/ole">
            <p:oleObj progId="Excel.Sheet.12" r:id="rId2" spid="">
              <p:embed/>
              <p:pic>
                <p:nvPicPr>
                  <p:cNvPr id="107" name="" descr=""/>
                  <p:cNvPicPr/>
                  <p:nvPr/>
                </p:nvPicPr>
                <p:blipFill>
                  <a:blip r:embed="rId3"/>
                  <a:stretch/>
                </p:blipFill>
                <p:spPr>
                  <a:xfrm>
                    <a:off x="228600" y="685800"/>
                    <a:ext cx="8915400" cy="5518080"/>
                  </a:xfrm>
                  <a:prstGeom prst="rect">
                    <a:avLst/>
                  </a:prstGeom>
                  <a:ln w="0">
                    <a:noFill/>
                  </a:ln>
                </p:spPr>
              </p:pic>
            </p:oleObj>
          </a:graphicData>
        </a:graphic>
      </p:graphicFrame>
      <p:sp>
        <p:nvSpPr>
          <p:cNvPr id="108" name=""/>
          <p:cNvSpPr/>
          <p:nvPr/>
        </p:nvSpPr>
        <p:spPr>
          <a:xfrm>
            <a:off x="7315200" y="4267080"/>
            <a:ext cx="1676520" cy="1981440"/>
          </a:xfrm>
          <a:prstGeom prst="rect">
            <a:avLst/>
          </a:prstGeom>
          <a:solidFill>
            <a:srgbClr val="2b5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89154AF-50A7-4934-B17A-A48046C5B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11-29T16:56:43Z</dcterms:modified>
  <cp:revision>75</cp:revision>
  <dc:subject/>
  <dc:title>WMS Report TO TAC</dc:title>
</cp:coreProperties>
</file>