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F57-D008-4A96-881D-E0AA3DEB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6D4-0476-4551-A077-7B33069E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F24-C764-44D5-844D-2042D874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CBC-4F8C-41B6-9C31-77058BE1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004-7CCB-4A8F-908D-A3B910B0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352-1B18-42EC-8B56-74304BF1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9ED1-1617-4639-BF90-C879549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AB5-A3A3-421A-8388-F4F45E64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B10-5934-4690-B5F2-70A4557A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AA2-9AAA-4C07-A0FA-02D4341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0530-D314-47A5-80D4-45C78B7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027-B853-4FA4-A98D-73DD907B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8B57-E4D0-484A-8E61-9FE7A7E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1465-A216-4250-A1C7-DBF06A91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0A9C-D4CE-4090-89FF-30AF2991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7CE-1300-428E-9BF2-E09954D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B8A-6617-4671-A6AF-F12C62E3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912-91EB-4AA3-9520-C0883F3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14B-D55A-41AA-9875-870499A8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4DE-9500-434C-8387-889B236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2A3-DE64-4573-B79D-E6F7E87F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54B-908A-4061-9514-0F3EBECE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D79-CCE1-442E-8976-E299667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EC5-1B68-41EB-A02A-39DE35C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F0A-CF68-44CC-856F-5F75EA3AC0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C834-B862-4681-AAA0-084FCCB73E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ember 1,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 reviewed transaction pair performance in the four categories specified in PRR67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vel 1 finding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-Ins--additional change from 2 hour to 1 hour would be included in PR60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ate ESI IDs—two SIRS in Feb2007 rel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throttling within current transaction processing p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separate processing pipe for 814_20/21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 2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ve-Outs--additional change to 2 hour processing would be included in PR60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-cycle switch and Off-cycle Drop to ARE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proposed timing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 to file PRR to move these transactions to Level 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3 findi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ge ESI IDs—two SIRS in Feb2007 relea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ate throttling within current transaction processing pi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a separate processing pipe for 814_20/21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ical Usage—ERCOT already meets proposed 4 hour tur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ove this language in PRR672 from greybo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4 fin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-cycle switches, Drops, CSA transa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changes to protocol tim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analysis reques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R672 Collaborative Eff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S to review Impact Analysis and CBA for PR60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commendation to PRS for re-ranking project for 2007 PP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Arial"/>
              </a:rPr>
              <a:t>Retail Processing Service Availability Exception Request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unanimously approved ERCOT’s service availability exception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exception will cover 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outage window fr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:00 AM Friday 12/8/06 until 11:30 PM Sunday 12/10/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is outage wind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ESB servers will be off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67 transactions will not be forwar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7 functional acknowledgements will not be s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component of TML and API will not be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ear-To-Date 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1905120"/>
          <a:ext cx="6315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315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ctober 2006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981080"/>
          <a:ext cx="649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649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tail Transaction Processing Availability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1676520"/>
          <a:ext cx="640080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40080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Voting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imated Met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s Transition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torical Usag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4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DSP Invoice Dispu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onnect f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-Pa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6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endices for POL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MGRR047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fer from Outgoin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0  Estimated Meter Reading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lines how TDSPs will identify first and consecutive meter estimat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s end-use customer communications and options for resolving denial of access resulting in estimated meter re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endix I includes door hanger standard for notifying customer of denial of a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2  Mass Transition Proc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lines Mass Transition roles and responsibilities under TX SET 3.0 PR-40038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es how pending transactions for ESI IDs impacted in Mass Transition will be proc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s requirements for CRs to report Customer Billing Information under PUCT POLR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s for submitting customer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endices for file layouts for CRs, ERCOT, and POL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es file transfer method-NAES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GRR043  Historical Us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es that TDSPs will provide Historical Usage within three Business Days after the reciept of Letter of Authorization from C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4  TDSP Invoice Disput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ions to timelines for submitting and responding to CR initiated invoice disputes and TDSP disputes for rejected trans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es requirements for transmitting invoice transactions, providing billing determinants and remitting payment for TDSP invo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5  Disconnect for Non-P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oves references to TDSP specific process for handling disconnect and/or reconnect transactions and updates with standardized process where applic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action timing required for scheduling TDSP field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dling Disconnect requests for premium locations, including Friday processing exceptio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for completing Disconnect requests, including Friday processing exce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for completing Reconnect requ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s comply with new Retail Delivery Service Tariff under PUCT Project 296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at RMS with one abs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requests TAC approval with a July 1, 2007 effectiv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6  Appendices for POLR Ru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Appendices to include POLR customer class information under PUCT Sub. Rule 25.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Appendix F5 Sample Customer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6 is on urgent time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anuary 1, 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GRR047  Transfer from Outgoing POL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s notification timing and process for current POLRs to transfer ESI IDs at the end of term per PUCT Sub. Rule 25.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sections that are no longer applicable under new POLR r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GRR047 is on urgent time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requests TAC approval with a January 1,  2007 effectiv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11-21T17:41:38Z</dcterms:modified>
  <cp:revision>84</cp:revision>
  <dc:subject/>
  <dc:title>RMS Update to TAC</dc:title>
</cp:coreProperties>
</file>