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ECE-18E3-4E1B-A739-4665CD1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0C5-40AB-4C07-8AC8-4AFD302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85D-8E39-48EF-946B-DBA2C35C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5F3-8C83-48E4-BB7D-15FDC43E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0EB-8089-47C3-945D-C1B2B6EC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F18F-8FBD-4D0E-8F5D-CDAF2EF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A9F2-00D9-4331-AFDC-FB5FEB81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F7B8-5605-43A9-BA1C-35AD218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2E0-66D8-4A7D-88AE-A819658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B94-EC51-4E72-9AA5-83BC661D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74A-CFB6-4BE0-AD84-19AE849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3A3-8AA6-47B9-BB94-4660EB95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10E-B60F-4FFB-AFCE-A3B065B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561F-324A-4471-A787-49BC689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62E-49D4-4D5B-B1D9-A8B9D53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083-D3E8-448A-8BF0-99D8FBEB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265A-95D9-4C9D-9E3D-BC2CBEE0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2B3-0581-45B9-987D-D6DF228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625-4076-4278-8838-2AB70B55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7E8-DC78-48E2-B16D-ABE7B85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049-0EED-41FC-9243-EB1A2B1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0DC-54E6-4C67-8097-16F301D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791-C5BF-4BE2-871D-0069443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00C-F54B-4393-9D4E-242161A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3E2-0843-437A-BFAD-24818D66A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82A-7C3C-4A55-9EBF-7CEB89C3F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ecember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686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93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Tranactions for TX SET 3.0 Implementation &amp; Timing for Processing Priority/Standard Transaction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58880"/>
          <a:ext cx="8229600" cy="4257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NP &amp; Green Mountain for TX S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timing of priority move-ins, clarifies reqs for standard move-ins, renames certain transactions to conform with changes to mass transition, and conforming changes/clarif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 to TX SET 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 transaction functionality to reflect TX SET 3.0 chan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93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Tranactions for TX SET 3.0 Implementation &amp; Timing for Processing Priority/Standard Transaction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8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e Default QSE Provi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mergency/Virtual QSEs to provide for Resource entities and LSEs if their QSE defa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ance of cost of Default QSE contr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698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move Default QSE Provisions -- </a:t>
            </a: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protocols to reflect the removal of the Northeast congestion zone for purposes of Trading Hub calculations as of 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 Hub calc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not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0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Creation of Interim Measures for Collecting the ERO/TRE Fee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the current ERCOT Administrative Fee to recover the FERC-mandated ERO costs and the ERCOT Region T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ance with federal regulatory requir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e charged to QSEs with load oblig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0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Creation of Interim Measures for Collecting the ERO/TRE Fee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47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Gross &amp; Net MW/MVar Data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9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vision to NLRI Formula &amp; Other Credit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6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3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Update Transactions for TX SET 3.0 Implementation &amp; Timing for Processing Priority/Standard Trans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8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move Default QSE Provisions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9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700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–  Creation of Interim Measures for Collecting the ERO/TRE Fee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IA/C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jected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R 584 – Extending Black Start Service Bid Time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19 – Black Start Testing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1 – Correction of Voltage Support Bill Determin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2 – Correction of Black Start Bill Determin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3 – Settlement of CRRs When DAM Does Not Exec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4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Gross &amp; Net MW/MVar Data Report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QSEs to supply both gross and net MW/MVar data for use in ERCOT operational mod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ased security due to significantly better modeling of the ERCOT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st to telemeter additional data to ERC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upd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4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Gross &amp; Net MW/MVar Data Report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47480" y="2909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to NLRI Formula &amp; Other Credit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229600" cy="4287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 for Credit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NLRI with nodal formula (more detailed basis), require/allow ERCOT to withhold payment from entities exceeding EAL, and require provision of ESI ID information for defaulting QSEs that are L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roved credit qu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br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to NLRI Formula &amp; Other Credit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6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ustin Energy for the Black Start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requirements for testing black start resources and which tests are allowed to be conducted simultaneous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uments ERCOT’s current pract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br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balbracht</cp:lastModifiedBy>
  <dcterms:modified xsi:type="dcterms:W3CDTF">2006-12-01T22:00:50Z</dcterms:modified>
  <cp:revision>84</cp:revision>
  <dc:subject/>
  <dc:title>Protocol Revision Subcommittee</dc:title>
</cp:coreProperties>
</file>