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1777-0EDD-41D5-9174-7E1BFEEFD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D86E4-4549-4D20-9E24-279551FA8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B4DC-88B4-46C1-9C98-529B06B7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017BB-C81E-43C3-8F8E-BFFBBB62D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83E99-276E-43ED-9203-94B7C830A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EEAC-5F1E-4C45-BECD-98CCA89C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DD8A-BBDF-4B3E-96FD-8B881E357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4D8B-6BA5-4440-B8C7-DF648BAA7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94659-3FB3-45FA-A55A-03DD882F6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A89E4-1F1B-45D9-9A71-B98030B1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3DC4-4999-4077-98D3-9F52C072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69CF-35C3-41D4-84FD-65BD7093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77B3-FCF4-4A5E-8D86-673358381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8C72-E3C7-4364-828B-2A297ACD8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ecember 1,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50F3ED-C44B-4204-A042-765A99BFDC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
          <p:cNvSpPr/>
          <p:nvPr/>
        </p:nvSpPr>
        <p:spPr>
          <a:xfrm>
            <a:off x="380880" y="1558800"/>
            <a:ext cx="8305920" cy="49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ERCOT Profile Model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VOTE</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recommends to TAC approval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w ERCOT Profile Models per the details in this packet which include LPGRR016, Option 3 Modified Implementation Plan with CBA and IA for LPGRR, and Model Spreadsheets with a MO Ranking of 12.5 and a Priority of xx</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94ED7B-0086-4BE7-A4F2-F973D574A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33cc"/>
                </a:solidFill>
                <a:latin typeface="Times New Roman"/>
              </a:rPr>
              <a:t>Appendix</a:t>
            </a:r>
            <a:br>
              <a:rPr sz="4800"/>
            </a:b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5CDBEE47-7255-4DA4-8886-CCDA2F81AA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
          <p:cNvSpPr/>
          <p:nvPr/>
        </p:nvSpPr>
        <p:spPr>
          <a:xfrm>
            <a:off x="615960" y="1316160"/>
            <a:ext cx="7988400" cy="47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PWG presentation is available </a:t>
            </a:r>
            <a:r>
              <a:rPr b="0" lang="en-US" sz="2000" spc="-1" strike="noStrike">
                <a:solidFill>
                  <a:srgbClr val="000000"/>
                </a:solidFill>
                <a:latin typeface="Antique Olive Roman"/>
              </a:rPr>
              <a:t>under Key Documents at the following lin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http://www.ercot.com/calendar/2006/11/20061116-COPS.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preadsheets are available under Key Documents at the following lin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http://www.ercot.com/calendar/2006/10/20061012-PWG.html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x ND Project Files available from ERCOT Load Profiling upon reques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E909828-7437-4E9F-989E-22CAECD992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orking Groups:</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mercial Communications</a:t>
            </a:r>
            <a:r>
              <a:rPr b="1" lang="en-US" sz="2400" spc="-1" strike="noStrike">
                <a:solidFill>
                  <a:srgbClr val="3333cc"/>
                </a:solidFill>
                <a:latin typeface="Times New Roman"/>
              </a:rPr>
              <a:t> plans a joint meeting with Texas Data Transport to discuss Unplanned Outage Communications – Dec 14</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UFE TF</a:t>
            </a:r>
            <a:r>
              <a:rPr b="1" lang="en-US" sz="2400" spc="-1" strike="noStrike">
                <a:solidFill>
                  <a:srgbClr val="3333cc"/>
                </a:solidFill>
                <a:latin typeface="Times New Roman"/>
              </a:rPr>
              <a:t> submitted a draft NPRR on Section 13.  COPS agreed with the draft and forwarded to TPTF</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Nodal Review</a:t>
            </a:r>
            <a:r>
              <a:rPr b="1" lang="en-US" sz="2400" spc="-1" strike="noStrike">
                <a:solidFill>
                  <a:srgbClr val="3333cc"/>
                </a:solidFill>
                <a:latin typeface="Times New Roman"/>
              </a:rPr>
              <a:t> City of Garland presented a pictorial of Nodal invoice payment timelines.  COPS agreed that the timing will create issues for many MPs.  Suggested presenting to TPTF and Credit WG to work on consensus timeline.  Reviewed dispute Requirements, COPS requested ERCOT make several data elements variable to support future discussion </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1640" indent="-47448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lgn="ct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A170B04-41D8-4D62-8F96-093C75D336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
          <p:cNvSpPr/>
          <p:nvPr/>
        </p:nvSpPr>
        <p:spPr>
          <a:xfrm>
            <a:off x="457200" y="12430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y New Profiles</a:t>
            </a:r>
            <a:endParaRPr b="0" lang="en-US" sz="2400" spc="-1" strike="noStrike">
              <a:solidFill>
                <a:srgbClr val="000000"/>
              </a:solidFill>
              <a:latin typeface="Times New Roman"/>
            </a:endParaRPr>
          </a:p>
        </p:txBody>
      </p:sp>
      <p:sp>
        <p:nvSpPr>
          <p:cNvPr id="56" name=""/>
          <p:cNvSpPr/>
          <p:nvPr/>
        </p:nvSpPr>
        <p:spPr>
          <a:xfrm>
            <a:off x="685800" y="1776240"/>
            <a:ext cx="77724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cc"/>
                </a:solidFill>
                <a:latin typeface="Times New Roman"/>
              </a:rPr>
              <a:t>Current models built from 10 year old rate case dat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New Models built from current ERCOT sample dat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PUCT Rule requires ERCOT load research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Protocols and Load Profiling Guide anticipates periodic recalibratio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Captures migration in population due to improved Profile ID assignme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Captures migration in population based on new IDR threshold</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Refreshes the load shapes used for settlement minimizing UFE variance </a:t>
            </a:r>
            <a:endParaRPr b="0" lang="en-US" sz="1800" spc="-1" strike="noStrike">
              <a:solidFill>
                <a:srgbClr val="000000"/>
              </a:solidFill>
              <a:latin typeface="Times New Roman"/>
            </a:endParaRPr>
          </a:p>
        </p:txBody>
      </p:sp>
      <p:sp>
        <p:nvSpPr>
          <p:cNvPr id="57" name=""/>
          <p:cNvSpPr/>
          <p:nvPr/>
        </p:nvSpPr>
        <p:spPr>
          <a:xfrm>
            <a:off x="2819520" y="304920"/>
            <a:ext cx="61722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Working Grou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022D028-B680-4B1B-ACD6-116EA9A727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pproval Timeline</a:t>
            </a:r>
            <a:br>
              <a:rPr sz="3600"/>
            </a:br>
            <a:endParaRPr b="0" lang="en-US" sz="3600" spc="-1" strike="noStrike">
              <a:solidFill>
                <a:srgbClr val="000000"/>
              </a:solidFill>
              <a:latin typeface="Times New Roman"/>
            </a:endParaRPr>
          </a:p>
        </p:txBody>
      </p:sp>
      <p:sp>
        <p:nvSpPr>
          <p:cNvPr id="59" name=""/>
          <p:cNvSpPr/>
          <p:nvPr/>
        </p:nvSpPr>
        <p:spPr>
          <a:xfrm>
            <a:off x="423720" y="1662120"/>
            <a:ext cx="82965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800" spc="-1" strike="noStrike">
                <a:solidFill>
                  <a:srgbClr val="3333cc"/>
                </a:solidFill>
                <a:latin typeface="Times New Roman"/>
              </a:rPr>
              <a:t>10/12/2006 Urgent LPGRR posted</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0/17/2006 COPS Email Vote on Urgency</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0/24/2006 COPS remands packet to PW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4/2006 PWG reviews refreshed load profiles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6/2006 COPS reviews packet with IA and CB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6/2006 PRS reviews packet with IA and CBA and prioritize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01/2006 TAC reviews packe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12/2006 Board reviews packe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13/2006 150 day notice begin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05/12/2007 150 day notice ends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05/15/2007 Tuesday transition to new profiles begi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7CD4792-AC5D-447C-9301-D95621D08F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rket Rules</a:t>
            </a:r>
            <a:br>
              <a:rPr sz="3600"/>
            </a:br>
            <a:endParaRPr b="0" lang="en-US" sz="3600" spc="-1" strike="noStrike">
              <a:solidFill>
                <a:srgbClr val="000000"/>
              </a:solidFill>
              <a:latin typeface="Times New Roman"/>
            </a:endParaRPr>
          </a:p>
        </p:txBody>
      </p:sp>
      <p:sp>
        <p:nvSpPr>
          <p:cNvPr id="61" name=""/>
          <p:cNvSpPr/>
          <p:nvPr/>
        </p:nvSpPr>
        <p:spPr>
          <a:xfrm>
            <a:off x="347760" y="2008080"/>
            <a:ext cx="8526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Times New Roman"/>
              </a:rPr>
              <a:t>18.2.8</a:t>
            </a:r>
            <a:r>
              <a:rPr b="1" i="1" lang="en-US" sz="1600" spc="-1" strike="noStrike">
                <a:solidFill>
                  <a:srgbClr val="3333cc"/>
                </a:solidFill>
                <a:latin typeface="Times New Roman"/>
              </a:rPr>
              <a:t>	</a:t>
            </a:r>
            <a:r>
              <a:rPr b="1" i="1" lang="en-US" sz="1600" spc="-1" strike="noStrike">
                <a:solidFill>
                  <a:srgbClr val="3333cc"/>
                </a:solidFill>
                <a:latin typeface="Times New Roman"/>
              </a:rPr>
              <a:t>Maintenance of Samples and Load Profile Mod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in coordination with TDSPs, shall periodically monitor, review, and maintain the validity and accuracy of the load research samples and the Load Profiling models.  ERCOT shall take the necessary action to alleviate any situations whereby Load Profiles are no longer 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8.2.8.2</a:t>
            </a:r>
            <a:r>
              <a:rPr b="1" lang="en-US" sz="1600" spc="-1" strike="noStrike">
                <a:solidFill>
                  <a:srgbClr val="3333cc"/>
                </a:solidFill>
                <a:latin typeface="Times New Roman"/>
              </a:rPr>
              <a:t>	</a:t>
            </a:r>
            <a:r>
              <a:rPr b="1" i="1" lang="en-US" sz="1600" spc="-1" strike="noStrike">
                <a:solidFill>
                  <a:srgbClr val="3333cc"/>
                </a:solidFill>
                <a:latin typeface="Times New Roman"/>
              </a:rPr>
              <a:t>Mod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shall monitor the applicability of the Load Profiling models by comparing all available actual IDR data samples with estimates generated from the profile model by interval for the same time period.  Should these comparisons reveal significant discrepancies, ERCOT should take appropriate action and coordinate with the appropriate ERCOT TAC subcommittee (UFE analysis function), if necessary.</a:t>
            </a:r>
            <a:endParaRPr b="0" lang="en-US" sz="1600" spc="-1" strike="noStrike">
              <a:solidFill>
                <a:srgbClr val="000000"/>
              </a:solidFill>
              <a:latin typeface="Times New Roman"/>
            </a:endParaRPr>
          </a:p>
        </p:txBody>
      </p:sp>
      <p:sp>
        <p:nvSpPr>
          <p:cNvPr id="62" name=""/>
          <p:cNvSpPr/>
          <p:nvPr/>
        </p:nvSpPr>
        <p:spPr>
          <a:xfrm>
            <a:off x="2057400" y="1143000"/>
            <a:ext cx="5410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ocol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5186AEE-20A7-45C5-9387-ECB2A7993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8052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rket Rules</a:t>
            </a:r>
            <a:endParaRPr b="0" lang="en-US" sz="3600" spc="-1" strike="noStrike">
              <a:solidFill>
                <a:srgbClr val="000000"/>
              </a:solidFill>
              <a:latin typeface="Times New Roman"/>
            </a:endParaRPr>
          </a:p>
        </p:txBody>
      </p:sp>
      <p:sp>
        <p:nvSpPr>
          <p:cNvPr id="64" name=""/>
          <p:cNvSpPr/>
          <p:nvPr/>
        </p:nvSpPr>
        <p:spPr>
          <a:xfrm>
            <a:off x="347760" y="1816200"/>
            <a:ext cx="8526240" cy="4717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Times New Roman"/>
              </a:rPr>
              <a:t>8.1.1 Routine Evaluation of Model Performance</a:t>
            </a:r>
            <a:endParaRPr b="0" lang="en-US" sz="16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shall conduct a routine annual evaluation of model performance for all models, profile types, and Weather Zones.  The evaluation shall address both Adjusted Static Models and Engineering Estimates.  Based on this evaluation, ERCOT shall make recommendations to the Profiling Working Group (PWG).</a:t>
            </a:r>
            <a:br>
              <a:rPr sz="1600"/>
            </a:br>
            <a:br>
              <a:rPr sz="1600"/>
            </a:br>
            <a:r>
              <a:rPr b="1" i="1" lang="en-US" sz="1600" spc="-1" strike="noStrike">
                <a:solidFill>
                  <a:srgbClr val="3333cc"/>
                </a:solidFill>
                <a:latin typeface="Times New Roman"/>
              </a:rPr>
              <a:t>8.1.2 Non-Routine Evaluation of Model Perform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Between the annual evaluations, ERCOT may evaluate specific requests for changes to profile segment definitions and requests for changes to Weather Zones.  Procedures for requesting such changes and evaluating the requests are described in Section 12, “Request for Profile Segment Changes, Additions, or Removals,” for profile segments, and in Section 13, “Changes to Weather Zone Definitions,” for Weather Zones.</a:t>
            </a: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Apart from evaluating change requests as described, ERCOT may also evaluate model performance if an urgent problem is identified.  Such non-routine evaluation may be conducted in response to a request from a Market Participant (MP), TAC subcommittee, or at ERCOT’s initiative.</a:t>
            </a:r>
            <a:endParaRPr b="0" lang="en-US" sz="1600" spc="-1" strike="noStrike">
              <a:solidFill>
                <a:srgbClr val="000000"/>
              </a:solidFill>
              <a:latin typeface="Times New Roman"/>
            </a:endParaRPr>
          </a:p>
        </p:txBody>
      </p:sp>
      <p:sp>
        <p:nvSpPr>
          <p:cNvPr id="65" name=""/>
          <p:cNvSpPr/>
          <p:nvPr/>
        </p:nvSpPr>
        <p:spPr>
          <a:xfrm>
            <a:off x="1828800" y="114300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ntique Olive Roman"/>
              </a:rPr>
              <a:t>Load Profiling Guid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EC8B859-C9A5-4D87-ADD5-7F18EC9EE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1200240"/>
            <a:ext cx="777240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PGRR016 Approval</a:t>
            </a:r>
            <a:endParaRPr b="0" lang="en-US" sz="4400" spc="-1" strike="noStrike">
              <a:solidFill>
                <a:srgbClr val="000000"/>
              </a:solidFill>
              <a:latin typeface="Times New Roman"/>
            </a:endParaRPr>
          </a:p>
        </p:txBody>
      </p:sp>
      <p:sp>
        <p:nvSpPr>
          <p:cNvPr id="67" name=""/>
          <p:cNvSpPr/>
          <p:nvPr/>
        </p:nvSpPr>
        <p:spPr>
          <a:xfrm>
            <a:off x="654120" y="2227320"/>
            <a:ext cx="7873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for approval of new profile models in Appendix E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for approval of new model implementation pla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deleted allowing implementation per the implementation pla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D4D11E7-6F27-41FD-9662-54064D883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80520"/>
            <a:ext cx="7772400" cy="88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WG Recommends Transition</a:t>
            </a:r>
            <a:br>
              <a:rPr sz="3600"/>
            </a:br>
            <a:r>
              <a:rPr b="1" lang="en-US" sz="3600" spc="-1" strike="noStrike">
                <a:solidFill>
                  <a:srgbClr val="3333cc"/>
                </a:solidFill>
                <a:latin typeface="Times New Roman"/>
              </a:rPr>
              <a:t> Plan</a:t>
            </a:r>
            <a:br>
              <a:rPr sz="3600"/>
            </a:br>
            <a:endParaRPr b="0" lang="en-US" sz="3600" spc="-1" strike="noStrike">
              <a:solidFill>
                <a:srgbClr val="000000"/>
              </a:solidFill>
              <a:latin typeface="Times New Roman"/>
            </a:endParaRPr>
          </a:p>
        </p:txBody>
      </p:sp>
      <p:sp>
        <p:nvSpPr>
          <p:cNvPr id="69" name=""/>
          <p:cNvSpPr/>
          <p:nvPr/>
        </p:nvSpPr>
        <p:spPr>
          <a:xfrm>
            <a:off x="461880" y="2084400"/>
            <a:ext cx="841212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Option 3 Modified selects current models for trade days prior to the implementation date and new models thereafter; an adjusted scaling factor is used for meter readings spanning the implementation date to fully allocate kW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uesday 5/15/07 implementation day to avoid weekend release</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ckcast Profiles from new models will be loaded from January 1, 2006 and used for settlement from implementation day forward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hannel 1 will designate the Backcast Profiles from current models … posting will end 90 days after the implementation day</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hannel 2 will designate the Backcast Profiles from new models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troactive Backcast Profiles from new models will be posted on the ERCOT MIS for January 1, 2005 forward</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orecast Profiles from new models will begin posting three days prior to implementation day </a:t>
            </a:r>
            <a:endParaRPr b="0" lang="en-US" sz="1600" spc="-1" strike="noStrike">
              <a:solidFill>
                <a:srgbClr val="000000"/>
              </a:solidFill>
              <a:latin typeface="Times New Roman"/>
            </a:endParaRPr>
          </a:p>
        </p:txBody>
      </p:sp>
      <p:sp>
        <p:nvSpPr>
          <p:cNvPr id="70" name=""/>
          <p:cNvSpPr/>
          <p:nvPr/>
        </p:nvSpPr>
        <p:spPr>
          <a:xfrm>
            <a:off x="380880" y="11430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Option 3 Modifi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F2C0F6C-5DD6-4AA5-A3B8-25EF35BC5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0"/>
            <a:ext cx="7772400" cy="1036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BA/IA Benefits</a:t>
            </a:r>
            <a:endParaRPr b="0" lang="en-US" sz="3600" spc="-1" strike="noStrike">
              <a:solidFill>
                <a:srgbClr val="000000"/>
              </a:solidFill>
              <a:latin typeface="Times New Roman"/>
            </a:endParaRPr>
          </a:p>
        </p:txBody>
      </p:sp>
      <p:sp>
        <p:nvSpPr>
          <p:cNvPr id="72" name=""/>
          <p:cNvSpPr/>
          <p:nvPr/>
        </p:nvSpPr>
        <p:spPr>
          <a:xfrm>
            <a:off x="762120" y="1295280"/>
            <a:ext cx="7489800" cy="531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400" spc="-1" strike="noStrike" u="sng">
                <a:solidFill>
                  <a:srgbClr val="3333cc"/>
                </a:solidFill>
                <a:uFillTx/>
                <a:latin typeface="Times New Roman"/>
              </a:rPr>
              <a:t>Impact Analysis</a:t>
            </a:r>
            <a:endParaRPr b="0" lang="en-US" sz="24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2000" spc="-1" strike="noStrike">
                <a:solidFill>
                  <a:srgbClr val="3333cc"/>
                </a:solidFill>
                <a:latin typeface="Times New Roman"/>
              </a:rPr>
              <a:t>Project duration 3-4 months … no nodal resources involved</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Lodestar system modifications required</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dditional profile verification (both old and new profiles)</a:t>
            </a:r>
            <a:endParaRPr b="0" lang="en-US" sz="20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400" spc="-1" strike="noStrike" u="sng">
                <a:solidFill>
                  <a:srgbClr val="3333cc"/>
                </a:solidFill>
                <a:uFillTx/>
                <a:latin typeface="Times New Roman"/>
              </a:rPr>
              <a:t>Cost Benefit Analysis</a:t>
            </a:r>
            <a:endParaRPr b="0" lang="en-US" sz="24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2000" spc="-1" strike="noStrike">
                <a:solidFill>
                  <a:srgbClr val="3333cc"/>
                </a:solidFill>
                <a:latin typeface="Times New Roman"/>
              </a:rPr>
              <a:t>ERCOT implementation cost estimate $75k</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Market benefit $920k … load forecasting improvement</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Net benefit $850k</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Non-quantifiable benefits</a:t>
            </a:r>
            <a:endParaRPr b="0" lang="en-US" sz="20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mproved price signals</a:t>
            </a:r>
            <a:endParaRPr b="0" lang="en-US" sz="20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mprovement in settlement accurac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EB7B80-F411-4543-8CD4-EE66FD06E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11-21T23:24:54Z</dcterms:modified>
  <cp:revision>190</cp:revision>
  <dc:subject/>
  <dc:title>Point-to-Point</dc:title>
</cp:coreProperties>
</file>