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21E-2F05-4EB1-848A-0CAFB417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7FA-1267-4624-A07C-87E37D6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804-0820-4A99-ACB9-2BCCCBBF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671-BC1C-4D5D-958A-99BD6A16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C2A-E328-4181-B05D-7EF54343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95E-A3F3-4A2B-856D-2BD4AC0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224-5D9A-4653-AF9F-B594CF2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EF3-91FB-4340-9150-57358795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67F-D1B4-4BEA-8251-95994924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71D-FF57-4225-B8F8-9321E6F0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4FE-04E1-40CB-87CF-E44390A6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8A3-3848-4F79-938C-145EE76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A44E-4366-439B-BC53-44AB3928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590920"/>
            <a:ext cx="769644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R 7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y Joel Fir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2/01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at is SCR 74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Change Request (SCR) 747 – Removal of Price Administration for Zonal Congestion - was submitted by Constellation Energy Commodities Group on 8/1/2005 and approved on 12/2005 by the ERCOT B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est requires the CSC Shadow Price equal the current $2500 OC1 penalty factor (Shadow Price Cap) value when the SPD (Scheduling, Pricing, Dispatch) software CANNOT solve a binding CSC constraint.  No available Market Solution with the Balancing  Energy resources available for re-disp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if this occurs in production, SPD will price administer the interval and set the zonal MCPE’s to the value of the last price setter Mw cleared in a zone, and the Shadow Price is manually calcul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of impact from SCR 747 on system MCP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685800"/>
            <a:ext cx="65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 11/15/2006 South to Houston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066680"/>
          <a:ext cx="838188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818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9718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jfirestone</cp:lastModifiedBy>
  <dcterms:modified xsi:type="dcterms:W3CDTF">2006-11-30T22:33:36Z</dcterms:modified>
  <cp:revision>44</cp:revision>
  <dc:subject/>
  <dc:title>Role of Account Management at ERCOT</dc:title>
</cp:coreProperties>
</file>