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411-CD6D-4ECA-B7E9-68671DA6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211-80D5-423D-989C-51878CF7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BB6-0D66-4FD1-9C6C-E64F71DE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A20-8302-4E94-B546-1896CA9E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B204-12EC-4615-9E5C-0B8D94BA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69DF-949E-4152-A230-47DC6CF8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45C7-E431-4926-A74D-4B168763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F809-A15E-4D54-9ECC-42C5C26D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A128-A12C-41DB-BE2E-C51EAD3E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F399-621D-4098-888C-653EC8F2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0685-1CE6-4BBE-A16C-554379EE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59E-7415-4500-A0F5-EFBB797D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77E1-4CB0-4CB0-8ECF-891A2047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B3DE-EF4C-4D30-9A93-22927A5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D052-27D2-487C-A7B8-07984BF4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289F-B0C9-4A57-92A3-E89BA9A9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E325-AC54-4F63-9D4A-044E1384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54B-6677-4A41-BBC8-5051C817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05D-0C55-42A1-BAA0-B11E2238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5DD-83A8-4D25-9ED0-CCF0B6EF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F27-564B-482B-8B3A-ADDF0254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721-805C-4F52-827B-62C146B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D3E-D200-48DD-B232-D5FDAFB3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688-AB47-4908-A79D-931A59B9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426-4561-4A9D-8798-ABD5ED7061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10E-84A5-4E20-A4C9-F1C5A4D4D5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ember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A110-A66E-46CB-9885-0B90358629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C ERO Develop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Jul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ERC approved NERC’s application to become the Electric Reliability Organization (ER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Texas Regional Entity budget submitted to NERC in Ju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Regional Entity Work Plan submitted to NERC in Ju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Delegation Agreement, Exhibits, and Related Documents for the Texas Regional Entity were submitted to NERC on Nov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747-3910-49C9-9A05-58865F57E0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Compliance Activ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submitted, to NERC on September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contact information from ERCOT Entities responsible for NERC Reliability Standar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Staff participating with NERC on two ERCOT Local Control Center Reliability Readiness Audits – CenterPoint (October) &amp; TXU Electric Delivery (Decembe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ts under invest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ril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ECP Event – continued review with P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CS Event (possible SPS mis-oper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tob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ad Shedding Event (possible DCS Ev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F81-41B9-415A-8C71-970E81B1C1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tober performance indicated a fourth straight month of declining scores since scores peaked in Ju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ne – 154.6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y – 153.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– 151.3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– 142.5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tob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7.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cores for October indicate 31 QSEs passed / 2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4DD-DF8A-4CDB-A8AB-597AAD98D6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0FC-4CBA-4A1E-AD3B-F81E5305E8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5DB-2519-4A47-990A-967DD4013A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EEB-9AB3-48F6-90DF-9CB5D70277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FA7-181C-49A3-B839-B941C42973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2D3-3C1B-4651-8F01-2DE3E40581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277-5B8D-4998-9035-D9D57829E5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 Plan Performance Metr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tober 2006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80010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A78-B71E-4BD3-9BEB-20FC0D7A76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. Grimm</cp:lastModifiedBy>
  <dcterms:modified xsi:type="dcterms:W3CDTF">2006-11-28T15:44:32Z</dcterms:modified>
  <cp:revision>227</cp:revision>
  <dc:subject/>
  <dc:title>PRR 525 Compliance Analysis</dc:title>
</cp:coreProperties>
</file>