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4DE90B3-B612-42AD-A96B-5C7A2AA4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Dec 1, 2006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792000"/>
            <a:ext cx="861084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November 28 through Thursday, November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December 4 and Tuesday, Decemb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January 9 and Wednesday, January 10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nt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anuary 22 through Wednesday, January 24 (tent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765000"/>
            <a:ext cx="8610840" cy="54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November 28 - 30, will be discuss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-Related review of NPRR024, NPRR034, NPRR035, NPRR036, NPRR0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Rules plan to conform remaining sections of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P during EECP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approval of CRR Conceptual 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Clarification on CRR programmatic interfa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ERCOT Readiness and Transition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tential approval of Start-up Eligibility Requirements, Disput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 Review of Registr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tial Review of Conceptual System Design for Credit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ew Commercial Operations NP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S and MMS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Initial Review of Outage Scheduler Busines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and Update of TPTF Comments for MMS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and Overview of EMS/MMS Whitepa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914400"/>
            <a:ext cx="84582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EC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seven abstentions (CenterPoint, NRG, Calpine, ANP, City of Allen, Exelon, and Reliant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able Costs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ithout fuel cost adder) as being in compliance with the applicable Nodal protocols. TPTF approved the motion by a ballot vote of 100% in favor, with three abstentions (CenterPoint, NRG, and Calpine).  All Market Segments, except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s Market Data Transparency (“Extracts”)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no abstentions.  All Market Segments, except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ggregation Business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being in compliance with the applicable Nodal protocols. TPTF approved the motion by a ballot vote of 100% in favor, with one abstention (CenterPoint).  All Market Segments, except Independent Generators and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914400"/>
            <a:ext cx="84582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that TAC approve the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Average Incremental Energy Cost (AIEC)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Verifiable Cost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Commercial Systems Market Data Transparency (“Extracts”)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Data Aggregation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914400"/>
          <a:ext cx="8305560" cy="3201840"/>
        </p:xfrm>
        <a:graphic>
          <a:graphicData uri="http://schemas.openxmlformats.org/drawingml/2006/table">
            <a:tbl>
              <a:tblPr/>
              <a:tblGrid>
                <a:gridCol w="2439720"/>
                <a:gridCol w="4646880"/>
                <a:gridCol w="1218960"/>
              </a:tblGrid>
              <a:tr h="314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Business Requirements Complete f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Operation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ncremental Energy Cost (AI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Market Data Transparency (“Extracts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ggre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826920"/>
            <a:ext cx="80773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November 6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by Ron Hins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Qualification, EDS Strategy, Market Readiness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asked to review future NPRRs generated by ERCOT Market Rules for nodal conforming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concept for Frequently Asked Questions Web Page by Kate H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P during EE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26920"/>
            <a:ext cx="80773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sked why ERCOT was not included as an “Applicable Attendee” in the ERCOT Nodal 101: The Basics class.  TPTF edited the Market Participant Training Readiness Document to clarify that ERCOT should be included as an Applicable Attend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approved a motion to waive the notice to vote on this correction.  Motion carried by a unanimous voice vote with all segment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approved a motion to correct the Market Participant Training Readiness Document to reflect that ERCOT should be included as an “Applicable Attendee” in the ERCOT Nodal 101: The Basics class and to approve the document with that change.  Motion carried by a unanimous voice vote with all segment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800" y="1281240"/>
            <a:ext cx="76658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826920"/>
            <a:ext cx="807732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6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- MIS Gap Analysis, MIS Nodal WebServices, and MIS Messaging, Alerts, Notifications documents.  Agreed to revisit on November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rket comments received for Market Monitoring and Data Collec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agreed to work with WEMM to ensure their needs were ass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will be provided at December 4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SA Review o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emplate for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CRR Conceptual System Design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7668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th, TPTF discussed the follow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M Compliant Models for Annual CRR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E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AIEC Business Requirements as being in compliance with the applicable Nodal protocols. TPTF approved the motion by a ballot vote of 100% in favor, with seven abstentions (CenterPoint, NRG, Calpine, ANP, City of Allen, Exelon, and Reliant).  All Market Segments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abl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Verifiable Costs Business Requirements (without fuel cost adder) as being in compliance with the applicable Nodal protocols. TPTF approved the motion by a ballot vote of 100% in favor, with three abstentions (CenterPoint, NRG, and Calpine)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Systems Market Data Transparency (“Extract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Commercial Systems Market Data Transparency (“Extracts”) Business Requirements as being in compliance with the applicable Nodal protocols. TPTF approved the motion by a ballot vote of 100% in favor, with no abstentions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766800"/>
            <a:ext cx="84582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ontinued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November 7th, TPTF approved Data Aggregation Business Requirements as being in compliance with the applicable Nodal protocols. TPTF approved the motion by a ballot vote of 100% in favor, with one abstention (CenterPoint).  All Market Segments, except Independent Generators and Consumers, were prese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COP in DAM and RU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November 7th, TPTF approved a motion to Motion to not use COP in DAM Make-whole, and to obtain Start-type from MMS optimization for DAM and RUC.. TPTF approved the motion by a ballot vote of 83.3% in favor, with two abstentions (GEUS and Coral Power).  All Market Segments, except Consumers,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6 and 7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26920"/>
            <a:ext cx="80773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- MIS Gap Analysis, MIS Nodal WebServices, and MIS Messaging, Alerts, Notifications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7th, TPTF approved the 3 supporting documents for MIS Business requirements, including WebPortal Messages, System-to-System Messages and MIS Notification (fka- Messages, Alerts and Notifications), WebServices, and TML Gap Analysis. TPTF approved the motion by a ballot vote with 100% in favor and no abstentions.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&amp; S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D –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6-11-21T21:33:11Z</dcterms:modified>
  <cp:revision>236</cp:revision>
  <dc:subject/>
  <dc:title>TAC Update</dc:title>
</cp:coreProperties>
</file>