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05D-F602-48D1-9647-DACC03DD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897-BEA7-419C-90F3-E1DFC877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EFC-7570-48DC-A4A3-E810E09F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D52-977E-49C2-8DF5-B5B6D4EC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268B-7B8A-45BE-9900-B884CC32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EC8E-553C-4B54-BA69-AC3BA1DB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BBE6-21AE-4F90-98E2-42800070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BDB8-EEEF-43B2-B31A-484F7B0B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36EF-3AC3-43A4-BF33-7E000EA2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07CC-27A1-4D7F-A093-F17F0159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A10D-7F99-4B33-8AC2-44B2755B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E20-5FE9-4B8F-9A4E-044BE896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AB4B-51D2-4EBD-9CFA-7C3562A0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23AA-10B1-41AC-A167-6622ADCC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F065-15E5-4F6A-AF7F-C3E9AF8A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F726-1A3F-4A36-A325-9857C3C9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B9AB-4E48-40EF-A0C9-875CC969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AB4-87D2-495D-A521-F3994C88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FA2-9CA2-4396-9F1A-C8E33C6D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839-DDFC-4B9C-9199-2B60051A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F37-168F-4966-AB42-DCBD15D5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B9E-2017-4201-9D2E-74EABBFD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1A1-FE2D-4909-BD71-A6440A1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ED8-C3AA-46FC-AABE-34538D8F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F779-9072-4688-B763-D3B2F06AE28B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FB56-9F66-439E-940F-87ABEF3F212E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742840" y="3809880"/>
            <a:ext cx="57150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Market Operations Sup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ERCO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pril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Arial"/>
                <a:ea typeface="宋体"/>
              </a:rPr>
              <a:t>Shadow Price Cap Study</a:t>
            </a:r>
            <a:endParaRPr b="0" lang="en-US" sz="3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438280"/>
            <a:ext cx="6400800" cy="15264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p 2004 cas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5280" y="2666880"/>
          <a:ext cx="7164360" cy="3049560"/>
        </p:xfrm>
        <a:graphic>
          <a:graphicData uri="http://schemas.openxmlformats.org/drawingml/2006/table">
            <a:tbl>
              <a:tblPr/>
              <a:tblGrid>
                <a:gridCol w="2414880"/>
                <a:gridCol w="4749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of interv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/06 Local Congestion (deploy  very small shift factor units for local conges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 Deployment decrea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1219320" y="1752480"/>
          <a:ext cx="7086600" cy="4054680"/>
        </p:xfrm>
        <a:graphic>
          <a:graphicData uri="http://schemas.openxmlformats.org/drawingml/2006/table">
            <a:tbl>
              <a:tblPr/>
              <a:tblGrid>
                <a:gridCol w="990360"/>
                <a:gridCol w="1143000"/>
                <a:gridCol w="992160"/>
                <a:gridCol w="989280"/>
                <a:gridCol w="992160"/>
                <a:gridCol w="988920"/>
                <a:gridCol w="990720"/>
              </a:tblGrid>
              <a:tr h="421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B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 co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co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3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/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6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7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7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o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.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4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3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3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tudy Conclusion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With both proposed SP Caps, there is a great decrease in BES deployment for those intervals with inefficient BES deployment for CSC cong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1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Both proposed methods have small impact on all other interva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Implementation – Shadow Price Cap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RCOT will issue  a market notice describing the new Shadow Price Cap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e BES deployment will stop at a set poin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is proposed method does not require a system change (no implementation cost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70160" y="1827360"/>
            <a:ext cx="731664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erva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/01/2005  21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CSC Conges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orth-W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CSC limi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430 MW;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Shadow Pric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5797.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$/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Local Conges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Price Admi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BES Deploy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95280" y="2057400"/>
          <a:ext cx="7213680" cy="3344760"/>
        </p:xfrm>
        <a:graphic>
          <a:graphicData uri="http://schemas.openxmlformats.org/drawingml/2006/table">
            <a:tbl>
              <a:tblPr/>
              <a:tblGrid>
                <a:gridCol w="1067040"/>
                <a:gridCol w="965160"/>
                <a:gridCol w="863640"/>
                <a:gridCol w="863640"/>
                <a:gridCol w="863280"/>
                <a:gridCol w="863640"/>
                <a:gridCol w="863640"/>
                <a:gridCol w="86364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F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1 (2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 2 (2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638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ubject to N-W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CPE &amp; Shadow Price (SP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47920" y="1752480"/>
          <a:ext cx="6858000" cy="4254480"/>
        </p:xfrm>
        <a:graphic>
          <a:graphicData uri="http://schemas.openxmlformats.org/drawingml/2006/table">
            <a:tbl>
              <a:tblPr/>
              <a:tblGrid>
                <a:gridCol w="1143000"/>
                <a:gridCol w="1396800"/>
                <a:gridCol w="1079640"/>
                <a:gridCol w="1079280"/>
                <a:gridCol w="1079640"/>
                <a:gridCol w="107964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4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2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68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53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3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3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4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122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8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3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59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5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P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P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-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9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4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 &amp; Flow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1371600" y="1905120"/>
          <a:ext cx="6194520" cy="3754440"/>
        </p:xfrm>
        <a:graphic>
          <a:graphicData uri="http://schemas.openxmlformats.org/drawingml/2006/table">
            <a:tbl>
              <a:tblPr/>
              <a:tblGrid>
                <a:gridCol w="1298520"/>
                <a:gridCol w="835200"/>
                <a:gridCol w="796680"/>
                <a:gridCol w="816120"/>
                <a:gridCol w="816120"/>
                <a:gridCol w="815760"/>
                <a:gridCol w="816120"/>
              </a:tblGrid>
              <a:tr h="642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4/01/05 21: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S De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alculated Flow Violation (N-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P Cap 1 (4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P Cap 2 (2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328140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Background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Issue - Inefficient Deployment of B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Proposed Metho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Stud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Selected” C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One Month C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Study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Implem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Backgrou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sue: Inefficient BES deployments when resolving zonal conges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proposed methods to reduce inefficient deployment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veraging of similar shift fac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dow Price C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tor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veraging Shift Factor method: Oct 2004 W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 proposals: Nov 2004 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dow Price Cap method: Jan 2005 W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nting results in detail : March 1, 2005 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66"/>
                </a:solidFill>
                <a:latin typeface="Verdana"/>
              </a:rPr>
              <a:t>After discussion in ORG, proposal of Shadow Price Cap was recommended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66"/>
                </a:solidFill>
                <a:latin typeface="Verdana"/>
              </a:rPr>
              <a:t>Further study with Shadow Price cap was suggeste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continue to study Shadow Price Cap proposal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present results in detail at WM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hadow Price Cap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termine value of Shadow Price (SP) ca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 penalty factor of constraint violation = shadow price ca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 CSC, the SP cap acts as system’s stopping p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219320" y="3352680"/>
          <a:ext cx="7315200" cy="2589480"/>
        </p:xfrm>
        <a:graphic>
          <a:graphicData uri="http://schemas.openxmlformats.org/drawingml/2006/table">
            <a:tbl>
              <a:tblPr/>
              <a:tblGrid>
                <a:gridCol w="2476440"/>
                <a:gridCol w="1428840"/>
                <a:gridCol w="1704960"/>
                <a:gridCol w="17049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adow price cap (penalty fac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 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 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folio Ramp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3 (contingenc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1 (CS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3 (base ca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Ba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wering the CSC SP Ca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SC SP cap 4500 $/MW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is to deploy all bids from zones which have the most effect on the congested CS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was observed that bid stacks in the most effective zones are frequently exhausted (either UBES or DBES) leading to use of bids from less effective z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SC SP cap 2500 $/M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00 cap is large enough to deploy all bid pairs from most effective z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efi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reases amount of inefficient deployment for zonal congestion (MW and cos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Potentially could help to eliminate Price Admin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ERCOT Stu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un production cases using proposed Shadow Price Caps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lected” c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als with violation (price administration) and CSC Congestion (after R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46 Cases from June 2, 2004 to Dec 31, 2004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als with CSC shadow price &gt; $1000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after R3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0 Cases from June 2, 2004 to Dec 31, 2004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l intervals of one month (Sept. 2004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879 Cases of September 20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are study results with production resul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wo different caps of Shadow Price (WM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lected Case Results – 1: BES MW Deploym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2743200"/>
          <a:ext cx="7543800" cy="3048120"/>
        </p:xfrm>
        <a:graphic>
          <a:graphicData uri="http://schemas.openxmlformats.org/drawingml/2006/table">
            <a:tbl>
              <a:tblPr/>
              <a:tblGrid>
                <a:gridCol w="1179360"/>
                <a:gridCol w="976320"/>
                <a:gridCol w="1079640"/>
                <a:gridCol w="1076040"/>
                <a:gridCol w="1098720"/>
                <a:gridCol w="1058760"/>
                <a:gridCol w="1074960"/>
              </a:tblGrid>
              <a:tr h="569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ted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B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370160" y="1827360"/>
            <a:ext cx="7313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BES Deploy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lected Case Results – 2: CSC Shadow Price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CSC Shadow Pr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295280" y="2819520"/>
          <a:ext cx="7391520" cy="2819160"/>
        </p:xfrm>
        <a:graphic>
          <a:graphicData uri="http://schemas.openxmlformats.org/drawingml/2006/table">
            <a:tbl>
              <a:tblPr/>
              <a:tblGrid>
                <a:gridCol w="1157400"/>
                <a:gridCol w="976320"/>
                <a:gridCol w="1036800"/>
                <a:gridCol w="1056960"/>
                <a:gridCol w="1055880"/>
                <a:gridCol w="1055520"/>
                <a:gridCol w="1052640"/>
              </a:tblGrid>
              <a:tr h="408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ted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SC S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3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lected Case Results – 3: BES Deployment Cost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BES deployment Co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143000" y="2971800"/>
          <a:ext cx="7620120" cy="2590920"/>
        </p:xfrm>
        <a:graphic>
          <a:graphicData uri="http://schemas.openxmlformats.org/drawingml/2006/table">
            <a:tbl>
              <a:tblPr/>
              <a:tblGrid>
                <a:gridCol w="1192320"/>
                <a:gridCol w="984240"/>
                <a:gridCol w="1090440"/>
                <a:gridCol w="1089000"/>
                <a:gridCol w="1090800"/>
                <a:gridCol w="1087200"/>
                <a:gridCol w="1086120"/>
              </a:tblGrid>
              <a:tr h="32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ted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143000" y="57913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e: the costs are in thousands doll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3:28:59Z</dcterms:created>
  <dc:creator>Yongjun</dc:creator>
  <dc:description/>
  <dc:language>en-US</dc:language>
  <cp:lastModifiedBy>balbracht</cp:lastModifiedBy>
  <dcterms:modified xsi:type="dcterms:W3CDTF">2006-12-01T21:44:33Z</dcterms:modified>
  <cp:revision>83</cp:revision>
  <dc:subject/>
  <dc:title>Slide 1</dc:title>
</cp:coreProperties>
</file>