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B3E-3056-4DFF-860A-264C4E83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BBC-C355-4A02-991A-E4CBE80C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EBE-182B-4FAD-8397-ECC768BB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1B5-A968-4AD5-B74F-B2B87A5D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89A-8A26-4D25-92B9-1A5C0C7A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E969-ECF9-4967-836A-9A8587B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3920-9F89-4309-925D-B5A5387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4438-C28B-462F-947D-D336E00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063-1E6F-4999-A5D7-3C0FCD91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7A7-C9A3-4C70-BD13-5AE15EC8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BC8-DD52-4A2C-ABBC-55766BA4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E3E-5E75-4558-AD43-EE99AFB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78BE-F3E8-4764-8E22-67611E2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AAB-B7D8-4D6B-9F54-C75861A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7AE-9D3D-41DB-A8FC-4BB6DDD0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7493-AF1C-4783-ACFC-344EE657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BB4-4F30-4126-8D88-0F470246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2F4-68EB-4B03-8EA8-1AD19CB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B78-7A7A-435E-A0D8-4EEEED1A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661-F89C-4C6A-8E49-D51C1E9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A04-54FF-4B25-8F7D-78E2ADE3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7B8-8402-4702-9CA8-6E66763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150-EE46-4A54-8769-21A2140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C54-CF5E-40B3-8A99-27C8648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327-E485-4DE2-89C6-6115833AC66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143-36FB-455E-B48C-E17831BDDA1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742840" y="3809880"/>
            <a:ext cx="5715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Market Operations Sup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ERCO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pril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Study</a:t>
            </a: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438280"/>
            <a:ext cx="6400800" cy="15264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p 2004 c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666880"/>
          <a:ext cx="7164360" cy="3049560"/>
        </p:xfrm>
        <a:graphic>
          <a:graphicData uri="http://schemas.openxmlformats.org/drawingml/2006/table">
            <a:tbl>
              <a:tblPr/>
              <a:tblGrid>
                <a:gridCol w="2414880"/>
                <a:gridCol w="4749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of inter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 Local Congestion (deploy  very small shift factor units for local conges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Deployment decrea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219320" y="1752480"/>
          <a:ext cx="7086600" cy="4054680"/>
        </p:xfrm>
        <a:graphic>
          <a:graphicData uri="http://schemas.openxmlformats.org/drawingml/2006/table">
            <a:tbl>
              <a:tblPr/>
              <a:tblGrid>
                <a:gridCol w="990360"/>
                <a:gridCol w="1143000"/>
                <a:gridCol w="992160"/>
                <a:gridCol w="989280"/>
                <a:gridCol w="992160"/>
                <a:gridCol w="988920"/>
                <a:gridCol w="990720"/>
              </a:tblGrid>
              <a:tr h="421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6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.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4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tudy Conclusion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With both proposed SP Caps, there is a great decrease in BES deployment for those intervals with inefficient BES deployment for CSC cong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1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Both proposed methods have small impact on all other interva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Implementation – Shadow Price Ca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RCOT will issue  a market notice describing the new Shadow Price Cap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BES deployment will stop at a set poin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is proposed method does not require a system change (no implementation cos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0160" y="1827360"/>
            <a:ext cx="73166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/01/2005  2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rth-W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lim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430 MW;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hadow Pric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5797.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$/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Local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Price Admi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ES Deploy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2057400"/>
          <a:ext cx="7213680" cy="3344760"/>
        </p:xfrm>
        <a:graphic>
          <a:graphicData uri="http://schemas.openxmlformats.org/drawingml/2006/table">
            <a:tbl>
              <a:tblPr/>
              <a:tblGrid>
                <a:gridCol w="1067040"/>
                <a:gridCol w="965160"/>
                <a:gridCol w="863640"/>
                <a:gridCol w="863640"/>
                <a:gridCol w="863280"/>
                <a:gridCol w="863640"/>
                <a:gridCol w="863640"/>
                <a:gridCol w="86364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F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1 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 2 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ubject to N-W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CPE &amp; Shadow Price (SP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47920" y="1752480"/>
          <a:ext cx="6858000" cy="4254480"/>
        </p:xfrm>
        <a:graphic>
          <a:graphicData uri="http://schemas.openxmlformats.org/drawingml/2006/table">
            <a:tbl>
              <a:tblPr/>
              <a:tblGrid>
                <a:gridCol w="1143000"/>
                <a:gridCol w="1396800"/>
                <a:gridCol w="1079640"/>
                <a:gridCol w="1079280"/>
                <a:gridCol w="1079640"/>
                <a:gridCol w="107964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4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68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3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4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122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8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9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-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4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&amp; Flow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1371600" y="1905120"/>
          <a:ext cx="6194520" cy="3754440"/>
        </p:xfrm>
        <a:graphic>
          <a:graphicData uri="http://schemas.openxmlformats.org/drawingml/2006/table">
            <a:tbl>
              <a:tblPr/>
              <a:tblGrid>
                <a:gridCol w="1298520"/>
                <a:gridCol w="835200"/>
                <a:gridCol w="796680"/>
                <a:gridCol w="816120"/>
                <a:gridCol w="816120"/>
                <a:gridCol w="815760"/>
                <a:gridCol w="816120"/>
              </a:tblGrid>
              <a:tr h="642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4/01/05 21: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S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alculated Flow Violation (N-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 1 (4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 2 (2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28140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Backgroun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Issue - Inefficient Deployment of B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Proposed Metho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Selected”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One Month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Imple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sue: Inefficient BES deployments when resolving zonal conges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proposed methods to reduce inefficient deployment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eraging of similar shift fac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dow Price 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tor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eraging Shift Factor method: Oct 2004 W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proposals: Nov 2004 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dow Price Cap method: Jan 2005 W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nting results in detail : March 1, 2005 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66"/>
                </a:solidFill>
                <a:latin typeface="Verdana"/>
              </a:rPr>
              <a:t>After discussion in ORG, proposal of Shadow Price Cap was recommende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66"/>
                </a:solidFill>
                <a:latin typeface="Verdana"/>
              </a:rPr>
              <a:t>Further study with Shadow Price cap was suggest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ontinue to study Shadow Price Cap proposal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present results in detail at W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termine value of Shadow Price (SP)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 penalty factor of constraint violation = shadow price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CSC, the SP cap acts as system’s stopping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219320" y="3352680"/>
          <a:ext cx="7315200" cy="2589480"/>
        </p:xfrm>
        <a:graphic>
          <a:graphicData uri="http://schemas.openxmlformats.org/drawingml/2006/table">
            <a:tbl>
              <a:tblPr/>
              <a:tblGrid>
                <a:gridCol w="2476440"/>
                <a:gridCol w="1428840"/>
                <a:gridCol w="1704960"/>
                <a:gridCol w="1704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cap (penalty fac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folio Ram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contingen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1 (CS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base c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wering the CSC SP Ca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C SP cap 4500 $/MW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is to deploy all bids from zones which have the most effect on the congested CS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was observed that bid stacks in the most effective zones are frequently exhausted (either UBES or DBES) leading to use of bids from less effective z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C SP cap 2500 $/M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00 cap is large enough to deploy all bid pairs from most effective z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efi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amount of inefficient deployment for zonal congestion (MW and cos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Potentially could help to eliminate Price Admi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RCOT Stu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un production cases using proposed Shadow Price Caps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cted” c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als with violation (price administration) and CSC Congestion (after R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46 Cases from June 2, 2004 to Dec 31, 2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als with CSC shadow price &gt; $1000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after R3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 Cases from June 2, 2004 to Dec 31, 2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tervals of one month (Sept. 2004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879 Cases of September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are study results with production 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wo different caps of Shadow Price (WM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1: BES MW Deploy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2743200"/>
          <a:ext cx="7543800" cy="3048120"/>
        </p:xfrm>
        <a:graphic>
          <a:graphicData uri="http://schemas.openxmlformats.org/drawingml/2006/table">
            <a:tbl>
              <a:tblPr/>
              <a:tblGrid>
                <a:gridCol w="1179360"/>
                <a:gridCol w="976320"/>
                <a:gridCol w="1079640"/>
                <a:gridCol w="1076040"/>
                <a:gridCol w="1098720"/>
                <a:gridCol w="1058760"/>
                <a:gridCol w="1074960"/>
              </a:tblGrid>
              <a:tr h="56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370160" y="1827360"/>
            <a:ext cx="7313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2: CSC Shadow Pri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CSC Shadow 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295280" y="2819520"/>
          <a:ext cx="7391520" cy="2819160"/>
        </p:xfrm>
        <a:graphic>
          <a:graphicData uri="http://schemas.openxmlformats.org/drawingml/2006/table">
            <a:tbl>
              <a:tblPr/>
              <a:tblGrid>
                <a:gridCol w="1157400"/>
                <a:gridCol w="976320"/>
                <a:gridCol w="1036800"/>
                <a:gridCol w="1056960"/>
                <a:gridCol w="1055880"/>
                <a:gridCol w="1055520"/>
                <a:gridCol w="1052640"/>
              </a:tblGrid>
              <a:tr h="408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SC S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3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3: BES Deployment Cost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 C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143000" y="2971800"/>
          <a:ext cx="7620120" cy="2590920"/>
        </p:xfrm>
        <a:graphic>
          <a:graphicData uri="http://schemas.openxmlformats.org/drawingml/2006/table">
            <a:tbl>
              <a:tblPr/>
              <a:tblGrid>
                <a:gridCol w="1192320"/>
                <a:gridCol w="984240"/>
                <a:gridCol w="1090440"/>
                <a:gridCol w="1089000"/>
                <a:gridCol w="1090800"/>
                <a:gridCol w="1087200"/>
                <a:gridCol w="1086120"/>
              </a:tblGrid>
              <a:tr h="32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143000" y="5791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the costs are in thousands dol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3:28:59Z</dcterms:created>
  <dc:creator>Yongjun</dc:creator>
  <dc:description/>
  <dc:language>en-US</dc:language>
  <cp:lastModifiedBy>balbracht</cp:lastModifiedBy>
  <dcterms:modified xsi:type="dcterms:W3CDTF">2006-12-01T21:44:33Z</dcterms:modified>
  <cp:revision>83</cp:revision>
  <dc:subject/>
  <dc:title>Slide 1</dc:title>
</cp:coreProperties>
</file>