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1DD-069B-42CE-9A2A-0C14E0A5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E80-17BE-4798-AB57-91D6663B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53C-96D1-4FF1-8657-576E8399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BDB-3E6A-4E3F-8CEC-2C00FF38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2D1-D8DB-4537-BBC6-520305EF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050-3A55-48E8-89ED-C4378C53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1BF-4F5D-45C2-98D5-57010A7B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6FE-55B9-48FC-A435-2C21798A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201-30D2-49CF-887B-2138B209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D51-BE84-4FB7-8B35-EC6AC85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8AF-710D-4857-B54B-2A7ABA8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3B9-E503-4405-A4FA-4E4B381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879D-FD8A-48CC-B537-36A8D85A7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590920"/>
            <a:ext cx="769644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R 7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y Joel Fir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2/01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hat is SCR 74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Change Request (SCR) 747 – Removal of Price Administration for Zonal Congestion - was submitted by Constellation Energy Commodities Group on 8/1/2005 and approved on 12/2005 by the ERCOT B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est requires the CSC Shadow Price equal the current $2500 OC1 penalty factor (Shadow Price Cap) value when the SPD (Scheduling, Pricing, Dispatch) software CANNOT solve a binding CSC constraint.  No available Market Solution with the Balancing  Energy resources available for re-disp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if this occurs in production, SPD will price administer the interval and set the zonal MCPE’s to the value of the last price setter Mw cleared in a zone, and the Shadow Price is manually calcul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 of impact from SCR 747 on system MCP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685800"/>
            <a:ext cx="65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 11/15/2006 South to Houston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066680"/>
          <a:ext cx="838188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818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9718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jfirestone</cp:lastModifiedBy>
  <dcterms:modified xsi:type="dcterms:W3CDTF">2006-11-30T22:33:36Z</dcterms:modified>
  <cp:revision>44</cp:revision>
  <dc:subject/>
  <dc:title>Role of Account Management at ERCOT</dc:title>
</cp:coreProperties>
</file>