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4371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50929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F5BDA6C0-5365-48FE-B0FA-B67EDCFF4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010280" y="6305400"/>
            <a:ext cx="21337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ead fro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th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TPTF Update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1800"/>
            </a:br>
            <a:r>
              <a:rPr b="0" lang="en-GB" sz="2400" spc="-1" strike="noStrike">
                <a:solidFill>
                  <a:srgbClr val="808080"/>
                </a:solidFill>
                <a:latin typeface="Arial Black"/>
              </a:rPr>
              <a:t>for TAC Dec 1, 2006</a:t>
            </a:r>
            <a:br>
              <a:rPr sz="2400"/>
            </a:br>
            <a:r>
              <a:rPr b="0" lang="en-GB" sz="2400" spc="-1" strike="noStrike">
                <a:solidFill>
                  <a:srgbClr val="808080"/>
                </a:solidFill>
                <a:latin typeface="Arial Black"/>
              </a:rPr>
              <a:t>Trip Doggett</a:t>
            </a:r>
            <a:br>
              <a:rPr sz="3200"/>
            </a:b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ext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792000"/>
            <a:ext cx="8610840" cy="16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esday, November 28 through Thursday, November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December 4 and Tuesday, December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esday, January 9 and Wednesday, January 10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nta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January 22 through Wednesday, January 24 (tentat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ext Meetings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765000"/>
            <a:ext cx="8610840" cy="54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 November 28 - 30, will be discuss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dal Program 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S-Related review of NPRR024, NPRR034, NPRR035, NPRR036, NPRR0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 Rules plan to conform remaining sections of Protoc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MP during EECP 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ing 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S 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ration 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approval of CRR Conceptual System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 Clarification on CRR programmatic interface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rated ERCOT Readiness and Transition 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ercial 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tential approval of Start-up Eligibility Requirements, Dispute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itial Review of Registration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itial Review of Conceptual System Design for Credit Monito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view Commercial Operations NPR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MS and MMS Pro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ject 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S Initial Review of Outage Scheduler Business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us and Update of TPTF Comments for MMS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sentation and Overview of EMS/MMS Whitepap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AC Approval of 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914400"/>
            <a:ext cx="8458200" cy="47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vember 7th, TPTF approv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EC Business Require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being in compliance with the applicable Nodal protocols. TPTF approved the motion by a ballot vote of 100% in favor, with seven abstentions (CenterPoint, NRG, Calpine, ANP, City of Allen, Exelon, and Reliant).  All Market Segments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vember 7th, TPTF approv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ifiable Costs Business Require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without fuel cost adder) as being in compliance with the applicable Nodal protocols. TPTF approved the motion by a ballot vote of 100% in favor, with three abstentions (CenterPoint, NRG, and Calpine).  All Market Segments, except Consumers,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vember 7th, TPTF approv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rcial Systems Market Data Transparency (“Extracts”) Business Require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being in compliance with the applicable Nodal protocols. TPTF approved the motion by a ballot vote of 100% in favor, with no abstentions.  All Market Segments, except Consumers,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vember 7th, TPTF approv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Aggregation Business Require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being in compliance with the applicable Nodal protocols. TPTF approved the motion by a ballot vote of 100% in favor, with one abstention (CenterPoint).  All Market Segments, except Independent Generators and Consumers,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AC Approval of Milestones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914400"/>
            <a:ext cx="8458200" cy="38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nsition Plan says: “Any declaration of the accomplishment of a major milestone (business requirements, conceptual design, and successful completion of Market Participant testing) or a decision to proceed is contingent on the approval of both ERCOT and TAC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est that TAC approve the 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pproval of Average Incremental Energy Cost (AIEC) Business Requir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pproval of Verifiable Costs Business Requir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pproval of Commercial Systems Market Data Transparency (“Extracts”) Business Requir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pproval of Data Aggregation Business Requir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33920" y="2438280"/>
            <a:ext cx="12952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listo MT"/>
              </a:rPr>
              <a:t>?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listo MT"/>
              <a:ea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9320" y="81000"/>
            <a:ext cx="79376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04920" y="914400"/>
          <a:ext cx="8305560" cy="3201840"/>
        </p:xfrm>
        <a:graphic>
          <a:graphicData uri="http://schemas.openxmlformats.org/drawingml/2006/table">
            <a:tbl>
              <a:tblPr/>
              <a:tblGrid>
                <a:gridCol w="2439720"/>
                <a:gridCol w="4646880"/>
                <a:gridCol w="1218960"/>
              </a:tblGrid>
              <a:tr h="31428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1368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5469a2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1368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5469a2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1368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5469a2"/>
                    </a:solidFill>
                  </a:tcPr>
                </a:tc>
              </a:tr>
              <a:tr h="51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Meeting Sum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y of recent TPTF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5360" indent="-2253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Next Meet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coming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4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5360" indent="-2253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Approval of Mile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 TAC approval of Milestone – Business Requirements Complete for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ial Operations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Incremental Energy Cost (AIE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able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ial Systems Market Data Transparency (“Extracts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Aggreg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V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November 6 an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826920"/>
            <a:ext cx="807732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s November 6 an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vember 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PTF discussed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Program Update by Ron Hins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 Qualification, EDS Strategy, Market Readiness Adv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S Related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0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0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TF asked to review future NPRRs generated by ERCOT Market Rules for nodal conforming chan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of concept for Frequently Asked Questions Web Page by Kate Ho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MP during EE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November 6 and 7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826920"/>
            <a:ext cx="8077320" cy="42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vember 6th, (continue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 asked why ERCOT was not included as an “Applicable Attendee” in the ERCOT Nodal 101: The Basics class.  TPTF edited the Market Participant Training Readiness Document to clarify that ERCOT should be included as an Applicable Attend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vember 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PTF approved a motion to waive the notice to vote on this correction.  Motion carried by a unanimous voice vote with all segments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vember 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PTF approved a motion to correct the Market Participant Training Readiness Document to reflect that ERCOT should be included as an “Applicable Attendee” in the ERCOT Nodal 101: The Basics class and to approve the document with that change.  Motion carried by a unanimous voice vote with all segments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November 6 and 7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39800" y="1281240"/>
            <a:ext cx="766584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November 6 and 7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826920"/>
            <a:ext cx="8077320" cy="50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vember 6th, (continue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ed - MIS Gap Analysis, MIS Nodal WebServices, and MIS Messaging, Alerts, Notifications documents.  Agreed to revisit on November 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W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arket comments received for Market Monitoring and Data Collection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agreed to work with WEMM to ensure their needs were ass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will be provided at December 4 Mee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SA Review of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Template for Conceptual System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eview of CRR Conceptual System Design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November 6 and 7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766800"/>
            <a:ext cx="84582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n November 7th, TPTF discussed the following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IM Compliant Models for Annual CRR Mod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mmercial Operations Business Requir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viewed disposition of market comments on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IE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November 7th, TPTF approved AIEC Business Requirements as being in compliance with the applicable Nodal protocols. TPTF approved the motion by a ballot vote of 100% in favor, with seven abstentions (CenterPoint, NRG, Calpine, ANP, City of Allen, Exelon, and Reliant).  All Market Segments were pres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iable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November 7th, TPTF approved Verifiable Costs Business Requirements (without fuel cost adder) as being in compliance with the applicable Nodal protocols. TPTF approved the motion by a ballot vote of 100% in favor, with three abstentions (CenterPoint, NRG, and Calpine).  All Market Segments, except Consumers, were pres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ercial Systems Market Data Transparency (“Extracts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November 7th, TPTF approved Commercial Systems Market Data Transparency (“Extracts”) Business Requirements as being in compliance with the applicable Nodal protocols. TPTF approved the motion by a ballot vote of 100% in favor, with no abstentions.  All Market Segments, except Consumers, were pres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November 6 and 7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766800"/>
            <a:ext cx="8458200" cy="38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n November 7</a:t>
            </a:r>
            <a:r>
              <a:rPr b="0" lang="en-US" sz="17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continued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mmercial Operations Business Requir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viewed disposition of market comments on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38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ta Aggreg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85000"/>
              </a:lnSpc>
              <a:spcBef>
                <a:spcPts val="638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n November 7th, TPTF approved Data Aggregation Business Requirements as being in compliance with the applicable Nodal protocols. TPTF approved the motion by a ballot vote of 100% in favor, with one abstention (CenterPoint).  All Market Segments, except Independent Generators and Consumers, were presen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COP in DAM and RU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November 7th, TPTF approved a motion to Motion to not use COP in DAM Make-whole, and to obtain Start-type from MMS optimization for DAM and RUC.. TPTF approved the motion by a ballot vote of 83.3% in favor, with two abstentions (GEUS and Coral Power).  All Market Segments, except Consumers, were pres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November 6 and 7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826920"/>
            <a:ext cx="807732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vember 7th, (continue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ed - MIS Gap Analysis, MIS Nodal WebServices, and MIS Messaging, Alerts, Notifications docu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vember 7th, TPTF approved the 3 supporting documents for MIS Business requirements, including WebPortal Messages, System-to-System Messages and MIS Notification (fka- Messages, Alerts and Notifications), WebServices, and TML Gap Analysis. TPTF approved the motion by a ballot vote with 100% in favor and no abstentions. All Market Segments, except Cooperative,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Management System (MMS)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eview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 &amp; S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ED –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etitive Constraint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7:49:24Z</dcterms:created>
  <dc:creator>Trip Doggett</dc:creator>
  <dc:description/>
  <dc:language>en-US</dc:language>
  <cp:lastModifiedBy>tdoggett</cp:lastModifiedBy>
  <dcterms:modified xsi:type="dcterms:W3CDTF">2006-11-21T21:33:11Z</dcterms:modified>
  <cp:revision>236</cp:revision>
  <dc:subject/>
  <dc:title>TAC Update</dc:title>
</cp:coreProperties>
</file>