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F4A8-B29B-4B74-B1B5-2111066B5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D798-B485-4F7E-9F85-E479CC30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CDF7-5EFB-493C-96C9-18CB2F1DE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CDAD-ED66-4901-9E45-A8642316D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7110-4AE6-46EB-A778-CEC25C5B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573E-4638-40B2-A420-31022342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0AC0-4150-48FB-8BE1-3EF182BF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8817-031C-48CB-84C7-EC6E3AC6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88E0-F05A-48FF-A17C-3547C27C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CCA8-6A03-4F21-9BA0-383D649F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8AD3-1322-4B7D-B78F-0B317782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661F-823D-4906-B4FE-362AE65A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A600-9EB2-4AF0-8BD7-E4D6441A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85F2-88D1-4C2D-AA08-34C69C0A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DBA1-A5A0-472D-A1E2-815D67D3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C0D7-A81A-4C92-AEBF-666D7C2B4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273B-9CD7-490E-B22E-87A0F4406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F78B-0219-4730-BDDF-22A8E544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107E-BAB6-4265-AD2F-F6B7E1F2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D5E9-0448-4EE5-B31C-1978685E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8D46-7D2B-48B3-AC90-B369D4C5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8337-6C72-40E8-9C28-83684812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5974-9A73-459C-AE51-6C3B1FEB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DEFD-84A8-4064-B750-732AF7DD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AE9B-F2E4-4E21-9FB8-1C6182A324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E655-FF10-4B86-9B7D-CDF7495093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ahoma"/>
              </a:rPr>
              <a:t>Protocol Revision Subcommittee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Presentation to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ERCOT Technical Advisory Committ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December 1,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PRR 686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 – Black Start Testing Requirement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220968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9548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54864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40240" y="23623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45080" y="22860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73600" y="22384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04600" y="548640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40600" y="29192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42040" y="34527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920" y="397512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6960" y="45194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86960" y="505296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88000" y="22384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0400" y="28954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0400" y="55627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RR 693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– Update Tranactions for TX SET 3.0 Implementation &amp; Timing for Processing Priority/Standard Transactions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57200" y="1658880"/>
          <a:ext cx="8229600" cy="425772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9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CNP &amp; Green Mountain for TX SE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vises timing of priority move-ins, clarifies reqs for standard move-ins, renames certain transactions to conform with changes to mass transition, and conforming changes/clarifica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form to TX SET 3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pdate transaction functionality to reflect TX SET 3.0 chang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unanimously recommended approval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pon System Implemen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62120" y="220968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9548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862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8006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54864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40240" y="23623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45080" y="22860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73600" y="22384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04600" y="548640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40600" y="29192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42040" y="34527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1920" y="397512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86960" y="45194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86960" y="505296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88000" y="22384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00400" y="28954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0400" y="55627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RR 693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– Update Tranactions for TX SET 3.0 Implementation &amp; Timing for Processing Priority/Standard Transactions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PRR 698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– Remove Default QSE Provisions -- </a:t>
            </a:r>
            <a:r>
              <a:rPr b="1" i="1" lang="en-US" sz="3600" spc="-1" strike="noStrike">
                <a:solidFill>
                  <a:srgbClr val="ff3300"/>
                </a:solidFill>
                <a:latin typeface="Tahoma"/>
              </a:rPr>
              <a:t>URGENT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57200" y="1658880"/>
          <a:ext cx="8229600" cy="422928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lows Emergency/Virtual QSEs to provide for Resource entities and LSEs if their QSE defaul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voidance of cost of Default QSE contr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unanimously recommended approval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anuary 1, 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62120" y="220968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9548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8006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54864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40240" y="23623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545080" y="22860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73600" y="22384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04600" y="548640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40600" y="29192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42040" y="34527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81920" y="397512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86960" y="45194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86960" y="505296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88000" y="22384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00400" y="28954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55627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PRR 698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 – Remove Default QSE Provisions -- </a:t>
            </a:r>
            <a:r>
              <a:rPr b="1" i="1" lang="en-US" sz="4000" spc="-1" strike="noStrike">
                <a:solidFill>
                  <a:srgbClr val="ff3300"/>
                </a:solidFill>
                <a:latin typeface="Tahoma"/>
              </a:rPr>
              <a:t>URG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PRR 699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– Removal of the Northeast Congestion Zone in Trading Hub Transaction Conversions -- </a:t>
            </a:r>
            <a:r>
              <a:rPr b="1" i="1" lang="en-US" sz="3600" spc="-1" strike="noStrike">
                <a:solidFill>
                  <a:srgbClr val="ff3300"/>
                </a:solidFill>
                <a:latin typeface="Tahoma"/>
              </a:rPr>
              <a:t>URGENT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57200" y="1658880"/>
          <a:ext cx="8229600" cy="422928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vises protocols to reflect the removal of the Northeast congestion zone for purposes of Trading Hub calculations as of January 1, 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per Hub calcul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unanimously recommended approval; not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anuary 1, 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762120" y="220968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89548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862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006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62120" y="54864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40240" y="23623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545080" y="22860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973600" y="22384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04600" y="548640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40600" y="29192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42040" y="34527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81920" y="397512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6960" y="45194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86960" y="505296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88000" y="22384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00400" y="28954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00400" y="55627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PRR 699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– Removal of the Northeast Congestion Zone in Trading Hub Transaction Conversions -- </a:t>
            </a:r>
            <a:r>
              <a:rPr b="1" i="1" lang="en-US" sz="3600" spc="-1" strike="noStrike">
                <a:solidFill>
                  <a:srgbClr val="ff3300"/>
                </a:solidFill>
                <a:latin typeface="Tahoma"/>
              </a:rPr>
              <a:t>URGENT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PRR 700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– Creation of Interim Measures for Collecting the ERO/TRE Fee -- </a:t>
            </a:r>
            <a:r>
              <a:rPr b="1" i="1" lang="en-US" sz="3600" spc="-1" strike="noStrike">
                <a:solidFill>
                  <a:srgbClr val="ff3300"/>
                </a:solidFill>
                <a:latin typeface="Tahoma"/>
              </a:rPr>
              <a:t>URGENT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457200" y="1658880"/>
          <a:ext cx="8229600" cy="422928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vises the current ERCOT Administrative Fee to recover the FERC-mandated ERO costs and the ERCOT Region T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pliance with federal regulatory requireme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ee charged to QSEs with load obliga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recommended approval with 2 abstentions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anuary 1, 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62120" y="220968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89548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862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8006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54864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40240" y="23623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45080" y="22860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73600" y="22384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04600" y="548640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40600" y="29192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42040" y="34527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81920" y="397512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86960" y="45194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86960" y="505296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88000" y="22384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00400" y="28954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00400" y="55627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PRR 700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– Creation of Interim Measures for Collecting the ERO/TRE Fee -- </a:t>
            </a:r>
            <a:r>
              <a:rPr b="1" i="1" lang="en-US" sz="3600" spc="-1" strike="noStrike">
                <a:solidFill>
                  <a:srgbClr val="ff3300"/>
                </a:solidFill>
                <a:latin typeface="Tahoma"/>
              </a:rPr>
              <a:t>URGENT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2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Recommended TAC A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Approv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PRR 647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–  Gross &amp; Net MW/MVar Data Report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PRR 679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–  Revision to NLRI Formula &amp; Other Credit Require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PRR 686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– Black Start Testing Require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PRR 693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–  Update Transactions for TX SET 3.0 Implementation &amp; Timing for Processing Priority/Standard Transac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PRR 698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–  Remove Default QSE Provisions -- </a:t>
            </a:r>
            <a:r>
              <a:rPr b="1" i="1" lang="en-US" sz="2000" spc="-1" strike="noStrike">
                <a:solidFill>
                  <a:srgbClr val="ff3300"/>
                </a:solidFill>
                <a:latin typeface="Tahoma"/>
              </a:rPr>
              <a:t>URG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PRR 699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– Removal of the Northeast Congestion Zone in Trading Hub Transaction Conversions -- </a:t>
            </a:r>
            <a:r>
              <a:rPr b="1" i="1" lang="en-US" sz="2000" spc="-1" strike="noStrike">
                <a:solidFill>
                  <a:srgbClr val="ff3300"/>
                </a:solidFill>
                <a:latin typeface="Tahoma"/>
              </a:rPr>
              <a:t>URG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PRR 700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–  Creation of Interim Measures for Collecting the ERO/TRE Fee -- </a:t>
            </a:r>
            <a:r>
              <a:rPr b="1" i="1" lang="en-US" sz="2000" spc="-1" strike="noStrike">
                <a:solidFill>
                  <a:srgbClr val="ff3300"/>
                </a:solidFill>
                <a:latin typeface="Tahoma"/>
              </a:rPr>
              <a:t>URG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PRS 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2560" y="2330280"/>
            <a:ext cx="7927920" cy="37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 Rej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4 NPRRs for Approv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7 PRRs for Approv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6 Non-System Changes – IA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 System Change – IA/CB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3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URG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Rejected PR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2560" y="2330280"/>
            <a:ext cx="7927920" cy="37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RR 584 – Extending Black Start Service Bid Time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Nodal PR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S unanimously recommended approval of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NPRR019 – Black Start Testing Requir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NPRR031 – Correction of Voltage Support Bill Determin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NPRR032 – Correction of Black Start Bill Determin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NPRR033 – Settlement of CRRs When DAM Does Not Execu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47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Gross &amp; Net MW/MVar Data Reporting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57200" y="1828800"/>
          <a:ext cx="8229600" cy="434340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1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quires QSEs to supply both gross and net MW/MVar data for use in ERCOT operational mode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creased security due to significantly better modeling of the ERCOT syste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st to telemeter additional data to ERCO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recommended approval with 1 abstention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pon system upda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647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– Gross &amp; Net MW/MVar Data Reporting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20968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54864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40240" y="23623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45080" y="22860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73600" y="22384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04600" y="548640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40600" y="29192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42040" y="34527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81920" y="397512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86960" y="45194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86960" y="505296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88000" y="22384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14800" y="2895480"/>
            <a:ext cx="380880" cy="3812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5562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947480" y="290988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$50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PRR 679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– Revision to NLRI Formula &amp; Other Credit Requirement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57200" y="1981080"/>
          <a:ext cx="8229600" cy="428796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3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ERCOT for Credit WG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forms NLRI with nodal formula (more detailed basis), require/allow ERCOT to withhold payment from entities exceeding EAL, and require provision of ESI ID information for defaulting QSEs that are L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mproved credit qual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unanimously recommended approval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ebruary 1, 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PRR 679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– Revision to NLRI Formula &amp; Other Credit Requirement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220968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862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22096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54864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40240" y="23623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45080" y="22860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73600" y="22384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04600" y="548640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40600" y="29192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42040" y="34527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81920" y="397512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86960" y="45194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6960" y="505296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8000" y="22384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28954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0400" y="34290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396252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00400" y="44956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00400" y="5029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0400" y="5562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PRR 686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– Black Start Testing Requirement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" y="1371600"/>
          <a:ext cx="8229600" cy="417024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Austin Energy for the Black Start TF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ecifies requirements for testing black start resources and which tests are allowed to be conducted simultaneousl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ocuments ERCOT’s current practic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unanimously recommended approval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ebruary 1, 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4:00:20Z</dcterms:created>
  <dc:creator>Reliant</dc:creator>
  <dc:description/>
  <dc:language>en-US</dc:language>
  <cp:lastModifiedBy>balbracht</cp:lastModifiedBy>
  <dcterms:modified xsi:type="dcterms:W3CDTF">2006-12-01T22:00:50Z</dcterms:modified>
  <cp:revision>84</cp:revision>
  <dc:subject/>
  <dc:title>Protocol Revision Subcommittee</dc:title>
</cp:coreProperties>
</file>