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E5A-ED33-4BE1-9399-9C435B3A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D59-88CA-4C4B-B4CC-11575C6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83D-CCDB-47AA-8C79-7928D451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441-C879-4521-8FCF-AA3CF4B0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EF0-7A87-459B-87B4-08A57BE5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53A-18D5-4216-9F2F-3F8BFE84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BB20-9667-44A3-A8B0-D92F01B2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74FD-2010-4EDC-B05D-A3A3D674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52C1-6ACD-4107-9524-BACB641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A556-F671-4644-8A0A-9D758A2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059A-C59E-4CE0-8B36-D20A4FA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58D-EC00-4234-8FE7-9D3B1027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5382-2146-4052-B1A8-44308D1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C9F6-C032-49CC-93DB-D06E2D6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C5CB-952A-4DA0-B653-3FEBF3B7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CA3D-C368-4DC3-8086-A5A04852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B34D-1AC4-443B-8265-4E44B87D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8C4-2705-4C7E-9782-82EB9436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499-4E0A-4247-953E-CAA37EC5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529-84F2-4940-96AC-70017170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0C2-0153-4F88-B396-C49D4C7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EFD-FDAF-418C-BFA7-A8269235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0D3-D902-4524-99A1-C481793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BBF-B4AF-4B74-91F4-10CE975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0A0-D736-4824-8D9B-BF033283FC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726-9989-461C-8A5B-86BC083890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ember 1,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 reviewed transaction pair performance in the four categories specified in PRR67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vel 1 finding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-Ins--additional change from 2 hour to 1 hour would be included in PR60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ate ESI IDs—two SIRS in Feb2007 rel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throttling within current transaction processing p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separate processing pipe for 814_20/21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 2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ve-Outs--additional change to 2 hour processing would be included in PR60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-cycle switch and Off-cycle Drop to ARE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proposed timing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 to file PRR to move these transactions to Level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3 findi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ge ESI IDs—two SIRS in Feb2007 relea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ate throttling within current transaction processing pi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a separate processing pipe for 814_20/2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ical Usage—ERCOT already meets proposed 4 hour tur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ove this language in PRR672 from greybo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4 fin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-cycle switches, Drops, CSA transa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changes to protocol tim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analysis reques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S to review Impact Analysis and CBA for PR60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commendation to PRS for re-ranking project for 2007 PP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Arial"/>
              </a:rPr>
              <a:t>Retail Processing Service Availability Exception Request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unanimously approved ERCOT’s service availability exception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exception will cover 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outage window fr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:00 AM Friday 12/8/06 until 11:30 PM Sunday 12/10/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is outage wind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ESB servers will be off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67 transactions will not be forwar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7 functional acknowledgements will not be s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component of TML and API will not be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ear-To-Date 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1905120"/>
          <a:ext cx="6315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315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ctober 2006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981080"/>
          <a:ext cx="649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649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tail Transaction Processing Availability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1676520"/>
          <a:ext cx="640080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40080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Voting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imated Met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s Transition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torical Usag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4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DSP Invoice Dispu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onnect f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-Pa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6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endices for POL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7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fer from Outgoin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0  Estimated Meter Reading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lines how TDSPs will identify first and consecutive meter estimat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s end-use customer communications and options for resolving denial of access resulting in estimated meter re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endix I includes door hanger standard for notifying customer of denial of a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2  Mass Transition Proc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lines Mass Transition roles and responsibilities under TX SET 3.0 PR-40038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es how pending transactions for ESI IDs impacted in Mass Transition will be proc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s requirements for CRs to report Customer Billing Information under PUCT POLR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s for submitting customer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endices for file layouts for CRs, ERCOT, and POL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es file transfer method-NAES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GRR043  Historical Us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es that TDSPs will provide Historical Usage within three Business Days after the reciept of Letter of Authorization from C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4  TDSP Invoice Disput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ions to timelines for submitting and responding to CR initiated invoice disputes and TDSP disputes for rejected trans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es requirements for transmitting invoice transactions, providing billing determinants and remitting payment for TDSP invo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5  Disconnect for Non-P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oves references to TDSP specific process for handling disconnect and/or reconnect transactions and updates with standardized process where applic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action timing required for scheduling TDSP field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dling Disconnect requests for premium locations, including Friday processing exceptio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for completing Disconnect requests, including Friday processing exce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for completing Reconnect requ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6  Appendices for POLR Ru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Appendices to include POLR customer class information under PUCT Sub. Rule 25.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Appendix F5 Sample Customer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6 is on urgent time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anuary 1, 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7  Transfer from Outgoing POL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s notification timing and process for current POLRs to transfer ESI IDs at the end of term per PUCT Sub. Rule 25.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sections that are no longer applicable under new POLR r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7 is on urgent time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anuary 1, 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11-21T17:41:38Z</dcterms:modified>
  <cp:revision>84</cp:revision>
  <dc:subject/>
  <dc:title>RMS Update to TAC</dc:title>
</cp:coreProperties>
</file>