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673-A4DF-4BAD-BD28-DC6FC35A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9C0-B767-43A4-A833-A890BA2E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C29-A233-4247-957A-AA36F35A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A5D-7789-45B0-B34C-73FD5CE0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86F-3106-4ABB-B8AD-5BA20C07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D834-FC1C-4481-A37F-1B2B04F8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0B6-9CA8-4C38-9E4D-BEA5D8BE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2B9-71DC-409A-BA11-81DC8406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BF6-89A5-4725-B3EB-E4EB53B8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43BC-F7AE-441A-BECD-A211E564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B328-A178-4F5B-80C7-EB9CFF26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5ADB-91AF-4E33-BD92-3165FE36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6890-9B23-4C3A-9E3E-BD191BD9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399E-A1D1-482B-904A-B9CFB9B6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A69B-AF44-4E38-9D95-EC4E6401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94EA-FDFE-4103-8BA0-62527CD3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3449-D851-42B0-892B-6C841861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BA4C-AAE6-4DFD-BADC-E695BD0D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BD01-58C4-43B5-9221-B10138B0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BCA2-0ECE-47C7-9544-44AD756B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D6E5-939E-4A9C-A0D0-94520F0E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B57-1FF9-439A-9470-F8625923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68E-E772-45E4-8891-25E17170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A3F-AF20-419B-96D8-15275556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89800" y="611496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1307880"/>
            <a:ext cx="774396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B4BD-487E-41F9-84DB-EAE78B88B25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4633200"/>
            <a:ext cx="77770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389640" y="5979960"/>
            <a:ext cx="2384640" cy="7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316560" y="5846760"/>
            <a:ext cx="2679840" cy="84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588D-7512-4470-B259-FDBCB26886F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FETF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006 accomplish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vember 16, 2006 COPS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TF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2007 Recommend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FETF recommends that COPS leadership assign 2007 UFE issues to standing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FETF can be ramped up on “as needed”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TF Upd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to everybody for all the hard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hort Term Go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tain a better understanding of the drivers of U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urrent line loss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DLF: PRR668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Modify the Settlement Interval Distribution Loss Factor (SILF) to better represent the non-linear relationship between the loss factor and Settlement Interval ERCOT System Load (SI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TLF: NPRR to address monthly base case studies instead of seasonal base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Vote on this later in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hort Term Go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tain a better understanding of the drivers of UFE (continue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naccuracies in Profile shapes and assig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Being addressed by P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evaluate other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Distributed Generation: initial vs.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Not worth pursu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hort Term Go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valuate the methodology for determining profile scaling factors in the data aggregation proces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This should be addressed by P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Have PWG investigate improvements in the NIDR estimatio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TDSPs have been doing this for a long time, so they should have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Use last month or same month from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ong Term Go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termine if any Protocols changes are recommended and file PRR if need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PRR695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Nov 16 PRS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Eliminates outdated sections pertaining to UFE analysis and provides a more meaningful approach to annual UFE analysis repor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Updates UFE analysis timelines and languag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ong Term Go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valuate the potential for establishing UFE Analysis Zones by determining if suitable TDSP boundary metering data can be made available to ERCOT; if such data is available compare it to the ERCOT aggregated TDSP load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AEP presented data on their boundary metering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Significant challenges to data collection, data qualit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Not currently feasible to do this based on avail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If market decides project is needed, then 11.6 allows project to be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ong Term Go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8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alyze historical trends in the volatility and magnitude of UFE and explore the possibility of developing methods to forecast th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Annual UFE analysis report will cover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PRR 6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Forecasting UFE will continue to be a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TF Voting I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PRR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Section 13, Transmission and Distribution Los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vision Description: </a:t>
            </a: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Changes in transmission loss base ca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ason for Revision: </a:t>
            </a: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To update the language to reflect changes for transmission loss base case calcula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ason for Revision (from TPTF Charter Scope)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Language updated to reflect changes in the frequency of transmission base cases.  In the Nodal market, base cases will be calculated on a monthly basis with forecasted results created for the subsequent 18 month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TF Voting I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Mo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66"/>
                </a:solidFill>
                <a:latin typeface="Arial"/>
              </a:rPr>
              <a:t>COPS recommends to TPTF and the TAC approval of NPRRXX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01:52Z</dcterms:created>
  <dc:creator>cmoore</dc:creator>
  <dc:description/>
  <dc:language>en-US</dc:language>
  <cp:lastModifiedBy>cmoore</cp:lastModifiedBy>
  <dcterms:modified xsi:type="dcterms:W3CDTF">2006-10-31T17:43:54Z</dcterms:modified>
  <cp:revision>45</cp:revision>
  <dc:subject/>
  <dc:title>UFETF 2006 Go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7122232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UFETF docs for No 16 COPS</vt:lpwstr>
  </property>
  <property fmtid="{D5CDD505-2E9C-101B-9397-08002B2CF9AE}" pid="6" name="_NewReviewCycle">
    <vt:lpwstr/>
  </property>
</Properties>
</file>