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C5F-5572-4F76-80DD-710ED850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BB2-2C0E-4307-B457-09CBD7A6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B14-79B1-4484-B11D-A056E5A6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3F9-6802-4685-BC06-824B32D7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BCD-AFAD-4A70-ADEF-32351054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38D1-FCB8-4E52-A54B-9699083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8BB2-420A-494A-9FC1-EE39CE7E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B67C-CE7F-492E-94E5-1961EA51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117-D214-4C1C-B6C5-577BFD53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EBE-BEA2-4DBF-B367-B3C6073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80D6-D895-4958-8A0C-9F0BBBD7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5F8-0AEE-4888-9B0D-CF6DF173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953-139A-4C60-BB92-A29D23E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F6BA-69EC-488E-8559-85C6A93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1A14-F1DF-4DED-98A3-667CB3B4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C8A-A5B5-41EA-8A21-576DFFE5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BD8C-A122-490C-B733-FC64BF4F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A6A-EEED-4B03-B78E-60B8814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F3B-E127-40CF-A15E-B429C1A5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D56-7714-42B6-8B9C-CEABB21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AF4-17D5-4B4D-B3C1-F7D37E74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70A-2115-4AD8-81A4-224F6F7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066-D998-4DE4-B4F0-F63BE6B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3F3-0894-4157-8664-FB2875D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E4C-8894-4E1A-9F88-13FC09513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A3E-B339-468F-B608-7966282C5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RqoTklhFrCAAvTSJzbkF;_ylu=X3oDMTBjcDR2NTN2BHBvcwM2BHNlYwNzcg--/SIG=1ft08kp3c/EXP=1163518867/**http%3A//images.search.yahoo.com/search/images/view%3Fback=http%253A%252F%252Fimages.search.yahoo.com%252Fsearch%252Fimages%253Fp%253Dturkey%2526ei%253DUTF-8%2526fr%253Dyfp-t-501%2526b%253D1%26w=354%26h=390%26imgurl=www.annthegran.com%252FATG_Designs%252Fthanksgiving%252Fturkey-l.jpg%26rurl=http%253A%252F%252Fwww.annthegran.com%252FATG_Designs%252Fthanksgiving%252Fturkey.htm%26size=141.3kB%26name=turkey-l.jpg%26p=turkey%26type=jpeg%26no=6%26tt=2,102,066%26oid=71b23e43536ac8b6%26ei=UTF-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6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of Ga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Nodal D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20968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06216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97180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048120"/>
            <a:ext cx="3200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886200"/>
            <a:ext cx="990720" cy="366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85776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TM and D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20968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Operating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062160"/>
            <a:ext cx="5486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6 – 12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886200"/>
            <a:ext cx="55627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 (10) Days To Post Settlement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4738680"/>
            <a:ext cx="11430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 11&amp;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6990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4738680"/>
            <a:ext cx="1067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576760"/>
            <a:ext cx="4343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55339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525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25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91916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81952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274320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19520"/>
            <a:ext cx="3200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581280"/>
            <a:ext cx="990720" cy="366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358128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200400"/>
            <a:ext cx="106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324468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0988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200400"/>
            <a:ext cx="2210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052880"/>
            <a:ext cx="21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9337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298620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97180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28954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3809880"/>
            <a:ext cx="3352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7339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283356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81952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74320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3672000"/>
            <a:ext cx="4419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65760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13848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200400"/>
            <a:ext cx="106704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4006800"/>
            <a:ext cx="106668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93696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038480"/>
            <a:ext cx="4496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385776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98620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70188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65760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672000"/>
            <a:ext cx="3200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4586400"/>
            <a:ext cx="990720" cy="36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6724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91916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819520"/>
            <a:ext cx="106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CRR Au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CRR Invoice Du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 9.9.1 (1)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yment due date and time for the CRR Auction Award Invoice, with funds owed by an Invoice Recipient, is 1700 on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nk Business Day after the CRR Auction Award Invoice date, unless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y is not both a Business Day and a Bank Business Day.  I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nk Business Day after the CRR Auction Award Invoice date is not both a Business Day and a Bank Business Day, then the CRR Auction Award Invoice is due on the next Business Day after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y that is both a Business Day and a Bank Busines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CRR Au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CRR Auction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 Submission – 3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–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and Invoice Posting – 1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Deadline – 3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To Accounts – 1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ust post before the last day of the month – DAM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 of next month happens on last day of 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Required For A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CRR Au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324480" y="388620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3900600"/>
            <a:ext cx="32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 Submission 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464832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724280"/>
            <a:ext cx="21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ank Bus.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724280"/>
            <a:ext cx="327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5576760"/>
            <a:ext cx="99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562720"/>
            <a:ext cx="990720" cy="36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55339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I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1337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To Nodal RTM Invoice Du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Remains All MPs, 7 ODs, 22 to 28 Calendar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8954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 Invoice Due Dates Increase On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Goes From 9 - 11 Days To 10 - 1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Only Opting MPs, 1 OD, 1 More Calenda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Still Considerably Less Than RTM 22 to 2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343400"/>
            <a:ext cx="8077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R Invoice Due Dates Increase Tw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Goes From 3 to 5 Day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odify to finish before month’s en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Only Opting MPs, Monthly, 2 More Calendar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s will only be allocated when payment is recei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Still Considerably Less Than RTM 22 to 2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D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Nodal Protocol 9.4.1 (1) as follows: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yment due date and time for the DAM Invoice, with funds owed by an Invoice Recipient, is 1700 on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after the DAM Invoice date, unless tha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is not a Bank Business Day.  I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is not a Bank Business Day, then the payment is due by 1700 on the next Business Day after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that is also a Bank Busines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D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209680"/>
            <a:ext cx="1067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306216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297180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3048120"/>
            <a:ext cx="3200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to Five (5) Bank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3886200"/>
            <a:ext cx="2057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85776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CR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: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Nodal Protocol 9.9.1 (1) as follows: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yment due date and time for the CRR Auction Award Invoice, with funds owed by an Invoice Recipient, is 1700 on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nk Business Day after the CRR Auction Award Invoice date, unless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y is not both a Business Day and a Bank Business Day.  I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nk Business Day after the CRR Auction Award Invoice date is not both a Business Day and a Bank Business Day, then the CRR Auction Award Invoice is due on the next Business Day after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3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y that is both a Business Day and a Bank Busines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CR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304812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3062160"/>
            <a:ext cx="32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 Submission 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98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738680"/>
            <a:ext cx="3276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469584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886200"/>
            <a:ext cx="327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4724280"/>
            <a:ext cx="99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3886200"/>
            <a:ext cx="21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To Five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Zonal Invoice Du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Invoice Du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M Invoice Due Dates with 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 Invoice Due Dates with 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R Invoice Due Dates with 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CR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: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Nodal Protocol 7.5.1 (4) (b) as follows: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RCOT shall conduct a monthly CRR Auction commencing on 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eco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uesda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llowing the first Saturda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of the month immediately before the one-month term during which the CRRs being auctioned are effective.  I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he seco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esday is not a Business Day, then that monthly auction must occur on the next Business Day aft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he seco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esd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CRR Au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324480" y="388620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3900600"/>
            <a:ext cx="32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 Submission 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64832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4724280"/>
            <a:ext cx="21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ank Bus.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724280"/>
            <a:ext cx="327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5576760"/>
            <a:ext cx="99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5562720"/>
            <a:ext cx="990720" cy="36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5339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CRR Fe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304812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3062160"/>
            <a:ext cx="32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 Submission 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38098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4738680"/>
            <a:ext cx="3276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469584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86200"/>
            <a:ext cx="327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724280"/>
            <a:ext cx="99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3886200"/>
            <a:ext cx="2210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To Five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Revise CRR No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52578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04812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62160"/>
            <a:ext cx="32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 Submission 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8098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4738680"/>
            <a:ext cx="3276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14800" y="469584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886200"/>
            <a:ext cx="327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724280"/>
            <a:ext cx="990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3886200"/>
            <a:ext cx="2210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To Five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2560" y="4495680"/>
            <a:ext cx="733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mmary of Recommenda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ise DAM Invoice Due Date From 4 to 5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ise CRR Auction Invoice Due Date From 3 to 5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ise CRR Auction Process Start Date From Second Tuesday of the Month to the Tuesday Following the First Saturday of the Mon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/ Com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reas of Nodal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/ Discuss Reasons For Differences 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Changes to the Invoice Due Dates to Assist Smaller Market Participants (MPs) with up to an 800% Increase in Nodal Invoice Process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Changes to the Nodal CRR Auction Process So It Will Work in All February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Current Zon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Zonal Invoice Du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Zonal Protocol 9.3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yment date will be five (5) Bank Business Days after the Settlement Invoice date.  If the payment date does not fall on a Business Day, the Invoice will become due on the next Busines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Current Zon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220968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Operating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62160"/>
            <a:ext cx="5486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6 – 12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3886200"/>
            <a:ext cx="55627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 (10) Days To Post Settlement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738680"/>
            <a:ext cx="11430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 11&amp;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6990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4738680"/>
            <a:ext cx="1067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576760"/>
            <a:ext cx="4343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55339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525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525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Nodal RT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RTM Invoice Du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 9.7.1 (1)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yment due date and time for the RTM Invoice, with funds owed by an Invoice Recipient, is 1700 on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5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nk Business Day after the RTM Invoice date, unless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5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y is not both a Business Day and a Bank Business Day.  I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5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nk Business Day after the RTM Invoice date is not both a Business Day and a Bank Business Day, then the RTM Invoice is due on the next Business Day after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5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y that is both a Business Day and a Bank Business Da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Nodal RT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209680"/>
            <a:ext cx="21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Operating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062160"/>
            <a:ext cx="5486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6 – 12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886200"/>
            <a:ext cx="55627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 (10) Days To Post Settlement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738680"/>
            <a:ext cx="11430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 11&amp;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46990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4738680"/>
            <a:ext cx="1067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576760"/>
            <a:ext cx="4343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5339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525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525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Nodal D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DAM Invoice Du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 9.4.1 (1)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yment due date and time for the DAM Invoice, with funds owed by an Invoice Recipient, is 1700 on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after the DAM Invoice date, unless tha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is not a Bank Business Day.  I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is not a Bank Business Day, then the payment is due by 1700 on the next Business Day after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siness Day that is also a Bank Business Da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ice Due Dates (Nodal D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00200"/>
          <a:ext cx="7925040" cy="4503600"/>
        </p:xfrm>
        <a:graphic>
          <a:graphicData uri="http://schemas.openxmlformats.org/drawingml/2006/table">
            <a:tbl>
              <a:tblPr/>
              <a:tblGrid>
                <a:gridCol w="1155960"/>
                <a:gridCol w="1108080"/>
                <a:gridCol w="1130040"/>
                <a:gridCol w="1136880"/>
                <a:gridCol w="1130040"/>
                <a:gridCol w="1132200"/>
                <a:gridCol w="11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cbf5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a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5410080" y="213372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224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209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09680"/>
            <a:ext cx="99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254320"/>
            <a:ext cx="2133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184480"/>
            <a:ext cx="990720" cy="434520"/>
          </a:xfrm>
          <a:prstGeom prst="rect">
            <a:avLst/>
          </a:prstGeom>
          <a:noFill/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ice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209680"/>
            <a:ext cx="21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(4)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048120"/>
            <a:ext cx="21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.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19320"/>
            <a:ext cx="914400" cy="4345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4:41:05Z</dcterms:created>
  <dc:creator>JBrown</dc:creator>
  <dc:description/>
  <dc:language>en-US</dc:language>
  <cp:lastModifiedBy>BP - Judy Briscoe</cp:lastModifiedBy>
  <dcterms:modified xsi:type="dcterms:W3CDTF">2006-11-15T18:58:30Z</dcterms:modified>
  <cp:revision>57</cp:revision>
  <dc:subject/>
  <dc:title>Nodal Statement / Invoice Due Dates</dc:title>
</cp:coreProperties>
</file>