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ED1-E8ED-4E69-8437-8AE11E92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754-CC62-4FE6-B153-9511BADB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983-EB91-4E97-A87C-00E1B295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51B-9BB4-45BD-8FD3-E1F9B585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5180-DB9C-4C79-A523-58DC15A3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DD31-5941-456A-A653-68C5D371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E60-26CF-4F24-856E-E8A8ADF9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6C3A-899C-430A-AD55-A196BBB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DAF2-2EEF-42C6-B4C0-1631D35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F32F-63F6-4590-BB0F-9D0258CE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180-0072-4BA4-8858-5DB7050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49F-CDF1-4F21-860A-AF48AAFD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9409-B8BC-4396-92E8-6B274B2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914-2C99-4665-9D69-AE582039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7FBC-2F73-4E31-B9A8-ED82E82E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154D-2DD3-47C3-AC45-B203105A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13F6-EFF9-48F6-9B67-526414EC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BDE-C5FE-4EEA-8681-928FF76A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D67-2169-4DF2-A004-0E3FFE8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5FF-3CE1-4769-A601-7DE0798B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F65-01D0-4791-95E8-9A7F25C3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823-E880-49CA-8CF4-08D69BD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764-0970-43FC-8751-DE1E1B71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143-AEB2-4D75-9514-7CC5B27A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1A48-EEC3-4BDB-88A1-41889B95E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4243-4374-4CCD-8843-DF5238549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PS Communication Upda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Joint TDTWG and CCWG Meet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10:00 – 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 to be Sent by Decemb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55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DTWG Items (Mor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55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Notifications Specific to ERCOT Outages and System Failures (Afterno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55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planned Outage per Communication Operations Market Guide &amp; SCR 748 (Afterno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444-FF66-4A17-9DD1-52771DC23F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PTF / COPS Nodal Re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TPTF October 25</a:t>
            </a:r>
            <a:r>
              <a:rPr b="1" lang="en-US" sz="36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d the Following Functional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ystems Statement Requirements and Commercial Systems Invoi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was made to add the configurable fields for the Commercial Systems on to ERCOT’s list of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Monitoring 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Transf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4A1-9959-4F93-91E4-173F7E26C2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PTF / COPS Nodal Re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TPTF October 25</a:t>
            </a:r>
            <a:r>
              <a:rPr b="1" lang="en-US" sz="36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TF Agreed COPS Should Own Commercial Operations Miscellaneous Business Requirements and Should Generate NPRRs as needed.  No TPTF approval of this document will be required by TPT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532-71E4-4FAD-BC54-49207CB376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PTF / COPS Nodal Re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TPTF November 7</a:t>
            </a:r>
            <a:r>
              <a:rPr b="1" lang="en-US" sz="36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d the Following Commercial Systems Functional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Data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EC (Average Incremental Energy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53F-4E0E-4403-9F80-7605F417C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PTF / COPS Nodal Re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TPTF/COPS Punch List of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ice Due Dates for CRR, DAM, and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R Balancing Account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cellaneous Debit/Credi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tlement Statements Due to Significant Errors in Data With An Impact Greater Than 2% of the Total Payments Due to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3E5-2AA7-430E-B6EE-D0440F5F1A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PTF / COPS Nodal Re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OPS Nodal Review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December 5,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9:30 – 2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RCOT Conf# 1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Dial-In: (512)225-72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Dial-in Code: 07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5B1-0714-4769-87E2-A8EF1E056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1:05:49Z</dcterms:created>
  <dc:creator>Judy Briscoe</dc:creator>
  <dc:description/>
  <dc:language>en-US</dc:language>
  <cp:lastModifiedBy>BP - Judy Briscoe</cp:lastModifiedBy>
  <dcterms:modified xsi:type="dcterms:W3CDTF">2006-11-15T19:15:53Z</dcterms:modified>
  <cp:revision>20</cp:revision>
  <dc:subject/>
  <dc:title>CCWG Update – March 2nd Meeting</dc:title>
</cp:coreProperties>
</file>