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1B45-4154-420D-A2C2-29C29BB869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BE19-A5CF-4F73-B16E-53924FBF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905F-31CC-40A9-BC18-4DDCA719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3108-4D11-4FD0-8163-1B21507B3D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4882-DE1C-430A-8E68-8A27D848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5DDB-F261-4BEA-9C47-76A03B0C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FE2B-AC1E-430C-A189-97F20CC9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F2F0-B4FC-4E3C-B63B-5B042ECF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3B99-E390-4C21-A40F-E452990E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1CAC-01A7-4649-B578-B548CC17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0E13-1975-41DB-9B38-770B9848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EA22-CD99-4DF5-A0E9-35720AC2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ACE6-B2FF-4981-B551-E8EAA0AB0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vember 16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E029-44AF-41FC-9658-DD6852EBBF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58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1DFB-157A-4B06-8E2C-DDDF30A1BD3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828800"/>
            <a:ext cx="8534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ing Profile Evaluation and New Profile Recommend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tlement trade day transition to new profiles reviewed on August 29 and developed Option 3 Mod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entative timeline has been revised, see later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roject slipped to refresh due to sample mapping to pro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Voting Package presented at Nov. 16, 2006 COPS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5DEE-59CF-4F12-BE9E-F547A033775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828800"/>
            <a:ext cx="85341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curacy criteria discuss for sample design per timeline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lipped by another month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.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umber of additional meters pending accuracy and allocation cri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1131-4602-456F-9BC1-E4C9E9AA4CC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47920"/>
            <a:ext cx="83059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date 11/14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07696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CC8D-9784-4211-A6B6-8CCDB60C6E9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53416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COT Recommendation in favor of a flat profile was approved by PWG consensus at the June 28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hanged to ERCOT Sponsored and supported by PWG see next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imbursement has been waived by Reque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PS approves concept at September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AC approves concept at October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WG working on LPGRR on Oct. 25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PGRR017 posted for comments on Oct. 26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D091-664A-4E24-B41C-C701EA65CCD2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828800"/>
            <a:ext cx="85341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Stabilizing Annual Validation Migration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nual Validation 2006 per weekly up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hall update the default assignments by weather zone at a later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CB67-0603-40C6-862E-B6A82D59EF6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 up to this poi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00120" y="2324160"/>
            <a:ext cx="6145200" cy="39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664F-67D9-415A-9119-1EC39F6E4B3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Windows XP ver. 2.2</cp:lastModifiedBy>
  <dcterms:modified xsi:type="dcterms:W3CDTF">2006-11-07T16:46:01Z</dcterms:modified>
  <cp:revision>202</cp:revision>
  <dc:subject/>
  <dc:title>PowerPoint Presentation</dc:title>
</cp:coreProperties>
</file>