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-56880"/>
            <a:ext cx="899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-56880"/>
            <a:ext cx="899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1920" y="-56880"/>
            <a:ext cx="899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-56880"/>
            <a:ext cx="899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-56880"/>
            <a:ext cx="899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-56880"/>
            <a:ext cx="899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-56880"/>
            <a:ext cx="899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-56880"/>
            <a:ext cx="899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-56880"/>
            <a:ext cx="899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-56880"/>
            <a:ext cx="899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600" y="6432480"/>
            <a:ext cx="4407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5 - 2006 Electric Reliability Council of Texas, Inc.  All rights reserve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74FD9A3D-E7D0-4377-BBF5-B3182EF8F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954200" y="6411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rot="18900000">
            <a:off x="990720" y="3169800"/>
            <a:ext cx="70866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pute Management Requir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 Kettle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16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re-written for clarity and accur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d comments from first appearance at TPT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ly stated requirements only implied in last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rotocol revision to clarify Status and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of multiple Operating Day disp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limit for Invoices not stated in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 amount/Amount awa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on Settlement Dispute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52280"/>
            <a:ext cx="8991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15:03:19Z</dcterms:created>
  <dc:creator>ccrews</dc:creator>
  <dc:description/>
  <dc:language>en-US</dc:language>
  <cp:lastModifiedBy>Mingo</cp:lastModifiedBy>
  <dcterms:modified xsi:type="dcterms:W3CDTF">2006-11-16T20:44:35Z</dcterms:modified>
  <cp:revision>32</cp:revision>
  <dc:subject/>
  <dc:title>Model Data Verification</dc:title>
</cp:coreProperties>
</file>