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37582D4-9367-4DCF-A0BD-B4C0E560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dal.ercot.com/" TargetMode="External"/><Relationship Id="rId2" Type="http://schemas.openxmlformats.org/officeDocument/2006/relationships/hyperlink" Target="mailto:rchudgar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COPS</a:t>
            </a:r>
            <a:br>
              <a:rPr sz="3200"/>
            </a:b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Commercial Systems Update</a:t>
            </a:r>
            <a:br>
              <a:rPr sz="20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By Raj Chudgar, ERCOT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Wednesday, 11/16/2006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Upda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83808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Upd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approved by TPTF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oved to COPs officially from TPTF (no return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c. Debit/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put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at COPs today, and tentative vote at 11/30 TPTF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rt-Up Eligib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at TPTF on 1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to NOT use COP (current operating plan) in 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has direction to move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 to vote on 11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ist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-write in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ions with multiple MPs on the need to “automate” resource parameters. Current direction is not to autom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submit to TPTF by 11/30 for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updates (cont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 System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CSD documents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4 to start this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lanned to be submitted to TPTF by end of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positive scenario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0 use cases (including negative scenarios)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s encouraged to create use cases and submit to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System RUP Elaboration Phase Kickoff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d 11/15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5 new full time business staff, many part time business staff, and 4 testers to COM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team fully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 with ROME for professional Services (CMM) nearly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Commercial Systems Road Sho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54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: Over 16 MPs responded within 1 we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s to Includ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s 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s on impact of COMS system on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information on individual charg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s to Exclud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, the Nodal training group will be included in these discussions and will take back information to enhance training for C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set of questions and topics that MPs requested additional information. Gathered through COPs conference calls and individual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 ERCOT training person to the conferenc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information in a series of WEBex presentations in 1Q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Contact Inform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rcial Systems Nodal Web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j Chudg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chudgar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jmoseley</dc:creator>
  <dc:description/>
  <dc:language>en-US</dc:language>
  <cp:lastModifiedBy>rchudgar</cp:lastModifiedBy>
  <dcterms:modified xsi:type="dcterms:W3CDTF">2006-11-13T15:06:23Z</dcterms:modified>
  <cp:revision>9</cp:revision>
  <dc:subject/>
  <dc:title>Texas Nodal NMMS Vision and Design CenterPoint Meeting  By John Moseley, ERCOT Thursday, 09/21/2006</dc:title>
</cp:coreProperties>
</file>