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37AC-0E33-438F-9D79-B0F5D72C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D8E-9E3A-4A58-A01E-9BD8190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1082-068F-4588-834E-487DFA90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5727-3A59-4790-858D-86E533DA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B575-74E9-4AFD-A0F7-07E299F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1305-3CB3-4BBB-989F-B220594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7E3D-CFD2-4F31-A0D1-86F4E425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4E8B-6D7F-4DD9-A7C1-AF4FCA2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9B17-8801-4618-B550-01A731C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36E6-1880-49D8-9E65-D8B3D34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A7C6-EFD4-4CD5-96D8-D5B890C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D3CF-2B3D-409A-B8B0-A9BF70D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ECCD-2D99-4C6A-958C-AB33FCD7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cing Deployments and MC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randon Whitt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ad, Real-Time Market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5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lancing Deploy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685800"/>
          <a:ext cx="777240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777240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urce and Load Imbala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914400"/>
          <a:ext cx="8839440" cy="514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8394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04920" y="685800"/>
          <a:ext cx="929664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685800"/>
                    <a:ext cx="929664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315200" y="4267080"/>
            <a:ext cx="167652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685800"/>
          <a:ext cx="8915400" cy="55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238880" y="4114800"/>
            <a:ext cx="175284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 November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randon T. Whittle</cp:lastModifiedBy>
  <dcterms:modified xsi:type="dcterms:W3CDTF">2006-11-14T21:18:31Z</dcterms:modified>
  <cp:revision>23</cp:revision>
  <dc:subject/>
  <dc:title>Instructions</dc:title>
</cp:coreProperties>
</file>