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E799-79F8-41A8-878A-3E7DB41F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84F-6A8A-4A91-8563-D1DC0389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E12-47ED-48C8-9303-7D20CB2F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031-1D08-4260-9B8D-137BCF7B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9E1-4EAC-458E-9922-9A61DA03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687-E762-4D00-8FE4-23B6A61B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80E-B5B8-43F1-9AA6-A5CF428B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834-669C-48C9-9FBD-D4E2057E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BC5-EB2C-46CB-83E6-48CE912F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439-BA71-40D8-8F87-C66E6BEC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F2DD-2BDC-491D-910C-E1E1395B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DCFB-8032-4076-B638-7FB4A589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498A-F7C6-4E72-8992-D58703D93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pplication o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igh Sustainable Lim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ith PRR 666/6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ember 15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o Gonzal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COT Sett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nder Scheduled Capacity Cha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RP =   Min{2 * USQRP * (PCOOMRP + LPCRP + PCRP)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CapOOMRP,   [(PCOOMRP + LPCRP + PCRP) * USQRP] 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[Σ(USQRP)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RP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Scheduled Charge by hour for the Q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QRP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Scheduled Quantity per QSE per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OOMRP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/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of all OOMC payments across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CRP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/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of all Local RPRS payments across ERC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P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/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of all Zonal/Capacity Insufficiency RP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s across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OOMRP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of all Capacity (HSL) procured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C or RPRS for the hourly interv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43000" y="1371600"/>
            <a:ext cx="746748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AP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Arial"/>
              </a:rPr>
              <a:t>OOMRPi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efin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 of all Capacity (HSL) (MW) procured for  OOMC or RPRS for the hourly interv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HSL is a 96 interval data cut but its values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represent hourly MW quantities (EMMS R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This allows the QSE representing the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resource to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update the HSL every 15 minu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For the calculation of USRP, ERCOT </a:t>
            </a:r>
            <a:r>
              <a:rPr b="1" lang="en-US" sz="2000" spc="-1" strike="noStrike" u="sng">
                <a:solidFill>
                  <a:srgbClr val="cc6600"/>
                </a:solidFill>
                <a:uFillTx/>
                <a:latin typeface="Arial"/>
              </a:rPr>
              <a:t>will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 use an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average HSL for the hourly interval value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look at an example =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lculation of CapOOM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ample Calculation of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apOOMR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251460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1447920"/>
            <a:ext cx="3276720" cy="6094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4267080"/>
            <a:ext cx="6400800" cy="1823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 Three HSL: 514 + 0 + 0 + 0 = 5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4 divided by 4 = 12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y for CapOOMRP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2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600200"/>
            <a:ext cx="8076960" cy="4410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ing Avera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SL is consistent wit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MC Capacity Value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on of OOMC and Local RP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at the Load Sustainable Lim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S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20:04:17Z</dcterms:created>
  <dc:creator>pgipson</dc:creator>
  <dc:description/>
  <dc:language>en-US</dc:language>
  <cp:lastModifiedBy>igonzalez</cp:lastModifiedBy>
  <dcterms:modified xsi:type="dcterms:W3CDTF">2006-11-13T18:34:35Z</dcterms:modified>
  <cp:revision>14</cp:revision>
  <dc:subject/>
  <dc:title>Calculation of CAPOOMRPi</dc:title>
</cp:coreProperties>
</file>