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A02A-B6A1-4B8A-AEAD-71EDE1755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4720-BFA0-4062-8557-5525C3C76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0F6C-54A8-4C4D-8E0E-5D079EC99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EC43-5E21-440F-A840-39C0E62FF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55BC-C035-4E95-A8F7-9C8DDCA5E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4ECD-CA4D-4759-8984-864B2A97B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F848-8BD4-4D61-8938-B0B5FCF21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59BE-C4A5-47C8-B646-915F45485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3F41-5083-46CF-9760-5A72C1292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C2A0-3868-4679-9504-71A23EB71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8460-E8A9-4FF7-841E-D1A8C0907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3694-691F-4BE5-8520-DAD7357EA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39ED8BAF-102A-4E37-850A-29593B85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1412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1412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2552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56664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7128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0520" y="2704680"/>
            <a:ext cx="8291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MS Up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Side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58520" y="5601240"/>
            <a:ext cx="17629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        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Mary Anne Brelin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Eagle Energy Partn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Picture (Metafile)"/>
          <p:cNvPicPr/>
          <p:nvPr/>
        </p:nvPicPr>
        <p:blipFill>
          <a:blip r:embed="rId1"/>
          <a:stretch/>
        </p:blipFill>
        <p:spPr>
          <a:xfrm>
            <a:off x="7072200" y="5373720"/>
            <a:ext cx="167652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0520" y="1084320"/>
            <a:ext cx="8305920" cy="5172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gregate LaaR Response Using IDR Dat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3C77-0624-49C8-9BC8-C5472AFA61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RCOT Requesting Update to LaaR Qualific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0520" y="1074600"/>
            <a:ext cx="8229600" cy="548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Qualification Enhanc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1480">
              <a:buClr>
                <a:srgbClr val="cc33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interruption required during first 9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1480">
              <a:buClr>
                <a:srgbClr val="cc33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otification prior to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Recertification of LaaR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1480">
              <a:buClr>
                <a:srgbClr val="cc33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interruption once a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1480">
              <a:buClr>
                <a:srgbClr val="cc33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to Operator VDI that complies with Protocols in lieu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Command and Control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1480">
              <a:buClr>
                <a:srgbClr val="cc33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line call to QSEs with response verification back from party that actually trips the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Disqualification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1480">
              <a:buClr>
                <a:srgbClr val="cc33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meet 10 minute response (two occurrences in 365 day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CD8C-EEAB-4D36-A08E-250DAB1B9F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xt DSWG Meeting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520" y="1074600"/>
            <a:ext cx="8229600" cy="36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Aft>
                <a:spcPts val="7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our last meeting we scheduled our final DSWG meeting for the year on December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Aft>
                <a:spcPts val="7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Aft>
                <a:spcPts val="7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ly, the PUC has scheduled additional workshops regarding Demand Response Programs in ERCOT on Friday December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onday December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uesday Decem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ginning at 9:30 in the Commissioners Hear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Aft>
                <a:spcPts val="7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Aft>
                <a:spcPts val="7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WG will be rescheduled to Friday December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Aft>
                <a:spcPts val="7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8524-ACB3-47CB-96E3-C8FF2DECAE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SWG Goals Updat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201680"/>
            <a:ext cx="856944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CD6B-836C-4805-828C-30D620DBD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luntary Load Response and Price Certaint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520" y="122724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374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discussed options to improve visibility to RT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266400">
              <a:spcAft>
                <a:spcPts val="751"/>
              </a:spcAft>
              <a:buClr>
                <a:srgbClr val="cc33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Mereness from ERCOT provided DSWG with the technical options for providing closer to real-time pricing information when Non-Spinning Reserve Services (NSRS) are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0">
              <a:spcAft>
                <a:spcPts val="7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14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R650 was effective 9/1/06 which requires ERCO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266400">
              <a:buClr>
                <a:srgbClr val="cc33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n emergency notification to all QSEs when NSRS is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266400">
              <a:buClr>
                <a:srgbClr val="cc33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n emergency notification to all QSEs when NSRS is dis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266400">
              <a:buClr>
                <a:srgbClr val="cc33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recalculate the MCPE when NSRS is deployed and post new MCPE the next busines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92240" indent="-228600">
              <a:buClr>
                <a:srgbClr val="000000"/>
              </a:buClr>
              <a:buSzPct val="89000"/>
              <a:buFont typeface="Arial"/>
              <a:buChar char="•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uns a custom program that creates a market file without NSRS schedules (which are combined with the energy schedules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92240" indent="-228600">
              <a:buClr>
                <a:srgbClr val="000000"/>
              </a:buClr>
              <a:buSzPct val="89000"/>
              <a:buFont typeface="Arial"/>
              <a:buChar char="•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e-runs the market clearing process with these modified schedules to generate the adjusted MC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92240" indent="-228600">
              <a:spcAft>
                <a:spcPts val="675"/>
              </a:spcAft>
              <a:buClr>
                <a:srgbClr val="000000"/>
              </a:buClr>
              <a:buSzPct val="89000"/>
              <a:buFont typeface="Arial"/>
              <a:buChar char="•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performed if there are any binding CSC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3CB7-9941-4F70-801C-CE391315FB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8002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luntary Load Response and Price Certainty (cont.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4200" y="1074240"/>
            <a:ext cx="8382240" cy="50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7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Competitive Solution Method (MCSM) was removed 10/1/06 by PUCT 31972 which removed price corrections, except for held intervals and shadow price err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7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as asked by PUCT staff to look at two alternatives to provide a pricing signal closer to real-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266400">
              <a:spcAft>
                <a:spcPts val="675"/>
              </a:spcAft>
              <a:buClr>
                <a:srgbClr val="cc3300"/>
              </a:buClr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two Market Clearing Engines (MCE) in parallel, one for dispatch, one for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92240" indent="-228600">
              <a:spcAft>
                <a:spcPts val="524"/>
              </a:spcAft>
              <a:buClr>
                <a:srgbClr val="ffffff"/>
              </a:buClr>
              <a:buSzPct val="89000"/>
              <a:buFont typeface="Arial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a)  Run two Market Clearing Engines in parallel, one for dispatch, one for pr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92240" indent="-228600">
              <a:spcAft>
                <a:spcPts val="524"/>
              </a:spcAft>
              <a:buClr>
                <a:srgbClr val="ffffff"/>
              </a:buClr>
              <a:buSzPct val="89000"/>
              <a:buFont typeface="Arial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b)  Run two passes of the Market Clearing Engine with two different SP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92240" indent="-22860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SzPct val="89000"/>
              <a:buFont typeface="Arial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c)  Have vendor modify MCE to add additional step to create separate pr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266400">
              <a:spcAft>
                <a:spcPts val="675"/>
              </a:spcAft>
              <a:buClr>
                <a:srgbClr val="cc3300"/>
              </a:buClr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remaining Balancing Energy Services bid stack when NSRS is deployed for Market Participants to download and derive an estimate of revised M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4840" indent="0">
              <a:spcAft>
                <a:spcPts val="524"/>
              </a:spcAft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pursuing at this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9EE2-8850-4B30-B76B-A7858E9408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ice Certainty Option Summar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38240" y="1085760"/>
            <a:ext cx="8229600" cy="509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6CDD-74B8-4665-9945-F31B6A436F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26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Price Adjustments and Next Ste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840" y="1074600"/>
            <a:ext cx="5334120" cy="57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er ERCOT employed a desk procedure that deploys NSRS when reserves are diminishing resulting in more common scenarios of NSRS deploying before the hitting the 95% bid stack (on October 1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ices decre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Aft>
                <a:spcPts val="4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’s use of Replacement Reserves may be minimizing the amount of Non-Spin deployed due to bid stack depletion. October 26 was first case of NSRS depletion since PRR6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Aft>
                <a:spcPts val="4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’s intra-day updates (via the ROS exploder) publicize shortfalls in supply.  This may be resulting in market behavior that is minimizing the amount of Non-Spin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Aft>
                <a:spcPts val="4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needs market participants to formulate PRRs to facilitate desired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Aft>
                <a:spcPts val="4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29200" y="1074600"/>
            <a:ext cx="276876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C02E-30F3-4AE8-8984-341B381D00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rrent LaaR Particip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6173" t="25457" r="12623" b="69802"/>
          <a:stretch/>
        </p:blipFill>
        <p:spPr>
          <a:xfrm>
            <a:off x="900000" y="1379520"/>
            <a:ext cx="7620120" cy="38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14445" t="41581" r="14048" b="13842"/>
          <a:stretch/>
        </p:blipFill>
        <p:spPr>
          <a:xfrm>
            <a:off x="214200" y="1760400"/>
            <a:ext cx="8609040" cy="4029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4E37-0295-4D26-AE2E-81CC645950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Market Subscription of LaaR at 1150 MW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735" t="21579" r="9633" b="12536"/>
          <a:stretch/>
        </p:blipFill>
        <p:spPr>
          <a:xfrm>
            <a:off x="138240" y="947880"/>
            <a:ext cx="8534160" cy="5171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6260-5C94-403A-B5C6-A6B3DA6981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aR Performance Highlight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7006" t="27261" r="16293" b="15630"/>
          <a:stretch/>
        </p:blipFill>
        <p:spPr>
          <a:xfrm>
            <a:off x="214200" y="1074600"/>
            <a:ext cx="8382240" cy="5388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 flipV="1">
            <a:off x="6539040" y="2827080"/>
            <a:ext cx="3045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80080" y="3300480"/>
            <a:ext cx="1104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 minu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rea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576520" y="42750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34480" y="3741840"/>
            <a:ext cx="116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La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ps at 59.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871440" y="427500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67280" y="3741840"/>
            <a:ext cx="170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aR manu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loyed 17:37:4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71DE-A8D1-4FD3-9A30-92CEA0CBF7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 Anne Brelinksy</cp:lastModifiedBy>
  <dcterms:modified xsi:type="dcterms:W3CDTF">2006-11-14T23:07:05Z</dcterms:modified>
  <cp:revision>52</cp:revision>
  <dc:subject/>
  <dc:title>DSWG Update to WMS</dc:title>
</cp:coreProperties>
</file>