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C153-2EBC-467B-97C3-8F6B8B13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E41B-73D0-45ED-B560-7FD7C876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B332-337C-4AC1-B74A-1A018851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B737-FD27-4E3D-A0BC-61530CC7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BF7D-339C-46C2-917B-F6E8B525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5D83-3DD6-4B13-9351-F70B8A1F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C3D6-F660-449B-9020-896A1496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8FA6-7DC6-4E12-A2B5-3575E0CC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4A63-F9B0-41B4-99BF-F9B4B37D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6485-C164-40EA-BB2B-A10F24F0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0FC9-A117-4B8A-9B29-C2F516FA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D5A0-9354-4E35-A6F5-0FEC74CD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A03C-9188-423E-8C9A-7C74D3E0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5D12-E542-482A-BE57-C7CECC9B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EF37-84EE-4A23-86DA-26ABA28D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9598-A355-4092-8F34-FE6AE2DC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54D6-8D3A-40C7-B5B9-1DDE15D1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40A2-2433-4C6D-A408-50BB86A7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05E2-D1E0-404A-8B41-2143979F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63E4-F390-4396-8C1F-862A9B03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C4D5-C835-4187-9500-33D28686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FFCF-B534-4C0A-AFEC-4329EE59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7D11-9B10-40C0-92D0-0535957A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CE82-7A73-4859-99BE-2196B0AD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B50A-02D7-4510-883D-3AE529C7E6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B198-D1F1-43DC-83EC-77991A34887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erc.com/%7Efilez/regional_standards/nerc_regional_procedures_comments.html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info/reports/sce_qse/index.ht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liance Upda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vember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4B8C-306A-4604-AB34-3B1E03837E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RC ERO Develop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 July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FERC approved NERC’s application to become the Electric Reliability Organization (ERO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Texas Regional Entity budget submitted to NERC in Jun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sed Regional Entity Work Plan submitted to NERC in Ju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Delegation Agreement between NERC and ERCOT filed August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ERCOT Standards Development Process has been posted on the NERC Website for comment (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Regional Reliability Standar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B5A8-D88E-4485-9BCE-EA34F131FE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Compliance Activ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COT Compliance submitted, to NERC on September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contact information from ERCOT Entities responsible for NERC Reliability Standar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COT Compliance Staff participating with NERC on two ERCOT Local Control Center Reliability Readiness Audits – CenterPoint (October) &amp; TXU Electric Delivery (December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nts under investig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ril 1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ECP Event – continued review with PU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ptember 2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CS Event (possible SPS mis-oper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tober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Load Shedding Event (possible DCS Even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4152-F779-4F8B-917C-2346FAB6DB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rol Performance Highligh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RC CPS1 Perform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ptember performance indicated a third straight month of declining scores since scores peaked in Ju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une – 154.6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uly – 153.1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gust – 151.3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ptember – 142.5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TD, October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2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137.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ptember’s score lowest since February (141.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R 525 Perform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for September indicate 32 QSEs passed / 1 non-wind-only QSE failed the mea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posted on the ERCOT Compliance Web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2FAA-D20F-4115-98A7-58ECB76B59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RCOT CPS1 Performance Comparis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5EB4-7AAE-4C51-889D-E422FC0922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RCOT’s CPS1 Monthly Tren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5847-D31A-4D83-80E4-B71531286C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RCOT CPS1 by Interv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784872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022C-2216-4284-AF75-E49BF04AA5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QSE PRR525 10-Minute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rval Sc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5EF4-6535-466A-A8AC-4F17A9549D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E Performance Monitor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E Performance Monitoring scores for all QSEs are published on the Compliance Websi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CE Performance Sc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91E5-5A62-4107-911D-5495E24D72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9753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525 Passing 10-Min Interval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ercentage Tre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2421-B546-4F29-9481-1B0952FBDA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urce Plan Performance Metr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ptember 2006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70040" y="1752480"/>
            <a:ext cx="759456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43BA-85B3-44C0-A4B5-E081A3925F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17:43Z</dcterms:created>
  <dc:creator>lrobinson</dc:creator>
  <dc:description/>
  <dc:language>en-US</dc:language>
  <cp:lastModifiedBy>ERCOT</cp:lastModifiedBy>
  <dcterms:modified xsi:type="dcterms:W3CDTF">2006-11-07T20:48:05Z</dcterms:modified>
  <cp:revision>219</cp:revision>
  <dc:subject/>
  <dc:title>PRR 525 Compliance Analysis</dc:title>
</cp:coreProperties>
</file>