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F48-A218-4A38-82A6-CA87C155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9A9-6E0F-415B-B960-71F46192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6A0-82E1-46E9-BDC1-7392BD9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54C-1638-437D-B3E6-724C786D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7DD-547E-4FB0-8F0E-9DA49EDA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1FA-8156-4EC1-91F4-1F975C48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7B0-4B62-40D0-9603-B8840C6C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D73-EF15-4F6F-BBD7-5FC7AE21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072-32D4-436C-BB17-3B8D7F71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8A5-E62E-4F14-8970-BA6E3F6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F59-6C17-4A34-B9CA-2171DE62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063-6862-4470-8E3A-AB08E14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453A-CA4E-4CF0-9569-939B48AB8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Study for October 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llege Station Loss of Load  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Meeting  November 9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/load may try to reconnect to the system when the voltage level reaches normal levels, however, the starting of the motor/load would consume high reactive power, which would then decrease voltage. The voltage oscillation was most likely due to the interaction of motor lo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corded historical data showed this kind of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kins 69kv Load v.s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1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294760" cy="4581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3208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4156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886200"/>
            <a:ext cx="5335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6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5400" y="341280"/>
            <a:ext cx="78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ine overload and difficulty maintaining voltage in area necessit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dding of about 339 MW of load to prevent complete collapse of th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0"/>
            <a:ext cx="5257800" cy="3352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1600200"/>
            <a:ext cx="609480" cy="121932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81200" y="1057320"/>
            <a:ext cx="7583400" cy="4743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3082800">
            <a:off x="5431680" y="2417040"/>
            <a:ext cx="976320" cy="257040"/>
          </a:xfrm>
          <a:prstGeom prst="rightArrow">
            <a:avLst>
              <a:gd name="adj1" fmla="val 50000"/>
              <a:gd name="adj2" fmla="val 9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7796400">
            <a:off x="6064560" y="3231000"/>
            <a:ext cx="595080" cy="228600"/>
          </a:xfrm>
          <a:prstGeom prst="rightArrow">
            <a:avLst>
              <a:gd name="adj1" fmla="val 50000"/>
              <a:gd name="adj2" fmla="val 65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7432200">
            <a:off x="5164200" y="1311840"/>
            <a:ext cx="671760" cy="181080"/>
          </a:xfrm>
          <a:prstGeom prst="rightArrow">
            <a:avLst>
              <a:gd name="adj1" fmla="val 50000"/>
              <a:gd name="adj2" fmla="val 927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9705200">
            <a:off x="4343040" y="1904760"/>
            <a:ext cx="824040" cy="180720"/>
          </a:xfrm>
          <a:prstGeom prst="rightArrow">
            <a:avLst>
              <a:gd name="adj1" fmla="val 50000"/>
              <a:gd name="adj2" fmla="val 1139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048120"/>
            <a:ext cx="533520" cy="380880"/>
          </a:xfrm>
          <a:prstGeom prst="flowChartSummingJunction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267080"/>
            <a:ext cx="533520" cy="381240"/>
          </a:xfrm>
          <a:prstGeom prst="flowChartSummingJunction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5938920" cy="463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22440" y="262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4156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55080" y="2682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Improv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9440" y="5486400"/>
            <a:ext cx="24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breakers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rs and bu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elay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248160" y="495288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3960" y="685800"/>
            <a:ext cx="328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345/138 KV trans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138 KV lines into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76212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2971800"/>
            <a:ext cx="228600" cy="2286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600" y="3200400"/>
            <a:ext cx="380880" cy="45720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23920" y="3124080"/>
            <a:ext cx="381240" cy="45720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Units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tive Power (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3048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active Power (MV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4121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94400" cy="458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9840" y="3276720"/>
            <a:ext cx="26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CCVT on 138 K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bons Creek to R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iri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9200" y="3962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294760" cy="4581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366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760" y="5141880"/>
            <a:ext cx="60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Relay failure leads to explosion of CCV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ping of 3 345/138 KV transformers and clea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oth 345 KV busses.  Major 345 KV path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to Houston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365760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181480" y="4038120"/>
            <a:ext cx="457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94760" cy="458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4156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14800"/>
            <a:ext cx="5335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6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6480" y="34128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Loss of Gibbons Creek 345/138 KV transformers  and area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only one 138 KV line to supply Bryan/College Station area.  Additional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generation (1200 MW total) triggers NERC DCS event and LaaRs 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14640" y="1371600"/>
            <a:ext cx="6858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ation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55040" cy="481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86200" y="3200400"/>
            <a:ext cx="2209680" cy="1600200"/>
          </a:xfrm>
          <a:prstGeom prst="ellipse">
            <a:avLst/>
          </a:prstGeom>
          <a:solidFill>
            <a:srgbClr val="80808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ltage Oscil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tage Oscillation: Atkins 69kv 10/3/2006 17:10~10/3/2006 18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42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tage Oscillation: HLK 69kv 10/3/2006 17:10~10/3/2006 18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35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tage Oscillation: JEWET 69kv 10/3/2006 17:10~10/3/2006 18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32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ltage oscillation (instability) only existed around the College Station area and the voltage oscillation frequency was small(2~3mins/cycle), the transient stability, dynamic stability issues can be exclu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 for this voltage oscillation issue is  possibly due to a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weak link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llege Station and the rest of ERCOT system, which is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eady state voltage s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21:43:12Z</dcterms:created>
  <dc:creator>shsien</dc:creator>
  <dc:description/>
  <dc:language>en-US</dc:language>
  <cp:lastModifiedBy>jdumas</cp:lastModifiedBy>
  <dcterms:modified xsi:type="dcterms:W3CDTF">2006-11-08T23:03:10Z</dcterms:modified>
  <cp:revision>22</cp:revision>
  <dc:subject/>
  <dc:title>Preliminary Study for October 3rd College Station Event</dc:title>
</cp:coreProperties>
</file>