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C17-5752-4306-997A-38044FDA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E34-392B-42E7-A5E0-CDA6D748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F5C-3958-4093-A440-29EF6AB5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1EA-A3F1-4BC6-9CF9-85FA1710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FA0-60CC-4C72-A2AA-BC75BA4E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C39-10A8-4E5A-A672-B13DEBFF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0E6-1949-4167-A08C-6044BCA9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FD1-45E8-4258-8288-755348E9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9F2-8712-4571-AE06-9D994271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130-F519-4B73-9AF7-8C58C29D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C85-1419-42B7-BE83-5F2C0BD6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800-E6D7-4CF5-B460-CA4A498B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8D23-ECB0-4861-8E92-D150D4AE3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11/2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Discussion Items at 10/12-13/06 ROS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C access to PDCW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C requesting staff membership on the PDCWG, including ac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turbance files, process of analysis for governor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3, 2006 Significant Ev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S level event, with manual deployment of LaaRs and subsequ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frequency. Preliminary discussion, more analysis in Nove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ement of Ancillary Service Method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endorse changes to ERCOT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ng EECP Related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 triggers and discount factor.  OCN ineffective.  Inconsist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ology.  ERCOT needs hard limits except for public appeal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EECP now inconsistent with revised zonal EEC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Start Service Discu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to reject PRR584.  Motion to endorse Black Start Feasi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as an ERCOT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MOTE System in Nodal Mar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that NDSWG prepare NPRR for MOTE System in No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11/2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ems Requiring TAC Vote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682 EECP Realig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to adopt ERCOT requested changes relating to optional u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appeal for conservation. Motion passed 64.1% in favor, 35.9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sed.  Argument for based on potential risk of desensitizing publ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mpact on control of the story.  Argument against based 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redictability of emergency events and lead time needed for publ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R 187 EECP Realig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approve Urgent Status.  Reviewed by OGTF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e-mail vote to approve.  Needed to synchronize Operat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s with revised PR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Assignment – Nodal Non-Spin Deployment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endorse the Nodal NSRS Procedure Propo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60360"/>
            <a:ext cx="876312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6-10-23T19:58:36Z</dcterms:modified>
  <cp:revision>23</cp:revision>
  <dc:subject/>
  <dc:title>ROS Report to TAC – 2/2/06 Major Discussion Items at 1/13/06 ROS  </dc:title>
</cp:coreProperties>
</file>