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C62-29BA-4DEC-9076-BFF342AF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82716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1C88-4F6F-4813-9AC9-0A027FC7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4380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0C45-87C1-4311-BB61-34CC9C23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0208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0416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0208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0416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7C7-33B5-44B2-917F-BD06699B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A122-E44C-4461-84BE-0C69CF8F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67AA-FD70-4C52-9580-0E675524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62D4-89A0-4A0C-B3B2-8ACEAFDF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0997-EBC8-469A-84EA-1E0D34C1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0D4B-F02D-4A1A-8512-63156671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0B2A-041D-471D-8D50-BFE6F411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0E1D-530D-4FD2-A48F-9C4B94C7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5055-35AB-42CD-90F2-80527FA2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4380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C459-B952-4F54-B417-FC4BEB3D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3255-C5EF-4C77-BFCC-1EC39229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82716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2845-7423-44B0-899A-5AB3AA31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4380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CC41-519B-494D-8257-F9A25AE5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0208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0416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0208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0416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F1B6-A2FD-499B-AED2-A7C7A0E9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1126-C4EE-4019-8975-513D4BFD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B360-D784-401C-A4F4-2B24E047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9303-0891-4685-A280-BCC7B6CA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565-7248-4ABB-AAE3-260C898F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BF28-DF08-4777-8E7D-CE8B194A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4380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0329-B15E-4420-ACC9-1642D450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80E-3498-4E96-B3A8-4F1C8533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C46C-D292-497D-B4D0-DC5725260488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ABC8-EA0E-4A12-8FE6-4B9E5A378014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b87b7"/>
                </a:solidFill>
                <a:uFillTx/>
                <a:latin typeface="Impact"/>
              </a:rPr>
              <a:t>October 17</a:t>
            </a:r>
            <a:r>
              <a:rPr b="0" lang="en-US" sz="4000" spc="-1" strike="noStrike" u="sng" baseline="30000">
                <a:solidFill>
                  <a:srgbClr val="1b87b7"/>
                </a:solidFill>
                <a:uFillTx/>
                <a:latin typeface="Impact"/>
              </a:rPr>
              <a:t>th</a:t>
            </a:r>
            <a:r>
              <a:rPr b="0" lang="en-US" sz="4000" spc="-1" strike="noStrike" u="sng">
                <a:solidFill>
                  <a:srgbClr val="1b87b7"/>
                </a:solidFill>
                <a:uFillTx/>
                <a:latin typeface="Impact"/>
              </a:rPr>
              <a:t> Event</a:t>
            </a:r>
            <a:endParaRPr b="0" lang="en-US" sz="40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120" y="2666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0" y="1219320"/>
          <a:ext cx="9144000" cy="5638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19320"/>
                    <a:ext cx="9144000" cy="5638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b87b7"/>
                </a:solidFill>
                <a:uFillTx/>
                <a:latin typeface="Impact"/>
              </a:rPr>
              <a:t>October 17</a:t>
            </a:r>
            <a:r>
              <a:rPr b="0" lang="en-US" sz="4400" spc="-1" strike="noStrike" u="sng" baseline="30000">
                <a:solidFill>
                  <a:srgbClr val="1b87b7"/>
                </a:solidFill>
                <a:uFillTx/>
                <a:latin typeface="Impact"/>
              </a:rPr>
              <a:t>th</a:t>
            </a:r>
            <a:r>
              <a:rPr b="0" lang="en-US" sz="4400" spc="-1" strike="noStrike" u="sng">
                <a:solidFill>
                  <a:srgbClr val="1b87b7"/>
                </a:solidFill>
                <a:uFillTx/>
                <a:latin typeface="Impact"/>
              </a:rPr>
              <a:t> Event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Planned transmission outages in the San Antonio are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N issued due to Adjusted RR less than 3300 at 13:4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N issued due to Capacity shortage for hours ending 17:00 and 18: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y issued due to due to Adjusted RR less than 3000 at 13: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13:42 forced outage for Lon hill-Nelson Sharpe 345 Kv li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ergency notification for post contingency voltage collapse in the valley area with loss of N. Edinburg-Lon hill 345 Kv li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b87b7"/>
                </a:solidFill>
                <a:uFillTx/>
                <a:latin typeface="Impact"/>
              </a:rPr>
              <a:t>October 17</a:t>
            </a:r>
            <a:r>
              <a:rPr b="0" lang="en-US" sz="4400" spc="-1" strike="noStrike" u="sng" baseline="30000">
                <a:solidFill>
                  <a:srgbClr val="1b87b7"/>
                </a:solidFill>
                <a:uFillTx/>
                <a:latin typeface="Impact"/>
              </a:rPr>
              <a:t>th</a:t>
            </a:r>
            <a:r>
              <a:rPr b="0" lang="en-US" sz="4400" spc="-1" strike="noStrike" u="sng">
                <a:solidFill>
                  <a:srgbClr val="1b87b7"/>
                </a:solidFill>
                <a:uFillTx/>
                <a:latin typeface="Impact"/>
              </a:rPr>
              <a:t> Event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:42 Unit Trips with 300 M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h to South Zonal flow iss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:30 – 18:15 207 MW of Non-Spin Deploy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20:44:29Z</dcterms:created>
  <dc:creator>ssharma</dc:creator>
  <dc:description/>
  <cp:keywords/>
  <dc:language>en-US</dc:language>
  <cp:lastModifiedBy>jdumas</cp:lastModifiedBy>
  <dcterms:modified xsi:type="dcterms:W3CDTF">2006-11-09T15:22:41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131033</vt:lpwstr>
  </property>
</Properties>
</file>