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4E24-F00F-437C-B862-A9C482CE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072-B70E-4726-9308-586CB301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C2F6-7BE7-4018-8BCF-89CBA837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6CC1-CB02-4365-8190-100BC5A0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BFE-CD5A-4158-BD4F-A1662863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199-89EF-4D91-B39D-143136BD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6C37-9241-4FE2-80AD-0D8C9774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75E-2F80-4098-9033-6895E52B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FF5-6D16-4E14-8CC0-8123041A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807-5997-4608-94EB-FFBE8D12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1E0F-AED6-4CD1-9CEB-7B753360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218-F8DC-4518-BA95-9C84B79C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F7D7-E51B-4D53-AD4A-F68BCBF32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S Decision Process For System Chang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ransition To Nodal Marke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4600" y="5867280"/>
            <a:ext cx="826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R/SCR “stops” through either a PRS rejection based on the system impact analysis or a PRR removing the bo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for an existing, but yet to be initiated,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lternatives include using contractors, establishing that the PRR/SCR will be completed in the subsequent budget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rejecting/removing the PRR/SCR, or manual workaround until Nod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080" y="3051000"/>
            <a:ext cx="68076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d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ig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8840" y="2286000"/>
            <a:ext cx="8496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ost-Nod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Benef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56600" y="2212920"/>
            <a:ext cx="114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dal Re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1676520"/>
            <a:ext cx="134460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Benef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weighs Imp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 Nodal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2000" y="327672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1640" y="183528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3381480"/>
            <a:ext cx="12189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reates Pre-Nodal Benefi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920" y="221616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3480" y="490680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1480" y="4905360"/>
            <a:ext cx="10112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Refer to TPT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Nodal PR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70080" y="213984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4120" y="313056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9600" y="259704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6440" y="2722680"/>
            <a:ext cx="70668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cc33"/>
                </a:solidFill>
                <a:latin typeface="Arial"/>
              </a:rPr>
              <a:t>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560" y="1143000"/>
            <a:ext cx="525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7480" y="522756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85840" y="5327640"/>
            <a:ext cx="22989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Recommendation for rejection to P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36840" y="4419720"/>
            <a:ext cx="26647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Arial"/>
              </a:rPr>
              <a:t>Yes – Recommendation for approval to P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43" idx="0"/>
            <a:endCxn id="44" idx="1"/>
          </p:cNvCxnSpPr>
          <p:nvPr/>
        </p:nvCxnSpPr>
        <p:spPr>
          <a:xfrm flipH="1" flipV="1" rot="5400000">
            <a:off x="433080" y="2415240"/>
            <a:ext cx="589320" cy="682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3" idx="2"/>
            <a:endCxn id="52" idx="1"/>
          </p:cNvCxnSpPr>
          <p:nvPr/>
        </p:nvCxnSpPr>
        <p:spPr>
          <a:xfrm flipH="1" rot="16200000">
            <a:off x="88560" y="4218120"/>
            <a:ext cx="1161360" cy="56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2" idx="2"/>
            <a:endCxn id="59" idx="1"/>
          </p:cNvCxnSpPr>
          <p:nvPr/>
        </p:nvCxnSpPr>
        <p:spPr>
          <a:xfrm flipH="1" rot="16200000">
            <a:off x="1680480" y="5033880"/>
            <a:ext cx="181800" cy="62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2" idx="0"/>
            <a:endCxn id="65" idx="1"/>
          </p:cNvCxnSpPr>
          <p:nvPr/>
        </p:nvCxnSpPr>
        <p:spPr>
          <a:xfrm flipH="1" flipV="1" rot="5400000">
            <a:off x="4082760" y="2130480"/>
            <a:ext cx="149040" cy="5401440"/>
          </a:xfrm>
          <a:prstGeom prst="bentConnector4">
            <a:avLst>
              <a:gd name="adj1" fmla="val 152784"/>
              <a:gd name="adj2" fmla="val 546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4" idx="2"/>
            <a:endCxn id="49" idx="1"/>
          </p:cNvCxnSpPr>
          <p:nvPr/>
        </p:nvCxnSpPr>
        <p:spPr>
          <a:xfrm flipH="1" rot="16200000">
            <a:off x="1354320" y="2777760"/>
            <a:ext cx="919440" cy="640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3209040" y="2521080"/>
            <a:ext cx="130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ERCOT Re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Availabl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96240" y="3032280"/>
            <a:ext cx="8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ternatives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44" idx="0"/>
            <a:endCxn id="67" idx="1"/>
          </p:cNvCxnSpPr>
          <p:nvPr/>
        </p:nvCxnSpPr>
        <p:spPr>
          <a:xfrm flipH="1" rot="16200000">
            <a:off x="2134080" y="1645200"/>
            <a:ext cx="434520" cy="1715760"/>
          </a:xfrm>
          <a:prstGeom prst="bentConnector4">
            <a:avLst>
              <a:gd name="adj1" fmla="val -52321"/>
              <a:gd name="adj2" fmla="val 623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970440" y="297828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7" idx="2"/>
            <a:endCxn id="68" idx="1"/>
          </p:cNvCxnSpPr>
          <p:nvPr/>
        </p:nvCxnSpPr>
        <p:spPr>
          <a:xfrm flipH="1" rot="16200000">
            <a:off x="3922920" y="2858040"/>
            <a:ext cx="312120" cy="434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7" idx="0"/>
            <a:endCxn id="45" idx="1"/>
          </p:cNvCxnSpPr>
          <p:nvPr/>
        </p:nvCxnSpPr>
        <p:spPr>
          <a:xfrm flipH="1" flipV="1" rot="5400000">
            <a:off x="4192920" y="2057400"/>
            <a:ext cx="132480" cy="795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45" idx="2"/>
            <a:endCxn id="56" idx="1"/>
          </p:cNvCxnSpPr>
          <p:nvPr/>
        </p:nvCxnSpPr>
        <p:spPr>
          <a:xfrm flipH="1" rot="16200000">
            <a:off x="5338080" y="2455560"/>
            <a:ext cx="269280" cy="48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5238720" y="175896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45" idx="0"/>
            <a:endCxn id="46" idx="1"/>
          </p:cNvCxnSpPr>
          <p:nvPr/>
        </p:nvCxnSpPr>
        <p:spPr>
          <a:xfrm flipH="1" flipV="1" rot="5400000">
            <a:off x="5514120" y="1631160"/>
            <a:ext cx="295920" cy="86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6858000" y="4451400"/>
            <a:ext cx="9144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Nodal change request approv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83480" y="106668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46" idx="0"/>
            <a:endCxn id="57" idx="1"/>
          </p:cNvCxnSpPr>
          <p:nvPr/>
        </p:nvCxnSpPr>
        <p:spPr>
          <a:xfrm flipH="1" flipV="1" rot="5400000">
            <a:off x="6983640" y="1038960"/>
            <a:ext cx="422280" cy="85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6707160" y="259704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25920" y="380988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82840" y="3879720"/>
            <a:ext cx="525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49" idx="2"/>
            <a:endCxn id="80" idx="1"/>
          </p:cNvCxnSpPr>
          <p:nvPr/>
        </p:nvCxnSpPr>
        <p:spPr>
          <a:xfrm flipH="1" rot="16200000">
            <a:off x="2884320" y="3592440"/>
            <a:ext cx="257760" cy="54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49" idx="0"/>
            <a:endCxn id="67" idx="1"/>
          </p:cNvCxnSpPr>
          <p:nvPr/>
        </p:nvCxnSpPr>
        <p:spPr>
          <a:xfrm flipH="1" flipV="1" rot="5400000">
            <a:off x="2645280" y="2817720"/>
            <a:ext cx="661680" cy="46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316640" y="522612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50080" y="5327640"/>
            <a:ext cx="70668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cc33"/>
                </a:solidFill>
                <a:latin typeface="Arial"/>
              </a:rPr>
              <a:t>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65" idx="2"/>
            <a:endCxn id="84" idx="1"/>
          </p:cNvCxnSpPr>
          <p:nvPr/>
        </p:nvCxnSpPr>
        <p:spPr>
          <a:xfrm flipH="1" rot="16200000">
            <a:off x="7344360" y="5033160"/>
            <a:ext cx="377280" cy="435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7796160" y="4011480"/>
            <a:ext cx="525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17000" y="388620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65" idx="0"/>
            <a:endCxn id="86" idx="1"/>
          </p:cNvCxnSpPr>
          <p:nvPr/>
        </p:nvCxnSpPr>
        <p:spPr>
          <a:xfrm flipH="1" flipV="1" rot="5400000">
            <a:off x="7391520" y="4046760"/>
            <a:ext cx="328680" cy="481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32360" y="1176480"/>
            <a:ext cx="362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Rs/SCRs addressing PUC Orders/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be reviewed upon completion of PUC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9:00:12Z</dcterms:created>
  <dc:creator>Reliant</dc:creator>
  <dc:description/>
  <dc:language>en-US</dc:language>
  <cp:lastModifiedBy>dzake</cp:lastModifiedBy>
  <dcterms:modified xsi:type="dcterms:W3CDTF">2006-05-10T19:16:47Z</dcterms:modified>
  <cp:revision>16</cp:revision>
  <dc:subject/>
  <dc:title>System Change Analysis</dc:title>
</cp:coreProperties>
</file>