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1C4B8-A1C5-4A5B-BC80-63E12FA8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4BF5-2CBF-4307-A701-35349982E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748F1-A7B0-4AC1-8344-3516CD384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7AA3-88F0-4006-AC47-7AFAC5F08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F77E5-A425-49A9-817E-83557AA4B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6617-A2C2-4EE9-9261-66B201697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A3A6-AEE5-40FC-98C6-EF2ED197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15A4-5269-49B4-8839-E7E79971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2DADD-328F-4DA4-9942-2C8586DB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D0B9-B2F6-48CE-BC46-57EC0AC4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5000-A6EB-4615-A9B6-0A4E5380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D7163-3946-4659-9DE5-181B6D853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33CA-A190-47D2-A57F-90F5B9CB7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155600" y="64450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1" name=""/>
          <p:cNvSpPr/>
          <p:nvPr/>
        </p:nvSpPr>
        <p:spPr>
          <a:xfrm>
            <a:off x="5791320" y="6445080"/>
            <a:ext cx="31240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49" name="" descr=""/>
          <p:cNvPicPr/>
          <p:nvPr/>
        </p:nvPicPr>
        <p:blipFill>
          <a:blip r:embed="rId1"/>
          <a:stretch/>
        </p:blipFill>
        <p:spPr>
          <a:xfrm>
            <a:off x="228600" y="304920"/>
            <a:ext cx="1295280" cy="519120"/>
          </a:xfrm>
          <a:prstGeom prst="rect">
            <a:avLst/>
          </a:prstGeom>
          <a:ln w="0">
            <a:noFill/>
          </a:ln>
        </p:spPr>
      </p:pic>
      <p:sp>
        <p:nvSpPr>
          <p:cNvPr id="50"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600200" y="2075040"/>
            <a:ext cx="6553080" cy="25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R 672 Collaborative Analysis</a:t>
            </a:r>
            <a:endParaRPr b="0" lang="en-US" sz="2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Presentation to RM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ember 8,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Level 2 transactions</a:t>
            </a:r>
            <a:endParaRPr b="0" lang="en-US" sz="2000" spc="-1" strike="noStrike">
              <a:solidFill>
                <a:srgbClr val="ffffff"/>
              </a:solidFill>
              <a:latin typeface="Arial Black"/>
            </a:endParaRPr>
          </a:p>
        </p:txBody>
      </p:sp>
      <p:sp>
        <p:nvSpPr>
          <p:cNvPr id="72"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152280" y="762120"/>
            <a:ext cx="3657600" cy="5486400"/>
          </a:xfrm>
          <a:prstGeom prst="rect">
            <a:avLst/>
          </a:prstGeom>
          <a:noFill/>
          <a:ln w="0">
            <a:noFill/>
          </a:ln>
        </p:spPr>
        <p:style>
          <a:lnRef idx="0"/>
          <a:fillRef idx="0"/>
          <a:effectRef idx="0"/>
          <a:fontRef idx="minor"/>
        </p:style>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Move-I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move ins need to be received 2 business days prior to the requested date.  TDSP needs to receive by 5pm or the order is considered received the next business da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may need to review their batch ti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may need to review their call center scripts to ensure that customer expectations are set appropriately</a:t>
            </a:r>
            <a:endParaRPr b="0" lang="en-US" sz="2000" spc="-1" strike="noStrike">
              <a:solidFill>
                <a:srgbClr val="000000"/>
              </a:solidFill>
              <a:latin typeface="Arial"/>
            </a:endParaRPr>
          </a:p>
        </p:txBody>
      </p:sp>
      <p:pic>
        <p:nvPicPr>
          <p:cNvPr id="74" name="" descr=""/>
          <p:cNvPicPr/>
          <p:nvPr/>
        </p:nvPicPr>
        <p:blipFill>
          <a:blip r:embed="rId1"/>
          <a:stretch/>
        </p:blipFill>
        <p:spPr>
          <a:xfrm>
            <a:off x="4327560" y="762120"/>
            <a:ext cx="4511520" cy="5371920"/>
          </a:xfrm>
          <a:prstGeom prst="rect">
            <a:avLst/>
          </a:prstGeom>
          <a:ln w="0">
            <a:noFill/>
          </a:ln>
        </p:spPr>
      </p:pic>
      <p:sp>
        <p:nvSpPr>
          <p:cNvPr id="3" name="PlaceHolder 2"/>
          <p:cNvSpPr>
            <a:spLocks noGrp="1"/>
          </p:cNvSpPr>
          <p:nvPr>
            <p:ph type="sldNum" idx="3"/>
          </p:nvPr>
        </p:nvSpPr>
        <p:spPr/>
        <p:txBody>
          <a:bodyPr/>
          <a:p>
            <a:fld id="{BECAD5E9-1243-43B7-97CD-035941169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Level 2 transactions</a:t>
            </a:r>
            <a:endParaRPr b="0" lang="en-US" sz="2000" spc="-1" strike="noStrike">
              <a:solidFill>
                <a:srgbClr val="ffffff"/>
              </a:solidFill>
              <a:latin typeface="Arial Black"/>
            </a:endParaRPr>
          </a:p>
        </p:txBody>
      </p:sp>
      <p:sp>
        <p:nvSpPr>
          <p:cNvPr id="76"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 name=""/>
          <p:cNvSpPr/>
          <p:nvPr/>
        </p:nvSpPr>
        <p:spPr>
          <a:xfrm>
            <a:off x="380880" y="914400"/>
            <a:ext cx="822960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ve-out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 are submitted 2 or more days ahea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Move Outs, Move Out to CSA – does not include force off</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Outs need to be received 2 business days prior to the requested date.  TDSP needs to receive by 5pm or the order is considered received the next business day. </a:t>
            </a:r>
            <a:endParaRPr b="0" lang="en-US" sz="2000" spc="-1" strike="noStrike">
              <a:solidFill>
                <a:srgbClr val="000000"/>
              </a:solidFill>
              <a:latin typeface="Arial"/>
            </a:endParaRPr>
          </a:p>
        </p:txBody>
      </p:sp>
      <p:pic>
        <p:nvPicPr>
          <p:cNvPr id="78" name="" descr=""/>
          <p:cNvPicPr/>
          <p:nvPr/>
        </p:nvPicPr>
        <p:blipFill>
          <a:blip r:embed="rId1"/>
          <a:stretch/>
        </p:blipFill>
        <p:spPr>
          <a:xfrm>
            <a:off x="1371600" y="3273480"/>
            <a:ext cx="5943600" cy="2759040"/>
          </a:xfrm>
          <a:prstGeom prst="rect">
            <a:avLst/>
          </a:prstGeom>
          <a:ln w="0">
            <a:noFill/>
          </a:ln>
        </p:spPr>
      </p:pic>
      <p:sp>
        <p:nvSpPr>
          <p:cNvPr id="3" name="PlaceHolder 2"/>
          <p:cNvSpPr>
            <a:spLocks noGrp="1"/>
          </p:cNvSpPr>
          <p:nvPr>
            <p:ph type="sldNum" idx="3"/>
          </p:nvPr>
        </p:nvSpPr>
        <p:spPr/>
        <p:txBody>
          <a:bodyPr/>
          <a:p>
            <a:fld id="{E3E6F0BE-C4B0-4C9D-A730-EA97AC59B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Off Cycle Switches</a:t>
            </a:r>
            <a:endParaRPr b="0" lang="en-US" sz="2000" spc="-1" strike="noStrike">
              <a:solidFill>
                <a:srgbClr val="ffffff"/>
              </a:solidFill>
              <a:latin typeface="Arial Black"/>
            </a:endParaRPr>
          </a:p>
        </p:txBody>
      </p:sp>
      <p:sp>
        <p:nvSpPr>
          <p:cNvPr id="80"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 name=""/>
          <p:cNvSpPr/>
          <p:nvPr/>
        </p:nvSpPr>
        <p:spPr>
          <a:xfrm>
            <a:off x="380880" y="1066680"/>
            <a:ext cx="8382240" cy="2667240"/>
          </a:xfrm>
          <a:prstGeom prst="rect">
            <a:avLst/>
          </a:prstGeom>
          <a:noFill/>
          <a:ln w="0">
            <a:noFill/>
          </a:ln>
        </p:spPr>
        <p:style>
          <a:lnRef idx="0"/>
          <a:fillRef idx="0"/>
          <a:effectRef idx="0"/>
          <a:fontRef idx="minor"/>
        </p:style>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tretch/>
        </p:blipFill>
        <p:spPr>
          <a:xfrm>
            <a:off x="685800" y="1066680"/>
            <a:ext cx="5867280" cy="3048120"/>
          </a:xfrm>
          <a:prstGeom prst="rect">
            <a:avLst/>
          </a:prstGeom>
          <a:ln w="0">
            <a:noFill/>
          </a:ln>
        </p:spPr>
      </p:pic>
      <p:sp>
        <p:nvSpPr>
          <p:cNvPr id="83" name=""/>
          <p:cNvSpPr/>
          <p:nvPr/>
        </p:nvSpPr>
        <p:spPr>
          <a:xfrm>
            <a:off x="304920" y="4191120"/>
            <a:ext cx="8308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does not believe the analysis supports the timing changes for the follow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cycle Switches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behavior of sending &gt;15 days from date requested – changing the timing does not change the result for the end use customer</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language for First Available Switch Date (FA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DB9509-872E-48A2-8B34-F6ECE3012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cerpt from Protocol 15.1.1</a:t>
            </a:r>
            <a:endParaRPr b="0" lang="en-US" sz="2000" spc="-1" strike="noStrike">
              <a:solidFill>
                <a:srgbClr val="ffffff"/>
              </a:solidFill>
              <a:latin typeface="Arial Black"/>
            </a:endParaRPr>
          </a:p>
        </p:txBody>
      </p:sp>
      <p:sp>
        <p:nvSpPr>
          <p:cNvPr id="85" name="PlaceHolder 2"/>
          <p:cNvSpPr>
            <a:spLocks noGrp="1"/>
          </p:cNvSpPr>
          <p:nvPr>
            <p:ph/>
          </p:nvPr>
        </p:nvSpPr>
        <p:spPr>
          <a:xfrm>
            <a:off x="380880" y="838080"/>
            <a:ext cx="8382240" cy="5029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SD for a Switch Request where notification has not been waived is calculated as follows:  </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D = EPD + 3BD (Mailing to notify Customer of the pending Switch Request)</a:t>
            </a:r>
            <a:br>
              <a:rPr sz="1600"/>
            </a:br>
            <a:r>
              <a:rPr b="0" lang="en-US" sz="1600" spc="-1" strike="noStrike">
                <a:solidFill>
                  <a:srgbClr val="000000"/>
                </a:solidFill>
                <a:latin typeface="Arial"/>
              </a:rPr>
              <a:t>+ 7CD (Customer Rescission Period)</a:t>
            </a:r>
            <a:br>
              <a:rPr sz="1600"/>
            </a:br>
            <a:r>
              <a:rPr b="0" lang="en-US" sz="1600" spc="-1" strike="noStrike">
                <a:solidFill>
                  <a:srgbClr val="000000"/>
                </a:solidFill>
                <a:latin typeface="Arial"/>
              </a:rPr>
              <a:t>+ 3BD (Processing time to allow for potential cancellation by Customer)</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vent that Customer notification has been waived, the CR will indicate such a waiver in the 814_01 transaction.  For additional information concerning which Customer class and /or events would qualify for a waiver of Customer notification, CRs should refer to the PUCT rule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SD is calculated as follows for a waiver of notificati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D = EPD + 3BD (Processing tim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D =  ERCOT Processed Dat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D =</a:t>
            </a:r>
            <a:r>
              <a:rPr b="0" lang="en-US" sz="1600" spc="-1" strike="noStrike">
                <a:solidFill>
                  <a:srgbClr val="000000"/>
                </a:solidFill>
                <a:latin typeface="Arial"/>
              </a:rPr>
              <a:t>	</a:t>
            </a:r>
            <a:r>
              <a:rPr b="0" lang="en-US" sz="1600" spc="-1" strike="noStrike">
                <a:solidFill>
                  <a:srgbClr val="000000"/>
                </a:solidFill>
                <a:latin typeface="Arial"/>
              </a:rPr>
              <a:t>Business Day (Does not include TDSP holiday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D =</a:t>
            </a:r>
            <a:r>
              <a:rPr b="0" lang="en-US" sz="1600" spc="-1" strike="noStrike">
                <a:solidFill>
                  <a:srgbClr val="000000"/>
                </a:solidFill>
                <a:latin typeface="Arial"/>
              </a:rPr>
              <a:t>	</a:t>
            </a:r>
            <a:r>
              <a:rPr b="0" lang="en-US" sz="1600" spc="-1" strike="noStrike">
                <a:solidFill>
                  <a:srgbClr val="000000"/>
                </a:solidFill>
                <a:latin typeface="Arial"/>
              </a:rPr>
              <a:t>Calendar Day</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7B746DB-7D67-4B48-9DF6-CE334FAA0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Off Cycle Drop to AREP</a:t>
            </a:r>
            <a:endParaRPr b="0" lang="en-US" sz="2000" spc="-1" strike="noStrike">
              <a:solidFill>
                <a:srgbClr val="ffffff"/>
              </a:solidFill>
              <a:latin typeface="Arial Black"/>
            </a:endParaRPr>
          </a:p>
        </p:txBody>
      </p:sp>
      <p:sp>
        <p:nvSpPr>
          <p:cNvPr id="87"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380880" y="1066680"/>
            <a:ext cx="8382240" cy="2667240"/>
          </a:xfrm>
          <a:prstGeom prst="rect">
            <a:avLst/>
          </a:prstGeom>
          <a:noFill/>
          <a:ln w="0">
            <a:noFill/>
          </a:ln>
        </p:spPr>
        <p:style>
          <a:lnRef idx="0"/>
          <a:fillRef idx="0"/>
          <a:effectRef idx="0"/>
          <a:fontRef idx="minor"/>
        </p:style>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304920" y="4191120"/>
            <a:ext cx="8308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does not believe the analysis supports the timing changes for the follow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cycle Drop to AREP</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behavior of sending at least 8</a:t>
            </a:r>
            <a:r>
              <a:rPr b="0" lang="en-US" sz="1800" spc="-1" strike="noStrike">
                <a:solidFill>
                  <a:srgbClr val="ff3300"/>
                </a:solidFill>
                <a:latin typeface="Arial"/>
              </a:rPr>
              <a:t> </a:t>
            </a:r>
            <a:r>
              <a:rPr b="0" lang="en-US" sz="1800" spc="-1" strike="noStrike">
                <a:solidFill>
                  <a:srgbClr val="000000"/>
                </a:solidFill>
                <a:latin typeface="Arial"/>
              </a:rPr>
              <a:t>days from date requested – changing the timing does not change the result for the end use customer</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language for First Available Switch Date (FA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1905120" y="914400"/>
            <a:ext cx="4591080" cy="3119400"/>
          </a:xfrm>
          <a:prstGeom prst="rect">
            <a:avLst/>
          </a:prstGeom>
          <a:ln w="0">
            <a:noFill/>
          </a:ln>
        </p:spPr>
      </p:pic>
      <p:sp>
        <p:nvSpPr>
          <p:cNvPr id="3" name="PlaceHolder 2"/>
          <p:cNvSpPr>
            <a:spLocks noGrp="1"/>
          </p:cNvSpPr>
          <p:nvPr>
            <p:ph type="sldNum" idx="3"/>
          </p:nvPr>
        </p:nvSpPr>
        <p:spPr/>
        <p:txBody>
          <a:bodyPr/>
          <a:p>
            <a:fld id="{DBE3206B-8C33-4ECD-B993-16CF53E18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Off Cycle Drop to AREP</a:t>
            </a:r>
            <a:endParaRPr b="0" lang="en-US" sz="2000" spc="-1" strike="noStrike">
              <a:solidFill>
                <a:srgbClr val="ffffff"/>
              </a:solidFill>
              <a:latin typeface="Arial Black"/>
            </a:endParaRPr>
          </a:p>
        </p:txBody>
      </p:sp>
      <p:sp>
        <p:nvSpPr>
          <p:cNvPr id="92"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3" name=""/>
          <p:cNvSpPr/>
          <p:nvPr/>
        </p:nvSpPr>
        <p:spPr>
          <a:xfrm>
            <a:off x="380880" y="1066680"/>
            <a:ext cx="8382240" cy="2667240"/>
          </a:xfrm>
          <a:prstGeom prst="rect">
            <a:avLst/>
          </a:prstGeom>
          <a:noFill/>
          <a:ln w="0">
            <a:noFill/>
          </a:ln>
        </p:spPr>
        <p:style>
          <a:lnRef idx="0"/>
          <a:fillRef idx="0"/>
          <a:effectRef idx="0"/>
          <a:fontRef idx="minor"/>
        </p:style>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04920" y="914400"/>
            <a:ext cx="8308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does not believe the analysis supports the timing changes for the follow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cycle Drop to AREP</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language for First Available Switch Date (FASD) – excerpt from 15.1.2.1</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SD for a Drop to AREP Request is calculated starting with the date that ERCOT processes the 814_10 sent by the C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SD is calculated as follow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D = EPD + 6BD (Processing time)</a:t>
            </a:r>
            <a:br>
              <a:rPr sz="1800"/>
            </a:br>
            <a:br>
              <a:rPr sz="1800"/>
            </a:br>
            <a:r>
              <a:rPr b="1"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PD =</a:t>
            </a:r>
            <a:r>
              <a:rPr b="1" lang="en-US" sz="1800" spc="-1" strike="noStrike">
                <a:solidFill>
                  <a:srgbClr val="000000"/>
                </a:solidFill>
                <a:latin typeface="Arial"/>
              </a:rPr>
              <a:t>	</a:t>
            </a:r>
            <a:r>
              <a:rPr b="1" lang="en-US" sz="1800" spc="-1" strike="noStrike">
                <a:solidFill>
                  <a:srgbClr val="000000"/>
                </a:solidFill>
                <a:latin typeface="Arial"/>
              </a:rPr>
              <a:t>ERCOT Processed Dat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D =</a:t>
            </a:r>
            <a:r>
              <a:rPr b="1" lang="en-US" sz="1800" spc="-1" strike="noStrike">
                <a:solidFill>
                  <a:srgbClr val="000000"/>
                </a:solidFill>
                <a:latin typeface="Arial"/>
              </a:rPr>
              <a:t>	</a:t>
            </a:r>
            <a:r>
              <a:rPr b="1" lang="en-US" sz="1800" spc="-1" strike="noStrike">
                <a:solidFill>
                  <a:srgbClr val="000000"/>
                </a:solidFill>
                <a:latin typeface="Arial"/>
              </a:rPr>
              <a:t>Business Day (Does not include TDSP holiday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A4FC23-2949-4C9F-B2F1-68CB4CCB5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 Level 3 recap</a:t>
            </a:r>
            <a:endParaRPr b="0" lang="en-US" sz="2000" spc="-1" strike="noStrike">
              <a:solidFill>
                <a:srgbClr val="ffffff"/>
              </a:solidFill>
              <a:latin typeface="Arial Black"/>
            </a:endParaRPr>
          </a:p>
        </p:txBody>
      </p:sp>
      <p:sp>
        <p:nvSpPr>
          <p:cNvPr id="9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3 Transactions: Including transaction pairs relating to historical usage transactions and 814_20 changes (i.e. maintains), which should be processed within 4 Retail Business Hours</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by ERCOT support alternative to changing transaction timing for:</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0 changes (i.e. maintain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commends near term approach – changing transaction flow process for 814_20s (Two SIRs to be in Feb 2007 release)</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e the 814_20s throttling capabilities within current processing pipe (all 814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 separate processing pipe for 814_20/814_21 process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he market to review the production results from the near-term before adding system changes to PR60008 for the 814_20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indicate that ERCOT already meets the 4 hour turn for historical usage (867_02).</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A9E9F66-DEF3-4F44-B0BC-3BA6C7DE3B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 Level 4 recap</a:t>
            </a:r>
            <a:endParaRPr b="0" lang="en-US" sz="2000" spc="-1" strike="noStrike">
              <a:solidFill>
                <a:srgbClr val="ffffff"/>
              </a:solidFill>
              <a:latin typeface="Arial Black"/>
            </a:endParaRPr>
          </a:p>
        </p:txBody>
      </p:sp>
      <p:sp>
        <p:nvSpPr>
          <p:cNvPr id="9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4 Transactions: Including pairs relating to  On-cycle Switches, On-cycle Drops, 814_26 Ad Hoc Usage Request, Establishing/Deleting CSA within 1 Retail Business Day.</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change current protocol tim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nalysis requested by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recommend adding additional transactions to this category based upon the analysis shared with the market.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A2C958C-F6FD-4509-8F6D-36D91B027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Recommendations</a:t>
            </a:r>
            <a:endParaRPr b="0" lang="en-US" sz="2000" spc="-1" strike="noStrike">
              <a:solidFill>
                <a:srgbClr val="ffffff"/>
              </a:solidFill>
              <a:latin typeface="Arial Black"/>
            </a:endParaRPr>
          </a:p>
        </p:txBody>
      </p:sp>
      <p:sp>
        <p:nvSpPr>
          <p:cNvPr id="100" name="PlaceHolder 2"/>
          <p:cNvSpPr>
            <a:spLocks noGrp="1"/>
          </p:cNvSpPr>
          <p:nvPr>
            <p:ph/>
          </p:nvPr>
        </p:nvSpPr>
        <p:spPr>
          <a:xfrm>
            <a:off x="380880" y="1066680"/>
            <a:ext cx="8382240" cy="5105520"/>
          </a:xfrm>
          <a:prstGeom prst="rect">
            <a:avLst/>
          </a:prstGeom>
          <a:noFill/>
          <a:ln w="0">
            <a:noFill/>
          </a:ln>
        </p:spPr>
        <p:txBody>
          <a:bodyPr lIns="90000" rIns="90000" tIns="46800" bIns="46800" anchor="t">
            <a:normAutofit/>
          </a:bodyPr>
          <a:p>
            <a:pPr marL="554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s:</a:t>
            </a:r>
            <a:endParaRPr b="1" lang="en-US" sz="1800" spc="-1" strike="noStrike">
              <a:solidFill>
                <a:srgbClr val="000000"/>
              </a:solidFill>
              <a:latin typeface="Arial"/>
            </a:endParaRPr>
          </a:p>
          <a:p>
            <a:pPr marL="554040" indent="-38088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3.0 – priority Move ins w/in 2 hours – in progress</a:t>
            </a:r>
            <a:endParaRPr b="1" lang="en-US" sz="1800" spc="-1" strike="noStrike">
              <a:solidFill>
                <a:srgbClr val="000000"/>
              </a:solidFill>
              <a:latin typeface="Arial"/>
            </a:endParaRPr>
          </a:p>
          <a:p>
            <a:pPr marL="554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4040" indent="-38088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ERCOT to move forward with near-term recommendations for 814_20 processing changes to be implemented prior to PR60008.</a:t>
            </a:r>
            <a:endParaRPr b="1"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 the 814_20s throttling capabilities within current processing pipe (all 814s)  </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a separate processing pipe for 814_20/814_21 processing</a:t>
            </a:r>
            <a:endParaRPr b="0" lang="en-US" sz="1800" spc="-1" strike="noStrike">
              <a:solidFill>
                <a:srgbClr val="000000"/>
              </a:solidFill>
              <a:latin typeface="Arial"/>
            </a:endParaRPr>
          </a:p>
          <a:p>
            <a:pPr marL="554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4040" indent="-38088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rank and initiate project PR60008 (remainder of grey box)</a:t>
            </a:r>
            <a:endParaRPr b="1"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 of PR60008 is to implement remainder of grey box changes to address timing of transactions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 of PR60008 also to include changes from a PRR that ERCOT will draft for prioritization of all transactions (as set by analysis from this group) and recommend moving off-cycle switches and drops to AREP to level 4 transactions (not everyone participating agrees)</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re-ranked, ERCOT will provide IA and CBA for system changes (using information from collaborative analysi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C6285E-4D19-4F26-A497-04D3EAD835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Recommendations</a:t>
            </a:r>
            <a:endParaRPr b="0" lang="en-US" sz="2000" spc="-1" strike="noStrike">
              <a:solidFill>
                <a:srgbClr val="ffffff"/>
              </a:solidFill>
              <a:latin typeface="Arial Black"/>
            </a:endParaRPr>
          </a:p>
        </p:txBody>
      </p:sp>
      <p:sp>
        <p:nvSpPr>
          <p:cNvPr id="102" name="PlaceHolder 2"/>
          <p:cNvSpPr>
            <a:spLocks noGrp="1"/>
          </p:cNvSpPr>
          <p:nvPr>
            <p:ph/>
          </p:nvPr>
        </p:nvSpPr>
        <p:spPr>
          <a:xfrm>
            <a:off x="380880" y="1066680"/>
            <a:ext cx="8382240" cy="5105520"/>
          </a:xfrm>
          <a:prstGeom prst="rect">
            <a:avLst/>
          </a:prstGeom>
          <a:noFill/>
          <a:ln w="0">
            <a:noFill/>
          </a:ln>
        </p:spPr>
        <p:txBody>
          <a:bodyPr lIns="90000" rIns="90000" tIns="46800" bIns="46800" anchor="t">
            <a:normAutofit/>
          </a:bodyPr>
          <a:p>
            <a:pPr marL="554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consideration – recommend to PRS to re-rank project PR60008 to above the cut line.</a:t>
            </a:r>
            <a:endParaRPr b="1"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ranked, ERCOT would provide IA and CBA for system changes (using information from collaborative analysi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48F20E-04E6-42E2-A41C-9DD5C2897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of PRR672</a:t>
            </a:r>
            <a:endParaRPr b="0" lang="en-US" sz="2000" spc="-1" strike="noStrike">
              <a:solidFill>
                <a:srgbClr val="ffffff"/>
              </a:solidFill>
              <a:latin typeface="Arial Black"/>
            </a:endParaRPr>
          </a:p>
        </p:txBody>
      </p:sp>
      <p:sp>
        <p:nvSpPr>
          <p:cNvPr id="54" name="PlaceHolder 2"/>
          <p:cNvSpPr>
            <a:spLocks noGrp="1"/>
          </p:cNvSpPr>
          <p:nvPr>
            <p:ph/>
          </p:nvPr>
        </p:nvSpPr>
        <p:spPr>
          <a:xfrm>
            <a:off x="380880" y="1066320"/>
            <a:ext cx="8382240" cy="487692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written as a result of changes from Terms and Conditions.</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requested timing changes for ERCOT processing of transactions </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CTF noted in original PR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group needs to review CR and TDSP transaction timing requirements related to Terms and Conditions project to be addressed in a separate PRR.</a:t>
            </a:r>
            <a:r>
              <a:rPr b="1"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hared that ERCOT timing was first priority.  TDSPs and CRs are reviewing timing changes.  </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ue to the mandatory nature of the rulemaking, TCTF would also ask that ERCOT consider and present other options that may be less expensive to implement in the event that the changes proposed in this PRR would be cost prohibitive or would not allow implementation by the dates required by the rulemaking.</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C80836-C108-46CD-8FA3-14B57B57E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Closure</a:t>
            </a:r>
            <a:endParaRPr b="0" lang="en-US" sz="2000" spc="-1" strike="noStrike">
              <a:solidFill>
                <a:srgbClr val="ffffff"/>
              </a:solidFill>
              <a:latin typeface="Arial Black"/>
            </a:endParaRPr>
          </a:p>
        </p:txBody>
      </p:sp>
      <p:sp>
        <p:nvSpPr>
          <p:cNvPr id="104" name="PlaceHolder 2"/>
          <p:cNvSpPr>
            <a:spLocks noGrp="1"/>
          </p:cNvSpPr>
          <p:nvPr>
            <p:ph/>
          </p:nvPr>
        </p:nvSpPr>
        <p:spPr>
          <a:xfrm>
            <a:off x="380880" y="837720"/>
            <a:ext cx="8382240" cy="5334120"/>
          </a:xfrm>
          <a:prstGeom prst="rect">
            <a:avLst/>
          </a:prstGeom>
          <a:noFill/>
          <a:ln w="0">
            <a:noFill/>
          </a:ln>
        </p:spPr>
        <p:txBody>
          <a:bodyPr lIns="90000" rIns="90000" tIns="46800" bIns="46800" anchor="t">
            <a:normAutofit/>
          </a:bodyPr>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R 67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 already underway for TX SET 3.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mp; 3 – Collaborative Analysis / Future system release (PR60008 – Terms &amp; Conditions)</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ort back to RMS at Nov 06 Meet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to report to TAC in Dec 0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to report to BOD in Jan 07</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term – ERCOT to begin work on near term recommendation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 Market to consider to reprioritizing PR60008 for 2007 Project lis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may file PRR on CR / TDSP timing changes that are needed</a:t>
            </a:r>
            <a:endParaRPr b="1" lang="en-US" sz="1800" spc="-1" strike="noStrike">
              <a:solidFill>
                <a:srgbClr val="000000"/>
              </a:solidFill>
              <a:latin typeface="Arial"/>
            </a:endParaRPr>
          </a:p>
          <a:p>
            <a:pPr marL="343080" indent="-16992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draft PRR for prioritization of all transactions (as set by analysis from this group) and recommend moving off-cycle switches and drops to AREP to level 4 transactions </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792435-1067-40EB-B636-DA6B8EFA1F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Closure</a:t>
            </a:r>
            <a:endParaRPr b="0" lang="en-US" sz="2000" spc="-1" strike="noStrike">
              <a:solidFill>
                <a:srgbClr val="ffffff"/>
              </a:solidFill>
              <a:latin typeface="Arial Black"/>
            </a:endParaRPr>
          </a:p>
        </p:txBody>
      </p:sp>
      <p:sp>
        <p:nvSpPr>
          <p:cNvPr id="106" name="PlaceHolder 2"/>
          <p:cNvSpPr>
            <a:spLocks noGrp="1"/>
          </p:cNvSpPr>
          <p:nvPr>
            <p:ph/>
          </p:nvPr>
        </p:nvSpPr>
        <p:spPr>
          <a:xfrm>
            <a:off x="380880" y="837720"/>
            <a:ext cx="8382240" cy="53341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4_20 processing - Until near-term recommendations are implemented,  ERCOT encourages TDSPs to continue to communicate to ERCOT any large volumes of 814_20s to be managed through current market processes (bundles and manual intervention by ERCOT and TDSPs).</a:t>
            </a:r>
            <a:endParaRPr b="1"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Term analysis continues at TX SET</a:t>
            </a: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s concludes the Collaboration effort for PRR672.  Thank you for your support.</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A8F9A2C-437C-4008-AE85-D9FF4901BB3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of PRR672</a:t>
            </a:r>
            <a:endParaRPr b="0" lang="en-US" sz="2000" spc="-1" strike="noStrike">
              <a:solidFill>
                <a:srgbClr val="ffffff"/>
              </a:solidFill>
              <a:latin typeface="Arial Black"/>
            </a:endParaRPr>
          </a:p>
        </p:txBody>
      </p:sp>
      <p:sp>
        <p:nvSpPr>
          <p:cNvPr id="5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puts ERCOT transaction timings into four categories based on their priority in the marketplace:</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 Transactions: Including transaction pairs (inbound and outbound) relating to 814_16 priority move-ins and 814_20 creates (adds), which should be processed within 1 Retail Business Hour (any hour within a Retail Business Day as defined in Section 2 of Protocol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2 Transactions: Including transaction pairs relating to standard move-ins, move-outs, Off cycle Drops to AREP and Off cycle switches, which should be processed within 2 Retail Business Hour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3 Transactions: Including transaction pairs relating to historical usage transactions, and 814_20 changes, which should be processed within 4 Retail Business Hour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4 Transactions: Including pairs relating to  On-cycle Switches, On-cycle Drops, 814_26 Ad Hoc Usage Request, Establishing/Deleting CSA within 1 Retail Business Day.</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BC9372-2C3A-4F5C-BD66-84074BA706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S recommendation 7/20/06</a:t>
            </a:r>
            <a:endParaRPr b="0" lang="en-US" sz="2000" spc="-1" strike="noStrike">
              <a:solidFill>
                <a:srgbClr val="ffffff"/>
              </a:solidFill>
              <a:latin typeface="Arial Black"/>
            </a:endParaRPr>
          </a:p>
        </p:txBody>
      </p:sp>
      <p:sp>
        <p:nvSpPr>
          <p:cNvPr id="58"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07/20/06, PRS voted to recommend approval of PRR672 as submitted by the Retail Market Subcommittee (RMS).  Revised language will be grey-boxed until system implementation. ERCOT will be directed to implement priority move-ins within two (2) Retail Business Hours with the TX SET 3.0 implementation. Remaining grey-boxed language will be implemented with future system functionality.  </a:t>
            </a:r>
            <a:r>
              <a:rPr b="1" lang="en-US" sz="1800" spc="-1" strike="noStrike">
                <a:solidFill>
                  <a:srgbClr val="333399"/>
                </a:solidFill>
                <a:latin typeface="Arial"/>
              </a:rPr>
              <a:t>ERCOT and Market Participants will have a collaborative analysis of Retail Business Processes (RBP) associated with PRR672 transaction timing changes. Results of the analysis will be presented to RMS no later than the November 2006 RMS meeting. </a:t>
            </a:r>
            <a:endParaRPr b="1"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k and priority: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2) Retail Business Hours processing and sorting of priority move-in to be included with TX SET 3.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changes for PRR672 will be included in Project 60008_01 (priority 1.1; rank 10) </a:t>
            </a:r>
            <a:endParaRPr b="0"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tion passed with one (1) abstention from the Municipal segment.  All Market Segments were present for the vote.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D51049C-6B13-43AF-BA19-0076359AE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recommendation to BOD 8/3/06</a:t>
            </a:r>
            <a:endParaRPr b="0" lang="en-US" sz="2000" spc="-1" strike="noStrike">
              <a:solidFill>
                <a:srgbClr val="ffffff"/>
              </a:solidFill>
              <a:latin typeface="Arial Black"/>
            </a:endParaRPr>
          </a:p>
        </p:txBody>
      </p:sp>
      <p:sp>
        <p:nvSpPr>
          <p:cNvPr id="60"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08/03/06, TAC voted to recommend approval of PRR672 with Phase 2 and Phase 3 language to be grey-boxed and assigned a high priority to Phase 1.  </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ties for Phase 2 and Phase 3 will be considered after system and impact analyses have been completed and issues have been further vetted.  </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will present Phase 1 and its associated costs to the ERCOT Board for approval at this time.  </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and Phase 3 costs will be further defined upon completion of analysis.  </a:t>
            </a:r>
            <a:endParaRPr b="1" lang="en-US" sz="2000" spc="-1" strike="noStrike">
              <a:solidFill>
                <a:srgbClr val="000000"/>
              </a:solidFill>
              <a:latin typeface="Arial"/>
            </a:endParaRPr>
          </a:p>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tion passed with two oppositions from the Consumer segment.  All Market Segments were present for the vote.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CFE90CC-0B5B-46ED-B1F2-2B90ABD63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D action 8/15/06</a:t>
            </a:r>
            <a:endParaRPr b="0" lang="en-US" sz="2000" spc="-1" strike="noStrike">
              <a:solidFill>
                <a:srgbClr val="ffffff"/>
              </a:solidFill>
              <a:latin typeface="Arial Black"/>
            </a:endParaRPr>
          </a:p>
        </p:txBody>
      </p:sp>
      <p:sp>
        <p:nvSpPr>
          <p:cNvPr id="62"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ard voted unanimously to approve PRR672 as recommended by TAC.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09D9DEE-FBC8-4438-A327-E7D79898D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 Level 1 Recap</a:t>
            </a:r>
            <a:endParaRPr b="0" lang="en-US" sz="2000" spc="-1" strike="noStrike">
              <a:solidFill>
                <a:srgbClr val="ffffff"/>
              </a:solidFill>
              <a:latin typeface="Arial Black"/>
            </a:endParaRPr>
          </a:p>
        </p:txBody>
      </p:sp>
      <p:sp>
        <p:nvSpPr>
          <p:cNvPr id="64" name="PlaceHolder 2"/>
          <p:cNvSpPr>
            <a:spLocks noGrp="1"/>
          </p:cNvSpPr>
          <p:nvPr>
            <p:ph/>
          </p:nvPr>
        </p:nvSpPr>
        <p:spPr>
          <a:xfrm>
            <a:off x="380880" y="837720"/>
            <a:ext cx="8382240" cy="533412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1 Transactions: Including transaction pairs (inbound and outbound) relating to 814_16 priority move-ins and 814_20 creates (adds), which should be processed within 1 Retail Business Hour (any hour within a Retail Business Day as defined in Section 2 of Protocols).</a:t>
            </a:r>
            <a:endParaRPr b="1"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support timing changes for:</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16 Priority Move-In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 Two (2) Retail Business Hours processing and sorting of priority move-in to be included with TX SET 3.0.</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 additional system changes (going from 2hr to 1hr) to be managed in PR60008 – Market decision to re-rank</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by ERCOT support alternative to changing transaction timing for:</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0 Creates (add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recommends near term approach – changing transaction flow process for 814_20s (Two SIRs to be in Feb 2007 release)</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e the 814_20s throttling capabilities within current processing pipe (all 814s)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a separate processing pipe for 814_20/814_21 processing</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requests the market to review the production results from the near-term before adding system changes to PR60008 for the 814_20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C8F1A3D-AE73-4A14-AE0A-EC4C68B7D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ndings from Analysis – Level 1 transactions</a:t>
            </a:r>
            <a:endParaRPr b="0" lang="en-US" sz="2000" spc="-1" strike="noStrike">
              <a:solidFill>
                <a:srgbClr val="ffffff"/>
              </a:solidFill>
              <a:latin typeface="Arial Black"/>
            </a:endParaRPr>
          </a:p>
        </p:txBody>
      </p:sp>
      <p:sp>
        <p:nvSpPr>
          <p:cNvPr id="66" name=""/>
          <p:cNvSpPr/>
          <p:nvPr/>
        </p:nvSpPr>
        <p:spPr>
          <a:xfrm>
            <a:off x="228600" y="990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 name=""/>
          <p:cNvSpPr/>
          <p:nvPr/>
        </p:nvSpPr>
        <p:spPr>
          <a:xfrm>
            <a:off x="228600" y="838080"/>
            <a:ext cx="3352680" cy="5181840"/>
          </a:xfrm>
          <a:prstGeom prst="rect">
            <a:avLst/>
          </a:prstGeom>
          <a:noFill/>
          <a:ln w="0">
            <a:noFill/>
          </a:ln>
        </p:spPr>
        <p:style>
          <a:lnRef idx="0"/>
          <a:fillRef idx="0"/>
          <a:effectRef idx="0"/>
          <a:fontRef idx="minor"/>
        </p:style>
        <p:txBody>
          <a:bodyPr lIns="90000" rIns="90000" tIns="46800" bIns="46800" anchor="t">
            <a:normAutofit/>
          </a:bodyPr>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Move-I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needs to receive by 5pm or the order is considered received the next business d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may need to review their batch ti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s may need to review their call center scripts to ensure that customer expectations are set appropriate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tretch/>
        </p:blipFill>
        <p:spPr>
          <a:xfrm>
            <a:off x="4098960" y="762120"/>
            <a:ext cx="4511520" cy="5371920"/>
          </a:xfrm>
          <a:prstGeom prst="rect">
            <a:avLst/>
          </a:prstGeom>
          <a:ln w="0">
            <a:noFill/>
          </a:ln>
        </p:spPr>
      </p:pic>
      <p:sp>
        <p:nvSpPr>
          <p:cNvPr id="3" name="PlaceHolder 2"/>
          <p:cNvSpPr>
            <a:spLocks noGrp="1"/>
          </p:cNvSpPr>
          <p:nvPr>
            <p:ph type="sldNum" idx="3"/>
          </p:nvPr>
        </p:nvSpPr>
        <p:spPr/>
        <p:txBody>
          <a:bodyPr/>
          <a:p>
            <a:fld id="{852363EA-3BA8-44D5-ABAF-B2985E0DC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llaborative Analysis – Level 2 recap</a:t>
            </a:r>
            <a:endParaRPr b="0" lang="en-US" sz="2000" spc="-1" strike="noStrike">
              <a:solidFill>
                <a:srgbClr val="ffffff"/>
              </a:solidFill>
              <a:latin typeface="Arial Black"/>
            </a:endParaRPr>
          </a:p>
        </p:txBody>
      </p:sp>
      <p:sp>
        <p:nvSpPr>
          <p:cNvPr id="70" name="PlaceHolder 2"/>
          <p:cNvSpPr>
            <a:spLocks noGrp="1"/>
          </p:cNvSpPr>
          <p:nvPr>
            <p:ph/>
          </p:nvPr>
        </p:nvSpPr>
        <p:spPr>
          <a:xfrm>
            <a:off x="380880" y="837720"/>
            <a:ext cx="8382240" cy="525780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2 Transactions: Including transaction pairs relating to standard move-ins, move-outs, Off cycle Drops to AREP and Off cycle switches, which should be processed within 2 Retail Business Hours</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support timing changes for:</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Move-i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ou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ach – additional system changes (going to 2 hr) to be managed in PR60008 – Market decision to re-rank</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1699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does not believe that the analysis support the timing changes for the following:</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cycle Switche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cycle Drop to AREP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file another PRR to move these to Level 4</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s did not agree with the moving from Level 2 to Level 4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DB7A709-A9AE-492C-81B9-089FE19DB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ren Farley</dc:creator>
  <dc:description/>
  <dc:language>en-US</dc:language>
  <cp:lastModifiedBy>kfarley</cp:lastModifiedBy>
  <dcterms:modified xsi:type="dcterms:W3CDTF">2006-11-01T18:01:17Z</dcterms:modified>
  <cp:revision>157</cp:revision>
  <dc:subject/>
  <dc:title>Role of Account Management at ERCOT</dc:title>
</cp:coreProperties>
</file>