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8852A-7CE3-4546-BA34-B9CE403E7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976CD-0170-4298-B6CB-741E90580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F1B34-69E5-4DF1-B55F-14CFC261C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413DA-4999-43E7-A30D-F422FE81F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B3759-8A61-47A8-A678-6F73D911B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6F356-6A5D-462D-8739-26088A320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D4C53-A290-4D06-BEF8-4AD959936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1027D-CC23-4138-946F-70A2E42AA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9E1E6-2BF9-4A61-A24D-E7D3AF2BF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8DE4A-F518-45D0-A4EF-432D44608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33128-67BF-4205-B206-77A67E3F3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61A5C-2F05-46DB-91DE-5D774D8DB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5DEE-2934-4396-9158-ABFD296A25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086600" y="152280"/>
            <a:ext cx="1828800" cy="982800"/>
          </a:xfrm>
          <a:prstGeom prst="rect">
            <a:avLst/>
          </a:prstGeom>
          <a:ln w="0">
            <a:noFill/>
          </a:ln>
        </p:spPr>
      </p:pic>
      <p:sp>
        <p:nvSpPr>
          <p:cNvPr id="6" name=""/>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0" lang="en-US" sz="24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23880"/>
            <a:ext cx="777240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DTWG Update </a:t>
            </a:r>
            <a:br>
              <a:rPr sz="4000"/>
            </a:br>
            <a:r>
              <a:rPr b="0" lang="en-US" sz="4000" spc="-1" strike="noStrike">
                <a:solidFill>
                  <a:srgbClr val="000000"/>
                </a:solidFill>
                <a:latin typeface="Arial"/>
              </a:rPr>
              <a:t>to</a:t>
            </a:r>
            <a:br>
              <a:rPr sz="4000"/>
            </a:br>
            <a:r>
              <a:rPr b="0" lang="en-US" sz="4000" spc="-1" strike="noStrike">
                <a:solidFill>
                  <a:srgbClr val="000000"/>
                </a:solidFill>
                <a:latin typeface="Arial"/>
              </a:rPr>
              <a:t>RMS</a:t>
            </a:r>
            <a:br>
              <a:rPr sz="4000"/>
            </a:br>
            <a:r>
              <a:rPr b="0" lang="en-US" sz="2800" spc="-1" strike="noStrike">
                <a:solidFill>
                  <a:srgbClr val="000000"/>
                </a:solidFill>
                <a:latin typeface="Arial"/>
              </a:rPr>
              <a:t>Reviewing Incidents of</a:t>
            </a:r>
            <a:br>
              <a:rPr sz="2800"/>
            </a:br>
            <a:r>
              <a:rPr b="0" lang="en-US" sz="2800" spc="-1" strike="noStrike">
                <a:solidFill>
                  <a:srgbClr val="000000"/>
                </a:solidFill>
                <a:latin typeface="Arial"/>
              </a:rPr>
              <a:t> ERCOT System and  Data Integrity Issues </a:t>
            </a:r>
            <a:br>
              <a:rPr sz="2800"/>
            </a:br>
            <a:r>
              <a:rPr b="0" lang="en-US" sz="2800" spc="-1" strike="noStrike">
                <a:solidFill>
                  <a:srgbClr val="000000"/>
                </a:solidFill>
                <a:latin typeface="Arial"/>
              </a:rPr>
              <a:t>Affecting the Texas Retail Marke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6" name="PlaceHolder 2"/>
          <p:cNvSpPr>
            <a:spLocks noGrp="1"/>
          </p:cNvSpPr>
          <p:nvPr>
            <p:ph type="subTitle"/>
          </p:nvPr>
        </p:nvSpPr>
        <p:spPr>
          <a:xfrm>
            <a:off x="2133720" y="4952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dnesday </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8, 2006</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E05D8F3-E72C-454A-97F4-9DC739EF9A1F}" type="slidenum">
              <a:t>1</a:t>
            </a:fld>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DTWG Review </a:t>
            </a:r>
            <a:endParaRPr b="0" lang="en-US" sz="4400" spc="-1" strike="noStrike">
              <a:solidFill>
                <a:srgbClr val="000000"/>
              </a:solidFill>
              <a:latin typeface="Arial"/>
            </a:endParaRPr>
          </a:p>
        </p:txBody>
      </p:sp>
      <p:sp>
        <p:nvSpPr>
          <p:cNvPr id="48" name="PlaceHolder 2"/>
          <p:cNvSpPr>
            <a:spLocks noGrp="1"/>
          </p:cNvSpPr>
          <p:nvPr>
            <p:ph/>
          </p:nvPr>
        </p:nvSpPr>
        <p:spPr>
          <a:xfrm>
            <a:off x="228240" y="1295280"/>
            <a:ext cx="883908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and ERCOT are committed to working together to complete efforts necessary to resolve Retail system failures </a:t>
            </a:r>
            <a:endParaRPr b="0" lang="en-US" sz="2000" spc="-1" strike="noStrike">
              <a:solidFill>
                <a:srgbClr val="000000"/>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mplishing the goal of reducing/eliminating system failures will be accomplished b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ng a thorough review of each incident of fail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ing a technical resolu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if technical resolution is already included in an existing approved pending ERCOT project or if a System Change Request (SCR) is need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ing forward with either supporting project progress or initiating an SCR for RMS approv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monitoring post implementation to ensure the implementation sufficiently resolves the issu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ing findings to RMS as needed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71ACB04-F515-498B-BAD3-171401289755}" type="slidenum">
              <a:t>2</a:t>
            </a:fld>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DTWG Review</a:t>
            </a:r>
            <a:endParaRPr b="0" lang="en-US" sz="4400" spc="-1" strike="noStrike">
              <a:solidFill>
                <a:srgbClr val="000000"/>
              </a:solidFill>
              <a:latin typeface="Arial"/>
            </a:endParaRPr>
          </a:p>
        </p:txBody>
      </p:sp>
      <p:sp>
        <p:nvSpPr>
          <p:cNvPr id="50" name=""/>
          <p:cNvSpPr/>
          <p:nvPr/>
        </p:nvSpPr>
        <p:spPr>
          <a:xfrm>
            <a:off x="746280" y="1611360"/>
            <a:ext cx="7788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reviewed at the October 2006 RMS meeting, TDTWG and ERCOT have agreed to the template to be used to capture information, action items, work in progres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tegories includ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dat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dat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 tim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tim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minut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Description</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method</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ot Caus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 Implement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49072FB-12ED-4E0B-AD71-499C03F08A5C}" type="slidenum">
              <a:t>3</a:t>
            </a:fld>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DTWG Review </a:t>
            </a:r>
            <a:endParaRPr b="0" lang="en-US" sz="4400" spc="-1" strike="noStrike">
              <a:solidFill>
                <a:srgbClr val="000000"/>
              </a:solidFill>
              <a:latin typeface="Arial"/>
            </a:endParaRPr>
          </a:p>
        </p:txBody>
      </p:sp>
      <p:sp>
        <p:nvSpPr>
          <p:cNvPr id="52" name="PlaceHolder 2"/>
          <p:cNvSpPr>
            <a:spLocks noGrp="1"/>
          </p:cNvSpPr>
          <p:nvPr>
            <p:ph/>
          </p:nvPr>
        </p:nvSpPr>
        <p:spPr>
          <a:xfrm>
            <a:off x="228240" y="1447920"/>
            <a:ext cx="883908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sible ERCOT Security Concern</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must participate in open discussions in order for the issue to be affectively understood and addresse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those open discussions, detailed documentation may not always be able to be accomplished since ERCOT Security policies include limits on producing information that may at some point possibly be used in a threatening manner and possibly place ERCOT at risk.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nstances ERCOT will complete analysis in a secure manner and discuss resolution efforts with TDTWG as possibl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ould like ERCOT security to participate in these efforts. This will help ensure TDTWG can work within ERCOT Security policy and will minimize “rework” efforts.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01D0A0D-A3BE-43AA-B33A-BAD6922D2D9D}" type="slidenum">
              <a:t>4</a:t>
            </a:fld>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AE43A4C-DA96-4505-BB6E-1AA6710EA6D2}" type="slidenum">
              <a:t>5</a:t>
            </a:fld>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Registered User</cp:lastModifiedBy>
  <cp:lastPrinted>2002-09-24T18:27:58Z</cp:lastPrinted>
  <dcterms:modified xsi:type="dcterms:W3CDTF">2006-11-07T21:34:44Z</dcterms:modified>
  <cp:revision>411</cp:revision>
  <dc:subject/>
  <dc:title>PowerPoint Presentation</dc:title>
</cp:coreProperties>
</file>