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4AC0-23FC-4DCC-915C-C768AA6DA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What entities are exposed to the uplift associated with a DAM participant’s failure to p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Questions from COPS discu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Is the 180 day uplift in the draft Nodal Protocols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file Model Coefficient Re-estimation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–        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PS approved urgency request for LPGRR016 … transition plan requirement and profile models moved to an appendix in L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–        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RCOT staff determined data issues with baseline analysis and presented to PWG and COPS 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–        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RCOT currently re-estimating profile model coefficients and producing new profile shap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–        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-work creates timing issues around completion / implem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–        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PS will review refreshed info Nov 16, and provide to PRS the LPGRR for v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–        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AC will vote in Dec. 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•         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AC can reject the ch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•         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AC can approve suggested urgent timeline for implementation in May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•         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AC can approve with a normal timeline new models would be implemented in Oct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•         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AC can approve with normal timeline, allow implementation during summer month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file Model Coefficient Re-estimation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–        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PS approved urgency request for LPGRR016 … transition plan requirement and profile models moved to an appendix in L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–        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RCOT staff determined data issues with baseline analysis and presented to PWG and COPS 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–        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RCOT currently re-estimating profile model coefficients and producing new profile shap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–        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-work creates timing issues around completion / implem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–        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PS will review refreshed info Nov 16, and provide to PRS the LPGRR for v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–        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AC will vote in Dec. 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•         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AC can reject the ch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•         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AC can approve suggested urgent timeline for implementation in May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•         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AC can approve with a normal timeline new models would be implemented in Oct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•         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AC can approve with normal timeline, allow implementation during summer month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0BB2-BBAA-4086-B535-59C346A2D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0035-D07A-4511-A654-B27A8E67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F330-6223-4A22-BF10-9E0D98B53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A32D-D6F6-4FAB-A18F-D759950DD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B5A7-A542-4BB0-8A89-6DDF5925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C292-C718-4D62-8836-DA2E9F05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BC84-CDF8-4E8E-9DEF-1DE1BEE4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58B3-A6F9-4336-A6C7-A9415E9D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8B2A-1A11-4AA1-BF64-C90FB91F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A629-4291-4213-B5EB-B169D1F1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8A83-ED7A-4DCD-BC3E-B0B34ED2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9AC1-9E3E-464B-8094-E8D2EBDF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9EA1-2A2F-482E-9486-B741167AD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ommercial Operations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ub-Committee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Update to T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46483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ovember 2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844C-272C-4370-8FDC-7AF2686C41D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Working Groups: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1295280"/>
            <a:ext cx="876312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505800" indent="-5058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ommercial Communication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continues to support TPTF by reviewing Commercial documentation.  Friday conference calls have been extremely successful and educa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-5058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UFE TF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provided revised language in PRR695 for defining the annual UFE analysis performed by ERCOT.  COPS approved the draft PRR which will be reviewed at the next PRS me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-5058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DEWG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continues to support  the implementation of several SC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-5058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PS to recommend to PRS to delete TML Phase III project.  A workshop was held to review outstanding items.  Group decided SIRs could be utilized for some minor requests and if a MP wanted to sponsor additional functions, that option was avai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-5058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44280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-50580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-50580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-50580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-50580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-50580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-505800" algn="ctr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9E05-0877-4C56-9352-01915E53C9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file Working Group: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1295280"/>
            <a:ext cx="876312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505800" indent="-5058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nnual Validation complete for Residential customers.  Business ESIIDs currently in progr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-5058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file Model Coefficient Re-estim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442800"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COPS approved urgency request for LPGRR0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442800"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RCOT staff determined data issues with baseline analysis and presented to PWG and COP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442800"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RCOT currently re-estimating profile model coefficients and producing new profile sha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442800"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Re-work creates timing issues around completion /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442800"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COPS will review refreshed info Nov 16, and provide to PRS the LPGRR and SCR (which do not change from the way they are now) for vo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442800"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AC will vote in Dec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8320" indent="-379440">
              <a:spcBef>
                <a:spcPts val="34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AC can reject the chan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8320" indent="-379440">
              <a:spcBef>
                <a:spcPts val="34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AC can approve suggested urgent timeline for implementation in May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8320" indent="-379440">
              <a:spcBef>
                <a:spcPts val="34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AC can approve with a normal timeline - new models would be implemented in Oct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8320" indent="-379440">
              <a:spcBef>
                <a:spcPts val="34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AC can approve with normal timeline, allow implementation during summer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8320" indent="-379440">
              <a:spcBef>
                <a:spcPts val="34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-505800">
              <a:spcBef>
                <a:spcPts val="876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CC40-C762-4600-9F60-C8E5D2C371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8288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1522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file Model Draft Timeline:</a:t>
            </a:r>
            <a:r>
              <a:rPr b="0" lang="en-US" sz="3600" spc="-1" strike="noStrike">
                <a:solidFill>
                  <a:srgbClr val="000000"/>
                </a:solidFill>
                <a:latin typeface="Antique Olive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80880" y="1066680"/>
          <a:ext cx="8534520" cy="5745240"/>
        </p:xfrm>
        <a:graphic>
          <a:graphicData uri="http://schemas.openxmlformats.org/drawingml/2006/table">
            <a:tbl>
              <a:tblPr/>
              <a:tblGrid>
                <a:gridCol w="1489320"/>
                <a:gridCol w="993600"/>
                <a:gridCol w="605160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 Profile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/21/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orkshop on new profile model transition into market settl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/29/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W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completes analysis of transition alternatives and presents recommendation to PW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/30/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W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tio Analysis and comparison with existing profiles with new profile id assignments from 2006 annual valid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/14/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W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sent new models to PWG and PWG achieves consensus on profile determin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/16/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te on approval of determinates, SCR and recommended time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/1/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te on approv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/12/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te on approv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/13/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keholder approval complete - original was 11/31/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/12/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 days notice complete – normal time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/1/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lementation –**Other alternatives ex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090E-8A7E-49B1-988A-2117CD48FA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PS Appreciation: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1295280"/>
            <a:ext cx="876312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OPS would like to take this opportunity to THANK the ERCOT Load Profiling Staff and the Profile Working Group members.  These folks have done a tremendous job of working through large amounts of data to produce new, improved, revised Profile Coefficient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hanks Carl and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hanks Ernie, Brad and PW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B9E7-29FF-47F4-80DB-9D439CC8DC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Registered User</cp:lastModifiedBy>
  <dcterms:modified xsi:type="dcterms:W3CDTF">2006-10-27T19:34:36Z</dcterms:modified>
  <cp:revision>188</cp:revision>
  <dc:subject/>
  <dc:title>Point-to-Point</dc:title>
</cp:coreProperties>
</file>