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AEC-88D2-4B72-AE6D-851F264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52F-89DC-43B4-9FCF-77F21511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FB0-5195-4B54-A388-F8C7E262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AAB-070C-4AC9-AF28-F435EB21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D98-6F13-41F7-ABA0-3CAE67D3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821-468E-44B0-AB8F-66510A90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AC6-2C89-4F33-A99E-CBE79E9C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781-EB12-4285-A9C0-5D4A20FB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566-A6D6-4188-B241-24217B14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72F-6208-4345-BF2C-91BD6A79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125-CE35-45F1-AA44-C54CFFD5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1FC-321F-4842-BA52-0DDFE7EF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389640" y="5979960"/>
            <a:ext cx="2384640" cy="7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316560" y="5846760"/>
            <a:ext cx="2679840" cy="84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89800" y="611496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9440" y="1307880"/>
            <a:ext cx="77439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9360" y="4633200"/>
            <a:ext cx="77770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FB3C-857D-4C93-A857-634C21E0B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2438280" y="152280"/>
          <a:ext cx="45720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28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S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8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Oct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ov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MCT recommend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SET 3.0 scripts initially assigned on Nov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s reviewed Nov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cripts due Feb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 for Customer Billing Contact File will be full test script and not just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est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ipt Sub-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ed to adjust F0407 timing at thi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PT meets Nov 16 for final review of F0407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meeting of year for TT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 sub-team will meet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POLR testing for all volunteer and non-volunteer POLRs per PUC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Rs may choose to test as P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0407 – V3.0 Up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PT is updating TM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ing the Random Tes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ring to RMS in December for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>00206072</dc:creator>
  <dc:description/>
  <dc:language>en-US</dc:language>
  <cp:lastModifiedBy>cmoore</cp:lastModifiedBy>
  <dcterms:modified xsi:type="dcterms:W3CDTF">2006-11-01T19:04:59Z</dcterms:modified>
  <cp:revision>6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