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F25B-4666-4FC3-B251-C646D0AB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5EE-558A-49B1-AD5D-29F3C1E3C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6AFD-A3E0-4EEF-AFCF-E9662D5C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D761-2299-4F0F-9ED3-192F6DE7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6A98-C748-4B6B-BFCC-301C3237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C756-AA0F-4ED2-BEE3-88FCE3E4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129A-A120-4299-89D8-B52CC06E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AA94-9406-449D-A46D-65B79BEC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11C5-088E-4E6A-9372-D4B81405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7896-0608-4353-9604-3137A886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A95E-041A-4D06-AEF7-EE0A97EB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4D9F-72F0-4BC3-AAA4-D7D9B17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B9ED-66CC-4E86-80AE-22C1500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E124-317B-4610-8D25-24348E0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ED8-A601-43EA-B0E5-AD92E26A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8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10/06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an with Day 1 transactions flowing: 10/09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6 scheduled to conclude: 11/21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12/12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18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in a new territory – 2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xisting REPs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(New Umbrella DUNs)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95 Total Tasks (68 of 5595 Total MarkeTrak API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11/07/06 at 9:00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y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2.59%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1.56% by end of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0666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outstanding transactions for 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outstanding transactions for Week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0666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outstanding transactions for Week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1 outstanding transactions for Wee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1 outstanding transactions for Week 5 (Test Days 21 &amp; 22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Inbound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 Outbound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Point-to-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PI Cert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6 was the first Flight to Market test and certify for MarkeTrak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Participants – 4 (3 TDSPs, 1 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cripts utilized for MarkeTrak API testing /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, a total of 4 MarkeTrak scripts wer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3 scripts broken out/ created for TDSPs &amp; 3 scripts broken out/ created for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1 ERCOT/CR Connectivity script (CON57) and 1 ERCOT/TDSP Connectivity script (CON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API certification testing completed successfully with all four parties as of Wednesday, 11/01/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MarkeTrak API Certification may be completed ad-hoc, as long as the testing is not during a scheduled black-out peri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PI Cert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6-11-07T17:31:02Z</dcterms:modified>
  <cp:revision>59</cp:revision>
  <dc:subject/>
  <dc:title>Instructions</dc:title>
</cp:coreProperties>
</file>