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CA0F6-32A6-4BC8-8272-F480C6274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76A3-C02B-42AC-A01B-083E9A634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54607-1546-4B98-BB86-97E469058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53C91-8744-4A02-A486-610BB58C6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022A-CCE4-4668-B0F3-EC9853680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C384-BC48-4284-B97A-F3DC4ECC86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FDEB-C02F-4E8E-A22F-B376200B9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DA5D-E724-4A19-BD0C-80D1F5A3C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9C517-16EC-42A8-9506-F9AF55929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44D38-242E-4F93-9B76-E15B24562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146E-8CBB-464C-80AF-5570FA983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A3E1-3AF6-489C-B306-84775E15C7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15DE-13BC-4510-B4DB-F14C23F08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mber 8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hyperlink" Target="mailto:hparrish@ercot.co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520" y="14572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PR50121_07 Retail Business Processes (RBP)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Project Update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November 8, 2006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Adam D. Martinez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Mgr, Market Operations DP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3581280"/>
            <a:ext cx="716292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838080"/>
            <a:ext cx="8991720" cy="50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Statu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 on target for Schedule, Scope, and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08/01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Completed 05/08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1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-Live on 12/10/06 weekend; Stabilization through 02/09/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Target to complete Februar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nt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de has been delivered to i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Siebel Data Conversion Staging in Production on 11/3/06 weekend       (will continue each weekend until comple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EIF Data Conversion every weekend until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Load Testing 11/03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U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62920" y="6400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152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Mile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949320"/>
            <a:ext cx="861084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ments (pens down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April 12, 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(internal docu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July 14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July 28, 2006 for Cor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Completion Date of December 1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Trai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Completion of November 18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ion (Go l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–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ekend December 10, 200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Code Migration, Data Conversion, and Production Ve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6400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ing Status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1920" y="9140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ing Sche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Processing: started 08/28 – 87% complete (~ 600 scrip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TML: started 10/02 – 63% (approx. 50 scrip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ocessing: started 10/02 – 5% (approx. 70 scrip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S Testing: started 10/02 – 67% (approx. 60 scrip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/Performance Testing: Starts 11/3 - 0%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Reschedule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Testing: Starts 11/13 – 0%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Reschedule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51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ect Stat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4 total to date as of 11/01/06; only 49 of those have been TIB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– 6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– 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 – 3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 – 1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known (Under Review) –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6400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 Weeken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MS approved SLA exception for Migration Weeke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 AFFECTE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 From 7:00 AM  Friday, December 8, 2006 to 11:30 PM Sunday, December 10, 2006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accommodates Migration, Data Conversion, Verification, and avoid high-volume transaction weekend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8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DITIONAL INFORM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During this outage the following functions will be affecte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14200">
              <a:lnSpc>
                <a:spcPct val="8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ket Participants utilizing NAESB WILL be able to send to ERCOT but will NOT be able to Receive from ERCOT during the out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2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**NAESB will be offline between 8:00AM to 9:00AM Saturday, December 9, 2006 to for server rebo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14200">
              <a:lnSpc>
                <a:spcPct val="8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7 Transactions will NOT be forwarded during the out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14200">
              <a:lnSpc>
                <a:spcPct val="8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97 Functional Acknowledgements will NOT be sent during the out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14200">
              <a:lnSpc>
                <a:spcPct val="8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l/Notification batch exception in the event of a roll-back on December 10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14200">
              <a:lnSpc>
                <a:spcPct val="8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ail components of the TML and API will NOT be available inclu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200" indent="-225720">
              <a:lnSpc>
                <a:spcPct val="8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port Explor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/ Search Re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52200" indent="-225720">
              <a:lnSpc>
                <a:spcPct val="8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 ES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52200" indent="-225720">
              <a:lnSpc>
                <a:spcPct val="8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 Transa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52200" indent="-225720">
              <a:lnSpc>
                <a:spcPct val="8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bmit Trans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52200" indent="-225720">
              <a:lnSpc>
                <a:spcPct val="8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A Functionalit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2920" y="6400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 Weeken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ont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Conversion Load Mitig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4 hour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outage to the Market by launching Go-Live with 3-6 months of 2006 descending transactional data (previously stored in Seebeyond TCH Datab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in remaining years on following weekends.  (Low to zero R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 by late December 3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6 / January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TML and API Find Transaction will be limited to Data Conversion Lo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6400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gration Weekend Timelin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838080"/>
          <a:ext cx="86104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86104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7162920" y="6400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235160"/>
            <a:ext cx="82296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r, Market Ope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3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martinez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e Parr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Manager, Market Ope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6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parrish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martinez</cp:lastModifiedBy>
  <dcterms:modified xsi:type="dcterms:W3CDTF">2006-11-01T22:03:01Z</dcterms:modified>
  <cp:revision>69</cp:revision>
  <dc:subject/>
  <dc:title>Instructions</dc:title>
</cp:coreProperties>
</file>