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EBB-F9D7-414A-96C8-2E474A6E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D43-A8F2-4AAA-9854-8ED26441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F3C-3356-489C-B2CD-B90B0EAD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636-D1EE-4179-8CAB-4E60D29D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709-216B-45C5-A36A-FFC6EC2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185-34D9-4B3A-9B6B-A812FDF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A64-880C-4583-BF43-EE843778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933-9CA8-46A5-9302-7F400415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222-6CF9-402A-906F-1CB4BE9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C6E-AF78-46B4-AED3-3CFE756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326-B17D-4D30-8E37-1A50F98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D1A-C8AC-4E9B-BC93-417F3D6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0D1-5572-4B09-B525-87D8C51F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4F8-2429-4FBF-AE12-9007465EB6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562720"/>
            <a:ext cx="6324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297 In Progress DEV Issues, 65 are resolved and awaiting other party resolution check 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0280" y="1349280"/>
            <a:ext cx="808344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2C7-D31D-4C58-8EFF-44F043E17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769160" cy="24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E11-00A7-40DA-BF27-5085BED251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4704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C46-695C-4D5A-BB0C-69CA95AA5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975-793F-463F-841B-AF758C72F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F80-1F76-4EC7-BDC6-0DB4412A3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0400" y="1755720"/>
            <a:ext cx="7963200" cy="334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1EE-B274-4A0B-92EE-29F1D19AA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E95-AB3C-4608-8FE8-73029EAC7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038480"/>
            <a:ext cx="7010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8948880" cy="276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67E-03D1-47DE-802B-FED654C021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523880"/>
            <a:ext cx="22096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7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304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47,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634068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D34-53BE-4E44-AFDD-6D5E8D4157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86728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7543800" cy="34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B8E-7BA8-411B-8822-1D5B3586B6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10/31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56480" cy="14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23B-BBE5-4D5B-93FC-909984A498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rammacher</cp:lastModifiedBy>
  <cp:lastPrinted>2002-09-24T18:27:58Z</cp:lastPrinted>
  <dcterms:modified xsi:type="dcterms:W3CDTF">2006-11-01T20:03:11Z</dcterms:modified>
  <cp:revision>625</cp:revision>
  <dc:subject/>
  <dc:title>PowerPoint Presentation</dc:title>
</cp:coreProperties>
</file>