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0B24-8FE6-4C6D-B1D7-63D5FE19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6C7E-FA62-465C-9982-B886291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6A0A-7566-465F-8E7A-847028C6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F32A-EF1C-4B15-BBCB-230B1B27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1D20-1CB7-4285-8706-1B299E17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C9D1-A323-4058-9D83-B94A87D0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1686-9D0D-46D7-BC41-25C57E61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8D79-2CD3-4D2C-86B9-81F7363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68A4-0F0E-433B-82EF-97FAC0B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7A7C-BBAE-4C13-A110-470AA87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5E5A-1E53-4742-B477-3A63008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0F8A-3746-474E-B856-56F1837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1E1-3F22-4DAD-AF5B-D7A066E15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ear-To-Date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46080" y="1066680"/>
          <a:ext cx="72518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1066680"/>
                    <a:ext cx="72518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84200" y="1066680"/>
          <a:ext cx="6375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066680"/>
                    <a:ext cx="6375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11-03T00:10:45Z</dcterms:modified>
  <cp:revision>38</cp:revision>
  <dc:subject/>
  <dc:title>Instructions</dc:title>
</cp:coreProperties>
</file>