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30DD-F4FF-4FC9-BA6B-E9B53772B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A98F-0261-4E9A-89D9-FFC6C5021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28E8-6A9F-4AF9-BEAB-97C135925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B9EA-0382-4E89-A9B0-37908FCFA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9D97-C518-4C97-A0C0-3A49188D3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6CE3-D7B9-470A-B538-0A891E338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80C5-6712-43A3-90CF-EBB3262B8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A1A-8281-4BBC-B346-AA97C8351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C24F-4C24-463C-867B-A1AD66D5B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A8B7-5BCD-4CA1-91D8-F44682AE6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DDD2-4C2E-4082-A183-364E072B8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854E-3814-4F06-88AC-F71A3D934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E9C-0164-47BC-BC73-C7BE2B70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24040" y="1293480"/>
            <a:ext cx="5943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RCOT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8, 2006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801720"/>
            <a:ext cx="876312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Notice sent on Nov. 1 for PaperFree fileserver installation to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team conducted planning meetings with TDTWG leadership to finalize Market cut-over plans for NAESB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rvice providers will be required to test; however, all MPs are encouraged to test with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imeframes will be scheduled; ERCOT suppor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Market testing kick-off call week of 11/13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cheduling for Market Participants by 11/17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ERCOT production migration to new parallel environment by 11/21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Imp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804960"/>
            <a:ext cx="86868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storage to support project resulted in a delay to the production dates originally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act to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month delay (Oct. to Dec.) for test &amp; production mig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Free fileserver migration to Prod – 11/11 (Nov. Retail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 interoperability testing for new NAESB system – starts 11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Market testing scheduled through 1/12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Market testing 1/15/07 – 1/26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 to total budget; $90K moved from 2006 t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ration Time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914400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438280" y="4648320"/>
            <a:ext cx="1143000" cy="457200"/>
          </a:xfrm>
          <a:prstGeom prst="borderCallout1">
            <a:avLst>
              <a:gd name="adj1" fmla="val 18750"/>
              <a:gd name="adj2" fmla="val -8333"/>
              <a:gd name="adj3" fmla="val -204513"/>
              <a:gd name="adj4" fmla="val -12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Systems Rea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648320"/>
            <a:ext cx="1143000" cy="457200"/>
          </a:xfrm>
          <a:prstGeom prst="borderCallout1">
            <a:avLst>
              <a:gd name="adj1" fmla="val 18750"/>
              <a:gd name="adj2" fmla="val -8333"/>
              <a:gd name="adj3" fmla="val -206597"/>
              <a:gd name="adj4" fmla="val 222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gration 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 Imp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838080"/>
            <a:ext cx="8991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require Market Participant system changes; instructions and scripts  available 11/21/06.  Chang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o new Production NAESB URL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AESB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ID/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GP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SL certificates (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changes to firewalls (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-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’s Production environment available for individual Market transitions upon completion of testing by that 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NAESB in parallel production until all MPs are transitioned; target is 01/3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will only be reported on new system beginning 01/3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07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1-01T22:08:37Z</dcterms:modified>
  <cp:revision>90</cp:revision>
  <dc:subject/>
  <dc:title>Instructions</dc:title>
</cp:coreProperties>
</file>