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3CA2-AAC9-40AB-9DC6-64C77AD8B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265A-6A29-46C5-8B15-F7A14A984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F068-1FA2-40FA-85BE-4E51FA487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931D-3A93-45EB-8516-51094648D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22FE-66D0-4F77-85E3-014CA0928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821E-60E8-4246-BDF1-251C7C474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B401-15E9-4238-946B-E8BB0F864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8939-5A48-4E13-96FC-D443BD5DF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C485-11BB-4AD1-B5DE-BA1B74B46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3B42-01DC-4A4E-92FE-46795E98B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09F6-6DC6-4E90-8FBD-E1C61570E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27DB-7BF1-4842-B128-589473144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419E-F5C0-49CD-8167-2C497912F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352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DPO Updat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 Financial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2006 Year-To-Date Status</a:t>
            </a:r>
            <a:br>
              <a:rPr sz="32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November 08, 2006</a:t>
            </a:r>
            <a:br>
              <a:rPr sz="2400"/>
            </a:b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d 2006 / 2007 PPL Status and Budge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695160"/>
          <a:ext cx="9144000" cy="5486400"/>
        </p:xfrm>
        <a:graphic>
          <a:graphicData uri="http://schemas.openxmlformats.org/drawingml/2006/table">
            <a:tbl>
              <a:tblPr/>
              <a:tblGrid>
                <a:gridCol w="795240"/>
                <a:gridCol w="2571840"/>
                <a:gridCol w="985680"/>
                <a:gridCol w="828720"/>
                <a:gridCol w="811440"/>
                <a:gridCol w="712800"/>
                <a:gridCol w="1218960"/>
                <a:gridCol w="1219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Prio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Budget 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 (S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-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 (S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&amp; III  (S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 I &amp;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domo Replac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8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kt / PU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. SET 3.0, including Mass Transition and T&amp;C'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(Transaction Clearinghouse)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(ESIID Tracking System)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 (inc. PaperFree &amp; NAES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 Siebel to L* Data Compari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site Enhancements for ERCOT Out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Enhancements (Workflow &amp; Reportin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ption Reporting / Monitoring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atic Exception Reprocessing Function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of Production Reporting to EIS - Ret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tion of Commercial Operations Data in E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81480" y="6181560"/>
          <a:ext cx="3962520" cy="295560"/>
        </p:xfrm>
        <a:graphic>
          <a:graphicData uri="http://schemas.openxmlformats.org/drawingml/2006/table">
            <a:tbl>
              <a:tblPr/>
              <a:tblGrid>
                <a:gridCol w="1524240"/>
                <a:gridCol w="1218960"/>
                <a:gridCol w="1219320"/>
              </a:tblGrid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8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d 2006 / 2007 PPL Status and Budge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95160"/>
          <a:ext cx="9144000" cy="5515200"/>
        </p:xfrm>
        <a:graphic>
          <a:graphicData uri="http://schemas.openxmlformats.org/drawingml/2006/table">
            <a:tbl>
              <a:tblPr/>
              <a:tblGrid>
                <a:gridCol w="795240"/>
                <a:gridCol w="2571840"/>
                <a:gridCol w="985680"/>
                <a:gridCol w="828720"/>
                <a:gridCol w="811440"/>
                <a:gridCol w="712800"/>
                <a:gridCol w="1218960"/>
                <a:gridCol w="1219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Prio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Budget 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 (S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k-$1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 (S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&amp; III  (S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 I &amp;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domo Replac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8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cc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kt / PU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. SET 3.0, including Mass Transition and T&amp;C'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cc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(Transaction Clearinghouse)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(ESIID Tracking System)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 (inc. PaperFree &amp; NAES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Carry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 Siebel to L* Data Compari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site Enhancements for ERCOT Out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rak Enhancements (Workflow &amp; Reportin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eption Reporting / Monitoring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atic Exception Reprocessing Function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of Production Reporting to EIS - Ret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25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tion of Commercial Operations Data in E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2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Hig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81480" y="6210360"/>
          <a:ext cx="3962520" cy="304920"/>
        </p:xfrm>
        <a:graphic>
          <a:graphicData uri="http://schemas.openxmlformats.org/drawingml/2006/table">
            <a:tbl>
              <a:tblPr/>
              <a:tblGrid>
                <a:gridCol w="1524240"/>
                <a:gridCol w="1218960"/>
                <a:gridCol w="121932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-$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M-$8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981080" y="1066680"/>
            <a:ext cx="2210040" cy="685800"/>
          </a:xfrm>
          <a:prstGeom prst="wedgeRectCallout">
            <a:avLst>
              <a:gd name="adj1" fmla="val -43675"/>
              <a:gd name="adj2" fmla="val 1828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roject will most likely be classified as an O&amp;M effort and come off the P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447920"/>
            <a:ext cx="2209680" cy="914400"/>
          </a:xfrm>
          <a:prstGeom prst="wedgeRectCallout">
            <a:avLst>
              <a:gd name="adj1" fmla="val -112138"/>
              <a:gd name="adj2" fmla="val 109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roject has been on the RO PPL since Q1 2006.  Was inadvertantly put on 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6219720"/>
            <a:ext cx="403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As of 10/31/06, forecast spend though 2006 for combined RO &amp; MO projects indicates that 2006 budget available covers Q4 2006 forecast spend, including the additional $200k added to MarkeTrak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07648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8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11-01T22:06:32Z</dcterms:modified>
  <cp:revision>52</cp:revision>
  <dc:subject/>
  <dc:title>Instructions</dc:title>
</cp:coreProperties>
</file>