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7D70-D3FD-4C84-B423-9C7F589D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3E07-375E-46AB-A5E1-99F13CEB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365B-0F56-4BE7-85AB-032A49A1C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5E6-30DD-4A6C-BFAE-9EC871AD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F024-7399-4759-89E4-7B48EC82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B007-D7E1-45A3-A984-8D94D1CC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F365-8075-437D-B944-70649FC7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E1F0-6B78-4869-B647-3FF53120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FAF1-ABB9-4D00-816F-665FDEDC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A75D-C9D0-421D-900A-2346E626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7C5B-F6B2-4A8E-B1F3-C0BC186A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CD98-0112-4474-A396-BE519CC6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08A8-DDBE-4F8A-941D-4020BF6E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9146-0FAD-45C4-8B2B-9AB21EAF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FABC-A1BD-41E0-8ECC-9140A873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ACA8-63D0-49F0-B599-E673B8C4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9677-E426-40E9-9967-8014AE00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8084-7275-4F92-8BAB-B239CC29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45B5-5ED2-4EDD-A425-7B12E310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C18F-5524-4CF8-AC9C-4D0D9B71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1904-95AC-4184-B638-C05E127A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C050-ADC6-433C-989A-0176CA59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7803-035F-4002-8CAA-6CA56BB6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CB2A-E7D6-4755-9350-D86AA78F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B3C3-BCCB-4CD2-91AE-E354D51841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8338-9BA1-47C1-B2FA-44DB8914F7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1066320"/>
            <a:ext cx="65534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Arial Rounded MT Bold"/>
              </a:rPr>
              <a:t>ERCOT Update to RMS on IDR Requirement Reports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81080" y="3886200"/>
            <a:ext cx="5808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Carl Ra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ERCOT Load Prof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ovember 8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 Rounded MT Bold"/>
              </a:rPr>
              <a:t>IDR Requirement Reports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1628640"/>
            <a:ext cx="8153280" cy="50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 Rounded MT Bold"/>
              </a:rPr>
              <a:t>IDR Requirement Reports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47800" y="1595520"/>
            <a:ext cx="8004240" cy="51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 Rounded MT Bold"/>
              </a:rPr>
              <a:t>IDR Requirement Reports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47800" y="1295280"/>
            <a:ext cx="8004240" cy="540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 Rounded MT Bold"/>
              </a:rPr>
              <a:t>IDR Requirement Reports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47800" y="1293840"/>
            <a:ext cx="8004240" cy="5402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01:08:05Z</dcterms:created>
  <dc:creator> </dc:creator>
  <dc:description/>
  <dc:language>en-US</dc:language>
  <cp:lastModifiedBy>AMarquez</cp:lastModifiedBy>
  <dcterms:modified xsi:type="dcterms:W3CDTF">2006-11-03T00:16:33Z</dcterms:modified>
  <cp:revision>117</cp:revision>
  <dc:subject/>
  <dc:title>IDR Taskforce Report to RMS</dc:title>
</cp:coreProperties>
</file>