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208-9F6B-4DDB-B8FE-5E904DAE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1B49-4F12-4EB2-AC44-863338C6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1D84-A6C2-4067-AF64-A40DEBBA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2671-C88B-422C-84A3-F16EE5F8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904-4FCA-4B80-8750-F3B6630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DA45-3E41-43BE-ABC1-D5372860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40A1-F757-4003-9574-123980B1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8F04-7A19-45D9-902E-694B5819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08C0-4480-492C-8DAE-152B24BF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CC03-238F-4ECF-BB3A-114517F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B8D0-255F-463F-884A-37879C82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3D9C-DBE4-47D1-A5D2-3A41375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909F-120D-4676-A5F6-C828FD8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2B6A-BD8F-463A-A340-C8A931E1C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Retail Transaction Issues Timel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uplicate Transactions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uplicate Transaction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actions taken in the last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Free Duplicate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Drive Mapping code change (10/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reduced duplicate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bel Duplicate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change to capture and correct duplicate transaction IDs and keep them from impacting Market Participants (10/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Cause Analysis conti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engaged with key vendors, team still meeting and diligently 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- 200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1219320" y="914400"/>
          <a:ext cx="119635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914400"/>
                    <a:ext cx="11963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-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1295280" y="762120"/>
          <a:ext cx="116586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762120"/>
                    <a:ext cx="116586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6-11-07T22:16:01Z</dcterms:modified>
  <cp:revision>44</cp:revision>
  <dc:subject/>
  <dc:title>Instructions</dc:title>
</cp:coreProperties>
</file>