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90F-9314-4C74-9962-AA2CE95C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file Model Coefficient Re-estim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approved urgency request for LPGRR016 … transition plan requirement and profile models moved to an appendix in 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staff determined data issues with baseline analysis and presented to PWG and COPS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-work creates timing issues around completion /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will review refreshed info Nov 16, and provide to PRS the LPGRR for v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will vote in Dec.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reject the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suggested urgent timeline for implementation in 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a normal timeline new models would be implemented in Oc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file Model Coefficient Re-estim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approved urgency request for LPGRR016 … transition plan requirement and profile models moved to an appendix in 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staff determined data issues with baseline analysis and presented to PWG and COPS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-work creates timing issues around completion /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will review refreshed info Nov 16, and provide to PRS the LPGRR for v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will vote in Dec.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reject the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suggested urgent timeline for implementation in 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a normal timeline new models would be implemented in Oc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2A3-B549-4E9F-8612-B3C6F6E5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910-F745-4A3A-ACFD-62F40F9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9CD-BE40-410F-8C19-F322002A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1A2-F572-4C35-865F-8970D029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8C3-159C-439C-984E-0A0CAC5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1CF-7884-44B8-8F7F-CAC030A3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2D8-5EF2-40B9-98B8-8E706A2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EF3-9F94-4D77-972C-E825D493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A07-733A-420C-9B43-850FCD7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133-B09D-4C05-93EE-773FC4F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1BF-AF6B-4AC5-BD37-25964F8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6DA-DC7F-4136-A580-AC5AECF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8FF-23BA-43AA-8D29-184C51F8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vember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D2D-DB41-4456-BEF9-EDDC14B0B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orking Group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mmercial Communic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continues to support TPTF by reviewing Commercial documentation.  Friday conference calls have been extremely successful and educa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FE T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rovided revised language in PRR695 for defining the annual UFE analysis performed by ERCOT.  COPS approved the draft PRR which will be reviewed at the next PR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EW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continues to support  the implementation of several SC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to recommend to PRS to delete TML Phase III project.  A workshop was held to review outstanding items.  Group decided SIRs could be utilized for some minor requests and if a MP wanted to sponsor additional functions, that option was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870-36A8-4E2A-817B-5B0D00B51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nual Validation complete for Residential customers.  Business ESIIDs currently in prog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file Model Coefficient Re-esti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approved urgency request for LPGRR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staff determined data issues with baseline analysis and presented to PWG and CO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-work creates timing issues around completion /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will review refreshed info Nov 16, and provide to PRS the LPGRR and SCR (which do not change from the way they are now) for v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will vote in Dec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reject th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suggested urgent timeline for implementation in Ma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with a normal timeline - new models would be implemented in Oc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B0F-AB5D-4147-B88F-1892F9076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Draft Timeline:</a:t>
            </a:r>
            <a:r>
              <a:rPr b="0" lang="en-US" sz="3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066680"/>
          <a:ext cx="8534520" cy="5745240"/>
        </p:xfrm>
        <a:graphic>
          <a:graphicData uri="http://schemas.openxmlformats.org/drawingml/2006/table">
            <a:tbl>
              <a:tblPr/>
              <a:tblGrid>
                <a:gridCol w="1489320"/>
                <a:gridCol w="993600"/>
                <a:gridCol w="60516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Profi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on new profile model transition into market sett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9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completes analysis of transition alternatives and presents recommendation to 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30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Analysis and comparison with existing profiles with new profile id assignments from 2006 annual val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14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 new models to PWG and PWG achieves consensus on profile determin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16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of determinates, SCR and recommended 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2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3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keholder approval complete - original was 11/3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2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days notice complete – normal 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–**Other alternatives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9E3-B34C-458C-A93A-78C0EFEF0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PS Appreciation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PS would like to take this opportunity to THANK the ERCOT Load Profiling Staff and the Profile Working Group members.  These folks have done a tremendous job of working through large amounts of data to produce new, improved, revised Profile Coefficient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anks Carl an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anks Ernie, Brad and P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53B-0CBA-4DB5-8D67-E56048B22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10-27T19:34:36Z</dcterms:modified>
  <cp:revision>188</cp:revision>
  <dc:subject/>
  <dc:title>Point-to-Point</dc:title>
</cp:coreProperties>
</file>