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595-0CFD-4A87-AD47-2F5FD8FE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48D5-D683-432D-AD36-31486B87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EB1C-CB56-4D45-A606-C17E7007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77F-97BB-4E5C-93B9-868C53CD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B9D1-26A8-4207-9C88-8D2F0CEE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EE61-62EF-4506-B7D2-A635554C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7DBC-D50D-4FDB-A285-2D5C2FD4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AF51-F631-4F07-84A5-A811F075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6DF3-0CFF-4B53-B8CB-4EE7DAC9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387B-4EDF-4EA1-BD7C-CCE5E3AE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6821-CC04-4C9F-AEB3-A01FFF76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A66-CC01-47BB-908B-B1C61412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A253-898D-4987-9010-113D52ED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1C31-A22F-44EC-900F-D5498C1F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4DE6-91D3-4214-8561-80BC699B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A550-98F4-480C-A049-032D32AB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6523-51DE-494F-A52B-77072A09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A8B-0938-43BB-A319-63B584C2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D56-7A71-4E1D-AE92-419CFDA8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40C-D63F-4B1D-B78D-38BCED38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E47-8B82-493D-82C1-8C5BA217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A671-3238-4941-AE25-DD95100A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F87-F6FD-4298-AB3D-EFD9002F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1FA-43E8-49A9-9308-07CF9811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016C-EF1A-422A-BFCD-F0A19202DC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C820-5596-4F86-92A1-B5417025B6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erc.com/%7Efilez/regional_standards/nerc_regional_procedures_comments.html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iance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vember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C8BE-F383-42F8-8B0F-EBA6C471A0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RC ERO Develop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July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FERC approved NERC’s application to become the Electric Reliability Organization (ERO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Texas Regional Entity budget submitted to NERC in Ju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ed Regional Entity Work Plan submitted to NERC in Ju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Delegation Agreement between NERC and ERCOT filed August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ERCOT Standards Development Process has been posted on the NERC Website for comment (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Regional Reliability Standar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8C3-288A-42AA-B275-5227DFEEA9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Compliance Activ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Compliance submitted, to NERC on September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contact information from ERCOT Entities responsible for NERC Reliability Standar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Compliance Staff participating with NERC on two ERCOT Local Control Center Reliability Readiness Audits – CenterPoint (October) &amp; TXU Electric Delivery (December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nts under investig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ril 1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ECP Event – continued review with PU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ptember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CS Event (possible SPS mis-oper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tober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Load Shedding Event (possible DCS Eve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861-D5F8-48AC-9A6E-8121493844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rol 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ptember performance indicated a third straight month of declining scores since scores peaked in Ju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une – 154.6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uly – 153.1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gust – 151.3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ptember – 142.5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TD, October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2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137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ptember’s score lowest since February (141.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for September indicate 32 QSEs passed / 1 non-wind-only QSE fail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0D9-CB55-4B37-884E-BDBA14D56C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RCOT CPS1 Performance Comparis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312-F447-409A-8FEB-C50924314B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COT’s CPS1 Monthly Tre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9E2-3EB6-4E21-9B9C-90F2C646DE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784872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2FE-900A-494F-9807-3BC29031EA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QSE PRR525 10-Minute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rval Sc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8EA3-A6D8-4112-8733-68D60A32AC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E Performance Monitor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E Performance Monitoring scores for all QSEs are published on the Compliance Webs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C58-2406-43AB-84DC-E89FCCCB98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975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525 Passing 10-Min Interval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ercentage Tre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845-816D-4B9D-8EEC-C67613AA63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urce Plan Performance Metr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ptember 2006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70040" y="1752480"/>
            <a:ext cx="759456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C1A-A01C-45AB-9E6E-43E4341455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L. Grimm</cp:lastModifiedBy>
  <dcterms:modified xsi:type="dcterms:W3CDTF">2006-10-25T14:22:48Z</dcterms:modified>
  <cp:revision>218</cp:revision>
  <dc:subject/>
  <dc:title>PRR 525 Compliance Analysis</dc:title>
</cp:coreProperties>
</file>