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9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599-0BE0-45B7-A355-5857036E6F56}" type="slidenum">
              <a:rPr b="0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41320" y="97488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57909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4389-242F-4A5C-9742-A0662A74A73C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oldercot.ercot.com/tmaps/login.cf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REZ Study Upd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456160"/>
            <a:ext cx="4724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alphaModFix amt="20000"/>
          </a:blip>
          <a:srcRect l="27764" t="1377" r="11577" b="4655"/>
          <a:stretch/>
        </p:blipFill>
        <p:spPr>
          <a:xfrm>
            <a:off x="3197160" y="1146240"/>
            <a:ext cx="5870520" cy="54068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twork Upgra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138320"/>
            <a:ext cx="2895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perspective of network upgrade needs, there are generally three sets of CREZ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astal (Area 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c Camey Area (Areas 5&amp;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ilene Area (Areas 9,10,12 &amp;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nhandle (Areas 2 &amp;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703400">
            <a:off x="5181120" y="1447560"/>
            <a:ext cx="609840" cy="1066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216200">
            <a:off x="5333400" y="2742840"/>
            <a:ext cx="76212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4582200">
            <a:off x="4876200" y="3581280"/>
            <a:ext cx="609840" cy="1066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703400">
            <a:off x="7086600" y="5261040"/>
            <a:ext cx="304920" cy="682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029200"/>
            <a:ext cx="30481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show a few options from each area as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stal Zone (CREZ 24)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,000 MW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1200" t="7515" r="21057" b="6504"/>
          <a:stretch/>
        </p:blipFill>
        <p:spPr>
          <a:xfrm>
            <a:off x="380880" y="1089000"/>
            <a:ext cx="7543800" cy="5464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05720" y="3962520"/>
            <a:ext cx="22860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  $15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uel Savings:  $14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stal Zone (CREZ 24)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,000 MW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8652" t="6298" r="31361" b="29433"/>
          <a:stretch/>
        </p:blipFill>
        <p:spPr>
          <a:xfrm>
            <a:off x="457200" y="1066680"/>
            <a:ext cx="7388280" cy="5586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05720" y="4191120"/>
            <a:ext cx="2286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  $32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uel Savings:  $39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amey Area (CREZ 5 and 6)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ind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1179360"/>
            <a:ext cx="7704000" cy="53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Camey Area (CREZ 5 and 6)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,500 MW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6427" t="7244" r="15166" b="6038"/>
          <a:stretch/>
        </p:blipFill>
        <p:spPr>
          <a:xfrm>
            <a:off x="304920" y="1231920"/>
            <a:ext cx="8607240" cy="471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362320" y="4572000"/>
            <a:ext cx="2286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  $365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uel Savings:  $2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nd Curtailment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amey Area (CREZ 5 and 6)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,000 MW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0092" t="28572" r="39858" b="27324"/>
          <a:stretch/>
        </p:blipFill>
        <p:spPr>
          <a:xfrm>
            <a:off x="380880" y="1295280"/>
            <a:ext cx="8534520" cy="462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324480" y="1371600"/>
            <a:ext cx="2286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  $8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uel Savings:  $5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12096" t="12995" r="32794" b="28230"/>
          <a:stretch/>
        </p:blipFill>
        <p:spPr>
          <a:xfrm>
            <a:off x="250920" y="1219320"/>
            <a:ext cx="8613720" cy="4597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Western Texas (CREZ 9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, 12, 14):  1400 M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51280" y="4761000"/>
            <a:ext cx="3006720" cy="15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apital Cost:  $35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System Fuel Savings:  $215M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handle (CREZ 2 and 4)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800 M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5568" t="4578" r="7614" b="0"/>
          <a:stretch/>
        </p:blipFill>
        <p:spPr>
          <a:xfrm>
            <a:off x="468360" y="1066680"/>
            <a:ext cx="7883640" cy="550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372360" y="1376280"/>
            <a:ext cx="250164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apital Cost:  $645M (Zone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System Fuel Savings:  $260M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s from 10/30 RPG meeting available under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PG Combined Inte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der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ldercot.ercot.com/tmaps/login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 due by noon 1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dditional analysis will be performed based on RPG comments and to evaluate other comb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 report due to PUCT by 12/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05 Legislative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2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ction 39.9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) The (Public Utility) commission, 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ltation with each appropri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organization, electr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bility council, or reg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ssion organiza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 shall designate competitive renewable energy zones throughout this state in areas in which renewable energy resources and suitable land areas are sufficient to develop generating capacity from renewable energy technologi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922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 shall develop a plan to construct transmission capacity necessary to deliver to electric customers, in a manner that is most beneficial and cost-effective to the customers, the electric output from renewable energy technologies in the competitive renewable energy z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1981080" cy="15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57200" y="1417680"/>
          <a:ext cx="8229600" cy="52722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49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546680" y="396252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32004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76880" y="3429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issio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tudy Process and 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2320" y="274320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Ancillary Services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752480" y="1981080"/>
            <a:ext cx="0" cy="45720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981080"/>
            <a:ext cx="1295280" cy="0"/>
          </a:xfrm>
          <a:prstGeom prst="line">
            <a:avLst/>
          </a:prstGeom>
          <a:ln w="5724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1000" y="52578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Z Rul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1520" y="579132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Z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032680" y="4647960"/>
            <a:ext cx="0" cy="53316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1752480"/>
            <a:ext cx="228600" cy="152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1981080"/>
            <a:ext cx="22860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24480" y="17096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077320" y="5257800"/>
            <a:ext cx="0" cy="45720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0680" y="19303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120" y="152388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 Input on CREZ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24600" y="2438280"/>
            <a:ext cx="0" cy="137160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58320" y="205740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Potential/Characteristics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24600" y="2666880"/>
            <a:ext cx="0" cy="45720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438280"/>
            <a:ext cx="220968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840120"/>
            <a:ext cx="609480" cy="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840120"/>
            <a:ext cx="342900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67480" y="3885840"/>
            <a:ext cx="0" cy="762120"/>
          </a:xfrm>
          <a:prstGeom prst="line">
            <a:avLst/>
          </a:prstGeom>
          <a:ln w="57240">
            <a:solidFill>
              <a:srgbClr val="bbe0e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648320"/>
            <a:ext cx="609840" cy="0"/>
          </a:xfrm>
          <a:prstGeom prst="line">
            <a:avLst/>
          </a:prstGeom>
          <a:ln w="5724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111480"/>
            <a:ext cx="274320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3111480"/>
            <a:ext cx="106668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1880" y="26668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438280"/>
            <a:ext cx="274320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5778360"/>
            <a:ext cx="914400" cy="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259240"/>
            <a:ext cx="7086600" cy="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848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Wind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5715000" cy="5548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V="1">
            <a:off x="2538360" y="527760"/>
            <a:ext cx="108000" cy="14655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48120" y="1447200"/>
            <a:ext cx="109440" cy="11523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8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81320" y="-209520"/>
            <a:ext cx="109440" cy="165888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05120" y="461160"/>
            <a:ext cx="109440" cy="132084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9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652840" y="2909160"/>
            <a:ext cx="108000" cy="10875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9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09680" y="3123360"/>
            <a:ext cx="109800" cy="9543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9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71600" y="3276720"/>
            <a:ext cx="109440" cy="20952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752480" y="3733920"/>
            <a:ext cx="109800" cy="2253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2742480"/>
            <a:ext cx="109440" cy="82692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2362320"/>
            <a:ext cx="108000" cy="85392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429000" y="3199680"/>
            <a:ext cx="109440" cy="65412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81280" y="2743200"/>
            <a:ext cx="109800" cy="40320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9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24080" y="4114080"/>
            <a:ext cx="104760" cy="2127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90920" y="2133720"/>
            <a:ext cx="109440" cy="63000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114800" y="3429000"/>
            <a:ext cx="109440" cy="15552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14400" y="3351960"/>
            <a:ext cx="108000" cy="2700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33920" y="5181480"/>
            <a:ext cx="109440" cy="40968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53000" y="2266920"/>
            <a:ext cx="109440" cy="30960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3081240"/>
            <a:ext cx="109440" cy="19224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809880" y="4114080"/>
            <a:ext cx="109800" cy="9828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09680" y="1143000"/>
            <a:ext cx="108000" cy="17784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343400" y="3048120"/>
            <a:ext cx="109440" cy="1584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343400" y="2514600"/>
            <a:ext cx="109440" cy="16992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5257800"/>
            <a:ext cx="109440" cy="8424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62160" y="2223360"/>
            <a:ext cx="108000" cy="374760"/>
          </a:xfrm>
          <a:prstGeom prst="rect">
            <a:avLst/>
          </a:prstGeom>
          <a:solidFill>
            <a:srgbClr val="0099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790640" cy="1319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48520" y="1295280"/>
            <a:ext cx="28954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74240" indent="-174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contracted with leading wind consultant AWS Truewind to identify areas with best wind resourc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WS identified highest CF 100MW sites and clustered into 25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ed 4000MW of highest CF sites in each area (shown on 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-222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ximate wind capacity potential(in MW) with &gt;35% capacity factor in each area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5791320" cy="4454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S used complex meteorological and terrain model that provided localized prediction of wind patterns and resulting wind power outpu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 generation output for each site is provided as a time series of 8,784 hourly data points (one leap-year of dat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t Wi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8MW In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,523MW In Interconnec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417680"/>
            <a:ext cx="4114800" cy="353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G initiated study of transmission upgrades needed if nearly 5000MW is in-service by EO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250MW existing and signed 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600MW proxy for additional IAs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000MW Wind Upgr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plan to relieve most curtailment associated with ~5000MW wind assumption (based on steady state ana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opening lines, phase shifters, some line/auto upgrades, and a new 345kV 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Update #4 under 2007 5-Year Plan folder on Planning website for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study is underway, but not yet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Z Analytical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Case is the 2009 Case from the 5-Yea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st Validated Case when CREZ Analysis Process Be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 4,850 MW of Installed Wind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Strategy – to develop incremental transmission solutions that are part of an overall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arge steps and no regr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valuated constraints on 69 kV and 138 kV lines, but focused on 345 kV (in some cases 765 kV) solu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Considerations/Cav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173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solutions presented here are the result of extensive what-if analyses, followed by iterations (and iterations) of economic modeling and power-flow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60 different configurations evaluated for the McCamey area a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responsive reserves on the system, we limited the flow on radial lines to a maximum of 1,500 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studies were conducted primarily using thermal (DC)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system considerations that will need to be add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tage St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St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cillary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9:18:00Z</dcterms:created>
  <dc:creator>dwoodfin</dc:creator>
  <dc:description/>
  <dc:language>en-US</dc:language>
  <cp:lastModifiedBy>Dan Woodfin - ERCOT</cp:lastModifiedBy>
  <dcterms:modified xsi:type="dcterms:W3CDTF">2006-11-02T16:02:47Z</dcterms:modified>
  <cp:revision>105</cp:revision>
  <dc:subject/>
  <dc:title>Slide 1</dc:title>
</cp:coreProperties>
</file>