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2206A7C-35F0-4DAD-B857-E6BCFCC86DF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Nov 2, 2006</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9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880" y="762120"/>
            <a:ext cx="8077320" cy="236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4 (continued) :</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draft NPRR for ICCP-only in Nodal market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24th, TPTF approved the draft NPRR for ICCP as submitted. TPTF approved the motion by a ballot vote of 100% in favor, with twelve abstentions (GEUS, Suez, City of Dallas, City of Allen, Town of Flower Mound, Residential Consumers, Stream Energy, StarTex Power, Strategic Energy, Accent Energy, Cirro Group, Green Mountain Energy). All Market Segments were present.</a:t>
            </a:r>
            <a:endParaRPr b="0" lang="en-US" sz="1800" spc="-1" strike="noStrike">
              <a:solidFill>
                <a:srgbClr val="000000"/>
              </a:solidFill>
              <a:latin typeface="Arial"/>
            </a:endParaRPr>
          </a:p>
        </p:txBody>
      </p:sp>
      <p:sp>
        <p:nvSpPr>
          <p:cNvPr id="10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10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0880" y="932040"/>
            <a:ext cx="8077320" cy="48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 we discussed: </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Business Requirement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Business Requirements deferred to later dat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reviewed COPS feedback and disposition of market comments on Invoices and Statements Business Requirements docu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25</a:t>
            </a:r>
            <a:r>
              <a:rPr b="0" lang="en-US" sz="1800" spc="-1" strike="noStrike" baseline="30000">
                <a:solidFill>
                  <a:srgbClr val="000000"/>
                </a:solidFill>
                <a:latin typeface="Arial"/>
              </a:rPr>
              <a:t>th</a:t>
            </a:r>
            <a:r>
              <a:rPr b="0" lang="en-US" sz="1800" spc="-1" strike="noStrike">
                <a:solidFill>
                  <a:srgbClr val="000000"/>
                </a:solidFill>
                <a:latin typeface="Arial"/>
              </a:rPr>
              <a:t>, TPTF approved the two Business Requirement documents for Invoices and Statements as being in compliance with the applicable Nodal protocols. TPTF approved the motion by a ballot vote of 100% in favor, with one abstention (CenterPoint). All Market Segments wer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mercial Operations Miscellaneous Requirements there was discussion of details, ownership, and necessary NPRRs for Miscellaneous Credit and Debits in Nodal.  </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as support for moving this document to COPS to be addressed by a COPS task force. </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PTF approval will be required.</a:t>
            </a:r>
            <a:endParaRPr b="0" lang="en-US" sz="1800" spc="-1" strike="noStrike">
              <a:solidFill>
                <a:srgbClr val="000000"/>
              </a:solidFill>
              <a:latin typeface="Arial"/>
            </a:endParaRPr>
          </a:p>
        </p:txBody>
      </p:sp>
      <p:sp>
        <p:nvSpPr>
          <p:cNvPr id="11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11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0880" y="932040"/>
            <a:ext cx="8077320" cy="448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 (continu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Business Requirements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Monitoring Requirements were reviewed, including updates from the Credit Working Group.</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25th, TPTF approved the Credit Monitoring Business Requirements as being in compliance with the applicable Nodal protocols. TPTF approved the motion by a ballot vote of 100% in favor, with two abstentions (LCRA and AEP). All Market Segments were presen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Transfer Business Requirements were reviewed with the disposition of market commen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25th, TPTF approved the Financial Transfer Business Requirements as being in compliance with the applicable Nodal protocols. TPTF approved the motion by a ballot vote of 100% in favor, with three abstentions (City of Denton, CenterPoint, City of Allen). All Market Segments were present.</a:t>
            </a:r>
            <a:endParaRPr b="0" lang="en-US" sz="1800" spc="-1" strike="noStrike">
              <a:solidFill>
                <a:srgbClr val="000000"/>
              </a:solidFill>
              <a:latin typeface="Arial"/>
            </a:endParaRPr>
          </a:p>
        </p:txBody>
      </p:sp>
      <p:sp>
        <p:nvSpPr>
          <p:cNvPr id="11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12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0880" y="932040"/>
            <a:ext cx="8077320" cy="49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 (continu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Business Requirements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Dispute Business Requirements was deferr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s of the following business requirement documents were provided. Market comments are due October 31</a:t>
            </a:r>
            <a:r>
              <a:rPr b="0" lang="en-US" sz="1800" spc="-1" strike="noStrike" baseline="30000">
                <a:solidFill>
                  <a:srgbClr val="000000"/>
                </a:solidFill>
                <a:latin typeface="Arial"/>
              </a:rPr>
              <a:t>st</a:t>
            </a:r>
            <a:r>
              <a:rPr b="0" lang="en-US" sz="1800" spc="-1" strike="noStrike">
                <a:solidFill>
                  <a:srgbClr val="000000"/>
                </a:solidFill>
                <a:latin typeface="Arial"/>
              </a:rPr>
              <a:t>.</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xtracts and Market Data Transparency (Comm Op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Eligibility</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ncremental Energy Cos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ggregation</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Costs</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ared that it will be working with TDSPs and RMS to determine impacts and methods for updating substation identifiers (require unique names in Nodal).  This would not be a system change for Retail, rather a transaction required for impacted ESIIDs (814-20 transaction- maintain ESIID) to update the substation identifiers.</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80880" y="792000"/>
            <a:ext cx="8610840" cy="453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November 6 and Tuesday, November 7</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 November 28 through Thursday, November 30</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6 &amp; 7, will be discussing:</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tential approval of EDW/Market Monitor Business Requirements</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review of MMS Business Requirements</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ercial Operations Requirement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Potential Approval of:</a:t>
            </a:r>
            <a:r>
              <a:rPr b="0" lang="en-US" sz="1600" spc="-1" strike="noStrike">
                <a:solidFill>
                  <a:srgbClr val="000000"/>
                </a:solidFill>
                <a:latin typeface="Arial"/>
              </a:rPr>
              <a:t> Start-Up Eligibility, Disputes, Extracts, AIEC, Disputes, Verifiable Costs</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GB" sz="1600" spc="-1" strike="noStrike">
                <a:solidFill>
                  <a:srgbClr val="000000"/>
                </a:solidFill>
                <a:latin typeface="Arial"/>
              </a:rPr>
              <a:t>LMP for EECP</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oSA</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M compliant model for annual CRR model</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how COP is used in DAM and RUC</a:t>
            </a:r>
            <a:endParaRPr b="0" lang="en-US" sz="1600" spc="-1" strike="noStrike">
              <a:solidFill>
                <a:srgbClr val="000000"/>
              </a:solidFill>
              <a:latin typeface="Arial"/>
            </a:endParaRPr>
          </a:p>
        </p:txBody>
      </p:sp>
      <p:sp>
        <p:nvSpPr>
          <p:cNvPr id="13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ining Curriculum Document</a:t>
            </a:r>
            <a:endParaRPr b="0" lang="en-US" sz="1800" spc="-1" strike="noStrike">
              <a:solidFill>
                <a:srgbClr val="ffffff"/>
              </a:solidFill>
              <a:latin typeface="Arial Black"/>
            </a:endParaRPr>
          </a:p>
        </p:txBody>
      </p:sp>
      <p:sp>
        <p:nvSpPr>
          <p:cNvPr id="135" name="PlaceHolder 2"/>
          <p:cNvSpPr>
            <a:spLocks noGrp="1"/>
          </p:cNvSpPr>
          <p:nvPr>
            <p:ph/>
          </p:nvPr>
        </p:nvSpPr>
        <p:spPr>
          <a:xfrm>
            <a:off x="228600" y="723600"/>
            <a:ext cx="8547120" cy="5713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d as of October 9, 2006 (excerpt of document below)</a:t>
            </a:r>
            <a:endParaRPr b="1" lang="en-US" sz="1600" spc="-1" strike="noStrike">
              <a:solidFill>
                <a:srgbClr val="000000"/>
              </a:solidFill>
              <a:latin typeface="Arial"/>
            </a:endParaRPr>
          </a:p>
        </p:txBody>
      </p:sp>
      <p:pic>
        <p:nvPicPr>
          <p:cNvPr id="136" name="" descr=""/>
          <p:cNvPicPr/>
          <p:nvPr/>
        </p:nvPicPr>
        <p:blipFill>
          <a:blip r:embed="rId1"/>
          <a:stretch/>
        </p:blipFill>
        <p:spPr>
          <a:xfrm>
            <a:off x="1343160" y="1371600"/>
            <a:ext cx="6459480" cy="444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Participant Training Readiness Document</a:t>
            </a:r>
            <a:endParaRPr b="0" lang="en-US" sz="1800" spc="-1" strike="noStrike">
              <a:solidFill>
                <a:srgbClr val="ffffff"/>
              </a:solidFill>
              <a:latin typeface="Arial Black"/>
            </a:endParaRPr>
          </a:p>
        </p:txBody>
      </p:sp>
      <p:sp>
        <p:nvSpPr>
          <p:cNvPr id="138" name="PlaceHolder 2"/>
          <p:cNvSpPr>
            <a:spLocks noGrp="1"/>
          </p:cNvSpPr>
          <p:nvPr>
            <p:ph/>
          </p:nvPr>
        </p:nvSpPr>
        <p:spPr>
          <a:xfrm>
            <a:off x="228600" y="685800"/>
            <a:ext cx="8547120" cy="571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d as of September 27, 2006 (excerpt of document below)</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9" name="" descr=""/>
          <p:cNvPicPr/>
          <p:nvPr/>
        </p:nvPicPr>
        <p:blipFill>
          <a:blip r:embed="rId1"/>
          <a:stretch/>
        </p:blipFill>
        <p:spPr>
          <a:xfrm>
            <a:off x="873000" y="1165320"/>
            <a:ext cx="7204320" cy="500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4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
          <p:cNvSpPr/>
          <p:nvPr/>
        </p:nvSpPr>
        <p:spPr>
          <a:xfrm>
            <a:off x="380880" y="914400"/>
            <a:ext cx="8458200" cy="5413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0th, TPTF approved these three requirements (</a:t>
            </a:r>
            <a:r>
              <a:rPr b="1" lang="en-US" sz="1800" spc="-1" strike="noStrike">
                <a:solidFill>
                  <a:srgbClr val="000000"/>
                </a:solidFill>
                <a:latin typeface="Arial"/>
              </a:rPr>
              <a:t>Commercial Operations Business Requirements for Real-Time CRR Settlements</a:t>
            </a:r>
            <a:r>
              <a:rPr b="0" lang="en-US" sz="1800" spc="-1" strike="noStrike">
                <a:solidFill>
                  <a:srgbClr val="000000"/>
                </a:solidFill>
                <a:latin typeface="Arial"/>
              </a:rPr>
              <a:t>, </a:t>
            </a:r>
            <a:r>
              <a:rPr b="1" lang="en-US" sz="1800" spc="-1" strike="noStrike">
                <a:solidFill>
                  <a:srgbClr val="000000"/>
                </a:solidFill>
                <a:latin typeface="Arial"/>
              </a:rPr>
              <a:t>CRR Balancing Account</a:t>
            </a:r>
            <a:r>
              <a:rPr b="0" lang="en-US" sz="1800" spc="-1" strike="noStrike">
                <a:solidFill>
                  <a:srgbClr val="000000"/>
                </a:solidFill>
                <a:latin typeface="Arial"/>
              </a:rPr>
              <a:t>, and </a:t>
            </a:r>
            <a:r>
              <a:rPr b="1" lang="en-US" sz="1800" spc="-1" strike="noStrike">
                <a:solidFill>
                  <a:srgbClr val="000000"/>
                </a:solidFill>
                <a:latin typeface="Arial"/>
              </a:rPr>
              <a:t>CRR Auction Settlements and Revenue Disbursement</a:t>
            </a:r>
            <a:r>
              <a:rPr b="0" lang="en-US" sz="1800" spc="-1" strike="noStrike">
                <a:solidFill>
                  <a:srgbClr val="000000"/>
                </a:solidFill>
                <a:latin typeface="Arial"/>
              </a:rPr>
              <a:t>) as being in compliance with the applicable Nodal protocols. TPTF approved the motion by a ballot vote of 100% in favor, with five abstentions (Calpine, City of Dallas, City of Allen, Town of Flower Mound, and Residential Consumers).  All Market Segments, except cooperative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0th, TPTF approved Commercial Operations </a:t>
            </a:r>
            <a:r>
              <a:rPr b="1" lang="en-US" sz="1800" spc="-1" strike="noStrike">
                <a:solidFill>
                  <a:srgbClr val="000000"/>
                </a:solidFill>
                <a:latin typeface="Arial"/>
              </a:rPr>
              <a:t>Business Requirements for RMR Settlements</a:t>
            </a:r>
            <a:r>
              <a:rPr b="0" lang="en-US" sz="1800" spc="-1" strike="noStrike">
                <a:solidFill>
                  <a:srgbClr val="000000"/>
                </a:solidFill>
                <a:latin typeface="Arial"/>
              </a:rPr>
              <a:t> as being in compliance with the applicable Nodal protocols. TPTF approved the motion by a ballot vote of 72.4% in favor, 27.6% opposed, with seven abstentions (Austin Energy, City of Allen, Stream Energy, StarTex Power, Strategic Energy, Accent Energy, and Cirro Group).  All Market Segments, except Cooperative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0th, TPTF approved the </a:t>
            </a:r>
            <a:r>
              <a:rPr b="1" lang="en-US" sz="1800" spc="-1" strike="noStrike">
                <a:solidFill>
                  <a:srgbClr val="000000"/>
                </a:solidFill>
                <a:latin typeface="Arial"/>
              </a:rPr>
              <a:t>Business Requirements for Congestion Revenue Rights</a:t>
            </a:r>
            <a:r>
              <a:rPr b="0" lang="en-US" sz="1800" spc="-1" strike="noStrike">
                <a:solidFill>
                  <a:srgbClr val="000000"/>
                </a:solidFill>
                <a:latin typeface="Arial"/>
              </a:rPr>
              <a:t> document as being in compliance with the applicable Nodal protocols. TPTF approved the motion by a ballot vote of 100% in favor, with two abstentions (Calpine and City of Allen). All Market Segments, except the Cooperative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 (continued)</a:t>
            </a:r>
            <a:endParaRPr b="0" lang="en-US" sz="1800" spc="-1" strike="noStrike">
              <a:solidFill>
                <a:srgbClr val="000000"/>
              </a:solidFill>
              <a:latin typeface="Arial"/>
            </a:endParaRPr>
          </a:p>
        </p:txBody>
      </p:sp>
      <p:sp>
        <p:nvSpPr>
          <p:cNvPr id="14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380880" y="914400"/>
            <a:ext cx="8458200" cy="4016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th, TPTF approved the two </a:t>
            </a:r>
            <a:r>
              <a:rPr b="1" lang="en-US" sz="1800" spc="-1" strike="noStrike">
                <a:solidFill>
                  <a:srgbClr val="000000"/>
                </a:solidFill>
                <a:latin typeface="Arial"/>
              </a:rPr>
              <a:t>Business Requirement documents for Invoices and Statements</a:t>
            </a:r>
            <a:r>
              <a:rPr b="0" lang="en-US" sz="1800" spc="-1" strike="noStrike">
                <a:solidFill>
                  <a:srgbClr val="000000"/>
                </a:solidFill>
                <a:latin typeface="Arial"/>
              </a:rPr>
              <a:t> as being in compliance with the applicable Nodal protocols. TPTF approved the motion by a ballot vote of 100% in favor, with one abstention (CenterPoint).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th, TPTF approved the </a:t>
            </a:r>
            <a:r>
              <a:rPr b="1" lang="en-US" sz="1800" spc="-1" strike="noStrike">
                <a:solidFill>
                  <a:srgbClr val="000000"/>
                </a:solidFill>
                <a:latin typeface="Arial"/>
              </a:rPr>
              <a:t>Credit Monitoring Business Requirements </a:t>
            </a:r>
            <a:r>
              <a:rPr b="0" lang="en-US" sz="1800" spc="-1" strike="noStrike">
                <a:solidFill>
                  <a:srgbClr val="000000"/>
                </a:solidFill>
                <a:latin typeface="Arial"/>
              </a:rPr>
              <a:t>as being in compliance with the applicable Nodal protocols. TPTF approved the motion by a ballot vote of 100% in favor, with two abstentions (LCRA and AEP).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5th, TPTF approved the </a:t>
            </a:r>
            <a:r>
              <a:rPr b="1" lang="en-US" sz="1800" spc="-1" strike="noStrike">
                <a:solidFill>
                  <a:srgbClr val="000000"/>
                </a:solidFill>
                <a:latin typeface="Arial"/>
              </a:rPr>
              <a:t>Financial Transfer Business Requirements </a:t>
            </a:r>
            <a:r>
              <a:rPr b="0" lang="en-US" sz="1800" spc="-1" strike="noStrike">
                <a:solidFill>
                  <a:srgbClr val="000000"/>
                </a:solidFill>
                <a:latin typeface="Arial"/>
              </a:rPr>
              <a:t>as being in compliance with the applicable Nodal protocols. TPTF approved the motion by a ballot vote of 100% in favor, with three abstentions (City of Denton, CenterPoint, City of Allen).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 (continued)</a:t>
            </a:r>
            <a:endParaRPr b="0" lang="en-US" sz="1800" spc="-1" strike="noStrike">
              <a:solidFill>
                <a:srgbClr val="000000"/>
              </a:solidFill>
              <a:latin typeface="Arial"/>
            </a:endParaRPr>
          </a:p>
        </p:txBody>
      </p:sp>
      <p:sp>
        <p:nvSpPr>
          <p:cNvPr id="15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380880" y="914400"/>
            <a:ext cx="8458200" cy="4874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eal-Time CRR Settlements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RR Balancing Account Settlement Business Req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RR Auction Settlements and Revenue Disbursement </a:t>
            </a:r>
            <a:endParaRPr b="0"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usiness Req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RMR Settlements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ngestion Revenue Rights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Settlement Invoice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Settlement Statement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redit Monitoring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Financial Transfer Settlements Business Requirements</a:t>
            </a:r>
            <a:endParaRPr b="0"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04920" y="914400"/>
          <a:ext cx="8305560" cy="4903920"/>
        </p:xfrm>
        <a:graphic>
          <a:graphicData uri="http://schemas.openxmlformats.org/drawingml/2006/table">
            <a:tbl>
              <a:tblPr/>
              <a:tblGrid>
                <a:gridCol w="2439720"/>
                <a:gridCol w="4202280"/>
                <a:gridCol w="1663560"/>
              </a:tblGrid>
              <a:tr h="31464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515880">
                <a:tc>
                  <a:txBody>
                    <a:bodyPr lIns="90000" rIns="90000" tIns="46800" bIns="46800" anchor="ctr">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2884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ext Meetings</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81792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raining</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on recent TPTF revisions to Training Curriculum Document and Market Participant Training Readiness Document</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72700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pproval of Milestone</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 – Business Requirements Complete for:</a:t>
                      </a:r>
                      <a:endParaRPr b="0" lang="en-US" sz="14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Congestion Revenue Rights</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ercial Operations :</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Time CRR Settlements</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Balancing Account Settlement</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Auction Settlements and Revenue Disbursement</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MR Settlement</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Invoice </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Statement </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Monitoring</a:t>
                      </a:r>
                      <a:endParaRPr b="0" lang="en-US" sz="1200" spc="-1" strike="noStrike">
                        <a:solidFill>
                          <a:srgbClr val="000000"/>
                        </a:solidFill>
                        <a:latin typeface="Arial"/>
                      </a:endParaRPr>
                    </a:p>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ncial Transfer</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10</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653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October 9-10, 24-25</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a:t>
            </a:r>
            <a:r>
              <a:rPr b="0" lang="en-US" sz="1800" spc="-1" strike="noStrike" baseline="30000">
                <a:solidFill>
                  <a:srgbClr val="000000"/>
                </a:solidFill>
                <a:latin typeface="Arial"/>
              </a:rPr>
              <a:t>th</a:t>
            </a:r>
            <a:r>
              <a:rPr b="0" lang="en-US" sz="1800" spc="-1" strike="noStrike">
                <a:solidFill>
                  <a:srgbClr val="000000"/>
                </a:solidFill>
                <a:latin typeface="Arial"/>
              </a:rPr>
              <a:t>,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edited the Training Curriculum Document to clarify that the frequency of training for the Transmission 101 course should be once/month rather than spring for each yea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a:t>
            </a:r>
            <a:r>
              <a:rPr b="0" lang="en-US" sz="1800" spc="-1" strike="noStrike" baseline="30000">
                <a:solidFill>
                  <a:srgbClr val="000000"/>
                </a:solidFill>
                <a:latin typeface="Arial"/>
              </a:rPr>
              <a:t>th</a:t>
            </a:r>
            <a:r>
              <a:rPr b="0" lang="en-US" sz="1800" spc="-1" strike="noStrike">
                <a:solidFill>
                  <a:srgbClr val="000000"/>
                </a:solidFill>
                <a:latin typeface="Arial"/>
              </a:rPr>
              <a:t> TPTF approved a motion to waive the notice to vote on this correction.  Motion carried by a unanimous voice vote with all segments, except Independent Generators,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th TPTF approved a motion to correct the Training Curriculum Document to reflect that the Transmission 101 course would be offered monthly, and to approve the document with that change.  Motion carried by a unanimous voice vote with all segments, except Independent Generators,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Requirements (also known as Web Portal)</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disposition of market comments on MIS Business Requirements.</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10</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4714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a:t>
            </a:r>
            <a:r>
              <a:rPr b="0" lang="en-US" sz="1800" spc="-1" strike="noStrike" baseline="30000">
                <a:solidFill>
                  <a:srgbClr val="000000"/>
                </a:solidFill>
                <a:latin typeface="Arial"/>
              </a:rPr>
              <a:t>th</a:t>
            </a:r>
            <a:r>
              <a:rPr b="0" lang="en-US" sz="1800" spc="-1" strike="noStrike">
                <a:solidFill>
                  <a:srgbClr val="000000"/>
                </a:solidFill>
                <a:latin typeface="Arial"/>
              </a:rPr>
              <a:t>, (continu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Requirements (continu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9</a:t>
            </a:r>
            <a:r>
              <a:rPr b="0" lang="en-US" sz="1800" spc="-1" strike="noStrike" baseline="30000">
                <a:solidFill>
                  <a:srgbClr val="000000"/>
                </a:solidFill>
                <a:latin typeface="Arial"/>
              </a:rPr>
              <a:t>th</a:t>
            </a:r>
            <a:r>
              <a:rPr b="0" lang="en-US" sz="1800" spc="-1" strike="noStrike">
                <a:solidFill>
                  <a:srgbClr val="000000"/>
                </a:solidFill>
                <a:latin typeface="Arial"/>
              </a:rPr>
              <a:t>, TPTF approved the Business Requirements for MIS as being in compliance with the applicable Nodal protocols contingent to the MIS team returning to TPTF at the October 24, 2006 meeting with the TML Gap Analysis, a description of the Web Services Interface (that is, Real-Time data), and a description of how the Alerts, Notifications, and Messaging component will work and with subsequent approval of these three documents by TPTF. TPTF approved the motion by a ballot vote with 91.7% in favor, 8.3% opposed, and no abstentions. All Market Segments, except Independent Generator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an extensive, page-by-page, review of CRR Business Requirements document.  Completion of review was delayed until October 10</a:t>
            </a:r>
            <a:r>
              <a:rPr b="0" lang="en-US" sz="1800" spc="-1" strike="noStrike" baseline="30000">
                <a:solidFill>
                  <a:srgbClr val="000000"/>
                </a:solidFill>
                <a:latin typeface="Arial"/>
              </a:rPr>
              <a:t>th</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ant/CRR vendor provided a product demonstration to interested participants following meeting.</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10 (continued)</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766800"/>
            <a:ext cx="8458200" cy="5333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October 10, we discussed:</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mmercial Operations Business Requirements</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viewed disposition of market comments on:</a:t>
            </a:r>
            <a:endParaRPr b="0" lang="en-US" sz="17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l-Time CRR Settlement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Balancing Accoun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Auction Settlements and Revenue Disbursemen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October 10</a:t>
            </a:r>
            <a:r>
              <a:rPr b="0" lang="en-US" sz="1600" spc="-1" strike="noStrike" baseline="30000">
                <a:solidFill>
                  <a:srgbClr val="000000"/>
                </a:solidFill>
                <a:latin typeface="Arial"/>
              </a:rPr>
              <a:t>th</a:t>
            </a:r>
            <a:r>
              <a:rPr b="0" lang="en-US" sz="1600" spc="-1" strike="noStrike">
                <a:solidFill>
                  <a:srgbClr val="000000"/>
                </a:solidFill>
                <a:latin typeface="Arial"/>
              </a:rPr>
              <a:t>, TPTF approved these three requirements (Commercial Operations Business Requirements for Real-Time CRR Settlements, CRR Balancing Account, and CRR Auction Settlements and Revenue Disbursement) as being in compliance with the applicable Nodal protocols. TPTF approved the motion by a ballot vote of 100% in favor, with five abstentions (Calpine, City of Dallas, City of Allen, Town of Flower Mound, and Residential Consumers).  All Market Segments, except cooperatives, were present.</a:t>
            </a:r>
            <a:endParaRPr b="0" lang="en-US" sz="16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700" spc="-1" strike="noStrike">
                <a:solidFill>
                  <a:srgbClr val="000000"/>
                </a:solidFill>
                <a:latin typeface="Arial"/>
              </a:rPr>
              <a:t>Reviewed disposition of market comments on RMR Settlement Business Requirements.</a:t>
            </a:r>
            <a:endParaRPr b="0" lang="en-US" sz="17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October 10th, TPTF approved Commercial Operations Business Requirements for RMR Settlements as being in compliance with the applicable Nodal protocols. TPTF approved the motion by a ballot vote of 72.4% in favor, 27.6% opposed, with seven abstentions (Austin Energy, City of Allen, Stream Energy, StarTex Power, Strategic Energy, Accent Energy, and Cirro Group).  All Market Segments, except Cooperatives, were present.</a:t>
            </a:r>
            <a:endParaRPr b="0" lang="en-US" sz="16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10 (continued)</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762120"/>
            <a:ext cx="8077320" cy="49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0 (continu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s- Initial Review of Business Requirements for:</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Transfer</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a:t>
            </a: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Business Requirements review continued</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10</a:t>
            </a:r>
            <a:r>
              <a:rPr b="0" lang="en-US" sz="1800" spc="-1" strike="noStrike" baseline="30000">
                <a:solidFill>
                  <a:srgbClr val="000000"/>
                </a:solidFill>
                <a:latin typeface="Arial"/>
              </a:rPr>
              <a:t>th</a:t>
            </a:r>
            <a:r>
              <a:rPr b="0" lang="en-US" sz="1800" spc="-1" strike="noStrike">
                <a:solidFill>
                  <a:srgbClr val="000000"/>
                </a:solidFill>
                <a:latin typeface="Arial"/>
              </a:rPr>
              <a:t>, TPTF approved the Business Requirements for Congestion Revenue Rights document as being in compliance with the applicable Nodal protocols. TPTF approved the motion by a ballot vote of 100% in favor, with two abstentions (Calpine and City of Allen). All Market Segments, except the Cooperatives, were present.</a:t>
            </a:r>
            <a:endParaRPr b="0" lang="en-US" sz="1800" spc="-1" strike="noStrike">
              <a:solidFill>
                <a:srgbClr val="000000"/>
              </a:solidFill>
              <a:latin typeface="Arial"/>
            </a:endParaRPr>
          </a:p>
          <a:p>
            <a:pPr lvl="2" marL="1257480" indent="-34308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762120"/>
            <a:ext cx="8077320" cy="505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4, TPTF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gram update given by Ron Hinsley</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and EMS Business Requirement update given by Al Hirsch</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MMS Business Requirements review in early-Nov.</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EMS Business Requirements review in late-Nov.</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Updat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ollow-up to the contingent approval of MIS Business Requirements on October 9</a:t>
            </a:r>
            <a:r>
              <a:rPr b="0" lang="en-US" sz="1800" spc="-1" strike="noStrike" baseline="30000">
                <a:solidFill>
                  <a:srgbClr val="000000"/>
                </a:solidFill>
                <a:latin typeface="Arial"/>
              </a:rPr>
              <a:t>th</a:t>
            </a:r>
            <a:r>
              <a:rPr b="0" lang="en-US" sz="1800" spc="-1" strike="noStrike">
                <a:solidFill>
                  <a:srgbClr val="000000"/>
                </a:solidFill>
                <a:latin typeface="Arial"/>
              </a:rPr>
              <a:t>, the MIS team provided presentations on the TML Gap Analysis, Description of WebServices Interface, and Description of How Alerts, Notification, and Messaging Components work.</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TF agreed to review these documents by November 1</a:t>
            </a:r>
            <a:r>
              <a:rPr b="0" lang="en-US" sz="1800" spc="-1" strike="noStrike" baseline="30000">
                <a:solidFill>
                  <a:srgbClr val="000000"/>
                </a:solidFill>
                <a:latin typeface="Arial"/>
              </a:rPr>
              <a:t>st</a:t>
            </a:r>
            <a:r>
              <a:rPr b="0" lang="en-US" sz="1800" spc="-1" strike="noStrike">
                <a:solidFill>
                  <a:srgbClr val="000000"/>
                </a:solidFill>
                <a:latin typeface="Arial"/>
              </a:rPr>
              <a:t> and formally consider approval at the Nov 6</a:t>
            </a:r>
            <a:r>
              <a:rPr b="0" lang="en-US" sz="1800" spc="-1" strike="noStrike" baseline="30000">
                <a:solidFill>
                  <a:srgbClr val="000000"/>
                </a:solidFill>
                <a:latin typeface="Arial"/>
              </a:rPr>
              <a:t>th</a:t>
            </a:r>
            <a:r>
              <a:rPr b="0" lang="en-US" sz="1800" spc="-1" strike="noStrike">
                <a:solidFill>
                  <a:srgbClr val="000000"/>
                </a:solidFill>
                <a:latin typeface="Arial"/>
              </a:rPr>
              <a:t> TPTF meeting.</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Updat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vided an Integration Design Authority (IDA) update on the integration strategy of data elements between systems and market participants.  It was agreed this review was useful and should continue to be updated and reviewed by the market.</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762120"/>
            <a:ext cx="8077320" cy="529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4 (continued) :</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raft NPRR for synchronization of PRR624- Clarification of MP Default Languag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tober 24</a:t>
            </a:r>
            <a:r>
              <a:rPr b="0" lang="en-US" sz="1800" spc="-1" strike="noStrike" baseline="30000">
                <a:solidFill>
                  <a:srgbClr val="000000"/>
                </a:solidFill>
                <a:latin typeface="Arial"/>
              </a:rPr>
              <a:t>th</a:t>
            </a:r>
            <a:r>
              <a:rPr b="0" lang="en-US" sz="1800" spc="-1" strike="noStrike">
                <a:solidFill>
                  <a:srgbClr val="000000"/>
                </a:solidFill>
                <a:latin typeface="Arial"/>
              </a:rPr>
              <a:t>, TPTF approved the draft NPRR for synchronization of PRR624 as submitted. TPTF approved the motion by a ballot vote of 100% in favor, with three abstentions (Austin Energy, Residential Consumers, and Exelon). All Market Segments, except the Cooperatives, were present.</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W Requirements Review</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Business Requirements for the Independent Market Monitoring and Data Collection Requirements as defined in Section 17 of protocol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are due from the market by November 1.</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019-Black-Start Testing Requirement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assigned to TPTF for review</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Legal joined TPTF in a review of the NPRR with special attention to ERCOT’s comment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ing no verbal comments from TPTF members, participants were invited to comment at PRS.</a:t>
            </a:r>
            <a:endParaRPr b="0" lang="en-US" sz="1800" spc="-1" strike="noStrike">
              <a:solidFill>
                <a:srgbClr val="000000"/>
              </a:solidFill>
              <a:latin typeface="Arial"/>
            </a:endParaRPr>
          </a:p>
        </p:txBody>
      </p:sp>
      <p:sp>
        <p:nvSpPr>
          <p:cNvPr id="9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4-25 (continued)</a:t>
            </a:r>
            <a:endParaRPr b="0" lang="en-US" sz="1800" spc="-1" strike="noStrike">
              <a:solidFill>
                <a:srgbClr val="000000"/>
              </a:solidFill>
              <a:latin typeface="Arial"/>
            </a:endParaRPr>
          </a:p>
        </p:txBody>
      </p:sp>
      <p:sp>
        <p:nvSpPr>
          <p:cNvPr id="9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80880" y="762120"/>
            <a:ext cx="8077320" cy="514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4 (continued) :</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NPRR018-Separate LaaR and Generator Market Clearing Price for Capacity for Responsive Reserve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assigned to TPTF for review of completenes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ettlements submitted comments to include language and equations needed in Supplemental Ancillary Services Market (SASM).</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discussion over whether SASM should have single or separate clearing price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s were invited to comment on the NPRR.</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during EECP - deferred to later date</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M Compliant Modals for Annual CRR Model – deferred to later date</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draft NPRR for ICCP-only in Nodal market</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rket Participant engaged the costs and considered alternatives to an ICCP-only environment for ERCOT real-time communications.  Proposed also allowing DNP over TCP/IP.</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iscussed their concerns with the Market Participant’s proposal.</a:t>
            </a:r>
            <a:endParaRPr b="0" lang="en-US" sz="1800" spc="-1" strike="noStrike">
              <a:solidFill>
                <a:srgbClr val="000000"/>
              </a:solidFill>
              <a:latin typeface="Arial"/>
            </a:endParaRPr>
          </a:p>
        </p:txBody>
      </p:sp>
      <p:sp>
        <p:nvSpPr>
          <p:cNvPr id="9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MMereness</cp:lastModifiedBy>
  <dcterms:modified xsi:type="dcterms:W3CDTF">2006-10-26T20:02:42Z</dcterms:modified>
  <cp:revision>210</cp:revision>
  <dc:subject/>
  <dc:title>TAC Update</dc:title>
</cp:coreProperties>
</file>