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7027863"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27200" cy="931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0" y="0"/>
            <a:ext cx="3044880" cy="465120"/>
          </a:xfrm>
          <a:prstGeom prst="rect">
            <a:avLst/>
          </a:prstGeom>
          <a:noFill/>
          <a:ln w="0">
            <a:noFill/>
          </a:ln>
        </p:spPr>
        <p:txBody>
          <a:bodyPr lIns="93240" rIns="93240" tIns="46800" bIns="46800" anchor="t">
            <a:noAutofit/>
          </a:bodyPr>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979800" y="0"/>
            <a:ext cx="3044880" cy="465120"/>
          </a:xfrm>
          <a:prstGeom prst="rect">
            <a:avLst/>
          </a:prstGeom>
          <a:noFill/>
          <a:ln w="0">
            <a:noFill/>
          </a:ln>
        </p:spPr>
        <p:txBody>
          <a:bodyPr lIns="93240" rIns="93240" tIns="46800" bIns="4680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85840" y="698400"/>
            <a:ext cx="4656240" cy="34927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86" name="PlaceHolder 4"/>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0" y="8845560"/>
            <a:ext cx="3044880" cy="465120"/>
          </a:xfrm>
          <a:prstGeom prst="rect">
            <a:avLst/>
          </a:prstGeom>
          <a:noFill/>
          <a:ln w="0">
            <a:noFill/>
          </a:ln>
        </p:spPr>
        <p:txBody>
          <a:bodyPr lIns="93240" rIns="93240" tIns="46800" bIns="4680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979800" y="8845560"/>
            <a:ext cx="3044880" cy="465120"/>
          </a:xfrm>
          <a:prstGeom prst="rect">
            <a:avLst/>
          </a:prstGeom>
          <a:noFill/>
          <a:ln w="0">
            <a:noFill/>
          </a:ln>
        </p:spPr>
        <p:txBody>
          <a:bodyPr lIns="93240" rIns="93240" tIns="46800" bIns="46800" anchor="b">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5B510773-611C-4E3A-9BA9-E54083DEA4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85840" y="698400"/>
            <a:ext cx="4656240" cy="3492720"/>
          </a:xfrm>
          <a:prstGeom prst="rect">
            <a:avLst/>
          </a:prstGeom>
          <a:ln w="0">
            <a:noFill/>
          </a:ln>
        </p:spPr>
      </p:sp>
      <p:sp>
        <p:nvSpPr>
          <p:cNvPr id="127"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staff presentations which required a vote from WMS and now TAC.</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cillary service document spent more time with ROS – WMS made editorial changes and approved.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cussion of CREs was abbreviated and frankly we (WMS) did not do as good a job as we should have in reviewing the proposals from ERCOT.  A vote was conducted on a modified list by e-mail and it did pass, however it was not unanimou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can change this list as they need to during the year.  However they are directed by Protocols to get their initial list approved so TAC is being asked for their approval as well.</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85840" y="698400"/>
            <a:ext cx="4656240" cy="3492720"/>
          </a:xfrm>
          <a:prstGeom prst="rect">
            <a:avLst/>
          </a:prstGeom>
          <a:ln w="0">
            <a:noFill/>
          </a:ln>
        </p:spPr>
      </p:sp>
      <p:sp>
        <p:nvSpPr>
          <p:cNvPr id="129"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ran long on the agenda and did not have time to get all the way through it.   We adjourned the meeting at 3:30 but since he was ready Eric Goss gave a presentation on PRR 692 to whoever chose to st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te of that PRR was included in Kevin’s report.  (appeal???)</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85840" y="698400"/>
            <a:ext cx="4656240" cy="3492720"/>
          </a:xfrm>
          <a:prstGeom prst="rect">
            <a:avLst/>
          </a:prstGeom>
          <a:ln w="0">
            <a:noFill/>
          </a:ln>
        </p:spPr>
      </p:sp>
      <p:sp>
        <p:nvSpPr>
          <p:cNvPr id="115"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SEW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MW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ervice Methodology - v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s – e-mail v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ILP</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85840" y="698400"/>
            <a:ext cx="4656240" cy="3492720"/>
          </a:xfrm>
          <a:prstGeom prst="rect">
            <a:avLst/>
          </a:prstGeom>
          <a:ln w="0">
            <a:noFill/>
          </a:ln>
        </p:spPr>
      </p:sp>
      <p:sp>
        <p:nvSpPr>
          <p:cNvPr id="117"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SE Managers Working Group – Gary Miller (see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ordination &amp; Participation with Nod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CCP is a big de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view of how RPRS is working. Recognition of off-line Non-spin.  New proposed procedure add all of non-spin requirement to the capacity needed on line.  Only those units that are off-line get reserved.  The rest is new capacity obligation as far as RPRS is concerned.  We don’t think that a PRR is needed to change ERCOT’s procedure, but that is being looked i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cillary Service Requal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SE’s report issues with tes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agrees, but has been 5 years since prior te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to make A/S Testing template more robust, including set-up procedures and explanations of what QSE’s should expect during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to describe scoring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concerned about practice of “borrowing” units for tes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ses replacing concept with provisional qual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sal to provisionally qualify QSE’s for 45 days.  If A/S qualification not completed in 45 days, revoke cert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PRR necess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dal MIS Presentation from Pat Harris and Kate Horne…request for feedback from QMW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yant Tamby presented on ICCP for Nodal</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85840" y="698400"/>
            <a:ext cx="4656240" cy="3492720"/>
          </a:xfrm>
          <a:prstGeom prst="rect">
            <a:avLst/>
          </a:prstGeom>
          <a:ln w="0">
            <a:noFill/>
          </a:ln>
        </p:spPr>
      </p:sp>
      <p:sp>
        <p:nvSpPr>
          <p:cNvPr id="119"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SE Managers Working Group – Gary Miller (see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ordination &amp; Participation with Nod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CCP is a big de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view of how RPRS is working. Recognition of off-line Non-spin.  New proposed procedure add all of non-spin requirement to the capacity needed on line.  Only those units that are off-line get reserved.  The rest is new capacity obligation as far as RPRS is concerned.  We don’t think that a PRR is needed to change ERCOT’s procedure, but that is being looked i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cillary Service Requal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SE’s report issues with tes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agrees, but has been 5 years since prior te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to make A/S Testing template more robust, including set-up procedures and explanations of what QSE’s should expect during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to describe scoring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concerned about practice of “borrowing” units for tes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ses replacing concept with provisional qual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sal to provisionally qualify QSE’s for 45 days.  If A/S qualification not completed in 45 days, revoke cert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PRR necess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dal MIS Presentation from Pat Harris and Kate Horne…request for feedback from QMW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yant Tamby presented on ICCP for Noda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85840" y="698400"/>
            <a:ext cx="4656240" cy="3492720"/>
          </a:xfrm>
          <a:prstGeom prst="rect">
            <a:avLst/>
          </a:prstGeom>
          <a:ln w="0">
            <a:noFill/>
          </a:ln>
        </p:spPr>
      </p:sp>
      <p:sp>
        <p:nvSpPr>
          <p:cNvPr id="121"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gestion Management Working Group – Bob Spangler presented the CMWG Report Constraining Competitiveness Tests presentation. Current Status and CMWG Pl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ams gave a tutorial on how ECI wor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s is an issue because the Texas Two Step requires a definition of competi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dal protocols suggest a direction, but they are not complete and require more testing and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MWG is going to try and get a tool developed to facilitate analysis of ECI approach.</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85840" y="698400"/>
            <a:ext cx="4656240" cy="3492720"/>
          </a:xfrm>
          <a:prstGeom prst="rect">
            <a:avLst/>
          </a:prstGeom>
          <a:ln w="0">
            <a:noFill/>
          </a:ln>
        </p:spPr>
      </p:sp>
      <p:sp>
        <p:nvSpPr>
          <p:cNvPr id="123"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q TF has completed its work on a Gov. Resp NPRR.  Rather than filing it now in the midst of the ongoing nodal work, we have asked the DSWG to review and comment on the NPRR and see if there is a way to make it more load participation friendly.</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oup once known as the Circle of Love was formally and finally disbanded.  Mark Bruce was thanked for all his hard work and persistence in getting through some very complicated issues associated with SCE.  We were so impressed with the work done on this controversial issue that we turned around an anointed him chairman of the EILP task force which should be every bit as interesting as the SCE discussion wer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 will give a status report in a minute on how his new group is doing.</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MS was able to draft a mission statement that is hopefully precise enough to allow the group to proceed and meet the objectives of TAC and the PUC.  There is no commitment from WMS that the resulting PRR will be supported by anybody.</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85840" y="698400"/>
            <a:ext cx="4656240" cy="3492720"/>
          </a:xfrm>
          <a:prstGeom prst="rect">
            <a:avLst/>
          </a:prstGeom>
          <a:ln w="0">
            <a:noFill/>
          </a:ln>
        </p:spPr>
      </p:sp>
      <p:sp>
        <p:nvSpPr>
          <p:cNvPr id="125"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IL TF is charged to draft one or more PRRs/NPRRs to be presented a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ember WMS meeting.  The PRRs/NPRRs should provide ERCOT with a loa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ruption ancillary service to be deployed within 10 minutes of</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ion as part of the EECP immediately prior to firm load shedding.</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IL TF is further charged to address the following specific issu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Qualifications &amp; requireme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Dispatch and recal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Who gets pai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How they are pai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Who pay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Effect on clearing pri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Compliance issu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Coordination with other ancillary servic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Self-provis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Contract dur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   Procurement:  contract vs. auc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66948D-C8B8-49E8-9CC8-BFDE3660D7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ED1688-A913-46FA-8BEB-493B4FEB42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DBFAD9-560B-41FE-92F7-72C56CFA7E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1172B2-B174-4A98-96ED-1BFAD3ADB0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A169AD-2B59-4245-86CE-B616F779CE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C266CF-A3C8-4C47-AFE6-7F4339785C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62D106-D64A-48D4-9BF1-B5FEAE1407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946856-0832-43D8-AF3D-CA9518641D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339137-F439-45A0-969F-DCBDA11099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F31F70-E22A-4430-BD67-5612F8B5CF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BA89D6-275A-4703-83E1-78392A564E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5B2350-38B2-471E-9A83-9871183E9B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73D530-2492-4B7D-803D-77C3836387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40B07D-6B09-4139-B5D0-8B620B4A65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2069F1-7CA7-4AED-B6F8-4D5792F1EB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96C2E6-C755-436A-A447-D5F791DFAC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337977-A2C6-4147-9BC3-8033DECC51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DEBF40-3018-4554-B822-42BCCAC0D9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816C86-E6EF-43D3-BC1D-9E0F365A1F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E92690-FDB6-419D-852D-740AECF894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D3D9F9-B375-460C-8BF7-A9FA13AF60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86A01E-5C58-4CB8-A4D8-6558591063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420D1D-72B7-4426-9A4A-C46026149D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8D571F-E677-4FDD-8467-1A8A628DA5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5841E-570F-4436-8B5E-5A1DCCEC7C4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4C7EF-4FE3-461A-8C04-6E5F5205C65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WMS Report TO TAC</a:t>
            </a:r>
            <a:endParaRPr b="0" lang="en-US" sz="4400" spc="-1" strike="noStrike">
              <a:solidFill>
                <a:srgbClr val="e5ffff"/>
              </a:solidFill>
              <a:latin typeface="Tahoma"/>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vember 2006</a:t>
            </a:r>
            <a:endParaRPr b="0" lang="en-US" sz="3200" spc="-1" strike="noStrike">
              <a:solidFill>
                <a:srgbClr val="ffffff"/>
              </a:solidFill>
              <a:latin typeface="Tahoma"/>
            </a:endParaRPr>
          </a:p>
        </p:txBody>
      </p:sp>
      <p:sp>
        <p:nvSpPr>
          <p:cNvPr id="4" name="PlaceHolder 3"/>
          <p:cNvSpPr>
            <a:spLocks noGrp="1"/>
          </p:cNvSpPr>
          <p:nvPr>
            <p:ph type="sldNum" idx="6"/>
          </p:nvPr>
        </p:nvSpPr>
        <p:spPr/>
        <p:txBody>
          <a:bodyPr/>
          <a:p>
            <a:fld id="{2D22EC6A-2FA9-4589-8E24-1F29353C7D0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ERCOT Staff Presentations</a:t>
            </a:r>
            <a:endParaRPr b="0" lang="en-US" sz="4400" spc="-1" strike="noStrike">
              <a:solidFill>
                <a:srgbClr val="e5ffff"/>
              </a:solidFill>
              <a:latin typeface="Tahoma"/>
            </a:endParaRPr>
          </a:p>
        </p:txBody>
      </p:sp>
      <p:sp>
        <p:nvSpPr>
          <p:cNvPr id="11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cillary Service Methodology (vote)</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osely Related Elements (CREs) (vote)</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8FC8C24C-1633-44A5-B0FE-83DEBFFD866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Post Meeting Discussion</a:t>
            </a:r>
            <a:endParaRPr b="0" lang="en-US" sz="4400" spc="-1" strike="noStrike">
              <a:solidFill>
                <a:srgbClr val="e5ffff"/>
              </a:solidFill>
              <a:latin typeface="Tahoma"/>
            </a:endParaRPr>
          </a:p>
        </p:txBody>
      </p:sp>
      <p:sp>
        <p:nvSpPr>
          <p:cNvPr id="11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R 692 Corrections to Replacement Reserve Service  </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3098495C-C91C-41DC-A923-08E3663B5FAC}" type="slidenum">
              <a:t>1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In Brief</a:t>
            </a:r>
            <a:r>
              <a:rPr b="0" lang="en-US" sz="4400" spc="-1" strike="noStrike">
                <a:solidFill>
                  <a:srgbClr val="e5ffff"/>
                </a:solidFill>
                <a:latin typeface="Tahoma"/>
              </a:rPr>
              <a:t>	</a:t>
            </a:r>
            <a:endParaRPr b="0" lang="en-US" sz="4400" spc="-1" strike="noStrike">
              <a:solidFill>
                <a:srgbClr val="e5ffff"/>
              </a:solidFill>
              <a:latin typeface="Tahoma"/>
            </a:endParaRPr>
          </a:p>
        </p:txBody>
      </p:sp>
      <p:sp>
        <p:nvSpPr>
          <p:cNvPr id="9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wo Working Group report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Task Force Report</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 ERCOT Staff Presentation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Very long discussion on  EILP</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C20B9DF6-578B-4D90-9391-92A0AC8139F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Working Group Reports</a:t>
            </a:r>
            <a:br>
              <a:rPr sz="4000"/>
            </a:br>
            <a:r>
              <a:rPr b="0" lang="en-US" sz="4000" spc="-1" strike="noStrike">
                <a:solidFill>
                  <a:srgbClr val="e5ffff"/>
                </a:solidFill>
                <a:latin typeface="Tahoma"/>
              </a:rPr>
              <a:t>QSEWG</a:t>
            </a:r>
            <a:endParaRPr b="0" lang="en-US" sz="4000" spc="-1" strike="noStrike">
              <a:solidFill>
                <a:srgbClr val="e5ffff"/>
              </a:solidFill>
              <a:latin typeface="Tahoma"/>
            </a:endParaRPr>
          </a:p>
        </p:txBody>
      </p:sp>
      <p:sp>
        <p:nvSpPr>
          <p:cNvPr id="9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dal Development effort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PRS and Non-Spin</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cillary Service Requalification</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A6F348B9-2E48-4D3F-BBBB-7661467D5B8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RPRS Capacity Examples</a:t>
            </a:r>
            <a:endParaRPr b="0" lang="en-US" sz="4400" spc="-1" strike="noStrike">
              <a:solidFill>
                <a:srgbClr val="e5ffff"/>
              </a:solidFill>
              <a:latin typeface="Tahoma"/>
            </a:endParaRPr>
          </a:p>
        </p:txBody>
      </p:sp>
      <p:graphicFrame>
        <p:nvGraphicFramePr>
          <p:cNvPr id="96" name=""/>
          <p:cNvGraphicFramePr/>
          <p:nvPr/>
        </p:nvGraphicFramePr>
        <p:xfrm>
          <a:off x="457200" y="1981080"/>
          <a:ext cx="8153280" cy="3287520"/>
        </p:xfrm>
        <a:graphic>
          <a:graphicData uri="http://schemas.openxmlformats.org/drawingml/2006/table">
            <a:tbl>
              <a:tblPr/>
              <a:tblGrid>
                <a:gridCol w="2717640"/>
                <a:gridCol w="2718000"/>
                <a:gridCol w="2717640"/>
              </a:tblGrid>
              <a:tr h="547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urren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 NSR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47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ad</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0,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82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RS</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15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15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7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RS</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7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SRS</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                </a:t>
                      </a:r>
                      <a:r>
                        <a:rPr b="0" lang="en-US" sz="2800" spc="-1" strike="noStrike" u="sng">
                          <a:solidFill>
                            <a:srgbClr val="ffffff"/>
                          </a:solidFill>
                          <a:uFillTx/>
                          <a:latin typeface="Tahoma"/>
                        </a:rPr>
                        <a:t>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           </a:t>
                      </a:r>
                      <a:r>
                        <a:rPr b="0" lang="en-US" sz="2800" spc="-1" strike="noStrike" u="sng">
                          <a:solidFill>
                            <a:srgbClr val="ffffff"/>
                          </a:solidFill>
                          <a:uFillTx/>
                          <a:latin typeface="Tahoma"/>
                        </a:rPr>
                        <a:t>1,2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7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tal Capacity</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2,15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3,35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sldNum" idx="3"/>
          </p:nvPr>
        </p:nvSpPr>
        <p:spPr/>
        <p:txBody>
          <a:bodyPr/>
          <a:p>
            <a:fld id="{86941304-D170-44D2-A803-4D7D453821F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Working Group Reports</a:t>
            </a:r>
            <a:br>
              <a:rPr sz="4000"/>
            </a:br>
            <a:r>
              <a:rPr b="0" lang="en-US" sz="4000" spc="-1" strike="noStrike">
                <a:solidFill>
                  <a:srgbClr val="e5ffff"/>
                </a:solidFill>
                <a:latin typeface="Tahoma"/>
              </a:rPr>
              <a:t>QSEWG</a:t>
            </a:r>
            <a:endParaRPr b="0" lang="en-US" sz="4000" spc="-1" strike="noStrike">
              <a:solidFill>
                <a:srgbClr val="e5ffff"/>
              </a:solidFill>
              <a:latin typeface="Tahoma"/>
            </a:endParaRPr>
          </a:p>
        </p:txBody>
      </p:sp>
      <p:sp>
        <p:nvSpPr>
          <p:cNvPr id="9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dal Development effort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PRS and Non-Spin</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cillary Service Requalification</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753A28F2-976F-4A5D-94C0-2F143EFF61C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Working Group Reports</a:t>
            </a:r>
            <a:br>
              <a:rPr sz="4000"/>
            </a:br>
            <a:r>
              <a:rPr b="0" lang="en-US" sz="4000" spc="-1" strike="noStrike">
                <a:solidFill>
                  <a:srgbClr val="e5ffff"/>
                </a:solidFill>
                <a:latin typeface="Tahoma"/>
              </a:rPr>
              <a:t>CMWG</a:t>
            </a:r>
            <a:endParaRPr b="0" lang="en-US" sz="4000" spc="-1" strike="noStrike">
              <a:solidFill>
                <a:srgbClr val="e5ffff"/>
              </a:solidFill>
              <a:latin typeface="Tahoma"/>
            </a:endParaRPr>
          </a:p>
        </p:txBody>
      </p:sp>
      <p:sp>
        <p:nvSpPr>
          <p:cNvPr id="10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dal Assignment from TAC</a:t>
            </a:r>
            <a:endParaRPr b="0" lang="en-US" sz="3200" spc="-1" strike="noStrike">
              <a:solidFill>
                <a:srgbClr val="ffffff"/>
              </a:solidFill>
              <a:latin typeface="Tahoma"/>
            </a:endParaRPr>
          </a:p>
        </p:txBody>
      </p:sp>
      <p:sp>
        <p:nvSpPr>
          <p:cNvPr id="101" name=""/>
          <p:cNvSpPr/>
          <p:nvPr/>
        </p:nvSpPr>
        <p:spPr>
          <a:xfrm>
            <a:off x="762120" y="3276720"/>
            <a:ext cx="769608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a:t>
            </a:r>
            <a:r>
              <a:rPr b="1" lang="en-US" sz="1600" spc="-1" strike="noStrike">
                <a:solidFill>
                  <a:srgbClr val="ffffff"/>
                </a:solidFill>
                <a:latin typeface="Tahoma"/>
              </a:rPr>
              <a:t>Unless the Board approves changes, the “Competitive Constraints” are the contingency/limiting Transmission Element pairs that represent the Commercially Significant Constraints (CSCs) and Closely Related Elements (CREs), as those terms were defined in the ERCOT Protocols, immediately prior to Texas Nodal Market Implementation Date.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The ERCOT Board may approve changes to the Competitive Constraints from time to time, whether before the Texas Nodal Market Implementation Date or after.</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An appropriate subcommittee approved by TAC (“TAC Subcommittee”) may develop an alternative list through the analysis described below for determining Competitive Constraints.”</a:t>
            </a:r>
            <a:endParaRPr b="0" lang="en-US" sz="1600" spc="-1" strike="noStrike">
              <a:solidFill>
                <a:srgbClr val="ffffff"/>
              </a:solidFill>
              <a:latin typeface="Arial"/>
            </a:endParaRPr>
          </a:p>
        </p:txBody>
      </p:sp>
      <p:sp>
        <p:nvSpPr>
          <p:cNvPr id="102" name=""/>
          <p:cNvSpPr/>
          <p:nvPr/>
        </p:nvSpPr>
        <p:spPr>
          <a:xfrm>
            <a:off x="533520" y="2590920"/>
            <a:ext cx="655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Arial"/>
              </a:rPr>
              <a:t>Requirement: Nodal Protocol Section 3.19</a:t>
            </a:r>
            <a:endParaRPr b="0" lang="en-US" sz="2000" spc="-1" strike="noStrike">
              <a:solidFill>
                <a:srgbClr val="ffffff"/>
              </a:solidFill>
              <a:latin typeface="Arial"/>
            </a:endParaRPr>
          </a:p>
        </p:txBody>
      </p:sp>
      <p:sp>
        <p:nvSpPr>
          <p:cNvPr id="4" name="PlaceHolder 3"/>
          <p:cNvSpPr>
            <a:spLocks noGrp="1"/>
          </p:cNvSpPr>
          <p:nvPr>
            <p:ph type="sldNum" idx="3"/>
          </p:nvPr>
        </p:nvSpPr>
        <p:spPr/>
        <p:txBody>
          <a:bodyPr/>
          <a:p>
            <a:fld id="{E8AB51B9-E28A-4533-A764-45155562169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ask Force Reports</a:t>
            </a:r>
            <a:endParaRPr b="0" lang="en-US" sz="4400" spc="-1" strike="noStrike">
              <a:solidFill>
                <a:srgbClr val="e5ffff"/>
              </a:solidFill>
              <a:latin typeface="Tahoma"/>
            </a:endParaRPr>
          </a:p>
        </p:txBody>
      </p:sp>
      <p:sp>
        <p:nvSpPr>
          <p:cNvPr id="10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zTF – Finished NPRR on Governor Response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ILP - Created</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07A52D6E-E90B-4401-A26B-D6C41F79B5F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Emergency Interruptible </a:t>
            </a:r>
            <a:br>
              <a:rPr sz="4000"/>
            </a:br>
            <a:r>
              <a:rPr b="0" lang="en-US" sz="4000" spc="-1" strike="noStrike">
                <a:solidFill>
                  <a:srgbClr val="e5ffff"/>
                </a:solidFill>
                <a:latin typeface="Tahoma"/>
              </a:rPr>
              <a:t>Load Task Force</a:t>
            </a:r>
            <a:endParaRPr b="0" lang="en-US" sz="4000" spc="-1" strike="noStrike">
              <a:solidFill>
                <a:srgbClr val="e5ffff"/>
              </a:solidFill>
              <a:latin typeface="Tahoma"/>
            </a:endParaRPr>
          </a:p>
        </p:txBody>
      </p:sp>
      <p:sp>
        <p:nvSpPr>
          <p:cNvPr id="10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
          <p:cNvSpPr/>
          <p:nvPr/>
        </p:nvSpPr>
        <p:spPr>
          <a:xfrm>
            <a:off x="457200" y="1981080"/>
            <a:ext cx="807732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EIL TF is charged to draft one or more PRRs/NPRRs to be presented at the December WMS meeting.  The PRRs/NPRRs should provide ERCOT with a load interruption ancillary service to be deployed within 10 minutes of instruction as part of the EECP immediately prior to firm load shedding.</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5920E12B-B1B8-42CF-B846-6AB37FCFA3F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Emergency Interruptible </a:t>
            </a:r>
            <a:br>
              <a:rPr sz="4000"/>
            </a:br>
            <a:r>
              <a:rPr b="0" lang="en-US" sz="4000" spc="-1" strike="noStrike">
                <a:solidFill>
                  <a:srgbClr val="e5ffff"/>
                </a:solidFill>
                <a:latin typeface="Tahoma"/>
              </a:rPr>
              <a:t>Load Task Force</a:t>
            </a:r>
            <a:endParaRPr b="0" lang="en-US" sz="4000" spc="-1" strike="noStrike">
              <a:solidFill>
                <a:srgbClr val="e5ffff"/>
              </a:solidFill>
              <a:latin typeface="Tahoma"/>
            </a:endParaRPr>
          </a:p>
        </p:txBody>
      </p:sp>
      <p:sp>
        <p:nvSpPr>
          <p:cNvPr id="10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Qualifications &amp; requirements</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spatch and recall</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o gets paid</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w they are paid</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o pays</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ffect on clearing price</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pliance issues</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ordination with other ancillary services</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lf-provision</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tract duration</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curement:  contract vs. auction</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35C2BE55-AD2C-454B-AB3B-F8D44282383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4T16:12:36Z</dcterms:created>
  <dc:creator>bbelk</dc:creator>
  <dc:description/>
  <dc:language>en-US</dc:language>
  <cp:lastModifiedBy>bbelk</cp:lastModifiedBy>
  <dcterms:modified xsi:type="dcterms:W3CDTF">2006-10-26T19:12:46Z</dcterms:modified>
  <cp:revision>69</cp:revision>
  <dc:subject/>
  <dc:title>WMS Report TO TAC</dc:title>
</cp:coreProperties>
</file>