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72C-2E5A-4581-AE97-36EC99E8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2EB-6C80-40B4-94DC-52A2C42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B14-1763-453F-9A5E-7CC0861A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25B-FC5B-4506-BD8A-21E975D8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154C-BC45-46A8-B71C-C90491E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8F4-9B2E-40FE-A66D-4D22F2CB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28A7-A4A5-4401-B569-33F4419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86E-CD61-4270-8943-428C6D5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7B0C-E3FE-47A7-ACD0-F10A3AC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D120-F83D-465C-BB7D-F4FDED45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5B6C-D4AA-4D27-95A6-8504BAB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CD9-04B9-4D96-9C12-A86BCA9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DFE9-B12D-4DCD-8F6F-D26BDE5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2C2E-DA23-48E7-ACA6-B2DC034F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C421-2970-4966-8EED-3B91987E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67C4-1B7E-47D3-AE6E-542CEBD1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8C89-203A-458D-A8BD-F2BA8BB6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02F-0AC6-454D-8319-DD9783A5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6A8-41C8-4C9A-B4EA-BED44B50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AA8-6237-4D07-9F03-3EDA79F9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721-8113-4A5F-9DF0-D64CB22D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1D8-6B5D-4764-9D8B-32EBFAA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7D4-27E3-45DC-AC35-8B65AC2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75D-410C-4620-A5E3-D3FC5EE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D656-C508-4E4E-853E-35A1072F7D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D59-4226-4D14-9973-C23A554EF3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ember 2, 20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—Upcoming Voting It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c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d Meter 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torical Us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DSP Invoice Disp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nnect for Non-Pa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69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action Updates for TX SE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0 and Priority/Standard Move-I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272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Voting It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MGRR041- Safety Net Revisions Necessary for PUCT Project 2963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ions update the timing and procedures for Market Participants to follow when processing standard and priority safety-ne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effective date of July 1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nimously approved at 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ra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Date for TX SET 3.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tail Processing Service Availability Exception Requ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ice Availability Re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pcoming Voting It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66"/>
                </a:solidFill>
                <a:latin typeface="Arial"/>
              </a:rPr>
              <a:t>Marketrak Update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Participant Training Completed on 10/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Internal Testing Completed on 10/20- included fix for Mass Update and Scientific Notation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gration to Production and Cer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 should be complete 10/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I Testing will resume on 10/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get Go Live Date 11/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X SET 3.0 Upda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MS unanimously approved a June 24, 2007 go-live date for TX SET 3.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CT requests RMS approval for the implementation of TX SET V3.0 over the weekend of June 23 – 24, 2007 with a contingency implementation weekend of June 30 – July 1, 2007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Arial"/>
              </a:rPr>
              <a:t>Retail Processing Service Availability Exception Request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unanimously approved ERCOT’s service availability exception 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exception will cover 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outage window fro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:00 AM Friday 12/8/06 until 11:30 PM Sunday 12/10/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is outage windo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ESB servers will be off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67 transactions will not be forwar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97 functional acknowledgements will not be s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component of TML and API will not be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ear-To-Date 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08160" y="1827360"/>
          <a:ext cx="58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8160" y="1827360"/>
                    <a:ext cx="58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ptember 2006 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28760" y="1827360"/>
          <a:ext cx="559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827360"/>
                    <a:ext cx="559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tail Transaction Processing Availability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2179800"/>
          <a:ext cx="731340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179800"/>
                    <a:ext cx="731340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10-26T14:18:59Z</dcterms:modified>
  <cp:revision>74</cp:revision>
  <dc:subject/>
  <dc:title>RMS Update to TAC</dc:title>
</cp:coreProperties>
</file>