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A3E-139E-443F-8703-C2BB1C2D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D13-1919-476C-A7F3-5460740A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0D0-F503-470D-99E0-3CF030A7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68A-AFBF-41A4-A518-D6EE5D91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158-967C-4505-B703-892A079A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E2A-4431-499D-B32F-8072A8DC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0E0-1955-4EA7-B9A6-FFF2EED1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E8D-8C3D-469C-8FA0-80F6DD28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FFB-D3E8-481D-9F1F-4A5BD9D8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8A0-A327-47BE-BEAA-56DAE955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5B9-B90B-4899-8B6C-19BF23C5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E06-2F00-4A15-B688-539302BB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5FB1-E77E-405B-AD60-4C628C5F1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11/2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Discussion Items at 10/12-13/06 ROS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C access to PDCW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C requesting staff membership on the PDCWG, including ac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turbance files, process of analysis for governor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3, 2006 Significant Ev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S level event, with manual deployment of LaaRs and subsequ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frequency. Preliminary discussion, more analysis in Nove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ement of Ancillary Service Method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endorse changes to ERCOT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ng EECP Related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 triggers and discount factor.  OCN ineffective.  Inconsist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ology.  ERCOT needs hard limits except for public appeal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EECP now inconsistent with revised zonal EEC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Start Service Discu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to reject PRR584.  Motion to endorse Black Start Feasi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as an ERCOT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MOTE System in Nodal Mar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that NDSWG prepare NPRR for MOTE System in No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11/2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ems Requiring TAC Vote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682 EECP Realig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to adopt ERCOT requested changes relating to optional u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appeal for conservation. Motion passed 64.1% in favor, 35.9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sed.  Argument for based on potential risk of desensitizing publ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mpact on control of the story.  Argument against based 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redictability of emergency events and lead time needed for publ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R 187 EECP Realig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approve Urgent Status.  Reviewed by OGTF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e-mail vote to approve.  Needed to synchronize Operat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s with revised PR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Assignment – Nodal Non-Spin Deployment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endorse the Nodal NSRS Procedure Propo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60360"/>
            <a:ext cx="876312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6-10-23T19:58:36Z</dcterms:modified>
  <cp:revision>23</cp:revision>
  <dc:subject/>
  <dc:title>ROS Report to TAC – 2/2/06 Major Discussion Items at 1/13/06 ROS  </dc:title>
</cp:coreProperties>
</file>