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DA33-4B2E-4665-AA15-CE4A4E6AE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1D5A-4B48-4A62-89AB-4C77C8F67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E238-3C69-442B-BC58-1C70CBB8B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A2CA-C03C-4CDB-AC04-F6EFDDDB3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C064-43FF-418A-BC1C-275AC3BC9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6444-2892-402F-98E4-6189B47A7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F6CF-3567-4449-961F-2015A4B6C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F7BF-7A5C-402C-A4F8-FC216B4D7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8F2A-868D-4FDC-BAF2-4182CFB52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F7FB-D6D1-4785-A3EE-623BBCF2B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427A-0DED-4B30-92F9-4F36E5B29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E808-02F4-4E24-A49C-FD04ECAFC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20F0-91AE-48FC-A668-DB2A4A307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931D-7DEF-4101-878E-FF755E0A5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122F-0E7C-451B-842F-947A3BF47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T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2, 20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Zonal PPL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523880"/>
            <a:ext cx="7848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F948-C970-483E-BC45-B49BA93EF89F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porting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76520" y="152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Finance &amp; Audit Committe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3127" t="25004" r="6250" b="4169"/>
          <a:stretch/>
        </p:blipFill>
        <p:spPr>
          <a:xfrm>
            <a:off x="152280" y="1015920"/>
            <a:ext cx="8839440" cy="5181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527960" y="160200"/>
            <a:ext cx="1311120" cy="39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10/06 Board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FC8F-A64E-4718-98C6-709870A8EAD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3880" y="152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Finance &amp; Audit Committe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27960" y="160200"/>
            <a:ext cx="1311120" cy="39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10/06 Board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3127" t="9376" r="5467" b="11808"/>
          <a:stretch/>
        </p:blipFill>
        <p:spPr>
          <a:xfrm>
            <a:off x="139680" y="838080"/>
            <a:ext cx="8915400" cy="576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38F5-C6D5-45A7-84C5-6356AA294158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Zonal PPL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99072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97000"/>
          </a:bodyPr>
          <a:p>
            <a:pPr marL="281520" indent="-281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ion Point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ddressed in the following or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600" indent="-267840">
              <a:lnSpc>
                <a:spcPct val="100000"/>
              </a:lnSpc>
              <a:spcBef>
                <a:spcPts val="2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600" indent="-26784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ding of Zonal Portion of Nod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3560" indent="-1724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2007 several projects were added to the Nodal program due to efficiencies and critical path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3560" indent="-1724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dal surcharge created scenario where different stakeholder groups were funding Nodal and Zona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3560" indent="-1724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reviewed the Nodal project list for efforts that would have been incurred by Zonal (regardless of Nod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3560" indent="-1724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: $37M was identified as the Zonal portion of five Noda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41240" indent="-2354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MMS, State Estimator, EMS Upgrade, Unix End-of-Life, TCC Virt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41240" indent="-235440">
              <a:lnSpc>
                <a:spcPct val="100000"/>
              </a:lnSpc>
              <a:spcBef>
                <a:spcPts val="201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600" indent="-26784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onal budget reduction from $36M to $3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3560" indent="-1724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ed leaving 2007 admin fee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0005-D0F6-48BA-BBDE-BCE1159CED8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Nodal budget big picture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160200"/>
            <a:ext cx="1295280" cy="39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10/06 Board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5626" t="19791" r="14844" b="6251"/>
          <a:stretch/>
        </p:blipFill>
        <p:spPr>
          <a:xfrm>
            <a:off x="1219320" y="1219320"/>
            <a:ext cx="6781680" cy="5410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48769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2304-A223-4B75-85DF-465C23BC5F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Zonal Portion of Nodal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181160"/>
            <a:ext cx="8686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ral Funding Options Are Being Consid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item #7 on 10/17 Board of Directors meeting 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d Strategy to Fund $3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 CART Reprioritization             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 1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tional Board-approved Funds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 9.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 CART Reprioritization             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 7.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tional Debt                          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14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ded by 2008 Zonal PPL         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 5.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2004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98600" y="42670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B97E-CD96-4909-9782-1BB00A4101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45400" y="1905120"/>
            <a:ext cx="129528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905120"/>
            <a:ext cx="129528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Zonal Portion of Nodal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5334120"/>
            <a:ext cx="1447920" cy="824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4M reduction in debt incurred offsets additional 2007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7467120" y="46479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1905120"/>
            <a:ext cx="1523880" cy="44956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42900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3840" y="41148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3840" y="48006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act on Yearly Zonal Project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Nod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83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83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006     $25.0M    $25.0M    $ 9.3M       $34.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4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83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007     $30.0M    $30.0M    $14.0M       $44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4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833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Courier New"/>
              <a:buAutoNum type="arabicPlain" startAt="2008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35.0M    $15.8M    $ 5.2M       $21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833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Courier New"/>
              <a:buAutoNum type="arabicPlain" startAt="2008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83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total                     $28.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83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IO Reprioritization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$ 8.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83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$37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4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74320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7EFA-A37D-4044-99AB-4375AEA5AAA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9800" y="5346720"/>
            <a:ext cx="6400800" cy="40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394160"/>
            <a:ext cx="6400800" cy="40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Zonal PPL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act on Yearly CART Project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C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0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0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0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(proj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049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0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     $ 2.5M    $ 4.5M     $ 2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0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O     $ 8.1M    $12.5M     $ 8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0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     $ 2.5M    $ 1.5M     $ 0.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0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     $ 6.7M    $ 7.0M     $ 5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0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     $ 5.2M    $ 4.5M     $ 0.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0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$25.0M    $30.0M     $15.8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0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 9.3M    $14.0M     $ 5.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0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$34.3M    $44.0M     $21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267080"/>
            <a:ext cx="144792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al To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8580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7520" y="506736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 Path Items For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ED87-EC52-4814-9986-E2A6182757A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Zonal Portion of Nodal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95280"/>
            <a:ext cx="8305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ac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 PPL Restructured in 2006 and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orarily change debt ratio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vered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d Zonal budget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50B5F-D0CD-45FB-9DED-AD8E2BE788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52480" y="763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2007 Project Budge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1219320"/>
          <a:ext cx="6400800" cy="2209680"/>
        </p:xfrm>
        <a:graphic>
          <a:graphicData uri="http://schemas.openxmlformats.org/drawingml/2006/table">
            <a:tbl>
              <a:tblPr/>
              <a:tblGrid>
                <a:gridCol w="1746000"/>
                <a:gridCol w="2181240"/>
                <a:gridCol w="2473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l Budget Requ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sed Budget Requ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5,7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4,2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16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12,7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2,058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1,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7,659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7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4,908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4,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36,37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30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33520" y="3962520"/>
          <a:ext cx="7924680" cy="220968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  <a:gridCol w="1904760"/>
                <a:gridCol w="1524240"/>
                <a:gridCol w="175248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ry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line Mainten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CT/NERC/Mar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9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8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2,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         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3,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4,3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5,3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         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4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8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2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4,7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         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97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1,32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2,3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         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6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1,5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11,4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5,3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10,17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3,07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15200" y="1219320"/>
            <a:ext cx="129528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budget request to mee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391160" y="3352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009920" y="16002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2743200"/>
            <a:ext cx="129528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out of project budget by project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72400" y="152280"/>
            <a:ext cx="1158840" cy="39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9/06 PRS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6614-99AF-4F17-A0A1-6947325979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76520" y="4952880"/>
            <a:ext cx="289548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6019920"/>
            <a:ext cx="39625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763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Summary of 2007 PP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952560"/>
            <a:ext cx="8686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7 CART Project Budge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C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Origin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Revi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--------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Reason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--------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1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     $ 5.75M   $ 4.25M  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Acceleration of $0.25M from 2007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2 deferrals to 2008, 1 merge with 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O     $16.00M   $12.75M  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Acceleration of $2.50M from 2007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reduction in estimate for Info Life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     $ 2.06M   $ 1.50M  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TML Phase 3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     $ 7.66M   $ 7.00M  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Deferral of portions of low ranked ERC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projects to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     $ 4.91M   $ 4.50M  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Acceleration of $0.25M from 2007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reduction in Operations Support Study 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36.38M   $30.00M  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Subtotal (initial Zonal budget redu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16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al  $ 0.00M   $14.00M  </a:t>
            </a: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Critical path items for No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16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00200"/>
                <a:tab algn="l" pos="4000680"/>
                <a:tab algn="l" pos="44578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$36.38M   $44.00M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60580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4515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39800" y="4978440"/>
            <a:ext cx="294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9800" y="5372280"/>
            <a:ext cx="294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4701-952A-456F-87C8-FA179117D7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6-10-25T18:55:14Z</dcterms:modified>
  <cp:revision>209</cp:revision>
  <dc:subject/>
  <dc:title>Slide 1</dc:title>
</cp:coreProperties>
</file>