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1FE69-F37C-4D75-BD91-8A81F850B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5577-AC41-4641-8E68-D5A2543BC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39F28-39B2-48AF-9566-434B49FF3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4A0A4-30BA-4B1A-A4BE-74DCF38D4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5709-636D-4D5F-9EE1-19F684A0A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343A1-8847-4B1B-B7C9-5041A472C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33CD-466E-49C6-8738-D1D0E5132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9CA38-526D-40B6-AC51-B272B6E0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6D186-1739-4719-8F80-B4AE5E3D2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0633-F3B8-4EA5-A9F8-89CE7F9C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3842-779B-4A3E-A1EB-BDD87CB2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6179F-A147-4586-8E32-C086892CD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8781-733F-42A6-918B-27CB103A2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ergency Interruptible Load</a:t>
            </a:r>
            <a:br>
              <a:rPr sz="4400"/>
            </a:br>
            <a:r>
              <a:rPr b="0" lang="en-US" sz="4400" spc="-1" strike="noStrike">
                <a:solidFill>
                  <a:srgbClr val="000000"/>
                </a:solidFill>
                <a:latin typeface="Arial"/>
              </a:rPr>
              <a:t>Task For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TA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3,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nt Background</a:t>
            </a:r>
            <a:endParaRPr b="0" lang="en-US" sz="3600" spc="-1" strike="noStrike">
              <a:solidFill>
                <a:srgbClr val="000000"/>
              </a:solidFill>
              <a:latin typeface="Arial"/>
            </a:endParaRPr>
          </a:p>
        </p:txBody>
      </p:sp>
      <p:graphicFrame>
        <p:nvGraphicFramePr>
          <p:cNvPr id="44" name=""/>
          <p:cNvGraphicFramePr/>
          <p:nvPr/>
        </p:nvGraphicFramePr>
        <p:xfrm>
          <a:off x="457200" y="1066680"/>
          <a:ext cx="8229600" cy="5484960"/>
        </p:xfrm>
        <a:graphic>
          <a:graphicData uri="http://schemas.openxmlformats.org/drawingml/2006/table">
            <a:tbl>
              <a:tblPr/>
              <a:tblGrid>
                <a:gridCol w="1371600"/>
                <a:gridCol w="685800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AC request, WMS asks Demand Side WG to work on the issue of an emergency load program to address 1-in-10-year LO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amp; DSWG subgroup research emergency demand response programs in other IS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0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WG presentation to WMS; WMS defers decision in light of PUC rulemak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00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 resource adequacy draft rule includes Emergency Load Response (ELR) section; numerous parties submit com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R section dropped from proposed rule; deferred to Demand Response project (3285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 200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oposes EILR program at PUC Demand Response Worksho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00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formed EIL TF to draft PRR(s) / NPRR(s) for WMS review at December 13 WMS meet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MS Charge</a:t>
            </a:r>
            <a:endParaRPr b="0" lang="en-US" sz="3600" spc="-1" strike="noStrike">
              <a:solidFill>
                <a:srgbClr val="000000"/>
              </a:solidFill>
              <a:latin typeface="Arial"/>
            </a:endParaRPr>
          </a:p>
        </p:txBody>
      </p:sp>
      <p:sp>
        <p:nvSpPr>
          <p:cNvPr id="46"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y Interruptible Load Task Force (EIL TF) is to draft one or more PRRs/NPRRs by the December 2006 meeting of WMS that provides ERCOT with a load interruption ancillary service to be deployed within 10 minutes of instruction as part of the EECP immediately prior to firm load shedding.  The EIL TF is specifically charged to address each of the following issue are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ualifications &amp; requirements</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patch and recall</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o gets paid</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they are paid</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o pays</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fect on clearing price</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liance issues</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ordination with other ancillary services</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lf-provision</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act duration</a:t>
            </a:r>
            <a:endParaRPr b="0" lang="en-US" sz="1700" spc="-1" strike="noStrike">
              <a:solidFill>
                <a:srgbClr val="000000"/>
              </a:solidFill>
              <a:latin typeface="Arial"/>
            </a:endParaRPr>
          </a:p>
          <a:p>
            <a:pPr indent="230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urement:  contract vs. auc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t. 31 EIL TF meeting</a:t>
            </a:r>
            <a:endParaRPr b="0" lang="en-US" sz="3600" spc="-1" strike="noStrike">
              <a:solidFill>
                <a:srgbClr val="000000"/>
              </a:solidFill>
              <a:latin typeface="Arial"/>
            </a:endParaRPr>
          </a:p>
        </p:txBody>
      </p:sp>
      <p:sp>
        <p:nvSpPr>
          <p:cNvPr id="4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ed 7 propos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p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ar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no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Produc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d matrix to compare propos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 Qualifications &amp; System Requirem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widespread participation with efficacious particip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rm UF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ouble-counting MW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and Recal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calls v. the “big red butt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and Complia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spread agreement on need, minor differences on detai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v. A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oposed 1 or 2 year con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MPs propose shorter contracts or a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52"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 comparison spreadsheet distributed to stakeholders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eeting on Nov. 8</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ground and differe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work scope to 2 or 3 propos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ly one more meeting late Nov. / early Dec. to finalize PRR/NPRR langua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Rs/NPRRs due to WMS on Dec. 1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Rs/NPRRs to go through normal PR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3:58:31Z</dcterms:created>
  <dc:creator>Mark Bruce</dc:creator>
  <dc:description/>
  <dc:language>en-US</dc:language>
  <cp:lastModifiedBy>Mark Bruce</cp:lastModifiedBy>
  <dcterms:modified xsi:type="dcterms:W3CDTF">2006-11-02T19:43:21Z</dcterms:modified>
  <cp:revision>6</cp:revision>
  <dc:subject/>
  <dc:title>Emergency Interruptible Load Task Force</dc:title>
</cp:coreProperties>
</file>