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4FF5-91B2-4BA4-8A57-D72891B4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6A57-2E5C-4A5A-88C3-603B8A52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6144-036C-4E97-A10D-BF8AF4E5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AED9-C16D-4EA7-B9AD-957E8665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80D0-6E9F-4EAF-977F-D0174B87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C876-0B66-497E-B4E9-003F54FE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E305-D945-44FD-8F09-50BF705D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3665-FE72-43F7-8BB4-6CE25819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6E1E-767D-4C0C-9345-15C7D509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2F8E-BF49-4318-8C9D-608981FA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4A9B-7720-4CE4-8E93-FCC90222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6A2B-E2BC-48E2-877E-E056FDA7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57C7-234E-4635-A23F-5B7F5E94F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S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18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0C7C-9079-4BDC-9B69-B2A931A5A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Emergency Interruptible Load Progra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1280"/>
            <a:ext cx="542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ul Watt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eve Kre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25780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t. 18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Emergency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oposed new tool for the ERCOT tool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1554120"/>
          <a:ext cx="8229600" cy="4586400"/>
        </p:xfrm>
        <a:graphic>
          <a:graphicData uri="http://schemas.openxmlformats.org/drawingml/2006/table">
            <a:tbl>
              <a:tblPr/>
              <a:tblGrid>
                <a:gridCol w="4039920"/>
                <a:gridCol w="4189680"/>
              </a:tblGrid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/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Condition Not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reserve below 33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30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T:  Start RMR units, suspend unit testing, deploy RPRS &amp; NS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25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mergency Electric Curtailment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:  Dispatch all generation, public media appeal, DC Ti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23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:  Deploy La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175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:  Instruct transmission owners to shed firm lo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equency below 59.8 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457200" y="5334120"/>
            <a:ext cx="129528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11956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ew Step:  Deploy EMERGENCY INTERRUPTIBL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629E-1A25-41C7-80E0-1B5CCE43BF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ILP Deployment Scenar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ency Electric Curtailment Plan Ev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8954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4382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4382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2438280"/>
            <a:ext cx="0" cy="1447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43800" y="243828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843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ctr" pos="2054160"/>
                <a:tab algn="ctr" pos="5033880"/>
                <a:tab algn="ctr" pos="662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‘Step 2A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9625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l  available generation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962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aaRs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990360" y="2971440"/>
            <a:ext cx="15228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876920" y="2971440"/>
            <a:ext cx="22860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3962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Narrow"/>
              </a:rPr>
              <a:t>EILP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39625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olling blackou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firm load shed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48640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Moving MCPE to the price cap during EECP i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rrently under consideration by TPT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00400" y="2971440"/>
            <a:ext cx="0" cy="304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200400"/>
            <a:ext cx="5029200" cy="368280"/>
          </a:xfrm>
          <a:prstGeom prst="rect">
            <a:avLst/>
          </a:prstGeom>
          <a:gradFill rotWithShape="0">
            <a:gsLst>
              <a:gs pos="0">
                <a:srgbClr val="40949a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ads respond to scarcity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B67D-1F41-4B5F-80EC-50EF9DE60C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s would be deploy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ll market-based resources have been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low frequency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to rolling bla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would be based on averting historical firm load shedding events which have occurred in winter peak or shoulder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proposal:  1000 MW, based o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for program and quantity to be procured could be adjusted periodically based on various operating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probability of deplo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ed load interruption vs. uncontrol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60A5-2B4D-49C8-9353-EDF725E9A6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vantages of the EIL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dding voluntary load from prepared end-use customers is preferred over involuntary load shedding from unprepared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ERCOT operations an additional tool in emergency situ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dding load is 100% effective to maintain balance with gen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believes that EILP cost will be lower than the societal cost of rolling blackou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D272-A8CE-411D-8652-9E90B7E81C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, through their QSEs, would bid to provide service (similar to Black St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is with the Q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2-year contract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at, evaluate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renewal or re-bid if deployments exceed predefined number of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7671-6424-4F1E-B6DA-2F84475D14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atching and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atched By ERCOT thru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ed as a single block after all existing generation resources and LaaRs are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low frequency conditions but before any firm load shed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response required (10 minutes or l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interval data metering for measurement and ver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no telemetry or under frequency rela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number of hours to be curtailed in any given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D77A-F060-40A0-B86C-D4343C4158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 payment options offered by ERCOT at stakeholders’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APACITY &amp;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up-front payment based on bids at time of contract a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 for performance based on actual loa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 receives energy imbalance credit equal to MWh delivered (based on validated performance) times the MCPE, or price cap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 Energy Only with DEFINED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up-front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-only payment for performance based on actual loa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 receives a double energy imbalance credit/payment equal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h delivered (based on validated perform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PE price cap in place (guaranteed amount, known in adv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cription would be first-come, first-serve (as opposed to competitive bid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Standard Offer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 Energy Only with COMPETITIVE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up-front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-only payment under a call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bid process (QSEs bid on customers behal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recommends a ‘descending clock auction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s paid auction clearing price x MWh delivered (based on validated load perform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options subject to clawback or penalty for under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C80C-199B-4661-A3A5-EC5BA3E3598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wback/penalty for under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customer must no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as L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as BUL or voluntary load response unless sufficient EILP load is also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verif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curtailed demand based on review of 15-minute interv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ctual load from last full interval prior to instruction, minus actual load from next full interval following 10-minute respons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performance under high price periods and 4 CP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nergy payment will be provided (other than energy imbalance credit) if load underperform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QSE has received a capacity payment (i.e., under pay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1), it will be subject to performance-based claw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958A-D0AA-49EF-B50F-F1DA01E43E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tential Program Characteristic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ion (Option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d to QSEs representing load on load-ratio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ion (Option 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sing RPRS methodology (including PRRs 666, 676 &amp; 6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-scheduled LSEs bear a higher portion of th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open to recommendations on how to accommodate self-providing of EIL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should be open to QSEs serving both competit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NOIE 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C47F-B649-4DCB-B781-6F14EE8677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20976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777B-8FEA-4DE9-A1E0-1F8FD117FAD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story of this Issu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AC request, WMS asks Demand Side WG to work on the issue of an emergency load program to address 1-in-10-year LO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staff &amp; DSWG subgroup research emergency demand response programs in other IS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. 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WG presentation to WMS; WMS defers decision in light of PUC rulema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. 20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 resource adequacy draft rule includes Emergency Load Response (ELR) section; numerous parties submit com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0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R section dropped from proposed rule; deferred to Demand Response project (3285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/15/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roposes EILR program at PUC Demand Response Worksh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2/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discussion at second PUC Demand Response Worksh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F6B4-349E-4A5A-B1B8-9B7FF5071F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ose of the EIL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ovide ERCOT Operations with an additional emergency tool to lessen the likelihood of involuntary firm load shedding (a.k.a. rolling blackou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5D07-FF8A-43F2-A844-DD99CBE77C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EILP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provided by loads willing to interrupt immediately prior to the need for involuntary firm load shedding, in exchange for a pa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ed only in emergency situations, when no more resources are availab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any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arket or other sources in re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EECP, deployed just prior to final step (rolling blacko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st cousins:  Black Start and R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9EB8-0684-4AFF-BF06-5BFD5D716A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EILP is NO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a market-based program in which loads bid into day-ahead or real-time markets.  EILP loa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id into Balancing Energy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id into Ancillary Services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articipate as price-responsive load unless additional load is available for EI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LP will not suppress energy prices during an EECP ev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a resource that is deployed to recover or replace regular ancillary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a resource that will ever be deployed ahead of available market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a backstop for insufficient planning reserve margins, or a tool to meet long-term capacity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0B2C-A309-44B5-AB81-EFCB0627D9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he need for EILP relates to the Planning Reserve Marg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reserve margin is related to this program ONLY as one indicator of an increased likelihood for the n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LP is less likely to be needed in times of large generation surpl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LP will NOT impact the reserve margi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be part of the reserve margi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LaaRs, which are built into the reserve margin calculation as an offset to total peak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7BAE-4CAE-432A-98B0-D41D360433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EILP may be need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encies can occur at any ti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weather months (due to natural gas curtailment &amp; higher forced ou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er months (due to unforeseen weather events &amp; large amounts of scheduled maint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summer pea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ime, as may be caus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outages (scheduled, forced or b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ssion outages beyond likely conting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 weather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simultaneous contin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D0AE-5BA5-437E-89BB-3BF25D2471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ergency Interruptible Load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normal circumstances, adequate resources (RRS, NSRS, RPRS) are on line or available to deal with most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need for additional resources due to abnormal events (usually weather rel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weather events can lead to abnormally high load combined with fuel curtailments (Dec. 1989, Feb.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 month events caused by unusual weather at unexpected times (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 weather on April 17, 2006, with 20% of capacity offline for seasonal mainten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bnormal events occur, additional ERCOT tools could reduce the possibility of a need for involuntary firm load shedding and the associated public health and safety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F161-23FB-4FD7-B08C-88C43DBFCE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Emergency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Operating Proced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1554120"/>
          <a:ext cx="8229600" cy="4160880"/>
        </p:xfrm>
        <a:graphic>
          <a:graphicData uri="http://schemas.openxmlformats.org/drawingml/2006/table">
            <a:tbl>
              <a:tblPr/>
              <a:tblGrid>
                <a:gridCol w="4039920"/>
                <a:gridCol w="4189680"/>
              </a:tblGrid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/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Condition Not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reserve below 33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30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T:  Start RMR units, suspend unit testing, deploy RPRS &amp; NS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25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mergency Electric Curtailment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:  Dispatch all generation &amp; DC Ties, issue public media appe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230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:  Deploy Laa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ysical responsive below 1750 M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:  Instruct transmission operators to shed firm lo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equency below 59.8 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CT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DB06-8490-40B2-92D0-D38EF2596B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9/15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pwattles</cp:lastModifiedBy>
  <dcterms:modified xsi:type="dcterms:W3CDTF">2006-10-17T21:45:48Z</dcterms:modified>
  <cp:revision>113</cp:revision>
  <dc:subject/>
  <dc:title>Instructions</dc:title>
</cp:coreProperties>
</file>