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7574A9F-76DD-4955-BE2B-514EF1D5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5840" y="698400"/>
            <a:ext cx="4656240" cy="3492720"/>
          </a:xfrm>
          <a:prstGeom prst="rect">
            <a:avLst/>
          </a:prstGeom>
          <a:ln w="0">
            <a:noFill/>
          </a:ln>
        </p:spPr>
      </p:sp>
      <p:sp>
        <p:nvSpPr>
          <p:cNvPr id="10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 John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able Costs – Kenn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 – implementation – 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QSE – Pa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nterrupting Load - Pa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CP – Jay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5840" y="698400"/>
            <a:ext cx="4656240" cy="3492720"/>
          </a:xfrm>
          <a:prstGeom prst="rect">
            <a:avLst/>
          </a:prstGeom>
          <a:ln w="0">
            <a:noFill/>
          </a:ln>
        </p:spPr>
      </p:sp>
      <p:sp>
        <p:nvSpPr>
          <p:cNvPr id="10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y Miller reported on the work of the QMWG including follow-up to the assignment on Replacement Reserve Service (RPRS). Mr. Miller reported that Brandon Whittle presented a detailed discussion of how the RPRS procurement engine works and John Dumas posed a solution for sigma bias to be examined at the next QMWG meeting. WMS discussed notification procedures if a change is effected to the treatment of the non-spin flag in the Resource plan and the methodology that might be used to effect the change. WMS discussed the impact of over-procurement of RPRS on June 20, 2006 and the cost to the market. Mr. Belk expressed concern that Nodal resources had to be borrowed to analyze this issue which had a significant financial impact in the current Zonal mark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5840" y="698400"/>
            <a:ext cx="4656240" cy="3492720"/>
          </a:xfrm>
          <a:prstGeom prst="rect">
            <a:avLst/>
          </a:prstGeom>
          <a:ln w="0">
            <a:noFill/>
          </a:ln>
        </p:spPr>
      </p:sp>
      <p:sp>
        <p:nvSpPr>
          <p:cNvPr id="11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Anne Brelinsky reviewed the work of the DSWG and reviewed the progress on DSWG 2006 goals. DSWG is investigating demand-side opportunities for Nodal market design and participating in Public Utility Commission (PUC) workshops on the topic. DSWG is working to develop a Price Responsive Load Participation Program for all customer segments and to compare demand response resource programs being run in other Independent System Operator (ISO) mark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2006 DSWG goals was to identify by market seg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load's ability to respond to prices in ERCOT (by customer seg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rriers to participation by customer typ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oposed solutions to remove those barri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shown on slide is shows result of DSWG brainstorming session 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items #1 and #2 above.  Response types were separated into tw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Reliability and Price Response.  Reliability are a fir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ligation to perform and may result in Capacity Payments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Price Responsive are voluntary participation mechanisms t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loads to participate in real time marke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was presented at the PUC workshop for demand response on Se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C is holding two additional workshops on Oct 2 and 3rd to discu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Response issues in more dep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ry Durrwachter reported on a detailed presentation given by Ken Donohoo that reviewed the events of August 17, 2006 in the Austin area and reviewed the data in that presentation. WMS discussed the factors used for capacity and the possible need to use a method that would account for the season as well as the use of weather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rve margin is shrinking and unless a significan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othballed units return to service for the summer of 2007, thing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to be t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my "presentation" was simply a re-hash of the ERC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ade to GATF.  The GATF discussion centered on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ing and drivers for the 2006 peak demand and whether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expected any significant change in its next forecast (som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ear).  The answer was no, they did not foresee a big change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 for 200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ruce referred to an email he sent providing information about a draft NPRR creating a Governor Response Service noting that there is still work to be completed on this issue. Mr. Bruce reported that the FCTF would meet September 26, 2006 to complete work on the draft NPRR.WMS discussed governor response and interaction with spinning reserves. Randy Jones suggested that the purpose for governor response is the immediate automatic response that is not dispatched and that the governor response does not lend itself to being part of the dispatch and co-optimization process. FCTF will present the completed NPRR at the October WMS meet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Dumas reported on the trial period for CAM beginning September 22, 2006 and gave a presentation on Real-Time Contingency Analysis, CAM, and Simultaneous Feasibility Test (SFT) management of local congestion. Mr. Dumas explained how CAM will help in managing post-contingency overload. WMS discussed the use of Schedule Pricing and Dispatch (SPD) and the Market Operator Interface, as well as the potential impact of problems in the system. Mr. Dumas reported to WMS that SFT is being thoroughly examined and all corrections are being carried over to the new implementation. Nuclear and Hydro power units have a non-bid flag in replacement and that flag will be checked so that those units are removed from the calculations. Quick-start units will need to be online in the balancing energy market. Mr. Dumas said ERCOT is proceeding cautiously and performing extensive testing. Training and a hotline to handle issues will be provided. In order to mitigate risk, the CAM system can be de-activated if need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6.1(4), Process for Determining Verifiable Costs, and 5.6.3, Determining Verifiable Costs for Start-Up Attempt</a:t>
            </a:r>
            <a:r>
              <a:rPr b="0" lang="en-US" sz="1200" spc="-1" strike="noStrike">
                <a:solidFill>
                  <a:srgbClr val="000000"/>
                </a:solidFill>
                <a:latin typeface="Arial"/>
              </a:rPr>
              <a:t> – Kenneth Ragsdale provided a document detailing sections of the Nodal Protocols that address verifiable costs and reviewed his presentation which describes the approach that ERCOT is proposing for handling verifiable costs. ERCOT Staff is drafting a business requirements document due for release to TPTF October 10, 2006. In addition, a document detailing the business process for handling Qualified Scheduling Entity (QSE) submittals of verifiable costs is under development and will be presented to WMS for approval. An NPRR will be filed only if changes to the Nodal Protocols are warran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5.9.4.1(b), Load Resource Interruption</a:t>
            </a:r>
            <a:r>
              <a:rPr b="0" lang="en-US" sz="1200" spc="-1" strike="noStrike">
                <a:solidFill>
                  <a:srgbClr val="000000"/>
                </a:solidFill>
                <a:latin typeface="Arial"/>
              </a:rPr>
              <a:t>  - Patrick Coon reported on work done by Mark Patterson on this assignment. Nodal Protocol Section 6.5.9.4.1, EECP Steps, states that 50% of the Load Resources providing Responsive Reserve Service (RRS) is to be deployed in Step 2 and the other 50% in Step 3. ERCOT has the responsibility to develop a procedure for determining which Load Resources to interrupt and to equitably allocate Load Resources to one of two deployment stacks to enable a 50% deployment. That procedure is to be approved by TAC in advance of implementation. Since the development of the Nodal Protocols OGRR186, Emergency Electric Curtailment Plan (EECP) Event Realignment, has been approved by TAC which eliminates Step 3. PRR682, Emergency Electric Curtailment Plan (EECP) Event Realignment, is intended to synchronize the Operating Guide language with the Protocols. Mr. Patterson does not plan to pursue the development of the two stack procedure until TPTF addresses this PR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o Gonzalez presented a spreadsheet detailing how ERCOT plans to settle RPRS data. WMS discussed uplift and the use of the load schedule, which is only used for estimating capacity and does not result in any charges to the market. Bob Helton inquired as to what ERCOT’s response would be if an appeal to the PUC was made on PRR676. ERCOT Legal stated that ERCOT would follow orders issued by the PUC in such a case. The implementation timeline and the contingency plan in case implementation of PRR666 and PRR676 needs to be disjoined were discussed. Mr. Belk requested a date be determined for when it would become impossible to separate the implementation path of these two PRRs. Marguerite Wagner suggested that coding be kept in two separate modu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oon presented a report to explore use of the Default QSE concept and discuss alternatives to the current method, one of which might be for Emergency and Virtual QSEs to accommodate Entities the default QSE would previously have taken responsibility for. Such a change would affect Protocol Section 16.2.12, Default Qualified Scheduling Entity. Mr. Coon proposed that a PRR with URGENT status be developed to revise the relevant text in Section 16, Registration and Qualification of Market Participants, and that ERCOT proceed with a Request for Proposals (RFP) for the 2007 Default QSE in the meantime. Mr. Coon noted that ERCOT was requesting WMS input prior to initiating such a PRR. Mr. Coon and Cheryl Yager answered questions about communications and use of collateral. Mr. Belk requested that a draft PRR providing more specific detail be provided for WMS review noting that issues could be vetted within the PRR pro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yant Tamby presented a recommendation for using Inter-Control Center Communications (ICCP) for all Real-Time data and provided budget information for replacing Remote Terminal Units (RTUs) with ICCP links. Mr. Tamby reported that the recommendation was well received by TPTF. Mr. Belk assigned the QMWG to address issues related to QSEs and Transmission Service Providers (TSPs) and noted the need for in-house communication specialists for market Entities to review this information. Manny Muñoz suggested that ROS should also hear this presentation. An initial cut-over date of March 31, 2008 was proposed to align with the first phase of Texas Nodal Implem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053AB-0F2C-4B1F-9510-923422AD8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F058E-15EE-4954-8DA3-282F9193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69A9-CD8B-4F2F-B3AB-F285F32FD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39074-FAD3-48D4-8EC0-37CAADFFD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06C6E-15C2-4D23-9DD9-EF1D3794F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67A6F-95DA-4599-B8E2-3006F5497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EB04C-5FCE-4037-9542-233DD760F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7B861-A484-492D-86B7-4BCBF9A27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5DD5D-C42A-4CC6-BF6E-717BCCD9C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F5F81-6388-4A7D-9132-B88E1FDC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F5A25-6CFB-4602-9EDE-1672767C1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A55A-AD31-4355-ABFF-4A07EABE3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9F0A3-FBB9-4284-A648-C0EABEA4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CCCCA-D202-4F3B-B1B5-A5A5C24BD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52122-F609-4AA0-994B-E9C9255D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3DA67-CFE8-4A6A-AE94-268944AD0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AFACE-A284-4BAA-8522-540D0903A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F5AF-98C8-4B8E-A4E1-D2F94E6FC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6CF6-FB7E-425B-8A87-F148C9EDB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6637-C837-40DD-9EA7-8BB121A00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10C5-4229-4449-AD27-30E140EE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D4D2-6763-4947-96E8-988192882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9A56-2195-4DE5-AA78-8EFEDF8F5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21A5-BEB9-4E98-895D-D3E559F2E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9FF1-FAD9-43FC-A8D5-170A23C658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FAC5-6C1D-46FF-9D0B-D34DFFDFFF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9A600CF-BC4D-4B4F-B5CF-194CB093F9C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 ERCOT Staff Present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DB950C2-1E2F-442B-B272-BFC96BB10B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PRS procurement process does appear to reflect the intentions of the market participants with two areas identified for improvem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velopment of metrics to screen contingencies with no solutio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thod for identifying online units targeted for non-spin reserve service.</a:t>
            </a:r>
            <a:endParaRPr b="0" lang="en-US" sz="18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inue working with ERCOT regarding when and how much sigma bias should be used in the load forecas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inue looking at ways to use the Non-Spin Reserve Market to address reliability related issues rather than relying on RPRS which is primarily for ensuring there is enough next day BE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31D68ED-34F0-46D9-87F4-844E70A697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C participation</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ice Responsive Load Program</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00391187-D915-4479-818F-5BD3C391D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emand Side Participation in ERCOT </a:t>
            </a:r>
            <a:endParaRPr b="0" lang="en-US" sz="4400" spc="-1" strike="noStrike">
              <a:solidFill>
                <a:srgbClr val="e5ffff"/>
              </a:solidFill>
              <a:latin typeface="Tahoma"/>
            </a:endParaRPr>
          </a:p>
        </p:txBody>
      </p:sp>
      <p:pic>
        <p:nvPicPr>
          <p:cNvPr id="98" name="" descr=""/>
          <p:cNvPicPr/>
          <p:nvPr/>
        </p:nvPicPr>
        <p:blipFill>
          <a:blip r:embed="rId2"/>
          <a:stretch/>
        </p:blipFill>
        <p:spPr>
          <a:xfrm>
            <a:off x="141120" y="1174680"/>
            <a:ext cx="8863200" cy="4378320"/>
          </a:xfrm>
          <a:prstGeom prst="rect">
            <a:avLst/>
          </a:prstGeom>
          <a:ln w="0">
            <a:noFill/>
          </a:ln>
        </p:spPr>
      </p:pic>
      <p:sp>
        <p:nvSpPr>
          <p:cNvPr id="3" name="PlaceHolder 2"/>
          <p:cNvSpPr>
            <a:spLocks noGrp="1"/>
          </p:cNvSpPr>
          <p:nvPr>
            <p:ph type="sldNum" idx="3"/>
          </p:nvPr>
        </p:nvSpPr>
        <p:spPr/>
        <p:txBody>
          <a:bodyPr/>
          <a:p>
            <a:fld id="{8CB8A6E1-244A-408F-BF83-41D0AB0965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sk Force Repor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F –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zTF -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CA7062C-ADE4-4DB5-93C5-E012C7652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ifiable Cost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for interrupting Loa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32B5676-6567-43FF-9DD6-70712A058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RCOT Staff Presentation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66 &amp; 676 implement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ault Q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CP</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A23DE57-F0A8-49E6-878D-24BAAD5F819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9-28T13:59:05Z</dcterms:modified>
  <cp:revision>64</cp:revision>
  <dc:subject/>
  <dc:title>WMS Report TO TAC</dc:title>
</cp:coreProperties>
</file>