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5124-9114-48FE-B437-CDDDFA24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5757-5A57-4DE0-A7CD-791ACD67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DD38-9563-46B2-8F49-6AF10824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D70B-5E89-49C8-85F8-3C2300684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0A8A-8F34-45D2-B2BF-8799DC81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D1E9-60C3-4BF1-85DA-39A4D1D5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CEA3-C8F6-485F-B960-E1F67430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0698-266B-4039-B61A-F4CC72A2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64A9-C732-4123-96BF-7DC21F9B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470A-E281-4632-ADDB-5557D356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0400-486E-40CE-B2A2-59668351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50D5-F161-4C54-8DBE-95885CA3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1D3A-3AEA-4AEA-AE22-6AEC3E119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ILP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sumer’s Thou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e Jack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idental Energy Ventures Co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1849320" cy="941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6324480"/>
            <a:ext cx="372960" cy="381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6172200"/>
            <a:ext cx="86868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C agreed another tool is promptly necessary to ensure ERCOT reliability (Open Meeting – Oct. 1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rket based solution would offer the flexibility necessary to minimize market cos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key to utilize the excess LaaR being prorated for EILP in addition to other capable market particip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6324480"/>
            <a:ext cx="372960" cy="38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6172200"/>
            <a:ext cx="86868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o can particip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fications &amp;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load (or aggregated loads) with a response amount greater than or equal to 1 MW may particip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R Meter is required so that availability and response can be meas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nts will be expected to demonstrate capabilities through testing (a successful event response could replace a t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nts must disarm any installed UFR so that they remain online for the manual call requirement even if a frequency event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6324480"/>
            <a:ext cx="372960" cy="381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8600" y="6172200"/>
            <a:ext cx="86868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ow is EILP purcha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issues a monthly notice of EILP quantity necessary for reliability ten business days prior to month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dding for EILP provision commences similar to the other daily Ancillary Services seven business days prior to month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LP pricing is determined by its own clearing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Proc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determined necessary by ERCOT the purchase period could be seasonal or annual instead of month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6324480"/>
            <a:ext cx="372960" cy="381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6172200"/>
            <a:ext cx="86868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o will particip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IDR metered load that can respond within 10 minutes to a manual call with a minimum of 1 M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el M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LaaRs that are willing to commit to the EILP program for the procurement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6324480"/>
            <a:ext cx="372960" cy="38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6172200"/>
            <a:ext cx="86868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eploy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ment: Within 10 minutes of request by ERCOT to EILP participant’s Q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st for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ent with present marke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 Deployment: Within 10 minutes of request by ERCOT directly to particip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felt necessary by ERCOT can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consistent with design, a lot more administratively burdensome on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ment of the EILP participants would take place as a last resort prior to rolling black 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wback for non-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repeated non-performance the participant would be banned from th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" y="6324480"/>
            <a:ext cx="372960" cy="381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8600" y="6172200"/>
            <a:ext cx="86868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LP will only be procured monthly when/as necessary, thus overall cost to the market should be redu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based clearing price should reduce costs versus an administratively set pr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started quickly because qualification, testing, deployment and evaluation processes are already in place and active in the mar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pool of potential suppli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6324480"/>
            <a:ext cx="372960" cy="381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6172200"/>
            <a:ext cx="86868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2T14:50:37Z</dcterms:created>
  <dc:creator>Alice K. Jackson - Oxy</dc:creator>
  <dc:description/>
  <dc:language>en-US</dc:language>
  <cp:lastModifiedBy>Alice K. Jackson - Oxy</cp:lastModifiedBy>
  <dcterms:modified xsi:type="dcterms:W3CDTF">2006-10-18T15:49:53Z</dcterms:modified>
  <cp:revision>27</cp:revision>
  <dc:subject/>
  <dc:title>ERCOT Emergency Load Response</dc:title>
</cp:coreProperties>
</file>