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B336-16B0-48F6-B14B-442A5698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15C8-B2BA-4006-A143-71906E8C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E961-44C8-464B-B81F-0CC9339F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1A49-BA64-495A-8AF9-4CB4794D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FD1-3D59-4170-A346-3EDDABF1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2A7-4B57-4955-A517-00976A5A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814B-614B-46D7-A5AF-47CECEA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D6F7-0A3E-4719-9E4F-0ACC1B7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EC0-2C33-4C8A-B534-7365F5FB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291C-03D2-492B-91F3-92A8B36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B6A4-691D-41DE-B307-1638B97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1C7C-9149-46B7-A1A1-E60695EF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3744-D4F5-4900-89C3-5424D9D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605-0BFA-48B3-A8DE-E3BDA74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1E89-1880-4275-ACF2-C2D1015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A60A-5BE6-4332-B72A-291CA352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83C-1C2A-4781-A135-8361AA0F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B071-9955-450B-AC51-8C2DE44B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94E0-35B9-426C-8AF5-7DCA5199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B6DE-DA96-4DE3-A4B8-DD422A41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A6C6-633E-47CB-81FB-6AB28CF7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FCB1-EA74-466B-8B70-8DAD423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7F60-5C1E-4824-A4C0-B9E85AC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734B-D9D7-4C9E-971A-8CCCB89C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93B9-101B-46B9-9934-C92A909A0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8E90-A6E2-4279-8EB1-21932F20F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SE Managers Working Group Report to WM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tober 18, 200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dal MIS Presen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Harris and Kate Horne with the MIS Nodal team discussed preliminary configuration of the 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user-friendly,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eedback from QSE Managers du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CP vs RTU for Nod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ent Tamby with ERCOT presented discussion of using only ICCP for N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PTF requests feedback from QSE Managers if an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PRS Market Issu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Dumas discussed process for identification of un-resolvable contin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urrently identify unresolved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MW dispatched, smal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repeatedly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by 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tools/processes that focus on 3 items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PRS Market Issu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NS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RS not in current RPRS capacity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to utilize Non-Spin Flag in Resourc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RS Capacity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31053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 NS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,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PRS Market Issu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NS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“non spin” flag in the Resource Pl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utilizing off line unit for NS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heck “non spin” flag for total MW greater than QSE NSRS respon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RS engine will set these units to “online” for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procure thes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curate capacity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/S Qualification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’s report issues with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agrees, but has been 5 years since prior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make A/S Testing template more robust, including set-up procedures and explanations of what QSE’s should expect during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describe sco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/S Qualification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ncerned about practice of “borrowing” units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s replacing concept with provisional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provisionally qualify QSE’s for 45 days.  If A/S qualification not completed in 45 days, revoke cert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R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4:31:46Z</dcterms:created>
  <dc:creator>Larry Gurley</dc:creator>
  <dc:description/>
  <dc:language>en-US</dc:language>
  <cp:lastModifiedBy>Gary D Miller</cp:lastModifiedBy>
  <dcterms:modified xsi:type="dcterms:W3CDTF">2006-10-13T14:42:52Z</dcterms:modified>
  <cp:revision>10</cp:revision>
  <dc:subject/>
  <dc:title>QSE Managers Working Group Report to WMS February 22, 2006</dc:title>
</cp:coreProperties>
</file>