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1D62E-9F0B-49AF-BE26-9A060C626A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1331B-1708-493A-A4EB-33B4E71C3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A3959-12F8-4976-BA83-95141C6A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70C0B-29EC-411F-9C93-AD058BED6D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04FB1-D4EE-4F5E-B524-76FA82C98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F62A6-6055-41D8-A4F5-48DC8F5B1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E31CE-4BDC-49C7-9B92-A53B7F916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36BA5-87C9-4DEF-B64A-134B82914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429CE-682C-4211-BC2B-3DDABF275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953D9-E932-4073-B2A4-D19F9BF58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96681-865A-4845-AFA9-9F18A6E15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10040-9C42-4627-8442-D307ECB3B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80880" y="76320"/>
            <a:ext cx="2590920" cy="1050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429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9331E-85D2-499D-8FC8-771A4B2807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352680" y="38088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rofiling Working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40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WG Update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nie Podra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Reliant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PWG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PS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ctober 24,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B706B-0A1F-4566-B313-1360847FC2C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4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13716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 Term Load Profile Strategy Pla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DR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2133720"/>
            <a:ext cx="85345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urrent St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Current profiles are based on very old research data that was actually gathered to allow prediction of peak dema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06 Annual Valid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bles profile id assignments for residential seg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ll 200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Oil and Gas Profile Recommendation (first new profil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stimated May 200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Implement recalibrated 6 current ERCOT profiles based on current load research da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07 - 200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further updated profile releases with round 2 samples and further reductions in migration (iterativ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ssible Future Stat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Lagged Dynamic Profiles with static models for initial settlement, additional demographic segment profiles, and/or possible use of advanced meters with daily reads, hourly interval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DB895-6DAA-4428-903C-EB22F6379061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4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5238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estions up to this poi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971800" y="2209680"/>
            <a:ext cx="2906640" cy="281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8B4C2-DF40-4128-B52A-85A831B8A197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4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13716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8229600" cy="4114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EFC12-4394-4EDA-B48B-BB1B7051D90A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4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13716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6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828800"/>
            <a:ext cx="853416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xisting Profile Evaluation and New Profile Recommenda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ttlement trade day transition to new profiles reviewed on August 29 and developed Option 3 Modifi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Tentative timeline has been revised, see later sli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Voting Package presented at Oct. 24, 2006 COPS meet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3F6D5-4F63-4769-B644-CD2D07CEECEA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4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13716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6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828800"/>
            <a:ext cx="853416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RS sample selection round tw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a.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Accuracy criteria discuss for sample design per timeline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slipped by one month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b.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Number of additional meters pending accuracy and allocation crite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58A7A-8B26-45C9-AFAC-DC6AC33E37F8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4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447920"/>
            <a:ext cx="8305920" cy="7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meli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pdate 10/12/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3520" y="2266920"/>
            <a:ext cx="8076960" cy="398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3F9BB-FBB6-4177-BBA5-EC796E66A95F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4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13716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6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1828800"/>
            <a:ext cx="853416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ing new profile requests – Oil &amp; G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ERCOT Recommendation in favor of a flat profile was approved by PWG consensus at the June 28 meet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Changed to ERCOT Sponsored and supported by PWG see next sli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Reimbursement has been waived by Reques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COPS approves concept at September Meet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AC approves concept at October Meet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WG working on LPGRR on Oct. 25, 200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6FAE2-BA34-42B0-8C26-A5D4A3570009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4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13716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6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1828800"/>
            <a:ext cx="853416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 Stabilizing Annual Validation Migration Issu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Annual Validation 2006 per weekly upda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hall update the default assignments by weather zone at a later da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97BBF-2472-4118-B268-4384840F1BB0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4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13716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6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1523880"/>
            <a:ext cx="85341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. Identify ways to accommodate extreme events on the Settlement proce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Four ideas brainstorm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Use Load Research Samples to adjust profile shape for true-up. Woul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 at profile type and weather zone level however data is not availabl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initial and final settlemen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Use Weather Zone boundary telemetry to estimate load lost in 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the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one. This would be used to adjust the profile shapes in th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ther zone settlement prior to statewide UFE allocation and localiz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loa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u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Use Lagged Dynamic Profiles. This shall be further discussed in lon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rm load profile strategy pl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Use advanced meters for daily reads. This shall be further discussed i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 term load profile strategy pl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nding COPS Guid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9DFE5-DF6F-4D9E-8134-3875896597F2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4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13716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6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1523880"/>
            <a:ext cx="8534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. Evaluate Lagged Dynamic profi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PWG discussed again at the Aug. 30 mee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This shall be further discussed in long term load profile strategy pl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c. Shall place review of load profile strategy plan as a 2007 PWG Go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44742-B85F-43D3-A274-80253B998CE2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4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1:33:53Z</dcterms:created>
  <dc:creator>Administrator</dc:creator>
  <dc:description/>
  <dc:language>en-US</dc:language>
  <cp:lastModifiedBy>Windows XP ver. 2.2</cp:lastModifiedBy>
  <dcterms:modified xsi:type="dcterms:W3CDTF">2006-10-17T12:20:22Z</dcterms:modified>
  <cp:revision>200</cp:revision>
  <dc:subject/>
  <dc:title>PowerPoint Presentation</dc:title>
</cp:coreProperties>
</file>