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0B5-E3DE-418B-92D5-7ED65A9A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5A1-0AD8-4831-9488-7C947AD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0F2-E7C4-4501-80F0-3F606571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467-661A-476D-89EE-FF980289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3B3E-9FBA-42E2-8DC9-BF0C808D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648C-A24B-4325-BA47-3178335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EFCD-778F-4EC3-B536-B4FBFF7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DDD3-E1B8-4350-BF5E-8233CC1C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FD22-4D34-4CEC-9637-D5C72430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F1EC-6FB8-4D68-9DA0-001D16D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251-61A5-42FA-B4EB-F7DA8404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5EE-FEDF-446E-B18A-0D3F12C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4BE3-6B0B-484B-BD25-206AAB9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DDB-7BDB-40E9-A229-0E5A534A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D39E-39C7-42CD-84A9-18F5F5F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1484-C030-4856-8505-4F63C573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03F-20ED-45D8-BAFE-505D9501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C23-36C8-41EB-BB57-89226C7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DB5-B6D0-4B84-B210-B72C173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1BA-42AE-4B36-923D-B3FD8CA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102-C6B9-49AF-94AF-6287A3D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964-8992-4723-BBB0-2E90FD5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E03-4E7C-492D-B3E6-43F29CB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837-1E86-4FDC-B450-8266237B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835-1221-4247-A041-C51FE383F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2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6680" y="6400800"/>
            <a:ext cx="324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"/>
          <p:cNvSpPr/>
          <p:nvPr/>
        </p:nvSpPr>
        <p:spPr>
          <a:xfrm>
            <a:off x="5181480" y="6445080"/>
            <a:ext cx="3657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962520" y="64310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446-47FB-4823-B16E-E27D94A48F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5A78-D05F-48B1-818A-078F08B31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rcot.com/services/comm/projects/archives/2006/Project_Priority_List_20071013_Mkt.xl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908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09640"/>
            <a:ext cx="7467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Texas Market Link, Phase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40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24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., Market Operations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6576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9E5-10B9-4858-8C5D-36E94FEC53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7160"/>
            <a:ext cx="8915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Requirements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09640"/>
            <a:ext cx="876312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 September ERCOT presented analysis for the 16 requirements under review by COPS for TML, Phas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requirement already addressed in a different project (SCR7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equirements significant in effort; merit consideration as 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remaining requirements small in effort; address via SI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Delivery Time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SIR process, estimate delivery target no sooner than 2Q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project process, estimate delivery target no sooner than 3Q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based on current project pipeline and resource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s can be implemented during scheduled monthly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D55-B335-4BC9-8759-B36591573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47160"/>
            <a:ext cx="8915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Recommendation / COPS Feedback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0964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Recommen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 current Zonal project, PR-40103.  Need COPS vote to remove the project from the 2006/2007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remaining Zonal requirements under the SIR process – OR – wait to implement requirements under Nodal “MIS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, as well as resource constraints for both Market and ERCOT, support cancellation of Zonal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hat Zonal project team send list of requirements to the Nodal “MIS” team for inclusion under N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 advised subcommittee that cancellation vote to occur in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 asked that Market Participants file SCRs for any requirements in PR-40103 that they want implemented under Z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FB2-BCF4-43AC-B935-12985AEFA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Revision to MO PP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1520" y="762120"/>
            <a:ext cx="894096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5791320"/>
            <a:ext cx="899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note: This is not the entire MO PPL, only a sub-set through 2007 Priority 7 project.  The latest Market version, updated 10/13/07, can be viewed at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services/comm/projects/archives/2006/Project_Priority_List_20071013_Mkt.xl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BFF-84CF-4E78-BFA1-A2BC41FF4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47160"/>
            <a:ext cx="8915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Vote – Suggested Mo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0964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vote requested by ERCOT in support of proposed motion t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cel PR-40107, TML Phase 3, from the 2006/2007 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PL and release funds for other project initiatives;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understanding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COT project team will ensure that Nodal team has list of TML Phase 3 requirements for consideration within Nodal MIS project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Market Participant interested in continued implementation of a  TML Phase 3 requirement will file the SCR needed to address that reque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CC3-A722-4AA3-8E79-A57D3FDBEB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07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0B5-12C5-4C52-8491-F8334B319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6-10-17T19:57:24Z</dcterms:modified>
  <cp:revision>37</cp:revision>
  <dc:subject/>
  <dc:title>Role of Account Management at ERCOT</dc:title>
</cp:coreProperties>
</file>