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D3B-7E5B-4F39-9565-E4252732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7B5-292C-432F-9042-9F7B1A1E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A82-24C5-4189-B655-3D502004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920-8B5E-4FC1-9D4B-DF2AB2A6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2F8-357A-470D-8926-F311675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DAF-5B03-4521-98EA-17A56ABD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8F1-751C-4F6A-8A55-5BB5F2AD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F3B-ADEF-427A-88A4-5434DE71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723-F3F4-4180-B113-76DD1DE2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F94E-3446-4547-8B69-F8633091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C4E4-227C-4BA8-8C2C-38CC1A1E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910C-157A-4A8E-9CBF-4C4BE600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CA6-ADC8-4B35-B588-D6961AB4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7593-05D0-4A62-A73A-C353EFB7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3B1-33F5-4732-ACA1-E89ACFF5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C994-DFEE-4208-841F-38EF5E2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88E4-691B-4120-8829-01A8C72A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7298-B8C6-40AF-86D2-B8595B35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7105-C830-4050-8B4D-5919D1B4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331B-0B83-433D-89AF-D7F05216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376F-4687-4DD4-9B39-79226318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CCE-73A6-4B26-A28D-415D054C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899-E6C7-4DE7-92AA-3795618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CBB-01DA-4D73-B581-A34329CA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0521-0D88-4C87-A537-B32C9A68189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1FE9-360E-4FEC-8D48-6102728809B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FET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, 2006 COPS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Action I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Transmission Loss Factor: upcoming NPRR to address monthly base case studies instead of seasonal base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Worked with Market Rules to get appropriate language gray boxed and had NPRR reviewed by Ken Donoh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UFETF will need to review and then sub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Meeting will be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Voting I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Submitted PRR695 on Oct 11</a:t>
            </a:r>
            <a:r>
              <a:rPr b="0" lang="en-US" sz="2800" spc="-1" strike="noStrike" baseline="30000">
                <a:solidFill>
                  <a:srgbClr val="33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Normal timeline – Nov 16</a:t>
            </a:r>
            <a:r>
              <a:rPr b="0" lang="en-US" sz="2800" spc="-1" strike="noStrike" baseline="30000">
                <a:solidFill>
                  <a:srgbClr val="33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 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PRR: 11.6, Unaccounted For Energy (UFE)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Eliminated outdated sections, and wrote Annual UFE Analysis Report section in meaningful ma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Keep in UFE analysis in protocols with expectation of work being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Voting I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Mo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66"/>
                </a:solidFill>
                <a:latin typeface="Arial"/>
              </a:rPr>
              <a:t>COPS recommends to PRS and the TAC approval of PRR69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 UFTEF by end of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on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01:52Z</dcterms:created>
  <dc:creator>cmoore</dc:creator>
  <dc:description/>
  <dc:language>en-US</dc:language>
  <cp:lastModifiedBy>cmoore</cp:lastModifiedBy>
  <dcterms:modified xsi:type="dcterms:W3CDTF">2006-10-17T03:13:13Z</dcterms:modified>
  <cp:revision>24</cp:revision>
  <dc:subject/>
  <dc:title>UFETF 2006 Go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13792721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agenda</vt:lpwstr>
  </property>
  <property fmtid="{D5CDD505-2E9C-101B-9397-08002B2CF9AE}" pid="6" name="_NewReviewCycle">
    <vt:lpwstr/>
  </property>
</Properties>
</file>