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1F5-5BA9-47FC-B0CA-4C92852A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476-AE34-4942-8D88-AF42CED2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BCD-E0DA-4E24-99E6-FD91F59C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2FD-9E36-4A59-A2C7-C8619BBA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8AA-B589-4E61-AC2D-6FE8BE3E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22A-5B07-46F3-86E6-0204F7B5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5B3-DD4D-4DAB-9789-B6FFDF22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9F4-77C5-4330-A060-42B2F232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7F82-6DB6-4113-88FD-40395D4A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34C-4835-441E-A1D3-F1DE2913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F8A-2093-47D6-9345-D1C05EE0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AB4-6E5C-41CE-9EB6-1640931C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EF2B-4B58-4377-ACA4-474C3B09E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ata Extracts Working Group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DEWG) Upda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, October 23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eeting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19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Austin 1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 9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Austin 1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WG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reen Scraping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Ps concerned that ERCOT “policies” conflict with current necessity to screen scrape or use continual website refreshing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Action Item from DEW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RCOT to advise DEWG whether there is a Best Practices associated with “screen scraping” of ERCOT webpages, i.e. this is allowed under specific circumstances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If so, DEWG requests that ERCOT define when MPs can use screen scraping; otherwise advise DEWG how ERCOT can provide information available on ERCOT webpages that is not available in another format – at the same time or at a greater frequency in some instances.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announced at DEWG that they agreed the market does lack formal policies surrounding the screen scraping issue and that a Best Practices approach would an appropriate way to proceed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 draft document by November 9, 2006 DEWG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al concerns may need to be addressed – The MIS group under TPTF is aware of market concerns and has added the issues to their issue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WG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Extract Projec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 30026 EPS Meter Data Extract aka Resource ID Extra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 40042_06 Lodestar Batch ExtractsPR 50005 EMMS Extra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 50025 ESIID Lookup/TDSP ESIID Extract (PRR 31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 40007 SCR 727 Phase II (ERCOT?s move of extract to OD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 50024 SCR 727 Phase II aka SCR 740 Web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 50030 EDW Lodestar Tran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 50059 EDW Siebel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WG conference call held on this project to discuss MP concerns around the delivery of ‘weekly full’ extracts.  ERCOT is currently reviewing recommendations provided by MP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flipV="1">
            <a:off x="4419720" y="281916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971800" y="28195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572000" y="281952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867280" y="2742840"/>
            <a:ext cx="12960" cy="297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33920" y="276876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771120" y="2835000"/>
            <a:ext cx="19080" cy="24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04920" y="2806200"/>
            <a:ext cx="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85920" y="685800"/>
            <a:ext cx="19080" cy="557208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54400" y="685800"/>
            <a:ext cx="0" cy="560088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81640" y="704880"/>
            <a:ext cx="0" cy="556272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95160" y="279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2724120"/>
            <a:ext cx="9067680" cy="2556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2920" y="7365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Septe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72720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Octo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14760" y="72720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Nove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0" y="1133280"/>
            <a:ext cx="9144000" cy="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7680" y="3206880"/>
            <a:ext cx="904680" cy="8445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9/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EIS Productio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rebuchet MS"/>
              </a:rPr>
              <a:t>Mig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42_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95680" y="1176480"/>
            <a:ext cx="1419120" cy="10929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Late 10/2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Complete Production Stabi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Market Go L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300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42_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09120" y="2139840"/>
            <a:ext cx="972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2600" y="268272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225960"/>
            <a:ext cx="847800" cy="8445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0/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ITEST Begins for 12/2/06 rel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50040" y="2657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00440" y="2644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8560" y="268272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32360" y="71424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Dece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4721400"/>
            <a:ext cx="685800" cy="108792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0/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ost User Guide with Cutover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67040" y="279036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41560" y="2644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42080" y="265896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043680" y="2819160"/>
            <a:ext cx="14400" cy="14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72240" y="4114800"/>
            <a:ext cx="923760" cy="9507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rebuchet MS"/>
              </a:rPr>
              <a:t>12/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ITEST Begins for 1/18/07 rel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59 extra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75560" y="704880"/>
            <a:ext cx="0" cy="558180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760" y="1368360"/>
            <a:ext cx="733320" cy="9662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9/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EIS Productio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rebuchet MS"/>
              </a:rPr>
              <a:t>Mig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300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4880" y="268272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5083200"/>
            <a:ext cx="799920" cy="8445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9/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42_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oduction Stabilization beg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6040" y="1211400"/>
            <a:ext cx="228600" cy="228600"/>
          </a:xfrm>
          <a:prstGeom prst="star5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266688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00720" y="3206880"/>
            <a:ext cx="904680" cy="8445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2/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EIS Productio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rebuchet MS"/>
              </a:rPr>
              <a:t>Mig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266688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27800" y="5257800"/>
            <a:ext cx="799920" cy="133020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3300"/>
                </a:solidFill>
                <a:latin typeface="Trebuchet MS"/>
              </a:rPr>
              <a:t>12/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EIS Production </a:t>
            </a:r>
            <a:r>
              <a:rPr b="1" lang="en-US" sz="700" spc="-1" strike="noStrike" u="sng">
                <a:solidFill>
                  <a:srgbClr val="000000"/>
                </a:solidFill>
                <a:uFillTx/>
                <a:latin typeface="Trebuchet MS"/>
              </a:rPr>
              <a:t>Mig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PR 400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PR 50059 phase 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PR 500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PR 500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00040" y="2777760"/>
            <a:ext cx="0" cy="16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43160" y="4406760"/>
            <a:ext cx="685800" cy="102960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0/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Go L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TDSP ESIID Extra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82680" y="4343400"/>
            <a:ext cx="228600" cy="228600"/>
          </a:xfrm>
          <a:prstGeom prst="star5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48600" y="7239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8201160" y="704880"/>
            <a:ext cx="9360" cy="557208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29760" y="7239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21000" y="3029040"/>
            <a:ext cx="685800" cy="120960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1/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Technical &amp; Business Training Session by ERC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13440" y="1187280"/>
            <a:ext cx="1216080" cy="102960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/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Complete Production Stabi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Market Go L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40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80400" y="1200240"/>
            <a:ext cx="228600" cy="228600"/>
          </a:xfrm>
          <a:prstGeom prst="star5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86440" y="267804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727760" y="2811240"/>
            <a:ext cx="612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75600" y="3670200"/>
            <a:ext cx="904680" cy="9662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/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EIS Productio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rebuchet MS"/>
              </a:rPr>
              <a:t>Mig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59 extra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91520" y="3733920"/>
            <a:ext cx="782640" cy="11278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rebuchet MS"/>
              </a:rPr>
              <a:t>2/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Complete Production Stabiliz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Market Go L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PR 50059 extra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839080" y="3733920"/>
            <a:ext cx="228600" cy="228600"/>
          </a:xfrm>
          <a:prstGeom prst="star5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71840" y="5553000"/>
            <a:ext cx="939960" cy="8445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1/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ost final User Docum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257800" y="2836800"/>
            <a:ext cx="0" cy="272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66688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61000" y="2289240"/>
            <a:ext cx="193536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MPs request stabilization files for revie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18480" y="2203560"/>
            <a:ext cx="1120680" cy="3682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rebuchet MS"/>
              </a:rPr>
              <a:t>MPs request stabilization files for revie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27240" y="2252520"/>
            <a:ext cx="1989000" cy="20052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rebuchet MS"/>
              </a:rPr>
              <a:t>MPs request stabilization files for revie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76200" y="2508120"/>
            <a:ext cx="1954440" cy="0"/>
          </a:xfrm>
          <a:prstGeom prst="line">
            <a:avLst/>
          </a:prstGeom>
          <a:ln w="5724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64240" y="2549520"/>
            <a:ext cx="1938240" cy="9360"/>
          </a:xfrm>
          <a:prstGeom prst="line">
            <a:avLst/>
          </a:prstGeom>
          <a:ln w="5724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37560" y="2541600"/>
            <a:ext cx="1120680" cy="9360"/>
          </a:xfrm>
          <a:prstGeom prst="line">
            <a:avLst/>
          </a:prstGeom>
          <a:ln w="5724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7680" y="3940200"/>
            <a:ext cx="914400" cy="5806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30026 Production Stabilization beg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3440" y="2657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3200400"/>
            <a:ext cx="847800" cy="8445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0/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ITEST Begins for 12/2/06 rel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66688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266688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4648320"/>
            <a:ext cx="939960" cy="9662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11/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 500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ost updated User Docum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63120" y="266688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8832600" y="2828880"/>
            <a:ext cx="6120" cy="9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meline Targets Consolidated Summar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579132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*Slide copied from ERCOT presentation to DEWG on 10/19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WG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tlement Statement Market No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erns raised about large volume of recent Settlement related no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COT provided a review of the October 2006 Settlement Statement Incidents (see presentation on DEWG webs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mmary of ca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d storage volum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upt Statements, reruns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ergency SIR migrated, later backed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destar Database Server storage path rerouted mid-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ettlement Statements not opening for a 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al memory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ments not mapping through Paper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ment creation process interruption and re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Questions 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124080" y="2514600"/>
            <a:ext cx="28958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0208429</cp:lastModifiedBy>
  <dcterms:modified xsi:type="dcterms:W3CDTF">2006-10-23T22:52:00Z</dcterms:modified>
  <cp:revision>19</cp:revision>
  <dc:subject/>
  <dc:title>PowerPoint Presentation</dc:title>
</cp:coreProperties>
</file>