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2C2-D2E5-4ADF-9834-EB108D1F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727-58D5-4B64-914F-292697EA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E57-3024-4C01-8D68-7CEE280C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411-609D-414E-8A58-508D2122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954-1E9A-45F1-8E50-EB5A56A8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E18-3853-463A-BA5A-3128ACE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222-17AC-47E9-94FB-E5495B8A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17B-A509-4039-8805-8BB49461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D0F-7225-4F68-B969-4C3EB09E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182-3386-4C38-8034-1C3B67B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19C-9402-43B8-A7E9-75FC587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FC0-38D9-49C6-97D8-5A9B32C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6449-F471-4230-813E-21A37479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ta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Annual Valid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October 18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0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6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61920" y="1015920"/>
            <a:ext cx="6318360" cy="525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172-65A3-4275-AB34-93E816A23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DOtt</cp:lastModifiedBy>
  <cp:lastPrinted>2002-05-17T20:57:43Z</cp:lastPrinted>
  <dcterms:modified xsi:type="dcterms:W3CDTF">2006-10-18T16:17:15Z</dcterms:modified>
  <cp:revision>247</cp:revision>
  <dc:subject/>
  <dc:title>Retail Transactions Report</dc:title>
</cp:coreProperties>
</file>