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55F-C8B6-4796-A1C4-C5A85F5B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B16B-EE1D-47DC-957E-A4576F3E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4AC-8BDC-4F42-A4F9-BAE5F506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426-797C-4BCF-904D-EF191D4C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1D8C-5EFF-46D8-AE4D-1C0DEDC5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0D34-244A-4C08-8986-F615A07E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4A34-E991-4AB2-A6EB-576CF238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D312-9786-4D9E-9B3D-9E1F295C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39F5-3D26-447F-B4E6-6D790684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8F7C-F554-4611-8CFA-4DF6C322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1A62-BE2E-4E98-A07E-34DACCD6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A8E6-1C6A-4457-B69C-F886C3D3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E292-3310-4C01-BF43-94A4D282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E383-C073-41DB-8160-EFCD7A24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41E0-C5E5-4D5C-8542-1F0B4386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B691-4F14-49AA-91F9-CF41D55D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55F6-3BC0-4EDE-998E-A0C2477C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793B-2AA7-42D8-9101-E5F2D4FA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62AC-88BA-4B3B-937C-2DF07D8E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C6BE-C711-4EFC-9C6F-18F96A23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792-DC0C-4ED4-8CC5-FE101B0E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10B4-415D-4E5B-AC9C-C18653E3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5A3-0902-4847-9068-8DA1B8ED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AB8-6331-49DF-8DE9-DA3B5C6B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5DC9-0F0E-4547-A081-6549224840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3713-D1CC-42E1-9A2F-157DF20A6A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PTF / COPS Nodal Review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COPS Nodal Review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PTF Requests COPS Involvement with the following Functional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 due to ERCOT on 10/18/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24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putes Requir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24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ancial Transfer Requir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24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face Requir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24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scellaneous Requir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0A4-ECE5-4017-840D-D4B75ED735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PTF / COPS Nodal Review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COPS Nodal Review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COPS Involvement with the following Functional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to release requirements on 10/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24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ata Aggregation Requir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24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tracts for Commercial Oper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67A-4919-4F20-884D-87ADEC6DE0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CWG Upda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COPS Nodal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Meetings – Friday afternoons from 1:30 – 3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24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ct. 2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(Cancelled due to 16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Call earlie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24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ct. 27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8B13-8D6E-48F1-8300-B41B403B7A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CWG Upda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TPTF Meeting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e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24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dal Implementation Timel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24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aining outside of Tex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24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aft NPRR for CRR without D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24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al-Time Energy Settl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cheduled meetings: Sept. 2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3C6-0CF7-435C-9780-D1CBF39714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01:05:49Z</dcterms:created>
  <dc:creator>Judy Briscoe</dc:creator>
  <dc:description/>
  <dc:language>en-US</dc:language>
  <cp:lastModifiedBy>BP</cp:lastModifiedBy>
  <dcterms:modified xsi:type="dcterms:W3CDTF">2006-10-17T15:59:40Z</dcterms:modified>
  <cp:revision>10</cp:revision>
  <dc:subject/>
  <dc:title>CCWG Update – March 2nd Meeting</dc:title>
</cp:coreProperties>
</file>