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81DC628-8D33-4E4C-A405-0DD88FD2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dal.ercot.com/" TargetMode="External"/><Relationship Id="rId2" Type="http://schemas.openxmlformats.org/officeDocument/2006/relationships/hyperlink" Target="mailto:rchudgar@erco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Nodal Process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COP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By Raj Chudgar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nday, 10/24/2006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ing Principles and Doc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compl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n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S Road Sh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oncerns and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uiding Principles and Docu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ing Princi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using the Rational Unified Process (RUP) to develop its software under a mature set of deliverable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tracing all protocols to requirements and future deliverables using the Requisite Pro IBM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tracking all issues and questions that relate to Nodal, but not to Commercial Systems via the “Punchli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established a set of controls and quality management to unsure successful project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Key Doc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Protoc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NP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Transi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which items require TPTF appro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which items require TPTF re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strawman test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hat is complete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S: Completed to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requirement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 reviewed at TPTF to date, last 5 to be reviewed at TPTF 10/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completed and Approved at TPT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currently deferred to C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 Revenue Disbur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t redesign of current Lodestar tool is unde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be complete by end of November with architecture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hat is next…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S: Next Ste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D:  Conceptual System Designs for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based and not to the detail level of the requireme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“How” of th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to have first ones out in late November for C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ERCOT development teams, reviewed by ERCOT business, and Approved by TP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hat is COPs involvement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evelopmen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CSD is completed, team will rapidly start building code and detaile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ed design will be traced to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ed Designs can be reviewed by TP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hat is COPs involvement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business teams roll will change once requirements are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ing/completing Use Cas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ing test cases and test scripts on a module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ing verification spreadsheets for internal ERCOT validation of Lodestar code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ing data sets (stub data) for internal product/functional testing (F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hat does COPs want to review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S Road Sho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Summ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MPs with a dedicated time where ERCOT staff will provide open dialog and presentations around Nodal to MP staff (COMS staf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education and awareness of ERCOT COMS changes and effects to 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vailability for MPs to openly ask ERCOT questions in a private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guidance on MP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relationships between ERCOT staff and MP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November and target 2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limit to 1-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COMS MPs interested 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terest when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terest can we pilot with an MP, mock up an agenda, timeline, and 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Inform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Web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j Chudgar contact inform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: 512-248-65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chudgar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6960" y="4419720"/>
            <a:ext cx="27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4:46:38Z</dcterms:created>
  <dc:creator>jmoseley</dc:creator>
  <dc:description/>
  <dc:language>en-US</dc:language>
  <cp:lastModifiedBy>rchudgar</cp:lastModifiedBy>
  <dcterms:modified xsi:type="dcterms:W3CDTF">2006-10-19T14:13:05Z</dcterms:modified>
  <cp:revision>15</cp:revision>
  <dc:subject/>
  <dc:title>Texas Nodal NMMS NOMCR Process CenterPoint Meeting  By John Moseley, ERCOT Thursday, 09/21/2006</dc:title>
</cp:coreProperties>
</file>