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435-79FD-4277-BB7B-C1F6041B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C78-5463-4507-A2A2-24E1AD84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F82E-2844-4E8F-AB13-D8A29DE1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76F2-43FF-481F-8FF4-4416F1A2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74D-30C0-4B3C-85BA-15F38C87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D99-73F1-4989-B46F-827ADD66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ED4-6A9B-4CB7-AC96-650DA462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A47-4377-4F56-97B2-7D2041AF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86B-ACDD-435F-AC35-2BA8CB22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D47-BB9B-48F7-B4B1-DA9500F5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5CF-3DCA-4338-9833-13D8BEA8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C7F-34C6-4802-8887-3059710F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4756-F791-4E1B-8F04-29A7D8B65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3280" y="461880"/>
            <a:ext cx="867744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3280" y="461880"/>
            <a:ext cx="867744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9:27:12Z</dcterms:created>
  <dc:creator>COpheim</dc:creator>
  <dc:description/>
  <dc:language>en-US</dc:language>
  <cp:lastModifiedBy>COpheim</cp:lastModifiedBy>
  <dcterms:modified xsi:type="dcterms:W3CDTF">2006-10-16T19:34:54Z</dcterms:modified>
  <cp:revision>1</cp:revision>
  <dc:subject/>
  <dc:title>Slide 1</dc:title>
</cp:coreProperties>
</file>