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9991-7B7B-4459-A984-804FBD436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9715-0ED5-4002-ABF2-D45AF87C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5A7D-2CCD-4129-8C26-C0DF03B10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F9BE-C2F5-4163-BC34-0DB1BC739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1AF5-589A-4438-A963-459F848CD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C3E7-9191-4FBC-9CC4-E34B58A2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24C5-624A-4C76-AD3B-7D6DA306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E85C-0E34-49CB-ABDB-D8FDB053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C482-2418-4614-ADB3-D3FAEC67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F70A-44A5-4E0F-BDDD-690F182C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29BE-D782-4331-B8E8-7F1B37AE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38C0-C57D-4BC8-A772-7897190D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F2322-3E14-4889-8EF8-F3AD666B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2F00-7D06-4790-BB2B-AFADF647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54EE-5798-49DD-BD47-75BB239F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6D1A-904B-486E-9579-A7B26E081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1B5A-0E6C-4FB5-BE0F-DE97AD2CF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74DB-B727-4410-BA3A-366CFBBA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0D21-6DE7-42F9-A79C-B6E8DC04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9E7B-756A-4E6D-9930-192456D5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222B-76C8-4DC9-B181-88C8E87A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7399-574A-4767-9815-CD24BE12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FE5E-C261-47D9-8483-AFD01E3C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378C-BDB4-4B9D-B12D-60680839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9630-B8C6-48DB-8C29-32418BDE9CF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BEE2-241B-49E6-B322-DE01AAD15CB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RMS Update to TAC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ctober 6, 2006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Retail Transaction Processing Availability Summary- Mock Up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295280" y="1600200"/>
          <a:ext cx="7239240" cy="50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00200"/>
                    <a:ext cx="7239240" cy="50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RMS Updates—Upcoming Voting Item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Novemb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MGRR040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imated Meter Rea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MGRR04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fety Net Revi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MGRR04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ss Trans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Decemb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MGRR04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storical Usag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MGRR04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DSP Invoice Dispu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MGRR04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connect for Non-Pay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R69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nsaction Updates for TX SET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.0 and Priority/Standard Move-I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56272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425600" y="357120"/>
            <a:ext cx="7201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MS Update to TAC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MS Updat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rkeTrak Project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uplicate Transaction Issu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ce Availability Re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coming Voting Ite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6666"/>
                </a:solidFill>
                <a:latin typeface="Arial"/>
              </a:rPr>
              <a:t>RMS Updates--MarkeTrak</a:t>
            </a:r>
            <a:endParaRPr b="0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COT and Market Participants have resolved all known API issues and testing with MPs is underwa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new GUI issues detected for Excel Scientific Notation and Mass Update reques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MS approved ERCOT recommendation to proceed with remaining project activities in support of a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ovember 1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launch d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nce Sept. RMS meeting, ERCOT has informed MPs that both issues will be resolved and incorporated into product laun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udget increase estimated at $188K include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letion of planned activities for production migratio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project clos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w activities for API/GUI issue resolu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eat activities for testing and train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RMS Updates—Duplicate Transaction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COT identified two types of duplicate transa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perFree duplicate transac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ebel Move-In, Move-Out and Switch duplicate transac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perFree duplica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oot cause has not been identifi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vious changes to retail code have allowed for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ultiple validations and alert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COT to investigate additional software alerts and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rther review of hardware environment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RMS Updates—Duplicate Transaction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ebel Duplica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used by batch transaction exceptions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vious changes to retail code have enabled support analysts to detect duplicate transactions and reduce the volume received by M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R to correct errors was initially released in July 2006 but changes were withdraw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R has been refined and re-tested.  Currently scheduled for release 12/2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rther review of hardware environ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RMS Updates—Duplicate Transaction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xt Step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rm Development and Test environments match Production to recreate probl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lace Paperfree server in Tes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DTWG to review each data integrity issu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root cau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ggest resol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 pending projects that may provide resol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 analysis to RMS and draft SC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RMS Updates—Service Availability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R 745 Phase I-NAESB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R 745 Phase II-Paperfr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99.9% availability target for these systems needed to meet 99.25% availability target for all retail syste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MS reviewed revised service availability report that will be forwarded to TA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Year-To-Date Net Service Availability-Mock Up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162160" y="1827360"/>
          <a:ext cx="5729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2160" y="1827360"/>
                    <a:ext cx="5729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July 2006 Net Service Availability- Mock Up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049480" y="1827360"/>
          <a:ext cx="59547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9480" y="1827360"/>
                    <a:ext cx="5954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9:57:48Z</dcterms:created>
  <dc:creator>ShBowling</dc:creator>
  <dc:description/>
  <dc:language>en-US</dc:language>
  <cp:lastModifiedBy>ShBowling</cp:lastModifiedBy>
  <dcterms:modified xsi:type="dcterms:W3CDTF">2006-09-29T15:27:12Z</dcterms:modified>
  <cp:revision>63</cp:revision>
  <dc:subject/>
  <dc:title>RMS Update to TAC</dc:title>
</cp:coreProperties>
</file>