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7BEAE-A9BA-41A3-BD46-A2F0CA343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1DC66-3623-4BA2-83BC-386658C1C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58F31-B824-4DE8-8BB8-C1EE21EF9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76779-BACA-4A22-B22D-B304EC146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43901-427A-4400-8E43-B7C879B9C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05414-7328-4CCF-945F-E532E5372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9CC1A-0A70-4A66-A337-1A69134F2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557F5-B3B3-4D27-973E-BD389DAD3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85001-22CB-483B-9BEA-633204047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C0EB5-86D8-4BC6-BCBD-B1D81756F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5E514-FD25-4E33-9A8A-637E4023F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6FCBE-256C-4507-98BB-98DC15A82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1F05E-81F6-469B-91E0-E6F0DECE2E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5867280" y="6458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C Pres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tober 6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38862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8513A-D0DE-40A5-A1B3-75A8559975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2333160" y="5466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289584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333520" y="1904760"/>
            <a:ext cx="6019920" cy="12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ERCOT Emergency Interruptible Load Program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342880" y="3581280"/>
            <a:ext cx="54291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aul Wattle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teve Krein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" name=""/>
          <p:cNvSpPr/>
          <p:nvPr/>
        </p:nvSpPr>
        <p:spPr>
          <a:xfrm>
            <a:off x="2362320" y="5257800"/>
            <a:ext cx="5943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ct. 6,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ERCOT Emergency Operation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914400"/>
            <a:ext cx="83818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rrent Operating Procedur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533520" y="1554120"/>
          <a:ext cx="8229600" cy="4160880"/>
        </p:xfrm>
        <a:graphic>
          <a:graphicData uri="http://schemas.openxmlformats.org/drawingml/2006/table">
            <a:tbl>
              <a:tblPr/>
              <a:tblGrid>
                <a:gridCol w="4039920"/>
                <a:gridCol w="4189680"/>
              </a:tblGrid>
              <a:tr h="423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ent/Acti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igger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ting Condition Notic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hysical responsive reserve below 3300 MW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VISORY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hysical responsive below 3000 MW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ERT:  Start RMR units, suspend unit testing, deploy RPRS &amp; NSR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hysical responsive below 2500 MW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8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7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Emergency Electric Curtailment Pla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2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ep 1:  Dispatch all generation &amp; DC Ties, issue public media appeal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hysical responsive below 2300 MW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ep 2:  Deploy LaaR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hysical responsive below 1750 MW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ep 3:  Instruct transmission operators to shed firm load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Frequency below 59.8 hz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CT Worksho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93161-C588-4CC6-90EB-55E6A3B26DA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9/15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ERCOT Emergency Operation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914400"/>
            <a:ext cx="83818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roposed new tool for the ERCOT toolbox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533520" y="1554120"/>
          <a:ext cx="8229600" cy="4586400"/>
        </p:xfrm>
        <a:graphic>
          <a:graphicData uri="http://schemas.openxmlformats.org/drawingml/2006/table">
            <a:tbl>
              <a:tblPr/>
              <a:tblGrid>
                <a:gridCol w="4039920"/>
                <a:gridCol w="4189680"/>
              </a:tblGrid>
              <a:tr h="423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ent/Acti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igger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ting Condition Notic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hysical responsive reserve below 3300 MW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8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VISORY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hysical responsive below 3000 MW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ERT:  Start RMR units, suspend unit testing, deploy RPRS &amp; NSR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hysical responsive below 2500 MW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8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7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Emergency Electric Curtailment Pla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2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ep 1:  Dispatch all generation, public media appeal, DC Tie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hysical responsive below 2300 MW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ep 2:  Deploy LaaR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hysical responsive below 1750 MW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4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2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ep 3:  Instruct transmission owners to shed firm load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Frequency below 59.8 hz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8" name=""/>
          <p:cNvSpPr/>
          <p:nvPr/>
        </p:nvSpPr>
        <p:spPr>
          <a:xfrm>
            <a:off x="457200" y="5334120"/>
            <a:ext cx="1295280" cy="0"/>
          </a:xfrm>
          <a:prstGeom prst="line">
            <a:avLst/>
          </a:prstGeom>
          <a:ln w="1015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676520" y="511956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New Step:  Deploy EMERGENCY INTERRUPTIBLE LO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CT Worksho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96D17-AAAD-49C4-A047-6A8F6218D3E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9/15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EILP Deployment Scenario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7467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mergency Electric Curtailment Plan Ev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895480"/>
            <a:ext cx="7924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95280" y="24382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971800" y="24382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2438280"/>
            <a:ext cx="0" cy="144792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543800" y="2438280"/>
            <a:ext cx="0" cy="1447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38080" y="1843200"/>
            <a:ext cx="739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ctr" pos="2054160"/>
                <a:tab algn="ctr" pos="5033880"/>
                <a:tab algn="ctr" pos="6626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‘Step 2A’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3962520"/>
            <a:ext cx="121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ll  available generation deploy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362320" y="396252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LaaRs deploy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 flipV="1">
            <a:off x="990360" y="2971440"/>
            <a:ext cx="152280" cy="304920"/>
          </a:xfrm>
          <a:prstGeom prst="line">
            <a:avLst/>
          </a:prstGeom>
          <a:ln w="936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4876920" y="2971440"/>
            <a:ext cx="228600" cy="304920"/>
          </a:xfrm>
          <a:prstGeom prst="line">
            <a:avLst/>
          </a:prstGeom>
          <a:ln w="936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334120" y="396252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 Narrow"/>
              </a:rPr>
              <a:t>EILP deploy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934320" y="3962520"/>
            <a:ext cx="1218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olling blackou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(firm load shedd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57200" y="5486400"/>
            <a:ext cx="5029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(Moving MCPE to the price cap during EECP is currently under consideration by stakeholders working on the Nodal transit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3200400" y="2971440"/>
            <a:ext cx="0" cy="304920"/>
          </a:xfrm>
          <a:prstGeom prst="line">
            <a:avLst/>
          </a:prstGeom>
          <a:ln w="936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" y="3200400"/>
            <a:ext cx="5029200" cy="368280"/>
          </a:xfrm>
          <a:prstGeom prst="rect">
            <a:avLst/>
          </a:prstGeom>
          <a:gradFill rotWithShape="0">
            <a:gsLst>
              <a:gs pos="0">
                <a:srgbClr val="40949a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Loads respond to scarcity pri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CT Worksho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0C224-FC71-48C1-8C8D-4B1754CCC71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9/15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Emergency Interruptible Load Program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ads would be deployed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ter all market-based resources have been deploy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low frequency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or to rolling blacko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antity would be based on averting historical firm load shedding events which have occurred in winter peak or shoulder month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 proposal:  1000 MW, based on his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for program and quantity to be procured could be adjusted periodically based on various operating condi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w probability of deploy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rolled load interruption vs. uncontroll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CT Worksho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F4643-5FF3-4421-A390-2C4615CC731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9/15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Advantages of the EILP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edding voluntary load from prepared end-use customers is preferred over involuntary load shedding from unprepared custom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es ERCOT operations an additional tool in emergency situ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edding load is 100% effective to maintain balance with gene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COT believes that EILP cost will be lower than the societal cost of rolling blackou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CT Worksho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3438F-A504-48FD-84A1-253B0AC046A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9/15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otential Program Characteristic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cure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ads, through their QSEs, would bid to provide service (similar to Black Star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act is with the Q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 2-year contract te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that, evaluate annu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sible renewal or re-bid if deployments exceed predefined number of ho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CT Worksho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C7532-D27B-4B75-9643-E3C33EFA141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9/15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otential Program Characteristic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patching and Oper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patched By ERCOT thru Q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ployed as a single block after all existing generation resources and LaaRs are deploy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er low frequency conditions but before any firm load shedd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ick response required (10 minutes or les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ire interval data metering for measurement and verific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no telemetry or under frequency relay requir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mit number of hours to be curtailed in any given ye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CT Worksho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75735-DC17-4950-AEB5-0E873CD19E5D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9/15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otential Program Characteristic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yment Option 1: CAPACITY &amp; ENERG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 up-front payment based on bids at time of contract aw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y for performance based on actual load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SE receives energy imbalance credit equal to MWh delivered (based on validated performance) times the MCPE, or price cap in p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ject to clawback for under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CT Worksho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3A376-97E3-4B97-9358-BE178011D42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9/15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otential Program Characteristic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yment Option 2:  Energy-Only with DEFINED PRI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up-front pay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ergy-only payment for performance based on actual load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SE receives a double energy imbalance credit/payment equal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11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Wh delivered (based on validated performan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11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CPE price cap in place (guaranteed amount, known in advan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11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ject to clawback for under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is case, subscription to the program would be first-come, first-serve (as opposed to competitive bidd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ilar to Standard Offer Progr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CT Worksho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AB971-042C-4083-AB15-BD56B3AC332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9/15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otential Program Characteristic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yment Option 3:  ‘Energy Only’ with COMPETITIVE PRI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up-front pay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ergy-only payment under a cal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bid process (QSEs bid on customers behal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COT recommends a ‘descending clock auction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ds should represent value of lost lo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SEs paid auction clearing price x MWh delivered (based on validated load perform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ject to clawback for under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CT Worksho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D71C9-D5AA-41A4-8E86-A61B4086FA8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9/15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History of this Issu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y 200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 TAC request, WMS asks Demand Side WG to work on the issue of an emergency load program to address 1-in-10-year LO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COT staff &amp; DSWG subgroup research emergency demand response programs in other IS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ct. 200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SWG presentation to WMS; WMS defers decision in light of PUC rulemak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ct. 200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C resource adequacy draft rule includes Emergency Load Response (ELR) section; numerous parties submit comm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uly 2006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R section dropped from proposed rule; deferred to Demand Response project (32852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/15/06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COT proposes EILR program at PUC Demand Response Worksho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/2/06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re discussion at second PUC Demand Response Worksho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CT Worksho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ACC48-9272-4144-9B94-BAD16BAB222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9/15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otential Program Characteristic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awback for underperforma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igible customer must not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icipate as La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icipate as BUL or voluntary load response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less sufficient EILP load is also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COT will verify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ual curtailed demand based on review of 15-minute interval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ing actual load from last full interval prior to instruction, minus actual load from next full interval following 10-minute response peri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or performance under high price periods and 4 CP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energy payment will be provided (other than energy imbalance credit) if load underperform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QSE has received a capacity payment (i.e., under payment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on 1), it will be subject to performance-based claw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CT Worksho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B6738-B1D3-4310-97A2-BAD1D329DAEB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9/15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otential Program Characteristic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cation (Option 1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d to QSEs representing load on load-ratio sh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cation (Option 2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cate using RPRS methodology (including PRRs 666, 676 &amp; 68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rt-scheduled LSEs bear a higher portion of the 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COT is open to recommendations on how to accommodate self-providing of EIL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CT Worksho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B7589-74A0-4A7E-ABA8-E7CCC4ED96A3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9/15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Emergency Interruptible Load Respons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tential Program Participa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25360" indent="-46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rge Commercial and Industrial Accou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25360" indent="-46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vernment and Municipal Fac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25360" indent="-46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ail Cha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25360" indent="-46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s??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253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253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2536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 should be open to QSEs serving both competitiv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NOIE lo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253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253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253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CT Worksho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C85ED-BE3F-4149-B8C7-2715F5EEBC11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9/15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otential Paths to Implementation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COT-sponsored PR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imilar program has been discussed in stakeholder process and defer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C rulemak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ilar concept has already been subject to public comment (Project 3197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uld be difficult to enable program by Spring ‘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CT Worksho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26B76-16AA-45B0-937C-5184BCEBF9E0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9/15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ome Final Thoughts….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new energy-only market must attract a robust level of price-responsive load, especially during periods of scarcity of su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much load will respond to scarcity prici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much load is even capable of demand response toda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COT is anxious to work with the Commission and the market to enable increased demand respon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ILP proposal should not distract from this greater go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CT Worksho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5EE3F-4E1A-4946-9B17-CC1139B311BA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9/15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Questions?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2743200" y="2514600"/>
            <a:ext cx="3209760" cy="128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CT Worksho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F7F43-E0DC-4632-8A95-A2BD0151722F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9/15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Emergency Interruptible Load Program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rpose of the EILP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provide ERCOT Operations with an additional emergency tool to lessen the likelihood of involuntary firm load shedding (a.k.a. rolling blackout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CT Worksho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33BF4-F16F-41B2-9806-59900C2CAEC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9/15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Emergency Interruptible Load Program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EILP i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rvice provided by loads willing to interrupt immediately prior to the need for involuntary firm load shedding, in exchange for a pay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ployed only in emergency situations, when no more resources are availabl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t any pri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rom the market or other sources in real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 of EECP, deployed just prior to final step (rolling blackou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osest cousins:  Black Start and RM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CT Worksho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5CC8B-1446-47BB-9E8C-3A26B272053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9/15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Emergency Interruptible Load Program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EILP is NOT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is not a market-based program in which loads bid into day-ahead or real-time markets.  EILP load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not bid into Balancing Energy mar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not bid into Ancillary Services mark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not participate as price-responsive lo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ll not suppress energy prices during an EECP 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is not a resource that is deployed to recover or replace regular ancillary servi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is not a resource that will ever be deployed ahead of available market resour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is not a backstop for insufficient planning reserve margins, or a tool to meet long-term capacity nee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CT Worksho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FF185-684B-4BDC-A3C5-F8E4BE14A1A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9/15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Emergency Interruptible Load Program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w the need for EILP relates to the Planning Reserve Margin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w reserve margin is related to this program ONLY as one indicator of an increased likelihood for the ne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LP is less likely to be needed in times of large generation surplu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ILP will NOT impact the reserve margin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ll not be part of the reserve margin calc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like LaaRs, which are built into the reserve margin calculation as an offset to total peak dem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CT Worksho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E0C44-34FD-4AE6-8FAC-49A2DAC2490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9/15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Emergency Interruptible Load Program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n the EILP may be needed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mergencies can occur at any time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d weather months (due to natural gas curtailment &amp; higher forced outag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ulder months (due to unforeseen weather events &amp; large amounts of scheduled mainten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ditional summer peak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ytime, as may be caused b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ion outages (scheduled, forced or bo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nsmission outages beyond likely contingenc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treme weather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ltiple simultaneous conting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CT Worksho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E12F4-A86E-4344-9943-7703110805F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9/15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EILP Cost/Risk relative to other types of Demand Respons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143000" y="1143000"/>
          <a:ext cx="7543800" cy="4343400"/>
        </p:xfrm>
        <a:graphic>
          <a:graphicData uri="http://schemas.openxmlformats.org/drawingml/2006/table">
            <a:tbl>
              <a:tblPr/>
              <a:tblGrid>
                <a:gridCol w="753480"/>
                <a:gridCol w="755280"/>
                <a:gridCol w="753840"/>
                <a:gridCol w="755280"/>
                <a:gridCol w="753840"/>
                <a:gridCol w="753840"/>
                <a:gridCol w="755280"/>
                <a:gridCol w="753840"/>
                <a:gridCol w="755280"/>
                <a:gridCol w="753840"/>
              </a:tblGrid>
              <a:tr h="43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"/>
          <p:cNvSpPr/>
          <p:nvPr/>
        </p:nvSpPr>
        <p:spPr>
          <a:xfrm>
            <a:off x="1676520" y="1752480"/>
            <a:ext cx="6324480" cy="3353040"/>
          </a:xfrm>
          <a:custGeom>
            <a:avLst/>
            <a:gdLst/>
            <a:ahLst/>
            <a:rect l="l" t="t" r="r" b="b"/>
            <a:pathLst>
              <a:path w="3984" h="2112">
                <a:moveTo>
                  <a:pt x="0" y="2112"/>
                </a:moveTo>
                <a:cubicBezTo>
                  <a:pt x="916" y="1952"/>
                  <a:pt x="1832" y="1792"/>
                  <a:pt x="2496" y="1440"/>
                </a:cubicBezTo>
                <a:cubicBezTo>
                  <a:pt x="3160" y="1088"/>
                  <a:pt x="3572" y="544"/>
                  <a:pt x="3984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292480" y="4896000"/>
            <a:ext cx="152280" cy="152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117960" y="4737240"/>
            <a:ext cx="152280" cy="152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057560" y="4527720"/>
            <a:ext cx="152640" cy="152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89680" y="2927520"/>
            <a:ext cx="152640" cy="152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765920" y="1866960"/>
            <a:ext cx="152640" cy="152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523880" y="4272120"/>
            <a:ext cx="838440" cy="368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EI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590920" y="3967200"/>
            <a:ext cx="838080" cy="368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C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733920" y="3657600"/>
            <a:ext cx="914400" cy="368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LM S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943600" y="2666880"/>
            <a:ext cx="762120" cy="368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781680" y="1371600"/>
            <a:ext cx="914400" cy="580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ISO-NE SW 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352680" y="563868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EWARD/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rot="16200000">
            <a:off x="-310680" y="281916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CT Worksho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3456A-03BB-4BCC-AAEA-5D8D6C5FFEF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9/15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Emergency Interruptible Load Program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normal circumstances, adequate resources (RRS, NSRS, RPRS) are on line or available to deal with most situ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storical need for additional resources due to abnormal events (usually weather relat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d weather events can lead to abnormally high load combined with fuel curtailments (Dec. 1989, Feb. 200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ulder month events caused by unusual weather at unexpected times (1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º weather on April 17, 2006, with 20% of capacity offline for seasonal maintenan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abnormal events occur, additional ERCOT tools could reduce the possibility of a need for involuntary firm load shedding and the associated public health and safety ris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CT Worksho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B05DB-D383-4697-8ADA-59AC49741DA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9/15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pwattles</cp:lastModifiedBy>
  <dcterms:modified xsi:type="dcterms:W3CDTF">2006-10-06T14:23:48Z</dcterms:modified>
  <cp:revision>106</cp:revision>
  <dc:subject/>
  <dc:title>Instructions</dc:title>
</cp:coreProperties>
</file>