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E379-8219-4EB9-890B-CA807EF07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2BFB-C674-46EE-B5AF-953470F5D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CFF0-9E5D-4C77-8F32-5A9E6A6B4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3540-A43D-4DC5-B9D2-F159C7E1B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3BEEA-0207-4892-9271-5485AA043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EBB09-6A1D-4A73-BE2A-982E752F2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E7C18-A3F3-4946-A291-4B5604688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F5C25-F026-4825-AD56-AC977DE9D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561F2-B428-4123-995C-F1793BCBF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1BA1F-BDB3-41D9-A903-58ACFA05B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6F9A0-23EB-42D0-AC3F-DDF168A78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715C-AD1A-48C9-BB7D-5A4CD9CC1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EF276-3F59-455D-8CC2-E7DD1D745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28F9D-334D-4A2C-ABE0-F53A7FEFE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A7E9C-3664-4265-A267-50C1D2368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1000C-25BD-4E80-82BD-A2FC48D29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02F53-2FAF-4334-AAD6-5CE2293DD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87B7-84C3-4E80-A384-B8316A989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4955-52F6-4E5A-8B0E-B161046F5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D2EE-BB04-44A9-859D-CBBA7856D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D53A-E105-432F-8DBB-046C4904A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CE8A-4F24-4F4F-85CE-9D5A14CDF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2B3D-C360-4D53-AB2C-81FDD73C9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B45E-5E9A-4BE6-A345-D180FB6B4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214EE-D355-4722-9EE6-D2CBC1369BD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552680" cy="74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27DC3-8A0B-4553-9A60-125BE4982E4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552680" cy="7430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rcot.com/mktinfo/reports/sce_qse/index.html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ompliance Updat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34286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ctober 200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NERC ERO Development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 July 20</a:t>
            </a:r>
            <a:r>
              <a:rPr b="0" lang="en-US" sz="22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FERC approved NERC’s application to become the Electric Reliability Organization (ERO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raft Texas Regional Entity budget submitted to NERC in Jun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posed Regional Entity Work Plan submitted to NERC in July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raft Delegation Agreement between NERC and ERCOT filed August 4</a:t>
            </a:r>
            <a:r>
              <a:rPr b="0" lang="en-US" sz="22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RCOT Compliance submitted, to NERC on September 8</a:t>
            </a:r>
            <a:r>
              <a:rPr b="0" lang="en-US" sz="22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contact information from ERCOT Entities responsible for NERC Reliability Standards.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ntrol Performance Highligh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ERC CPS1 Performa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ptember performance indicated a third straight month of declining scores since scores peaked in Ju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une – 154.6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uly – 153.1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ugust – 151.3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ptember (preliminary) – 142.1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R 525 Performa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ores for August indicate 32 QSEs passed / 1 non-wind-only QSE failed the meas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ores posted on the ERCOT Compliance Websi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RCOT CPS1 Performance Comparis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79250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RCOT’s CPS1 Monthly Tren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80010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RCOT CPS1 by Interv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784872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QSE PRR525 10-Minute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erval Scor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80010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CE Performance Monitorin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CE Performance Monitoring scores for all QSEs are published on the Compliance Websi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SCE Performance Sc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697536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525 Passing 10-Min Interval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ercentage Tre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80010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ource Plan Performance Metric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ugust 2006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66640" y="167652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1T22:17:43Z</dcterms:created>
  <dc:creator>lrobinson</dc:creator>
  <dc:description/>
  <dc:language>en-US</dc:language>
  <cp:lastModifiedBy>L. Grimm</cp:lastModifiedBy>
  <dcterms:modified xsi:type="dcterms:W3CDTF">2006-10-02T15:19:41Z</dcterms:modified>
  <cp:revision>204</cp:revision>
  <dc:subject/>
  <dc:title>PRR 525 Compliance Analysis</dc:title>
</cp:coreProperties>
</file>