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9C9-EA2E-44AB-9BA3-67B3993E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B0C0-D007-42E6-8E91-D9CF0FDD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4941-F776-47E4-A12B-3EB0785B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387-6B59-40FB-B489-2DC1CC25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66E0-1B5C-4BCD-908A-39F4B4CF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EF11-DD0C-4F75-A7FE-AB3097C2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1902-B2DF-43FA-994D-1439CAD5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B163-FDD2-448B-9317-63205028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E696-D74D-4B36-AF2F-7514A52B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8327-2F22-48F3-B689-6B6B67B6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B817-6FE9-41EF-A460-74E0B153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1F3-C171-4EF6-9A24-5EAE2053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2317-DDD6-4A24-9732-AA1C984C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A6F4-0AA6-43CD-A30E-C77ECD38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BBD4-2217-4004-90BD-2B776604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0B7A-440A-40CA-804F-06C5923C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151F-6880-413C-B221-56CFD63F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65211-749B-4F03-8D97-4D386681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47B18-65D9-4673-8ABD-624F6B0D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D1A0A-FF8A-4699-B750-2274B8B7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3A4EF-1232-454E-844D-30FF4404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605B7-2714-4E9A-96CE-4416A2A4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693-2D59-4358-BFC8-AB2627E1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F5807-DB47-4FDA-9443-C00162FC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21859-F94D-48BD-ADB1-CAC522CA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D8BD3-C301-4B93-82CD-C9FE91CA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CE978-CDAF-4EC5-9E3A-253EF537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BFC51-49E2-4015-9972-26910E58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6D197-B309-47FE-8025-FC39F2B2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5C196-90F7-47E0-B17C-DE089DAE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E7B9B-DCAF-4B68-A737-BDDB8945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4C3D3-789D-4294-B9D8-6E5EF7C5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0B66D-40D9-4940-9E00-2CC61BA0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B29-B45B-4726-A941-601954BC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3DC2A-E45C-484C-9D18-1D5CA9A0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6FCE3-3B9F-4760-B1B7-C8833DD0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7521E-3D9E-451D-ACFF-5D1C198B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4FF85-5EB9-49D8-B0E7-9D3596F3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C100A-35C7-46F6-8FD3-5DE2F58E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CBA16-5621-412C-A459-513476BE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DFD9A-5F6D-4A70-BC2F-3FF61DE2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2A090-BB40-4900-ABAB-6787382A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8ABAD-2888-4ACC-B06B-FB792A01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84450-7B20-490C-B89A-43E62307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AA4E-3344-4473-90E7-964EFDD1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1E86E-808E-421B-A7DA-993FADAE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E1AC9-EB1F-412F-B59C-C4260AB4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3CDEB-F100-4CD0-A3CF-C6BFAE85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DF365-7970-4E10-BA01-08560D9A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AFF90-2BC9-4616-B4DF-18F80F91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E0DA3-00B6-47D8-9796-98D96C47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AFD51-ED20-4D4A-B52A-09487CF5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ED3AB-51D4-4E72-A857-6667DCF5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3C2CD-D269-4F30-A6DB-8C89A6B7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5C2A7-A6D9-4D64-A3BA-CDD0E62E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968B-C349-4AC9-873F-A9A72CF3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57FBE-9F36-41F4-AC5F-6F4189E9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31A-A18D-41A9-ADCF-D8FA0A31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3B45-BF56-4EA3-A48D-E29C3FF5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9843-0E4F-49ED-B392-149B30A8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AB46-FFF6-4542-8FD5-566BFC11C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2A07-1681-42D6-ACB9-098D2BEA5D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08C5-3913-4722-BBA6-623AAD03B1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6B21-6742-48AC-B3AB-0415428F37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FC76-805D-4A60-A6F9-0F0DFD6455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enus to Sherry 345 kV Circuit Construction Project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C – 10/5/2006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867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cription of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1676520"/>
            <a:ext cx="31240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ove Existing T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ng 1.8 mi. new conductor on existing towers to complete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d Cost $1.3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4920" y="1219320"/>
            <a:ext cx="5333400" cy="5409720"/>
            <a:chOff x="304920" y="1219320"/>
            <a:chExt cx="5333400" cy="540972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5333400" cy="54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803160" y="4664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86120" y="2899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4920" y="228600"/>
            <a:ext cx="62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ject is Reliability/Econom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1523880"/>
            <a:ext cx="7483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Independent Review showed project could save $2.5 M in production costs in 2007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eliminates three terminal Everman-Sherry-Cedar Hill 345 kV circuit providing enhanced system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provides looped transmission service to 81 MW of load at Webb sub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494960" y="22860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keholder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343160"/>
            <a:ext cx="778824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434960">
              <a:lnSpc>
                <a:spcPct val="100000"/>
              </a:lnSpc>
              <a:tabLst>
                <a:tab algn="l" pos="0"/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akeholder review period for this project was held in June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omments were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4960">
              <a:lnSpc>
                <a:spcPct val="100000"/>
              </a:lnSpc>
              <a:tabLst>
                <a:tab algn="l" pos="0"/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152424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 supports the need for this project, as described, and will be asking that the Board endorse the need for thi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30280" y="228600"/>
            <a:ext cx="35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RCOT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253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4:40:33Z</dcterms:created>
  <dc:creator>James J. Teixeira</dc:creator>
  <dc:description/>
  <dc:language>en-US</dc:language>
  <cp:lastModifiedBy>Dan Woodfin - ERCOT</cp:lastModifiedBy>
  <dcterms:modified xsi:type="dcterms:W3CDTF">2006-09-29T13:14:18Z</dcterms:modified>
  <cp:revision>33</cp:revision>
  <dc:subject/>
  <dc:title>ERCOT Independent Review AEPTCC Western Region Project June 7, 2006 </dc:title>
</cp:coreProperties>
</file>