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D9682C9-34C4-4A43-8E7C-917BA8AD8C4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8 (continued)</a:t>
            </a:r>
            <a:endParaRPr b="0" lang="en-US" sz="1800" spc="-1" strike="noStrike">
              <a:solidFill>
                <a:srgbClr val="000000"/>
              </a:solidFill>
              <a:latin typeface="Arial"/>
            </a:endParaRPr>
          </a:p>
        </p:txBody>
      </p:sp>
      <p:sp>
        <p:nvSpPr>
          <p:cNvPr id="10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0880" y="762120"/>
            <a:ext cx="8077320" cy="57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8, we discussed:</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S Requirements Update</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 Hirsch presented that ERCOT is re-engineering the EMS requirements documentation, and will be subsequently released.  </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cussion of TDSP versus TSP and DSP</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PTF confirmed that the protocol language distinction between TSP and DSP was to differentiate entities and functions within the wholesale market, but there were no intentions to affect ERCOT systems related to Retail or Registration. </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aft NPRR for ICCP only</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PTF agreed in concept, but will solicit input from ROS members prior to voting on this NPRR draft at a future TPTF meeting.</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 NPRR024- Synchronization of zonal PRR627/640 for RMR</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PTF reviewed an issue with erroneous baseline language</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 September 28, TPTF rejected a motion to remove part of PRR640 language which adds language in Section 3.14.1.13 related to Incentive Factor payments.  The TPTF rejected the motion by a ballot vote with 65.7% in favor, 34.3% opposed, with six abstentions (City of Allen, Stream Energy, StarTex, Strategic Energy, Accent Energy, Cirro Group). All market segments, except cooperative, were present.</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8 (continued)</a:t>
            </a:r>
            <a:endParaRPr b="0" lang="en-US" sz="1800" spc="-1" strike="noStrike">
              <a:solidFill>
                <a:srgbClr val="000000"/>
              </a:solidFill>
              <a:latin typeface="Arial"/>
            </a:endParaRPr>
          </a:p>
        </p:txBody>
      </p:sp>
      <p:sp>
        <p:nvSpPr>
          <p:cNvPr id="11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0880" y="762120"/>
            <a:ext cx="8077320" cy="520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8,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MIS Requirements</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update to focus on review of market comments and modifications to the </a:t>
            </a:r>
            <a:r>
              <a:rPr b="0" lang="en-US" sz="1800" spc="-1" strike="noStrike" u="sng">
                <a:solidFill>
                  <a:srgbClr val="000000"/>
                </a:solidFill>
                <a:uFillTx/>
                <a:latin typeface="Arial"/>
              </a:rPr>
              <a:t>Training Curriculum</a:t>
            </a:r>
            <a:r>
              <a:rPr b="0" lang="en-US" sz="1800" spc="-1" strike="noStrike">
                <a:solidFill>
                  <a:srgbClr val="000000"/>
                </a:solidFill>
                <a:latin typeface="Arial"/>
              </a:rPr>
              <a:t> and </a:t>
            </a:r>
            <a:r>
              <a:rPr b="0" lang="en-US" sz="1800" spc="-1" strike="noStrike" u="sng">
                <a:solidFill>
                  <a:srgbClr val="000000"/>
                </a:solidFill>
                <a:uFillTx/>
                <a:latin typeface="Arial"/>
              </a:rPr>
              <a:t>Market Participant Readines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the nineteen new courses proposed by ERCOT, and removed two classes related to Operator Training Simulator  </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28, TPTF approved modifications to </a:t>
            </a:r>
            <a:r>
              <a:rPr b="0" lang="en-US" sz="1800" spc="-1" strike="noStrike" u="sng">
                <a:solidFill>
                  <a:srgbClr val="000000"/>
                </a:solidFill>
                <a:uFillTx/>
                <a:latin typeface="Arial"/>
              </a:rPr>
              <a:t>Training Curriculum</a:t>
            </a:r>
            <a:r>
              <a:rPr b="0" lang="en-US" sz="1800" spc="-1" strike="noStrike">
                <a:solidFill>
                  <a:srgbClr val="000000"/>
                </a:solidFill>
                <a:latin typeface="Arial"/>
              </a:rPr>
              <a:t> in a unanimous voice vote, with all Market Segments, except cooperative, presen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28, TPTF approved modification and re-titling of the </a:t>
            </a:r>
            <a:r>
              <a:rPr b="0" lang="en-US" sz="1800" spc="-1" strike="noStrike" u="sng">
                <a:solidFill>
                  <a:srgbClr val="000000"/>
                </a:solidFill>
                <a:uFillTx/>
                <a:latin typeface="Arial"/>
              </a:rPr>
              <a:t>Market Participant </a:t>
            </a:r>
            <a:r>
              <a:rPr b="1" i="1" lang="en-US" sz="1800" spc="-1" strike="noStrike" u="sng">
                <a:solidFill>
                  <a:srgbClr val="000000"/>
                </a:solidFill>
                <a:uFillTx/>
                <a:latin typeface="Arial"/>
              </a:rPr>
              <a:t>Training</a:t>
            </a:r>
            <a:r>
              <a:rPr b="0" lang="en-US" sz="1800" spc="-1" strike="noStrike" u="sng">
                <a:solidFill>
                  <a:srgbClr val="000000"/>
                </a:solidFill>
                <a:uFillTx/>
                <a:latin typeface="Arial"/>
              </a:rPr>
              <a:t> Readiness</a:t>
            </a:r>
            <a:r>
              <a:rPr b="0" lang="en-US" sz="1800" spc="-1" strike="noStrike">
                <a:solidFill>
                  <a:srgbClr val="000000"/>
                </a:solidFill>
                <a:latin typeface="Arial"/>
              </a:rPr>
              <a:t> in a unanimous voice vote, with all Market Segments, except cooperative, being present.</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Credit Monitoring Requirement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dered for vote at October 9-10 meeting</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m meeting to be scheduled, inviting CWG and TPTF, to vet questions brought forward by project team within their requirements.</a:t>
            </a:r>
            <a:endParaRPr b="0" lang="en-US" sz="1800" spc="-1" strike="noStrike">
              <a:solidFill>
                <a:srgbClr val="000000"/>
              </a:solidFill>
              <a:latin typeface="Arial"/>
            </a:endParaRPr>
          </a:p>
        </p:txBody>
      </p:sp>
      <p:sp>
        <p:nvSpPr>
          <p:cNvPr id="11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9</a:t>
            </a:r>
            <a:endParaRPr b="0" lang="en-US" sz="1800" spc="-1" strike="noStrike">
              <a:solidFill>
                <a:srgbClr val="000000"/>
              </a:solidFill>
              <a:latin typeface="Arial"/>
            </a:endParaRPr>
          </a:p>
        </p:txBody>
      </p:sp>
      <p:sp>
        <p:nvSpPr>
          <p:cNvPr id="12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0880" y="762120"/>
            <a:ext cx="8077320" cy="51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9, we discussed:</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MP during EECP </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rief discussion with agreement that there is more thought needed to effective language in Section 6.5.7.3, Security Constrained Economic Dispatch.  Action item given to ERCOT to explore how other ISOs determine the LMP under EECP conditions.</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R Requirements Review</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ailed discussion of CRR lifecycle, requirements to be released next week for TPTF consideration on October 9-10</a:t>
            </a:r>
            <a:endParaRPr b="0" lang="en-US" sz="1700" spc="-1" strike="noStrike">
              <a:solidFill>
                <a:srgbClr val="000000"/>
              </a:solidFill>
              <a:latin typeface="Arial"/>
            </a:endParaRPr>
          </a:p>
          <a:p>
            <a:pPr lvl="1" marL="800280" indent="-34308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ercial Operations </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ed draft ERCOT comments for NPRR024 to be submitted to PRS</a:t>
            </a:r>
            <a:endParaRPr b="0" lang="en-US" sz="1700" spc="-1" strike="noStrike">
              <a:solidFill>
                <a:srgbClr val="000000"/>
              </a:solidFill>
              <a:latin typeface="Arial"/>
            </a:endParaRPr>
          </a:p>
          <a:p>
            <a:pPr lvl="2" marL="12574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ed two draft NPRRs from ERCOT for clarifications related to Business Requirements for Black-Start (in Section 6.6.8 Black Start Capacity) and for Voltage Support (in Section 6.6.7 Voltage Support Settlement).</a:t>
            </a:r>
            <a:endParaRPr b="0" lang="en-US" sz="1700" spc="-1" strike="noStrike">
              <a:solidFill>
                <a:srgbClr val="000000"/>
              </a:solidFill>
              <a:latin typeface="Arial"/>
            </a:endParaRPr>
          </a:p>
          <a:p>
            <a:pPr lvl="3" marL="1714680" indent="-34308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 September 29, TPTF approved the two draft NPRRs. The motion was approved unanimously by a ballot vote with two abstentions (Calpine and City of Allen).  All Market Segments were present.</a:t>
            </a:r>
            <a:endParaRPr b="0" lang="en-US" sz="1700" spc="-1" strike="noStrike">
              <a:solidFill>
                <a:srgbClr val="000000"/>
              </a:solidFill>
              <a:latin typeface="Arial"/>
            </a:endParaRPr>
          </a:p>
        </p:txBody>
      </p:sp>
      <p:sp>
        <p:nvSpPr>
          <p:cNvPr id="12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9 (continued)</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762120"/>
            <a:ext cx="8077320" cy="471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disposition of market comments on Real-Time Black-Start Business Require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29, TPTF approved the Business Requirements for Real-Time Black-Start as being in compliance with the applicable Nodal protocols. TPTF unanimously approved the motion by a ballot vote with three abstentions (CPS, CenterPoint, City of Allen). All Market Segments were presen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disposition of market comments on Voltage Support Real-Time Settlement Require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29, TPTF approved the Business Requirements for Voltage Support Real-Time Settlements as being in compliance with the applicable Nodal protocols. TPTF unanimously approved the motion by a ballot vote with one abstention (CenterPoint). All Market Segments were present.</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9 (continued)</a:t>
            </a:r>
            <a:endParaRPr b="0" lang="en-US" sz="1800" spc="-1" strike="noStrike">
              <a:solidFill>
                <a:srgbClr val="000000"/>
              </a:solidFill>
              <a:latin typeface="Arial"/>
            </a:endParaRPr>
          </a:p>
        </p:txBody>
      </p:sp>
      <p:sp>
        <p:nvSpPr>
          <p:cNvPr id="13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762120"/>
            <a:ext cx="8077320" cy="42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disposition of market comments on Real-Time Emergency Operations Business Require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29, TPTF approved the Business Requirements for Real-Time Emergency Operations as being in compliance with the applicable Nodal protocols. TPTF unanimously approved the motion by a ballot vote with four abstentions (CenterPoint, City of Dallas, Town of Flower Mound, Residential Consumers). All Market Segments were presen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disposition of market comments on RMR Services Real-Time Settlement Requirements.  Deferred further discussion until next meeting, and to consider in conjunction with NPRR024 com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9 (continued)</a:t>
            </a:r>
            <a:endParaRPr b="0" lang="en-US" sz="1800" spc="-1" strike="noStrike">
              <a:solidFill>
                <a:srgbClr val="000000"/>
              </a:solidFill>
              <a:latin typeface="Arial"/>
            </a:endParaRPr>
          </a:p>
        </p:txBody>
      </p:sp>
      <p:sp>
        <p:nvSpPr>
          <p:cNvPr id="14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0880" y="762120"/>
            <a:ext cx="8077320" cy="401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disposition of market comments on Day-Ahead Market for CRR Settlement Business Require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29, TPTF approved the Business Requirements for Day-Ahead Market for CRR Settlement as being in compliance with the applicable Nodal protocols. TPTF unanimously approved the motion by a ballot vote with one abstention (CenterPoint).  All Market Segments, except cooperatives and consumers, were presen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Business Requirements for Real-Time CRR Settlement, CRR Balancing Account, CRR Auction Settlement and Revenue Disbursement, Settlement Statements, and Invoice Require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5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0880" y="792000"/>
            <a:ext cx="8610840" cy="535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October 9 and Tuesday, October 10</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 October 24 through Thursday, October 26</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November 6 and Tuesday, November 7</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amp;10, will be discussing:</a:t>
            </a:r>
            <a:endParaRPr b="0" lang="en-US" sz="18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tential approval of CRR Business Requirements</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ercial Operations Requirement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Potential Approval of:</a:t>
            </a:r>
            <a:r>
              <a:rPr b="0" lang="en-US" sz="1600" spc="-1" strike="noStrike">
                <a:solidFill>
                  <a:srgbClr val="000000"/>
                </a:solidFill>
                <a:latin typeface="Arial"/>
              </a:rPr>
              <a:t> Credit Monitor Requirements, RT CRR Settlement, CRR Balancing Account, CRR Auction Settlement and Revenue Disbursement, Settlement Statements, Invoice Requirements, </a:t>
            </a:r>
            <a:r>
              <a:rPr b="0" lang="en-GB" sz="1600" spc="-1" strike="noStrike">
                <a:solidFill>
                  <a:srgbClr val="000000"/>
                </a:solidFill>
                <a:latin typeface="Arial"/>
              </a:rPr>
              <a:t>RMR Services Real-Time Settlements  </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Initial Requirements Review of:</a:t>
            </a:r>
            <a:r>
              <a:rPr b="0" lang="en-US" sz="1600" spc="-1" strike="noStrike">
                <a:solidFill>
                  <a:srgbClr val="000000"/>
                </a:solidFill>
                <a:latin typeface="Arial"/>
              </a:rPr>
              <a:t> Interfaces, Data Aggregation, Disputes, Average Incremental Energy Cost Calculation, Verifiable Costs, Financial Transfer, and Registration</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iscuss draft NPRR for ICCP, with ROS invited</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MP for EECP (Oct 9-10 or later meeting)</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PRR018 impacts to SASM</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Update</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Update</a:t>
            </a:r>
            <a:endParaRPr b="0" lang="en-US" sz="1600" spc="-1" strike="noStrike">
              <a:solidFill>
                <a:srgbClr val="000000"/>
              </a:solidFill>
              <a:latin typeface="Arial"/>
            </a:endParaRPr>
          </a:p>
        </p:txBody>
      </p:sp>
      <p:sp>
        <p:nvSpPr>
          <p:cNvPr id="15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a:t>
            </a:r>
            <a:endParaRPr b="0" lang="en-US" sz="1800" spc="-1" strike="noStrike">
              <a:solidFill>
                <a:srgbClr val="000000"/>
              </a:solidFill>
              <a:latin typeface="Arial"/>
            </a:endParaRPr>
          </a:p>
        </p:txBody>
      </p:sp>
      <p:sp>
        <p:nvSpPr>
          <p:cNvPr id="1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380880" y="914400"/>
            <a:ext cx="8458200" cy="4862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2, TPTF approved the Real-Time Energy Settlements Business Requirements document as being compliant with Nodal Protocols. The motion carried by ballot vote with 100% in favor with four abstentions (Greenville, NRG, Calpine, and Exelon). All Market Segments, except the consumers, were present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TPTF approved the Business Requirements for Real-Time Black-Start as being in compliance with the applicable Nodal protocols. TPTF unanimously approved the motion by a ballot vote with three abstentions (CPS, CenterPoint, City of Allen).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TPTF approved the Business Requirements for Voltage Support Real-Time Settlements as being in compliance with the applicable Nodal protocols. TPTF unanimously approved the motion by a ballot vote with one abstention (CenterPoint).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TPTF approved the Business Requirements for Real-Time Emergency Operations as being in compliance with the applicable Nodal protocols. TPTF unanimously approved the motion by a ballot vote with four abstentions (CenterPoint, City of Dallas, Town of Flower Mound, Residential Consumers).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 (continued)</a:t>
            </a:r>
            <a:endParaRPr b="0" lang="en-US" sz="1800" spc="-1" strike="noStrike">
              <a:solidFill>
                <a:srgbClr val="000000"/>
              </a:solidFill>
              <a:latin typeface="Arial"/>
            </a:endParaRPr>
          </a:p>
        </p:txBody>
      </p:sp>
      <p:sp>
        <p:nvSpPr>
          <p:cNvPr id="16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380880" y="914400"/>
            <a:ext cx="8458200" cy="5046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9, TPTF approved the Business Requirements for Day-Ahead Market for CRR Settlement Business Requirements Real-Time Emergency Operations as being in compliance with the applicable Nodal protocols. TPTF unanimously approved the motion by a ballot vote with one abstention (CenterPoint).  All Market Segments, except cooperative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est that TAC approve the milestone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Real-Time Energy Settlements Business Requirements </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Real-Time Black-Start Settlement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Real-Time Voltage Support Settlement Business Req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Real-Time Emergency Operations Settlement Business Req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Day-Ahead Market CRR Settlement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7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04920" y="914400"/>
          <a:ext cx="8305560" cy="4764240"/>
        </p:xfrm>
        <a:graphic>
          <a:graphicData uri="http://schemas.openxmlformats.org/drawingml/2006/table">
            <a:tbl>
              <a:tblPr/>
              <a:tblGrid>
                <a:gridCol w="2439720"/>
                <a:gridCol w="4202280"/>
                <a:gridCol w="1663560"/>
              </a:tblGrid>
              <a:tr h="31716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799200">
                <a:tc>
                  <a:txBody>
                    <a:bodyPr lIns="90000" rIns="90000" tIns="46800" bIns="46800" anchor="ctr">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eeting Summary</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79956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ext Meetings</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05128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pproval of Milestone</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pproval of Milestone – Business Requirements Complete for</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Real-Time Energy Settlements</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DAM CRR Settlements</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Black Start Services RT Settlements </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Real-Time Emergency Ops Settlmnts </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Voltage Support RT Settlements </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79704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1368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1368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1368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5-6</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42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September 5-6, 11-12, 27-29</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5 and 6 TPTF had a special meeting dedicated to discuss the Nodal Program implementation approach and timeline.  As part of this discussion, TPTF discussed in detail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ERCOT Nodal Transition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lked though the Early Delivery System and details of each Phas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thy Hager presented details of plans for Nodal implementation, with review by TPTF of 3 possible scenarios and timelines for Texas Nodal Implement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Manager for each of the 13 Nodal Program Offices provided an overview of their program area.</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 concluded that Market Participants should review the implementation options with their companies, and possibly provide alternatives, to vote on an implementation approach at the September 11 TPTF meeting</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1-12</a:t>
            </a:r>
            <a:endParaRPr b="0" lang="en-US" sz="1800" spc="-1" strike="noStrike">
              <a:solidFill>
                <a:srgbClr val="000000"/>
              </a:solidFill>
              <a:latin typeface="Arial"/>
            </a:endParaRPr>
          </a:p>
        </p:txBody>
      </p:sp>
      <p:sp>
        <p:nvSpPr>
          <p:cNvPr id="5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0880" y="685800"/>
            <a:ext cx="8077320" cy="4905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11, we discussed:</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Nodal Implementation Timeline</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viewed details of implementation option proposed by TXU.</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11, TPTF approved motion to “approve in principle scenario three with a phased approach with phase one first and then phase two with phase three implementing seven days after phase two. If unable to implement phase three, the market would revert to Zonal” by a ballot vote of 75.7% in favor, 24.3% opposed, with two abstentions (CenterPoint and Constellation). All Market Segments were present.</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11, TPTF approved motion for the phase two preferred implementation date to be December 1, 2008 by a ballot vote of 81.7% in favor, 18.3% opposed, and eight abstentions by 100% in favor, with eight abstentions (STEC, City of Greenville, CenterPoint, First Choice, StarTex Power, Accent Energy, BP Energy, and Constellation).  All Market Segments were present.</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11, TPTF approved motion for the phase one preferred implementation date to be March 31, 2008 by a ballot vote of 92.7% in favor, 7.3% opposed, and six abstentions (Medina, STEC, BTU, First Choice, Dynegy, Residential Consumers).  All Market Segments were present.</a:t>
            </a:r>
            <a:endParaRPr b="0" lang="en-US" sz="1700" spc="-1" strike="noStrike">
              <a:solidFill>
                <a:srgbClr val="000000"/>
              </a:solidFill>
              <a:latin typeface="Arial"/>
            </a:endParaRPr>
          </a:p>
        </p:txBody>
      </p:sp>
      <p:sp>
        <p:nvSpPr>
          <p:cNvPr id="6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1 (continued)</a:t>
            </a:r>
            <a:endParaRPr b="0" lang="en-US" sz="1800" spc="-1" strike="noStrike">
              <a:solidFill>
                <a:srgbClr val="000000"/>
              </a:solidFill>
              <a:latin typeface="Arial"/>
            </a:endParaRPr>
          </a:p>
        </p:txBody>
      </p:sp>
      <p:sp>
        <p:nvSpPr>
          <p:cNvPr id="6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80880" y="826920"/>
            <a:ext cx="8077320" cy="3660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we also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MS Business Requirement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itial review of the SCADA Business Require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R Business Requirements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itial review of the CRR Business Require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CCP Recommendation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COT recommended using ICCP for all Real-Time data (replace all RTU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PTF provided positive feedback, ERCOT to present to WMS and QSEMWG, and draft NPR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ew of System of System Architecture (SOSA)</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2</a:t>
            </a:r>
            <a:endParaRPr b="0" lang="en-US" sz="1800" spc="-1" strike="noStrike">
              <a:solidFill>
                <a:srgbClr val="000000"/>
              </a:solidFill>
              <a:latin typeface="Arial"/>
            </a:endParaRPr>
          </a:p>
        </p:txBody>
      </p:sp>
      <p:sp>
        <p:nvSpPr>
          <p:cNvPr id="7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80880" y="1008000"/>
            <a:ext cx="8077320" cy="524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On September 12, we discussed:</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view of Managing Risks in Nodal System Architecture</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arket Engagement and Readiness (MER) Discussion</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nnounced selection of Enterpulse as the MIS vendor</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iscussed Market and ERCOT Training in detail</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iling paperwork for NERC certification of Nodal courses has begun</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iscussed training delivery timeline and delivery methods</a:t>
            </a:r>
            <a:endParaRPr b="0" lang="en-US" sz="1700" spc="-1" strike="noStrike">
              <a:solidFill>
                <a:srgbClr val="000000"/>
              </a:solidFill>
              <a:latin typeface="Arial"/>
            </a:endParaRPr>
          </a:p>
          <a:p>
            <a:pPr lvl="3" marL="13716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12,  TPTF approved support of each Texas Nodal course that is required for QSEs to be held twice in the Northeast.  Motion carried by voice vote with three abstentions from the Consumer Segment.  All Market Segments were present.</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RCOT training presented options on decreasing training budget through reduction in deliverables on some courses</a:t>
            </a:r>
            <a:endParaRPr b="0" lang="en-US" sz="1700" spc="-1" strike="noStrike">
              <a:solidFill>
                <a:srgbClr val="000000"/>
              </a:solidFill>
              <a:latin typeface="Arial"/>
            </a:endParaRPr>
          </a:p>
          <a:p>
            <a:pPr lvl="3" marL="13716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 September 12, TPTF approved concept that TPTF leave plans as they stand and not adapt the training documents as a group, but encourage ERCOT to provide needed and accurate training in a cost-effective and expedient manner, and that ERCOT report any curriculum changes as approved by TPTF to TAC to provide a feedback loop.  Motion carried on unanimous voice vote with all Market Segments present.</a:t>
            </a:r>
            <a:endParaRPr b="0" lang="en-US" sz="1700" spc="-1" strike="noStrike">
              <a:solidFill>
                <a:srgbClr val="000000"/>
              </a:solidFill>
              <a:latin typeface="Arial"/>
            </a:endParaRPr>
          </a:p>
        </p:txBody>
      </p:sp>
      <p:sp>
        <p:nvSpPr>
          <p:cNvPr id="7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2 (continued)</a:t>
            </a:r>
            <a:endParaRPr b="0" lang="en-US" sz="1800" spc="-1" strike="noStrike">
              <a:solidFill>
                <a:srgbClr val="000000"/>
              </a:solidFill>
              <a:latin typeface="Arial"/>
            </a:endParaRPr>
          </a:p>
        </p:txBody>
      </p:sp>
      <p:sp>
        <p:nvSpPr>
          <p:cNvPr id="8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80880" y="826920"/>
            <a:ext cx="8077320" cy="538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2, we discussed:</a:t>
            </a:r>
            <a:endParaRPr b="0" lang="en-US" sz="18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ER Training Update (continued)</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PTF reached consensus on making the Dr.Ross Baldick’s LMP 201 course optional, and to rename the course to The Economics of LMP</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RCOT presented draft NPRR with feedback from COPS, on settlement of CRRs if there is not a Day-Ahead Market.</a:t>
            </a:r>
            <a:endParaRPr b="0" lang="en-US" sz="1700" spc="-1" strike="noStrike">
              <a:solidFill>
                <a:srgbClr val="000000"/>
              </a:solidFill>
              <a:latin typeface="Arial"/>
            </a:endParaRPr>
          </a:p>
          <a:p>
            <a:pPr lvl="2" marL="914400">
              <a:lnSpc>
                <a:spcPct val="85000"/>
              </a:lnSpc>
              <a:spcBef>
                <a:spcPts val="638"/>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12, TPTF approved the draft NPRR for CRR without the DAM (with corrections of the de-rating statement). The motion carried by ballot vote with 100% for the motion, with two abstentions (LCRA and CenterPoint). All Market Segments were represented.</a:t>
            </a:r>
            <a:endParaRPr b="0" lang="en-US" sz="1700" spc="-1" strike="noStrike">
              <a:solidFill>
                <a:srgbClr val="000000"/>
              </a:solidFill>
              <a:latin typeface="Arial"/>
            </a:endParaRPr>
          </a:p>
          <a:p>
            <a:pPr lvl="1" marL="457200">
              <a:lnSpc>
                <a:spcPct val="85000"/>
              </a:lnSpc>
              <a:spcBef>
                <a:spcPts val="638"/>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700" spc="-1" strike="noStrike">
                <a:solidFill>
                  <a:srgbClr val="000000"/>
                </a:solidFill>
                <a:latin typeface="Arial"/>
              </a:rPr>
              <a:t>Commercial System Requirements</a:t>
            </a:r>
            <a:endParaRPr b="0" lang="en-US" sz="1700" spc="-1" strike="noStrike">
              <a:solidFill>
                <a:srgbClr val="000000"/>
              </a:solidFill>
              <a:latin typeface="Arial"/>
            </a:endParaRPr>
          </a:p>
          <a:p>
            <a:pPr lvl="2" marL="914400">
              <a:lnSpc>
                <a:spcPct val="85000"/>
              </a:lnSpc>
              <a:spcBef>
                <a:spcPts val="638"/>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700" spc="-1" strike="noStrike">
                <a:solidFill>
                  <a:srgbClr val="000000"/>
                </a:solidFill>
                <a:latin typeface="Arial"/>
              </a:rPr>
              <a:t>ERCOT presented overview of initial requirements for: </a:t>
            </a:r>
            <a:r>
              <a:rPr b="0" lang="en-US" sz="1700" spc="-1" strike="noStrike">
                <a:solidFill>
                  <a:srgbClr val="000000"/>
                </a:solidFill>
                <a:latin typeface="Arial"/>
              </a:rPr>
              <a:t>Real-Time Black Start Settlements, Real-Time Voltage Support Settlements, Real-Time Reliability Must-Run, Day-Ahead Make-Whole, RUC Start-Up, Real-Time Emergency Operations, and DAM CRR Settlement</a:t>
            </a:r>
            <a:endParaRPr b="0" lang="en-US" sz="1700" spc="-1" strike="noStrike">
              <a:solidFill>
                <a:srgbClr val="000000"/>
              </a:solidFill>
              <a:latin typeface="Arial"/>
            </a:endParaRPr>
          </a:p>
          <a:p>
            <a:pPr lvl="2" marL="914400">
              <a:lnSpc>
                <a:spcPct val="85000"/>
              </a:lnSpc>
              <a:spcBef>
                <a:spcPts val="638"/>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RCOT reviewed market feedback on RT Energy requirements.</a:t>
            </a:r>
            <a:endParaRPr b="0" lang="en-US" sz="1700" spc="-1" strike="noStrike">
              <a:solidFill>
                <a:srgbClr val="000000"/>
              </a:solidFill>
              <a:latin typeface="Arial"/>
            </a:endParaRPr>
          </a:p>
          <a:p>
            <a:pPr lvl="3" marL="1371600">
              <a:lnSpc>
                <a:spcPct val="85000"/>
              </a:lnSpc>
              <a:spcBef>
                <a:spcPts val="638"/>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 12, TPTF approved the Real-Time Energy Settlements Business Requirements document as being compliant with Nodal Protocols. The motion carried by ballot vote with 100% in favor and four abstentions (Greenville, NRG, Calpine, and Exelon). The Consumer Market Segment was not present for the vote.</a:t>
            </a:r>
            <a:endParaRPr b="0" lang="en-US" sz="1700" spc="-1" strike="noStrike">
              <a:solidFill>
                <a:srgbClr val="000000"/>
              </a:solidFill>
              <a:latin typeface="Arial"/>
            </a:endParaRPr>
          </a:p>
        </p:txBody>
      </p:sp>
      <p:sp>
        <p:nvSpPr>
          <p:cNvPr id="8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7-29</a:t>
            </a:r>
            <a:endParaRPr b="0" lang="en-US" sz="1800" spc="-1" strike="noStrike">
              <a:solidFill>
                <a:srgbClr val="000000"/>
              </a:solidFill>
              <a:latin typeface="Arial"/>
            </a:endParaRPr>
          </a:p>
        </p:txBody>
      </p:sp>
      <p:sp>
        <p:nvSpPr>
          <p:cNvPr id="9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80880" y="826920"/>
            <a:ext cx="8077320" cy="5057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7,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Budget Review</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thy Hager outlined the composition of scope, resources, and budget for each program.  Within each program, the Nodal Project team identified potential areas for budget reduction for TPTF to conside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budget reduction that TPTF felt needed additional evaluation was put into a parking lot for future discuss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MM savings to remove Auditors that interview MPs from Market Readiness (revisit during project based on MP particip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MM savings to discontinue zonal enhancement work (assigned to P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nsider 19 additional training courses (TPTF to reconsider as training curriculum refin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w more latency in data warehouse.  Current 36 second latency is very expensive, Nodal Program to assess from PUCT requirements and costs.</a:t>
            </a:r>
            <a:endParaRPr b="0" lang="en-US" sz="1800" spc="-1" strike="noStrike">
              <a:solidFill>
                <a:srgbClr val="000000"/>
              </a:solidFill>
              <a:latin typeface="Arial"/>
            </a:endParaRPr>
          </a:p>
          <a:p>
            <a:pPr lvl="2" marL="9144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8</a:t>
            </a:r>
            <a:endParaRPr b="0" lang="en-US" sz="1800" spc="-1" strike="noStrike">
              <a:solidFill>
                <a:srgbClr val="000000"/>
              </a:solidFill>
              <a:latin typeface="Arial"/>
            </a:endParaRPr>
          </a:p>
        </p:txBody>
      </p:sp>
      <p:sp>
        <p:nvSpPr>
          <p:cNvPr id="9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880" y="826920"/>
            <a:ext cx="8077320" cy="4396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8,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Nodal Program Budget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September 28, TPTF approved following motion:</a:t>
            </a:r>
            <a:endParaRPr b="0" lang="en-US" sz="1800" spc="-1" strike="noStrike">
              <a:solidFill>
                <a:srgbClr val="000000"/>
              </a:solidFill>
              <a:latin typeface="Arial"/>
            </a:endParaRPr>
          </a:p>
          <a:p>
            <a:pPr lvl="2" marL="9144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US" sz="1800" spc="-1" strike="noStrike">
                <a:solidFill>
                  <a:srgbClr val="000000"/>
                </a:solidFill>
                <a:latin typeface="Arial"/>
              </a:rPr>
              <a:t>During its September 27-28, 2006 meeting, the TPTF reviewed the draft “Texas Nodal Market Implementation Budget Rationale” to be presented by the ERCOT Nodal Project Director to the ERCOT Board and TAC.  During this review options for value engineering changes to the project scope were considered.  TPTF believes the materials presented by ERCOT meet the scope of the requirements of the Nodal Protocols approved by the PUCT in Docket No. 31540, the timeline for implementation approved by TPTF and TAC, and the requirements of the TAC approved Nodal Transition Plan but makes no finding with regard to the total amount of the proposed budget.</a:t>
            </a:r>
            <a:r>
              <a:rPr b="0" lang="en-GB" sz="1800" spc="-1" strike="noStrike">
                <a:solidFill>
                  <a:srgbClr val="000000"/>
                </a:solidFill>
                <a:latin typeface="Arial"/>
              </a:rPr>
              <a:t>”</a:t>
            </a:r>
            <a:endParaRPr b="0" lang="en-US" sz="1800" spc="-1" strike="noStrike">
              <a:solidFill>
                <a:srgbClr val="000000"/>
              </a:solidFill>
              <a:latin typeface="Arial"/>
            </a:endParaRPr>
          </a:p>
          <a:p>
            <a:pPr lvl="2" marL="9144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PTF approved the motion by a ballot vote with 89.6% in favor, 10.4% opposed, with seven abstentions (Greenville, Garland, Dynegy, City of Dallas, Town of Flower Mound, Residential Consumers, Cirro).  All Market Segments were present for the vote.</a:t>
            </a:r>
            <a:endParaRPr b="0" lang="en-US" sz="1800" spc="-1" strike="noStrike">
              <a:solidFill>
                <a:srgbClr val="000000"/>
              </a:solidFill>
              <a:latin typeface="Arial"/>
            </a:endParaRPr>
          </a:p>
        </p:txBody>
      </p:sp>
      <p:sp>
        <p:nvSpPr>
          <p:cNvPr id="10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MMereness</cp:lastModifiedBy>
  <dcterms:modified xsi:type="dcterms:W3CDTF">2006-10-04T21:11:26Z</dcterms:modified>
  <cp:revision>193</cp:revision>
  <dc:subject/>
  <dc:title>TAC Update</dc:title>
</cp:coreProperties>
</file>