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9DF-43EA-42CB-BD9D-D85926F2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03E-144A-4622-98B1-D11C4ABB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D2B-842F-41FA-A6AC-BFB416A6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6D2-70E2-4D43-9FCD-94711DE9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08B3-4DFD-4AD7-BCB9-1525E673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5429-3C92-492D-8938-169648A1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E271-F7E3-4844-8228-1C02EF8D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FA26-FB33-4819-88B3-97F9E0CF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0A52-7131-4430-9A91-C4D718DB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138E-BBD9-4744-B72B-817D473F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C910-E4F4-4D2E-96E5-9A829A84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20D-557F-4405-AAD0-CD72E173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FB0C-D9A6-46EE-B2D7-4AB6B8F5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049C-BFEE-48F7-81A0-4DC91561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229C-F4B6-4E10-93FB-17D02636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A71F-A4F7-42A4-826B-813A1566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EB7E-B5A2-48FC-8BDF-5D8A6D99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EC9-F082-4FEC-9BBB-D8AF4933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1D2-FE20-41BB-9083-B73D9FC4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D69-BDAC-4A79-B144-211BB44B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D5C-BBC2-4776-95DE-90FFAC82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0C5-0C65-4E9F-B03A-45EB904B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9D0-C2B2-4A5A-8FBD-DF397F6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101-D743-4688-B929-E18B3B06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5C21-F7C2-410E-B246-31B0DF7A5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69D9-A665-4E21-84C3-AE3744105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October 6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75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Multiple Ramp Rat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96252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37040" y="2895480"/>
            <a:ext cx="21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act $100K to $250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93120" y="3962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quires Dbase revi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85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TCRs and PCRs Payment Due Date--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371600"/>
          <a:ext cx="8229600" cy="44146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cuments the requirements for TCR/PCR payment due date as 5 Bank Business Days after being invoic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rifies the payment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 with Garland’s comment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vember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85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TCRs and PCRs Payment Due Date--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44956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556272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88440" y="449568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vise proced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2600" y="56386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ngthens the payment peri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commended TAC 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73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Adjust SCE Performance Charge Scale Fa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75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Multiple Ramp R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85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--  TCRs &amp; PCRs Payment Due Date --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Rej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Withdraw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 N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Non-System Changes – IA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System Change – CBA/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Ur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jected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R 683 – Reduce Timeline for Notice &amp; Cure and Create a Working Credit Lim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tion to reject received 5.75 segment votes in favor and 0.75 segment votes opposed with 4 abstentions; all market segments were pres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 021 – Reduce Timeline for Notice &amp; Cure and Create a Working Credit Lim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tion to reject received same vote as PRR 683; all market segments were pres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Withdrawn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R 652 – Customer Information Reposi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R 678 – Allocation of RPRS Over-Collection to QSEs -- URG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Nodal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S unanimously recommended approval of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17 – Discontinuation of Interest Charge for Defaulting Entities at Time of Upli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ompanion to PRR 68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22 – MIS Posting Area for Tr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anges area from Secure to Certifie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23 – Correction to Formatting of Section 8.1.2.2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t is what it say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25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efinition of Annual Planning Mod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ovides the definition in Section 3, Management Activities for the ERCOT Syste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30 – Addition to CRR Account Holder Qualification Crite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dds description of an entity not eligible to own CRRs (e.g., TSP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29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etwork Model Testing Clarif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ifferentiates between RT and simulation testing process and requirem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RCOT believes these changes can be absorbed into the initial requirements/design/schedu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Nodal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S recommended approval, with abstentions, of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27 – Block Offers in CRR Au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vises how CRRs may be offered in CRR Au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warded monthly 7X24 strips may only be re-auctioned or sold as 3-part strips (3 8-hour period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 Absten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28 – CRR Trading in Blocks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vises how CRRs traded in bilateral and CRR Au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RR trading limited to time-of-use blocks for a certain d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RR holders would not be able to trade the CRR for an hour or block of hours that is not one of the hours defin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 Absten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RCOT believes these changes can be absorbed into the initial requirements/design/schedule and will reduce overall package costs by approximately $300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73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Adjust SCE Performance Charge Scale Factor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8288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FPL Energy, IGEN for the Frequency Control 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ifies the scale factor monthly based on ERCOT’s CPS-1 score and sets max/min valu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reasing the SCE Performance Charge may motivate Resources to minimize SC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y lower performance standards for some Q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 Priority 1.1, Rank 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e Market 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73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Adjust SCE Performance Charge Scale Factor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96252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5160" y="289548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act &lt;$50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95280" y="3962520"/>
            <a:ext cx="25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quires Package 1 co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75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Multiple Ramp Rat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98108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oral Power, IP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QSEs to submit a ramp rate curve that would be used to calculate an equivalent ramp rate to clear the BES marke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y increase amount of BES available for dispatch and may improve SCE 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 Priority 2; Rank 1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e Market 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6-10-06T01:05:29Z</dcterms:modified>
  <cp:revision>70</cp:revision>
  <dc:subject/>
  <dc:title>Protocol Revision Subcommittee</dc:title>
</cp:coreProperties>
</file>