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F1F-C639-4820-9FDC-33BC2CD0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9C9-4649-4C7C-BF38-9164E66C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BED-3130-4EBD-A054-7E80AE99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383-18BC-4EA0-A4E2-02FC14A2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C61-02E0-409C-85D9-B18B5784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F61-2BBE-44AD-9987-26E9B900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7FE-F0EF-4BD7-8F77-FAE80200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BEE-E434-4667-AE9F-000F8831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356-88C4-4ED7-A958-A82425F4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A06-3F69-479D-AE64-6A29CBE6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95F-4CCD-47C1-9598-A5C47916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FAB-523A-405F-B710-D6C28B45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3FF2-6C9C-4D4C-BEB7-80A2F26CB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COT CPS1 by Interval August 151.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96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s: Oct 26 &amp; 27, Dec 5 &amp;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turbine governor testing form for Operating Guide re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ing QSE governor performance during 2006 events with feedback to Q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Nodal Regulation Service performance metric and frequency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PS1 by Interval September 142.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23760" y="666720"/>
            <a:ext cx="9191520" cy="619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365760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CS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257800" y="3352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PS1 by Day- August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029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029880" cy="59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PS1 by Day- Septembe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361800"/>
            <a:ext cx="8686800" cy="6140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00800" y="1295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CS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1447920"/>
            <a:ext cx="1219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360360"/>
            <a:ext cx="876312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80" y="209520"/>
            <a:ext cx="910584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6302520" cy="649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66880" y="880920"/>
            <a:ext cx="6302520" cy="5977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2438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Frequency Response from Turbines 2006 – 39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2T18:57:13Z</dcterms:created>
  <dc:creator>Sydney L. Niemeyer</dc:creator>
  <dc:description/>
  <dc:language>en-US</dc:language>
  <cp:lastModifiedBy>Sydney L. Niemeyer</cp:lastModifiedBy>
  <dcterms:modified xsi:type="dcterms:W3CDTF">2006-10-09T17:43:10Z</dcterms:modified>
  <cp:revision>8</cp:revision>
  <dc:subject/>
  <dc:title>Slide 1</dc:title>
</cp:coreProperties>
</file>