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8568-34C2-4877-BF0E-72E9D66B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82716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5E50-4DEB-47BD-ACC1-DFAB5DA4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4380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E1A2-F912-49EC-898E-66BD4EC8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0208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0416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0208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0416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6B3-8634-4858-8BFB-8936FFE3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68F9-B183-4507-B638-0EF92AFE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3310-66D7-4C41-BFD3-6FC857FE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81CC-844F-487B-A8BF-3BC4E724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A8F8-8558-461E-A07E-37622251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1B92-940A-41DC-9327-3160017A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88F2-DE4B-4EC9-9753-EA67ED4D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3563-6654-4979-8831-E2367B0D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C29B-430E-4B72-A862-2A3CEBB3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4380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4736-3577-461F-AE06-7C136633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24AC-2F5E-417C-9094-D4102A38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82716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8895-3D42-415C-860A-64ADE558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4380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2A03-9E8E-4781-8DDE-6C413DB3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0208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0416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0208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0416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670F-B4B5-4122-AC8D-7FBF7453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13D-F84F-417E-969C-B8C53A32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D22F-0666-4EC1-BCED-0632DE97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F24-9CAB-4325-A3AA-1E0292BE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05F5-A709-4A8E-A8EE-6325A829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BDD-EF76-4C70-A9B6-31A704CF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4380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03D7-D5E6-4594-B452-86CD70C4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9200-7208-4B6E-8085-80671FA6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C93C-6101-4DBD-A879-D142336743A1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4424-5511-4445-8F74-4FDA93C7C518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b87b7"/>
                </a:solidFill>
                <a:latin typeface="Impact"/>
              </a:rPr>
              <a:t>Adjusted Responsive Reserve</a:t>
            </a:r>
            <a:endParaRPr b="0" lang="en-US" sz="40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120" y="2666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ed by: John Dum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12,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b87b7"/>
                </a:solidFill>
                <a:uFillTx/>
                <a:latin typeface="Arial Rounded MT Bold"/>
              </a:rPr>
              <a:t>Adjusted Responsive Reserve Less than 2500 MW</a:t>
            </a:r>
            <a:endParaRPr b="0" lang="en-US" sz="2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15" name=""/>
          <p:cNvSpPr/>
          <p:nvPr/>
        </p:nvSpPr>
        <p:spPr>
          <a:xfrm>
            <a:off x="7924680" y="6705720"/>
            <a:ext cx="106704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6094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b87b7"/>
                </a:solidFill>
                <a:uFillTx/>
                <a:latin typeface="Arial Rounded MT Bold"/>
              </a:rPr>
              <a:t>Adjusted Responsive Reserve Less than 2500 MW</a:t>
            </a:r>
            <a:endParaRPr b="0" lang="en-US" sz="2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8077320" y="6705720"/>
            <a:ext cx="106668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68580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b87b7"/>
                </a:solidFill>
                <a:uFillTx/>
                <a:latin typeface="Arial Rounded MT Bold"/>
              </a:rPr>
              <a:t>Adjusted Responsive Reserve Less than 2500 MW</a:t>
            </a:r>
            <a:endParaRPr b="0" lang="en-US" sz="2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21" name=""/>
          <p:cNvSpPr/>
          <p:nvPr/>
        </p:nvSpPr>
        <p:spPr>
          <a:xfrm>
            <a:off x="7924680" y="6705720"/>
            <a:ext cx="106704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0" y="6094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b87b7"/>
                </a:solidFill>
                <a:uFillTx/>
                <a:latin typeface="Arial Rounded MT Bold"/>
              </a:rPr>
              <a:t>Adjusted Responsive Reserve Less than 2500 MW</a:t>
            </a:r>
            <a:endParaRPr b="0" lang="en-US" sz="2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24" name=""/>
          <p:cNvSpPr/>
          <p:nvPr/>
        </p:nvSpPr>
        <p:spPr>
          <a:xfrm>
            <a:off x="8077320" y="6705720"/>
            <a:ext cx="106668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63180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b87b7"/>
                </a:solidFill>
                <a:uFillTx/>
                <a:latin typeface="Arial Rounded MT Bold"/>
              </a:rPr>
              <a:t>Adjusted Responsive Reserve Less than 2500 MW</a:t>
            </a:r>
            <a:endParaRPr b="0" lang="en-US" sz="2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7924680" y="6705720"/>
            <a:ext cx="106704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6094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b87b7"/>
                </a:solidFill>
                <a:uFillTx/>
                <a:latin typeface="Arial Rounded MT Bold"/>
              </a:rPr>
              <a:t>Adjusted Responsive Reserve Less than 2500 MW</a:t>
            </a:r>
            <a:endParaRPr b="0" lang="en-US" sz="2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8077320" y="6705720"/>
            <a:ext cx="106668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0" y="6094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V="1">
            <a:off x="2971800" y="35812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4506480" y="3928680"/>
            <a:ext cx="38124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270040" y="1620720"/>
            <a:ext cx="22860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445520" y="1981080"/>
            <a:ext cx="250560" cy="479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828800" y="2057400"/>
            <a:ext cx="380880" cy="1100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1676520"/>
            <a:ext cx="609840" cy="246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4495680"/>
            <a:ext cx="838440" cy="246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4495680"/>
            <a:ext cx="609840" cy="246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2295360" y="1882800"/>
            <a:ext cx="6858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b87b7"/>
                </a:solidFill>
                <a:uFillTx/>
                <a:latin typeface="Arial Rounded MT Bold"/>
              </a:rPr>
              <a:t>Adjusted Responsive Reserve Less than 2500 MW</a:t>
            </a:r>
            <a:endParaRPr b="0" lang="en-US" sz="2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7924680" y="6705720"/>
            <a:ext cx="106704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63180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b87b7"/>
                </a:solidFill>
                <a:uFillTx/>
                <a:latin typeface="Arial Rounded MT Bold"/>
              </a:rPr>
              <a:t>Adjusted Responsive Reserve Less than 2500 MW</a:t>
            </a:r>
            <a:endParaRPr b="0" lang="en-US" sz="2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7924680" y="6705720"/>
            <a:ext cx="106704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68580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b87b7"/>
                </a:solidFill>
                <a:uFillTx/>
                <a:latin typeface="Impact"/>
              </a:rPr>
              <a:t>PRESENTATION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648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djusted Responsive Reserve Less than 2500 MW (AUGUS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gust 17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(2454 MW 16:45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N ISSUED AT 15:16, ADJUSTED         RR &lt; 3300 MW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VISORY ISSUED AT 15:26, ADJUSTED RR &lt; 3000 MW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gust 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1</a:t>
            </a:r>
            <a:r>
              <a:rPr b="1" lang="en-US" sz="1400" spc="-1" strike="noStrike" u="sng" baseline="30000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(2426 MW 14:00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CN ISSUED AT 12:41, ADJUSTED                   RR &lt; 3300 MW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VISORY ISSUED AT 13:10, ADJUSTED         RR &lt; 3000 MW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ERT ISSUED AT 14:47, ADJUSTED       RR&lt;2500 MW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gust 2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(2157 MW 15:00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CN ISSUED AT 13:38, ADJUSTED                   RR &lt; 3300 MW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VISORY ISSUED AT 14:09, ADJUSTED          RR &lt; 3000 MW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ERT ISSUED AT 15:00, ADJUSTED       RR&lt;2500 MW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800600" y="2644920"/>
          <a:ext cx="4232160" cy="1671480"/>
        </p:xfrm>
        <a:graphic>
          <a:graphicData uri="http://schemas.openxmlformats.org/drawingml/2006/table">
            <a:tbl>
              <a:tblPr/>
              <a:tblGrid>
                <a:gridCol w="645480"/>
                <a:gridCol w="1193760"/>
                <a:gridCol w="1195920"/>
                <a:gridCol w="119700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-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SRS DEPLOY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OF UBES DEPLOY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JUSTED 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: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2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: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2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: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2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: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2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: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2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: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724280" y="4648320"/>
          <a:ext cx="4268880" cy="1458720"/>
        </p:xfrm>
        <a:graphic>
          <a:graphicData uri="http://schemas.openxmlformats.org/drawingml/2006/table">
            <a:tbl>
              <a:tblPr/>
              <a:tblGrid>
                <a:gridCol w="794160"/>
                <a:gridCol w="1062720"/>
                <a:gridCol w="1206000"/>
                <a:gridCol w="120600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-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RS DEPLOY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UBES DEPLOY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JUSTED 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: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: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: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: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: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800600" y="1295280"/>
          <a:ext cx="4190760" cy="761760"/>
        </p:xfrm>
        <a:graphic>
          <a:graphicData uri="http://schemas.openxmlformats.org/drawingml/2006/table">
            <a:tbl>
              <a:tblPr/>
              <a:tblGrid>
                <a:gridCol w="690120"/>
                <a:gridCol w="970200"/>
                <a:gridCol w="1073880"/>
                <a:gridCol w="1456560"/>
              </a:tblGrid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-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SRS DEPLOY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OF UBES DEPLOY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DJUSTED 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: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b87b7"/>
                </a:solidFill>
                <a:uFillTx/>
                <a:latin typeface="Impact"/>
              </a:rPr>
              <a:t>PRESENTATION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4800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Adjusted Responsive Reserve Less than 2500 MW (AUGU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gust 2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(2496 MW 15:45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N ISSUED AT 13:55, ADJUSTED         RR &lt; 3300 MW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VISORY ISSUED AT 14:53, ADJUSTED RR &lt; 3000 MW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ERT ISSUED AT 15:21, ADJUSTED RR&lt;2500 MW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gust 25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N ISSUED AT 12:45, ADJUSTED RR &lt;  330OMW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VISORY ISSUED AT 14:14, ADJUSTED RR &lt;  300OMW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ERT ISSUED AT 15:00, ADJUSTED RR &lt; 2500 MW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gust 3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(2329 MW 16:15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N ISSUED AT 13:30,  ADJUSTED         RR &lt; 3300 MW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VISORY ISSUED AT 15:30, ADJUSTED RR &lt;  300OM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930920" y="741240"/>
          <a:ext cx="4060800" cy="2306880"/>
        </p:xfrm>
        <a:graphic>
          <a:graphicData uri="http://schemas.openxmlformats.org/drawingml/2006/table">
            <a:tbl>
              <a:tblPr/>
              <a:tblGrid>
                <a:gridCol w="749160"/>
                <a:gridCol w="1392120"/>
                <a:gridCol w="959040"/>
                <a:gridCol w="96048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-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RS DEPLOY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UBES DEPLOY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JUSTED 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Arial"/>
                        </a:rPr>
                        <a:t>16: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Arial"/>
                        </a:rPr>
                        <a:t>1,2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Arial"/>
                        </a:rPr>
                        <a:t>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Arial"/>
                        </a:rPr>
                        <a:t>16: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Arial"/>
                        </a:rPr>
                        <a:t>1,2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Arial"/>
                        </a:rPr>
                        <a:t>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Arial"/>
                        </a:rPr>
                        <a:t>16: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Arial"/>
                        </a:rPr>
                        <a:t>1,2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Arial"/>
                        </a:rPr>
                        <a:t>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Arial"/>
                        </a:rPr>
                        <a:t>17: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Arial"/>
                        </a:rPr>
                        <a:t>1,2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Arial"/>
                        </a:rPr>
                        <a:t>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Arial"/>
                        </a:rPr>
                        <a:t>17: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Arial"/>
                        </a:rPr>
                        <a:t>1,2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Arial"/>
                        </a:rPr>
                        <a:t>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37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Arial"/>
                        </a:rPr>
                        <a:t>17: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Arial"/>
                        </a:rPr>
                        <a:t>8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Arial"/>
                        </a:rPr>
                        <a:t>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28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Arial"/>
                        </a:rPr>
                        <a:t>17: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Arial"/>
                        </a:rPr>
                        <a:t>8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Arial"/>
                        </a:rPr>
                        <a:t>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29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37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Arial"/>
                        </a:rPr>
                        <a:t>18: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Arial"/>
                        </a:rPr>
                        <a:t>1,2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Arial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29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921200" y="3124080"/>
          <a:ext cx="3976560" cy="2309760"/>
        </p:xfrm>
        <a:graphic>
          <a:graphicData uri="http://schemas.openxmlformats.org/drawingml/2006/table">
            <a:tbl>
              <a:tblPr/>
              <a:tblGrid>
                <a:gridCol w="793800"/>
                <a:gridCol w="934920"/>
                <a:gridCol w="1123920"/>
                <a:gridCol w="112392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-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RS DEPLOY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UBES DEPLOY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JUSTED 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: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: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: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: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: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: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: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: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: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952880" y="5715000"/>
          <a:ext cx="4038840" cy="608040"/>
        </p:xfrm>
        <a:graphic>
          <a:graphicData uri="http://schemas.openxmlformats.org/drawingml/2006/table">
            <a:tbl>
              <a:tblPr/>
              <a:tblGrid>
                <a:gridCol w="838440"/>
                <a:gridCol w="990360"/>
                <a:gridCol w="1219320"/>
                <a:gridCol w="99072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-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SRS DEPLOY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UBES DEPLOY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JUSTED 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: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2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b87b7"/>
                </a:solidFill>
                <a:uFillTx/>
                <a:latin typeface="Impact"/>
              </a:rPr>
              <a:t>PRESENTATION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4724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Adjusted Responsive Reserve Less than 2500 MW (SEPTEMB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1</a:t>
            </a:r>
            <a:r>
              <a:rPr b="1" lang="en-US" sz="1400" spc="-1" strike="noStrike" u="sng" baseline="30000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st</a:t>
            </a:r>
            <a:r>
              <a:rPr b="1" lang="en-US" sz="1400" spc="-1" strike="noStrike" u="sng" baseline="30000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2465 MW 15:30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N ISSUED AT 13:40, ADJUSTED         RR &lt; 3300 MW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VISORY ISSUED AT 14:15, ADJUSTED RR &lt; 3000 MW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ERT ISSUED AT 15:20, ADJUSTED RR&lt;2500 MW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7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(2310 MW 16:00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N ISSUED AT 13:20, ADJUSTED         RR &lt; 3300 MW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VISORY ISSUED AT 13:30, ADJUSTED RR &lt; 3000 MW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SRS NOT PURCHASED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00600" y="838080"/>
          <a:ext cx="4191120" cy="2095560"/>
        </p:xfrm>
        <a:graphic>
          <a:graphicData uri="http://schemas.openxmlformats.org/drawingml/2006/table">
            <a:tbl>
              <a:tblPr/>
              <a:tblGrid>
                <a:gridCol w="538200"/>
                <a:gridCol w="1219320"/>
                <a:gridCol w="1215720"/>
                <a:gridCol w="121788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-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SRS DEPLOY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of UBES DEPLOY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JUSTED 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: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: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: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: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: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: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800600" y="3733920"/>
          <a:ext cx="4191120" cy="1371600"/>
        </p:xfrm>
        <a:graphic>
          <a:graphicData uri="http://schemas.openxmlformats.org/drawingml/2006/table">
            <a:tbl>
              <a:tblPr/>
              <a:tblGrid>
                <a:gridCol w="725400"/>
                <a:gridCol w="966960"/>
                <a:gridCol w="1128600"/>
                <a:gridCol w="137016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-S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SRS DEPLOY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of UBES DEPLOY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DJUSTED 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: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: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: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b87b7"/>
                </a:solidFill>
                <a:uFillTx/>
                <a:latin typeface="Impact"/>
              </a:rPr>
              <a:t>PRESENTATION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5181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ptember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10</a:t>
            </a:r>
            <a:r>
              <a:rPr b="0" lang="en-US" sz="1600" spc="-1" strike="noStrike" u="sng" baseline="30000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th</a:t>
            </a:r>
            <a:r>
              <a:rPr b="0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008 MW 15:30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VISORY ISSUED AT 11:43, ADJUSTED RR &lt; 3300 MW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VISORY ISSUED AT 12:41, ADJUSTED RR &lt; 3000 MW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ERT OCN ISSUED AT  13:56 DUE TO ADJUSTED RR &lt; 2500 MW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SRS NOT PURCHAS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181480" y="990720"/>
          <a:ext cx="3619800" cy="4767120"/>
        </p:xfrm>
        <a:graphic>
          <a:graphicData uri="http://schemas.openxmlformats.org/drawingml/2006/table">
            <a:tbl>
              <a:tblPr/>
              <a:tblGrid>
                <a:gridCol w="819360"/>
                <a:gridCol w="933480"/>
                <a:gridCol w="933480"/>
                <a:gridCol w="93348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-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RS DEPLOY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UBES DEPLOY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: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: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: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: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: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: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: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: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: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: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: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: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: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b87b7"/>
                </a:solidFill>
                <a:uFillTx/>
                <a:latin typeface="Impact"/>
              </a:rPr>
              <a:t>PRESENTATION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4724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(2478 MW 14:45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N ISSUED AT 12:50, ADJUSTED               RR &lt; 3300 MW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VISORY ISSUED AT 13:30, ADJUSTED    RR &lt; 3000 MW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(2192 MW 17:00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N ISSUED AT 15:00, ADJUSTED         RR &lt; 3300 MW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VISORY ISSUED AT 15:05, ADJUSTED RR &lt; 3000 MW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SRS NOT PURCHASED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876920" y="2514600"/>
          <a:ext cx="3962160" cy="2450880"/>
        </p:xfrm>
        <a:graphic>
          <a:graphicData uri="http://schemas.openxmlformats.org/drawingml/2006/table">
            <a:tbl>
              <a:tblPr/>
              <a:tblGrid>
                <a:gridCol w="1045800"/>
                <a:gridCol w="934920"/>
                <a:gridCol w="941400"/>
                <a:gridCol w="1040040"/>
              </a:tblGrid>
              <a:tr h="54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-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RS DEPLOY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UBES DEPLOY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: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: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: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876920" y="1371600"/>
          <a:ext cx="3961800" cy="728640"/>
        </p:xfrm>
        <a:graphic>
          <a:graphicData uri="http://schemas.openxmlformats.org/drawingml/2006/table">
            <a:tbl>
              <a:tblPr/>
              <a:tblGrid>
                <a:gridCol w="758520"/>
                <a:gridCol w="1096200"/>
                <a:gridCol w="1095480"/>
                <a:gridCol w="101160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-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RS DEPLOY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UBES DEPLOY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: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b87b7"/>
                </a:solidFill>
                <a:uFillTx/>
                <a:latin typeface="Arial Rounded MT Bold"/>
              </a:rPr>
              <a:t>Adjusted Responsive Reserve Less than 2500 MW</a:t>
            </a:r>
            <a:endParaRPr b="0" lang="en-US" sz="2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6705720"/>
            <a:ext cx="106704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b87b7"/>
                </a:solidFill>
                <a:uFillTx/>
                <a:latin typeface="Arial Rounded MT Bold"/>
              </a:rPr>
              <a:t>Adjusted Responsive Reserve Less than 2500 MW</a:t>
            </a:r>
            <a:endParaRPr b="0" lang="en-US" sz="2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6705720"/>
            <a:ext cx="106668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b87b7"/>
                </a:solidFill>
                <a:uFillTx/>
                <a:latin typeface="Arial Rounded MT Bold"/>
              </a:rPr>
              <a:t>Adjusted Responsive Reserve Less than 2500 MW</a:t>
            </a:r>
            <a:endParaRPr b="0" lang="en-US" sz="2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8077320" y="6705720"/>
            <a:ext cx="106668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20:44:29Z</dcterms:created>
  <dc:creator>ssharma</dc:creator>
  <dc:description/>
  <cp:keywords/>
  <dc:language>en-US</dc:language>
  <cp:lastModifiedBy>jdumas</cp:lastModifiedBy>
  <dcterms:modified xsi:type="dcterms:W3CDTF">2006-10-11T21:49:20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131033</vt:lpwstr>
  </property>
</Properties>
</file>