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8AB-E207-40DF-A7B0-258BF8A3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38C-4881-4867-BDA1-45B8D84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FEA-D5B4-4EE2-9E9B-5042D888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50F-3194-4BC0-94AA-C4CC2BB1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10B-395D-475F-9086-B8BA46B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367-94FF-460C-9FA0-1BD9BCD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8FA-19E6-4D94-81B0-4111484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F9A-E8E7-4F19-8DB4-3B14FFD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3A0-F6A3-44D5-805D-AE6B494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84E-8591-4B61-834D-805F99C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A8C-EE3A-4B68-AA56-7044503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679-756C-49DA-8CE1-369FA25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7CB-D40F-4994-ADC8-49FB69A1C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9/7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8/10-11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Operating Gu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maintain separate Operating Guides, as is d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after Nodal begins, with simplified 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73 Adjust Scale Fa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sliding scale with max value of 2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 value of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47 Gross and Net Repor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simplified OWG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Continuing Education H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ERCOT support of CEH credit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minar and Black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phasor Project Endor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ERCOT funding and particip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ing / Resource Al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hat ERCOT seriously consider ongoing and fu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reliability when determining resources and priorities, and that TA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BOD be advised that improvement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9/7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6 EECP Re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adopt new EECP steps and operating actio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reviously shown to TAC.  Unanimous motion to sponsor a dra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that adopts the provisions of OGRR 186 by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003 Section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with changes, to insure treatmen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ircuit contingencies consistent with current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of Consist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consistency document, and definition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planning model, brought forth by the joint TPTF/ROS T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1 Submission of Consistent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motion passed to endorse OWG version that now reflect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Consistency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 - Definition of Simple Trans. Ou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ERCOT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 – Optimal Frequency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PDCWG proposal, as a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9-01T21:08:33Z</dcterms:modified>
  <cp:revision>20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83655260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/>
  </property>
</Properties>
</file>