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anual Date&gt; – &lt;Manual Filename&gt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55010FDA-7CDB-4272-B163-99AD2D082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2000"/>
            </a:b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ICCP Business Case</a:t>
            </a:r>
            <a:br>
              <a:rPr sz="3200"/>
            </a:br>
            <a:br>
              <a:rPr sz="3200"/>
            </a:b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By Jeyant Tamby, ERCO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dal Protocol Requiremen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odal Protocols require ERCOT to supply certain data via “SCADA or ICCP”.  Some Exampl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3.2(2) – “Communicate all Base Points, Dispatch Instructions and LMPs for energy and Ancillary Services using ICCP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r Verbal Dispatch Instruction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5.7.6.1(4)  – “Control signals are provided to the QSE using the ICCP data link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5.7.6.2.2(11) – “ERCOT shall issue Responsive Reserve deployment Dispatch Instructions ov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ICCP for Generation Resources and XML for Load Resource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urrent Communication Path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5080" y="2232000"/>
          <a:ext cx="8521560" cy="21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2232000"/>
                    <a:ext cx="852156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TU/DNP – Architectural Issu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ion with the RTUs is accomplished using the DNP 3.0 protoco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al Model will increase DNP data exchange volume by more than 130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 issues concerning the current architecture 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capacity and performance lim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 consistent definition of data quality codes across all market participan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support for a security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RCOT Recommendation for Texas Noda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35080" y="2232000"/>
          <a:ext cx="8521560" cy="21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2232000"/>
                    <a:ext cx="852156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mpact Assessmen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evel of effort for a particular participant to convert to full ICCP data exchange depends on a number of factors such a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number of RTU points that must be mapped to the ICCP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adiness of a system without ICCP to accept an ICCP up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articipants choosing an ICCP gateway, the native protocols available to connect the participant’s system to the gateway and the means by which physical connections can be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nversion Option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8600" y="1028880"/>
          <a:ext cx="8547120" cy="4525920"/>
        </p:xfrm>
        <a:graphic>
          <a:graphicData uri="http://schemas.openxmlformats.org/drawingml/2006/table">
            <a:tbl>
              <a:tblPr/>
              <a:tblGrid>
                <a:gridCol w="2928960"/>
                <a:gridCol w="1719360"/>
                <a:gridCol w="3898800"/>
              </a:tblGrid>
              <a:tr h="857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ersion Op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ive Complex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)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conversion required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nt is already exchanging all data via ICC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)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ve RTU data to ICC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al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olves adding all points presently on the RTUs to the ICCP database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)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ve RTU data to ICCP and configure a new ICCP association with ERCO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ludes the effort of recommendation (2) plus testing new ICCP associations with ERCOT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4)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ure and implement ICCP via system upgrade or ICCP gatew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r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olves procuring an ICCP communication upgrade or adding an ICCP gateway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nversion Prediction vs. Existing Capabilit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1028880"/>
          <a:ext cx="8546760" cy="4525560"/>
        </p:xfrm>
        <a:graphic>
          <a:graphicData uri="http://schemas.openxmlformats.org/drawingml/2006/table">
            <a:tbl>
              <a:tblPr/>
              <a:tblGrid>
                <a:gridCol w="1568880"/>
                <a:gridCol w="1460160"/>
                <a:gridCol w="1284480"/>
                <a:gridCol w="1277640"/>
                <a:gridCol w="1460160"/>
                <a:gridCol w="1495440"/>
              </a:tblGrid>
              <a:tr h="6832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Participants with the stated capabilit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nt Typ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t Data Exchange Capabilit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dicted Conversion Op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l-time Data via RTU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l-time Data via ICCP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CCP Available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or unknow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DS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DS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ough Cost Estimates by Op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8600" y="1028880"/>
          <a:ext cx="8547120" cy="4547880"/>
        </p:xfrm>
        <a:graphic>
          <a:graphicData uri="http://schemas.openxmlformats.org/drawingml/2006/table">
            <a:tbl>
              <a:tblPr/>
              <a:tblGrid>
                <a:gridCol w="1405080"/>
                <a:gridCol w="1522440"/>
                <a:gridCol w="1388880"/>
                <a:gridCol w="592200"/>
                <a:gridCol w="1387440"/>
                <a:gridCol w="592200"/>
                <a:gridCol w="1066680"/>
                <a:gridCol w="592200"/>
              </a:tblGrid>
              <a:tr h="2156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Task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ersion Op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tion 2 - Move RTU data to ICC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tion 2 - Hou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tion 3 - move RTU data to existing ICCP and configure a new ICCP associ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tion 3 - Hou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tion 4 - Procure and implement ICCP from a suppli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tion 4 - Hou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ning, Specification and Vendor Manag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, select and issue P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dor Manag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dor Deliver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rdwa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6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ftwa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48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eld Setup and Living Expen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5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CCP Configuration/ Build D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7,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CCP Configuration/ point defin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2,7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1,8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,5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B Build/Lo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up Associ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0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0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CCP Installation/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all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,2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ing with 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int to Poi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,2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1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6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 Install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tov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ration Stab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0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0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,1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8,0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8,2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26,6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22:59:26Z</dcterms:created>
  <dc:creator>Richard Howard</dc:creator>
  <dc:description/>
  <dc:language>en-US</dc:language>
  <cp:lastModifiedBy>jtamby</cp:lastModifiedBy>
  <dcterms:modified xsi:type="dcterms:W3CDTF">2006-09-06T20:25:28Z</dcterms:modified>
  <cp:revision>12</cp:revision>
  <dc:subject/>
  <dc:title>Texas Nodal ICCP Business Case DRAFT By Richard Howard, ERCOT</dc:title>
</cp:coreProperties>
</file>