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FD2-B67B-4E39-BC70-1C10C7D0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2C5-7E5E-4510-B527-526F4DCC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C42-6F38-418D-A44B-DCD26F93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C8A-20F7-44E1-82D8-9236D5D0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676-4A7B-43E2-9B28-21E5890B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C3C-C890-4F61-9744-6795DC10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B2E-D311-4129-B504-D2DD1379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0BB-A2AD-4493-A709-48D9DDC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7FD-48A2-4D65-904E-2EA5973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CA5-4413-4826-ACDC-6DEDE85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624-3B04-4E6B-A0E9-33CE94AD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26D-41FA-4A46-8CAF-7762461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/12/2006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AA8C-386B-428B-B63D-2FDA4A6A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66680"/>
            <a:ext cx="79250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7, 2006 PEAK DAY POST-MOR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AND PLANNING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PROJECTION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 ERCOT RO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1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, Transmiss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nd Plann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1371600"/>
          <a:ext cx="8686800" cy="482436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  <a:gridCol w="1447560"/>
                <a:gridCol w="1463760"/>
                <a:gridCol w="17366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ata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from CDR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 between NDC and Resource Plan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 in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in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nd Plann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066680"/>
          <a:ext cx="7620120" cy="5207040"/>
        </p:xfrm>
        <a:graphic>
          <a:graphicData uri="http://schemas.openxmlformats.org/drawingml/2006/table">
            <a:tbl>
              <a:tblPr/>
              <a:tblGrid>
                <a:gridCol w="3505320"/>
                <a:gridCol w="1523880"/>
                <a:gridCol w="25909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taneous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atchable Gen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 MW Forced 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Networ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Tie Cap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 Capac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 % of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of Loa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2,300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447920" y="2514600"/>
          <a:ext cx="5943600" cy="1549440"/>
        </p:xfrm>
        <a:graphic>
          <a:graphicData uri="http://schemas.openxmlformats.org/drawingml/2006/table">
            <a:tbl>
              <a:tblPr/>
              <a:tblGrid>
                <a:gridCol w="3504960"/>
                <a:gridCol w="243864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15 Min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29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34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FORECAST BACK 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86774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 Zone Forecast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685800"/>
            <a:ext cx="39621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1. Obtain weather and economic variables by weather  zone (historic and foreca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2. Develop regression equations by weather zone describing the historic actual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--Monthly Energ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* Using a different equation for each sea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-- Hourly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* Using a different equation for each sea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3. Incorporate forecasted values of economic and normalized temperatures for 2006-2011 by weather zone  into monthly energy equation to produce forecasted monthly energ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4. Incorporate normalized temperatures for 2006-2011 by weather zone into monthly energy equation to produce forecasted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5. Produce hourly demand forecast by weather zone by fitting forecasted monthly energy under projected hourly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227880" y="1319040"/>
            <a:ext cx="8635320" cy="5539680"/>
            <a:chOff x="-227880" y="1319040"/>
            <a:chExt cx="8635320" cy="5539680"/>
          </a:xfrm>
        </p:grpSpPr>
        <p:grpSp>
          <p:nvGrpSpPr>
            <p:cNvPr id="83" name=""/>
            <p:cNvGrpSpPr/>
            <p:nvPr/>
          </p:nvGrpSpPr>
          <p:grpSpPr>
            <a:xfrm>
              <a:off x="3298320" y="2781000"/>
              <a:ext cx="5109120" cy="3584160"/>
              <a:chOff x="3298320" y="2781000"/>
              <a:chExt cx="5109120" cy="3584160"/>
            </a:xfrm>
          </p:grpSpPr>
          <p:sp>
            <p:nvSpPr>
              <p:cNvPr id="84" name="_s1031"/>
              <p:cNvSpPr/>
              <p:nvPr/>
            </p:nvSpPr>
            <p:spPr>
              <a:xfrm>
                <a:off x="7180200" y="4101840"/>
                <a:ext cx="1227240" cy="66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ystem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_s1031"/>
              <p:cNvSpPr/>
              <p:nvPr/>
            </p:nvSpPr>
            <p:spPr>
              <a:xfrm>
                <a:off x="5565600" y="2781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_s1031"/>
              <p:cNvSpPr/>
              <p:nvPr/>
            </p:nvSpPr>
            <p:spPr>
              <a:xfrm>
                <a:off x="5602320" y="4086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_s1031"/>
              <p:cNvSpPr/>
              <p:nvPr/>
            </p:nvSpPr>
            <p:spPr>
              <a:xfrm>
                <a:off x="5556240" y="53766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"/>
              <p:cNvCxnSpPr>
                <a:stCxn id="89" idx="3"/>
                <a:endCxn id="85" idx="2"/>
              </p:cNvCxnSpPr>
              <p:nvPr/>
            </p:nvCxnSpPr>
            <p:spPr>
              <a:xfrm>
                <a:off x="3298320" y="3133080"/>
                <a:ext cx="2267640" cy="5400"/>
              </a:xfrm>
              <a:prstGeom prst="bentConnector3">
                <a:avLst>
                  <a:gd name="adj1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>
                <a:stCxn id="91" idx="3"/>
                <a:endCxn id="85" idx="2"/>
              </p:cNvCxnSpPr>
              <p:nvPr/>
            </p:nvCxnSpPr>
            <p:spPr>
              <a:xfrm flipV="1">
                <a:off x="4814640" y="3137760"/>
                <a:ext cx="751680" cy="642240"/>
              </a:xfrm>
              <a:prstGeom prst="bentConnector3">
                <a:avLst>
                  <a:gd name="adj1" fmla="val 4988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2" name=""/>
              <p:cNvCxnSpPr>
                <a:stCxn id="93" idx="3"/>
                <a:endCxn id="86" idx="2"/>
              </p:cNvCxnSpPr>
              <p:nvPr/>
            </p:nvCxnSpPr>
            <p:spPr>
              <a:xfrm flipV="1">
                <a:off x="4814640" y="4442400"/>
                <a:ext cx="788400" cy="626040"/>
              </a:xfrm>
              <a:prstGeom prst="bentConnector3">
                <a:avLst>
                  <a:gd name="adj1" fmla="val 4997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95" idx="3"/>
                <a:endCxn id="86" idx="2"/>
              </p:cNvCxnSpPr>
              <p:nvPr/>
            </p:nvCxnSpPr>
            <p:spPr>
              <a:xfrm>
                <a:off x="3301920" y="4442760"/>
                <a:ext cx="23007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6" name=""/>
              <p:cNvCxnSpPr>
                <a:stCxn id="97" idx="3"/>
                <a:endCxn id="87" idx="2"/>
              </p:cNvCxnSpPr>
              <p:nvPr/>
            </p:nvCxnSpPr>
            <p:spPr>
              <a:xfrm>
                <a:off x="3350880" y="5730120"/>
                <a:ext cx="2205720" cy="3960"/>
              </a:xfrm>
              <a:prstGeom prst="bentConnector3">
                <a:avLst>
                  <a:gd name="adj1" fmla="val 49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8" name=""/>
              <p:cNvCxnSpPr>
                <a:stCxn id="99" idx="3"/>
                <a:endCxn id="87" idx="2"/>
              </p:cNvCxnSpPr>
              <p:nvPr/>
            </p:nvCxnSpPr>
            <p:spPr>
              <a:xfrm flipV="1">
                <a:off x="4814640" y="5733000"/>
                <a:ext cx="742320" cy="632520"/>
              </a:xfrm>
              <a:prstGeom prst="bentConnector3">
                <a:avLst>
                  <a:gd name="adj1" fmla="val 498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0" name=""/>
              <p:cNvCxnSpPr>
                <a:stCxn id="85" idx="6"/>
                <a:endCxn id="84" idx="1"/>
              </p:cNvCxnSpPr>
              <p:nvPr/>
            </p:nvCxnSpPr>
            <p:spPr>
              <a:xfrm>
                <a:off x="6305400" y="3137760"/>
                <a:ext cx="875520" cy="1299240"/>
              </a:xfrm>
              <a:prstGeom prst="bentConnector3">
                <a:avLst>
                  <a:gd name="adj1" fmla="val 4989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1" name=""/>
              <p:cNvCxnSpPr>
                <a:stCxn id="86" idx="6"/>
                <a:endCxn id="84" idx="1"/>
              </p:cNvCxnSpPr>
              <p:nvPr/>
            </p:nvCxnSpPr>
            <p:spPr>
              <a:xfrm flipV="1">
                <a:off x="6342120" y="4436280"/>
                <a:ext cx="838800" cy="7200"/>
              </a:xfrm>
              <a:prstGeom prst="bentConnector3">
                <a:avLst>
                  <a:gd name="adj1" fmla="val 499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2" name=""/>
              <p:cNvCxnSpPr>
                <a:stCxn id="87" idx="6"/>
                <a:endCxn id="84" idx="1"/>
              </p:cNvCxnSpPr>
              <p:nvPr/>
            </p:nvCxnSpPr>
            <p:spPr>
              <a:xfrm flipV="1">
                <a:off x="6296040" y="4435920"/>
                <a:ext cx="884880" cy="1297800"/>
              </a:xfrm>
              <a:prstGeom prst="bentConnector3">
                <a:avLst>
                  <a:gd name="adj1" fmla="val 4989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3" name=""/>
            <p:cNvGrpSpPr/>
            <p:nvPr/>
          </p:nvGrpSpPr>
          <p:grpSpPr>
            <a:xfrm>
              <a:off x="7180200" y="4771800"/>
              <a:ext cx="1227240" cy="963360"/>
              <a:chOff x="7180200" y="4771800"/>
              <a:chExt cx="1227240" cy="963360"/>
            </a:xfrm>
          </p:grpSpPr>
          <p:sp>
            <p:nvSpPr>
              <p:cNvPr id="104" name="_s1031"/>
              <p:cNvSpPr/>
              <p:nvPr/>
            </p:nvSpPr>
            <p:spPr>
              <a:xfrm>
                <a:off x="7180200" y="5100120"/>
                <a:ext cx="1227240" cy="63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eak an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nergy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"/>
              <p:cNvCxnSpPr>
                <a:stCxn id="84" idx="2"/>
                <a:endCxn id="104" idx="0"/>
              </p:cNvCxnSpPr>
              <p:nvPr/>
            </p:nvCxnSpPr>
            <p:spPr>
              <a:xfrm flipV="1" rot="10800000">
                <a:off x="7793640" y="4771440"/>
                <a:ext cx="1080" cy="3290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6" name=""/>
            <p:cNvGrpSpPr/>
            <p:nvPr/>
          </p:nvGrpSpPr>
          <p:grpSpPr>
            <a:xfrm>
              <a:off x="1568160" y="1552320"/>
              <a:ext cx="3384720" cy="1079280"/>
              <a:chOff x="1568160" y="1552320"/>
              <a:chExt cx="3384720" cy="1079280"/>
            </a:xfrm>
          </p:grpSpPr>
          <p:sp>
            <p:nvSpPr>
              <p:cNvPr id="107" name="_s1031"/>
              <p:cNvSpPr/>
              <p:nvPr/>
            </p:nvSpPr>
            <p:spPr>
              <a:xfrm>
                <a:off x="2949480" y="1699920"/>
                <a:ext cx="7869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_s1031"/>
              <p:cNvSpPr/>
              <p:nvPr/>
            </p:nvSpPr>
            <p:spPr>
              <a:xfrm>
                <a:off x="1858680" y="1699920"/>
                <a:ext cx="79848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eath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_s1031"/>
              <p:cNvSpPr/>
              <p:nvPr/>
            </p:nvSpPr>
            <p:spPr>
              <a:xfrm>
                <a:off x="4029120" y="1698120"/>
                <a:ext cx="7995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27280" y="1552320"/>
                <a:ext cx="3225600" cy="66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68160" y="2228400"/>
                <a:ext cx="245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Forecasted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06840" y="2225160"/>
                <a:ext cx="41868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-227880" y="2444400"/>
              <a:ext cx="2343600" cy="3286080"/>
              <a:chOff x="-227880" y="2444400"/>
              <a:chExt cx="2343600" cy="32860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17880" y="2631600"/>
                <a:ext cx="1130040" cy="3098880"/>
                <a:chOff x="317880" y="2631600"/>
                <a:chExt cx="1130040" cy="3098880"/>
              </a:xfrm>
            </p:grpSpPr>
            <p:sp>
              <p:nvSpPr>
                <p:cNvPr id="115" name="_s1031"/>
                <p:cNvSpPr/>
                <p:nvPr/>
              </p:nvSpPr>
              <p:spPr>
                <a:xfrm>
                  <a:off x="516240" y="440316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Load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_s1031"/>
                <p:cNvSpPr/>
                <p:nvPr/>
              </p:nvSpPr>
              <p:spPr>
                <a:xfrm>
                  <a:off x="516240" y="360792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conomic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_s1031"/>
                <p:cNvSpPr/>
                <p:nvPr/>
              </p:nvSpPr>
              <p:spPr>
                <a:xfrm>
                  <a:off x="500400" y="2810880"/>
                  <a:ext cx="7984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Weathe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_s1031"/>
                <p:cNvSpPr/>
                <p:nvPr/>
              </p:nvSpPr>
              <p:spPr>
                <a:xfrm>
                  <a:off x="498600" y="5200200"/>
                  <a:ext cx="8002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alend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7880" y="2631600"/>
                  <a:ext cx="1130040" cy="30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-227880" y="2444400"/>
                <a:ext cx="234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Historical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1460520" y="3850560"/>
                <a:ext cx="41940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841400" y="2619000"/>
              <a:ext cx="3073320" cy="4239720"/>
              <a:chOff x="1841400" y="2619000"/>
              <a:chExt cx="3073320" cy="4239720"/>
            </a:xfrm>
          </p:grpSpPr>
          <p:sp>
            <p:nvSpPr>
              <p:cNvPr id="91" name="_s1031"/>
              <p:cNvSpPr/>
              <p:nvPr/>
            </p:nvSpPr>
            <p:spPr>
              <a:xfrm>
                <a:off x="3481200" y="3455640"/>
                <a:ext cx="1307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umm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_s1031"/>
              <p:cNvSpPr/>
              <p:nvPr/>
            </p:nvSpPr>
            <p:spPr>
              <a:xfrm>
                <a:off x="3481200" y="4750920"/>
                <a:ext cx="130788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int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_s1031"/>
              <p:cNvSpPr/>
              <p:nvPr/>
            </p:nvSpPr>
            <p:spPr>
              <a:xfrm>
                <a:off x="3481200" y="6033600"/>
                <a:ext cx="1307880" cy="662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pring/Fall Hour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_s1031"/>
              <p:cNvSpPr/>
              <p:nvPr/>
            </p:nvSpPr>
            <p:spPr>
              <a:xfrm>
                <a:off x="1982520" y="4183200"/>
                <a:ext cx="129204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Winter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_s1031"/>
              <p:cNvSpPr/>
              <p:nvPr/>
            </p:nvSpPr>
            <p:spPr>
              <a:xfrm>
                <a:off x="1968120" y="5357520"/>
                <a:ext cx="1366920" cy="74556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RCOT Spring/Fal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_s1031"/>
              <p:cNvSpPr/>
              <p:nvPr/>
            </p:nvSpPr>
            <p:spPr>
              <a:xfrm>
                <a:off x="1985760" y="2875320"/>
                <a:ext cx="12859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Summ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41400" y="2619000"/>
                <a:ext cx="3073320" cy="421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42920" y="6584040"/>
                <a:ext cx="1803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Six Regression Equations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041920" y="1319040"/>
              <a:ext cx="195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Forecast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80" y="5832360"/>
              <a:ext cx="183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Histor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423720"/>
          <a:ext cx="9144000" cy="643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3720"/>
                    <a:ext cx="914400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of Peak Dem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Upon Settl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133640"/>
          <a:ext cx="9144000" cy="57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3640"/>
                    <a:ext cx="91440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Zone Forecast Valid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685800"/>
            <a:ext cx="3962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Forecast Validation Summary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1.  Use the same historical data up to December 31, 2005, as in the weather normalized forecast, to calculate the coefficients for validating the forecast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2.  Produce the new forecast using actual 2006 temperatures and humidity (as contrasted with normalized weather profiles) but keep the same economic and other non-economic variables as used to produce the weather normalized long-term forecast by weather zon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Forecast Validation Proces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1. Produce regression equations by weather zone describing the historic actu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--Monthly Energy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* Using a different equation for each seas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-- Hourly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* Using a different equation for each seas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2. Incorporate forecasted values for economic variables and actual values for temperatures and humidity for 2006 by weather zone  into monthly energy equation to produce forecasted monthly ener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3. Incorporate actual temperatures and humidity for 2006 by weather zone into load shape equation to produce forecasted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4. Produce hourly demand forecast by weather zone by fitting forecasted monthly energy under projected hourly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227880" y="1319040"/>
            <a:ext cx="8635320" cy="5539680"/>
            <a:chOff x="-227880" y="1319040"/>
            <a:chExt cx="8635320" cy="5539680"/>
          </a:xfrm>
        </p:grpSpPr>
        <p:grpSp>
          <p:nvGrpSpPr>
            <p:cNvPr id="136" name=""/>
            <p:cNvGrpSpPr/>
            <p:nvPr/>
          </p:nvGrpSpPr>
          <p:grpSpPr>
            <a:xfrm>
              <a:off x="3298320" y="2781000"/>
              <a:ext cx="5109120" cy="3584160"/>
              <a:chOff x="3298320" y="2781000"/>
              <a:chExt cx="5109120" cy="3584160"/>
            </a:xfrm>
          </p:grpSpPr>
          <p:sp>
            <p:nvSpPr>
              <p:cNvPr id="137" name="_s1031"/>
              <p:cNvSpPr/>
              <p:nvPr/>
            </p:nvSpPr>
            <p:spPr>
              <a:xfrm>
                <a:off x="7180200" y="4101840"/>
                <a:ext cx="1227240" cy="66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ystem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_s1031"/>
              <p:cNvSpPr/>
              <p:nvPr/>
            </p:nvSpPr>
            <p:spPr>
              <a:xfrm>
                <a:off x="5565600" y="2781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_s1031"/>
              <p:cNvSpPr/>
              <p:nvPr/>
            </p:nvSpPr>
            <p:spPr>
              <a:xfrm>
                <a:off x="5602320" y="4086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_s1031"/>
              <p:cNvSpPr/>
              <p:nvPr/>
            </p:nvSpPr>
            <p:spPr>
              <a:xfrm>
                <a:off x="5556240" y="53766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" name=""/>
              <p:cNvCxnSpPr>
                <a:stCxn id="142" idx="3"/>
                <a:endCxn id="138" idx="2"/>
              </p:cNvCxnSpPr>
              <p:nvPr/>
            </p:nvCxnSpPr>
            <p:spPr>
              <a:xfrm>
                <a:off x="3298320" y="3133080"/>
                <a:ext cx="2267640" cy="5400"/>
              </a:xfrm>
              <a:prstGeom prst="bentConnector3">
                <a:avLst>
                  <a:gd name="adj1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3" name=""/>
              <p:cNvCxnSpPr>
                <a:stCxn id="144" idx="3"/>
                <a:endCxn id="138" idx="2"/>
              </p:cNvCxnSpPr>
              <p:nvPr/>
            </p:nvCxnSpPr>
            <p:spPr>
              <a:xfrm flipV="1">
                <a:off x="4814640" y="3137760"/>
                <a:ext cx="751680" cy="642240"/>
              </a:xfrm>
              <a:prstGeom prst="bentConnector3">
                <a:avLst>
                  <a:gd name="adj1" fmla="val 4988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5" name=""/>
              <p:cNvCxnSpPr>
                <a:stCxn id="146" idx="3"/>
                <a:endCxn id="139" idx="2"/>
              </p:cNvCxnSpPr>
              <p:nvPr/>
            </p:nvCxnSpPr>
            <p:spPr>
              <a:xfrm flipV="1">
                <a:off x="4814640" y="4442400"/>
                <a:ext cx="788400" cy="626040"/>
              </a:xfrm>
              <a:prstGeom prst="bentConnector3">
                <a:avLst>
                  <a:gd name="adj1" fmla="val 4997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7" name=""/>
              <p:cNvCxnSpPr>
                <a:stCxn id="148" idx="3"/>
                <a:endCxn id="139" idx="2"/>
              </p:cNvCxnSpPr>
              <p:nvPr/>
            </p:nvCxnSpPr>
            <p:spPr>
              <a:xfrm>
                <a:off x="3301920" y="4442760"/>
                <a:ext cx="23007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9" name=""/>
              <p:cNvCxnSpPr>
                <a:stCxn id="150" idx="3"/>
                <a:endCxn id="140" idx="2"/>
              </p:cNvCxnSpPr>
              <p:nvPr/>
            </p:nvCxnSpPr>
            <p:spPr>
              <a:xfrm>
                <a:off x="3350880" y="5730120"/>
                <a:ext cx="2205720" cy="3960"/>
              </a:xfrm>
              <a:prstGeom prst="bentConnector3">
                <a:avLst>
                  <a:gd name="adj1" fmla="val 49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1" name=""/>
              <p:cNvCxnSpPr>
                <a:stCxn id="152" idx="3"/>
                <a:endCxn id="140" idx="2"/>
              </p:cNvCxnSpPr>
              <p:nvPr/>
            </p:nvCxnSpPr>
            <p:spPr>
              <a:xfrm flipV="1">
                <a:off x="4814640" y="5733000"/>
                <a:ext cx="742320" cy="632520"/>
              </a:xfrm>
              <a:prstGeom prst="bentConnector3">
                <a:avLst>
                  <a:gd name="adj1" fmla="val 498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3" name=""/>
              <p:cNvCxnSpPr>
                <a:stCxn id="138" idx="6"/>
                <a:endCxn id="137" idx="1"/>
              </p:cNvCxnSpPr>
              <p:nvPr/>
            </p:nvCxnSpPr>
            <p:spPr>
              <a:xfrm>
                <a:off x="6305400" y="3137760"/>
                <a:ext cx="875520" cy="1299240"/>
              </a:xfrm>
              <a:prstGeom prst="bentConnector3">
                <a:avLst>
                  <a:gd name="adj1" fmla="val 4989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4" name=""/>
              <p:cNvCxnSpPr>
                <a:stCxn id="139" idx="6"/>
                <a:endCxn id="137" idx="1"/>
              </p:cNvCxnSpPr>
              <p:nvPr/>
            </p:nvCxnSpPr>
            <p:spPr>
              <a:xfrm flipV="1">
                <a:off x="6342120" y="4436280"/>
                <a:ext cx="838800" cy="7200"/>
              </a:xfrm>
              <a:prstGeom prst="bentConnector3">
                <a:avLst>
                  <a:gd name="adj1" fmla="val 499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40" idx="6"/>
                <a:endCxn id="137" idx="1"/>
              </p:cNvCxnSpPr>
              <p:nvPr/>
            </p:nvCxnSpPr>
            <p:spPr>
              <a:xfrm flipV="1">
                <a:off x="6296040" y="4435920"/>
                <a:ext cx="884880" cy="1297800"/>
              </a:xfrm>
              <a:prstGeom prst="bentConnector3">
                <a:avLst>
                  <a:gd name="adj1" fmla="val 4989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6" name=""/>
            <p:cNvGrpSpPr/>
            <p:nvPr/>
          </p:nvGrpSpPr>
          <p:grpSpPr>
            <a:xfrm>
              <a:off x="7180200" y="4771800"/>
              <a:ext cx="1227240" cy="963360"/>
              <a:chOff x="7180200" y="4771800"/>
              <a:chExt cx="1227240" cy="963360"/>
            </a:xfrm>
          </p:grpSpPr>
          <p:sp>
            <p:nvSpPr>
              <p:cNvPr id="157" name="_s1031"/>
              <p:cNvSpPr/>
              <p:nvPr/>
            </p:nvSpPr>
            <p:spPr>
              <a:xfrm>
                <a:off x="7180200" y="5100120"/>
                <a:ext cx="1227240" cy="63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eak an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nergy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8" name=""/>
              <p:cNvCxnSpPr>
                <a:stCxn id="137" idx="2"/>
                <a:endCxn id="157" idx="0"/>
              </p:cNvCxnSpPr>
              <p:nvPr/>
            </p:nvCxnSpPr>
            <p:spPr>
              <a:xfrm flipV="1" rot="10800000">
                <a:off x="7793640" y="4771440"/>
                <a:ext cx="1080" cy="3290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9" name=""/>
            <p:cNvGrpSpPr/>
            <p:nvPr/>
          </p:nvGrpSpPr>
          <p:grpSpPr>
            <a:xfrm>
              <a:off x="1568160" y="1552320"/>
              <a:ext cx="3384720" cy="1079280"/>
              <a:chOff x="1568160" y="1552320"/>
              <a:chExt cx="3384720" cy="1079280"/>
            </a:xfrm>
          </p:grpSpPr>
          <p:sp>
            <p:nvSpPr>
              <p:cNvPr id="160" name="_s1031"/>
              <p:cNvSpPr/>
              <p:nvPr/>
            </p:nvSpPr>
            <p:spPr>
              <a:xfrm>
                <a:off x="2949480" y="1699920"/>
                <a:ext cx="7869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_s1031"/>
              <p:cNvSpPr/>
              <p:nvPr/>
            </p:nvSpPr>
            <p:spPr>
              <a:xfrm>
                <a:off x="1858680" y="1699920"/>
                <a:ext cx="798480" cy="370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ctual Tem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_s1031"/>
              <p:cNvSpPr/>
              <p:nvPr/>
            </p:nvSpPr>
            <p:spPr>
              <a:xfrm>
                <a:off x="4029120" y="1698120"/>
                <a:ext cx="7995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27280" y="1552320"/>
                <a:ext cx="3225600" cy="66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68160" y="2228400"/>
                <a:ext cx="245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Forecasted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06840" y="2225160"/>
                <a:ext cx="41868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-227880" y="2444400"/>
              <a:ext cx="2343600" cy="3286080"/>
              <a:chOff x="-227880" y="2444400"/>
              <a:chExt cx="2343600" cy="32860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317880" y="2631600"/>
                <a:ext cx="1130040" cy="3098880"/>
                <a:chOff x="317880" y="2631600"/>
                <a:chExt cx="1130040" cy="3098880"/>
              </a:xfrm>
            </p:grpSpPr>
            <p:sp>
              <p:nvSpPr>
                <p:cNvPr id="168" name="_s1031"/>
                <p:cNvSpPr/>
                <p:nvPr/>
              </p:nvSpPr>
              <p:spPr>
                <a:xfrm>
                  <a:off x="516240" y="440316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Load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_s1031"/>
                <p:cNvSpPr/>
                <p:nvPr/>
              </p:nvSpPr>
              <p:spPr>
                <a:xfrm>
                  <a:off x="516240" y="360792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conomic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_s1031"/>
                <p:cNvSpPr/>
                <p:nvPr/>
              </p:nvSpPr>
              <p:spPr>
                <a:xfrm>
                  <a:off x="500400" y="2810880"/>
                  <a:ext cx="7984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Weathe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_s1031"/>
                <p:cNvSpPr/>
                <p:nvPr/>
              </p:nvSpPr>
              <p:spPr>
                <a:xfrm>
                  <a:off x="498600" y="5200200"/>
                  <a:ext cx="8002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alend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17880" y="2631600"/>
                  <a:ext cx="1130040" cy="30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-227880" y="2444400"/>
                <a:ext cx="234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Historical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6200000">
                <a:off x="1460520" y="3850560"/>
                <a:ext cx="41940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841400" y="2619000"/>
              <a:ext cx="3073320" cy="4239720"/>
              <a:chOff x="1841400" y="2619000"/>
              <a:chExt cx="3073320" cy="4239720"/>
            </a:xfrm>
          </p:grpSpPr>
          <p:sp>
            <p:nvSpPr>
              <p:cNvPr id="144" name="_s1031"/>
              <p:cNvSpPr/>
              <p:nvPr/>
            </p:nvSpPr>
            <p:spPr>
              <a:xfrm>
                <a:off x="3481200" y="3455640"/>
                <a:ext cx="1307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umm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_s1031"/>
              <p:cNvSpPr/>
              <p:nvPr/>
            </p:nvSpPr>
            <p:spPr>
              <a:xfrm>
                <a:off x="3481200" y="4750920"/>
                <a:ext cx="130788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int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_s1031"/>
              <p:cNvSpPr/>
              <p:nvPr/>
            </p:nvSpPr>
            <p:spPr>
              <a:xfrm>
                <a:off x="3481200" y="6033600"/>
                <a:ext cx="1307880" cy="662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pring/Fall Hour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_s1031"/>
              <p:cNvSpPr/>
              <p:nvPr/>
            </p:nvSpPr>
            <p:spPr>
              <a:xfrm>
                <a:off x="1982520" y="4183200"/>
                <a:ext cx="129204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Winter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_s1031"/>
              <p:cNvSpPr/>
              <p:nvPr/>
            </p:nvSpPr>
            <p:spPr>
              <a:xfrm>
                <a:off x="1968120" y="5357520"/>
                <a:ext cx="1366920" cy="74556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RCOT Spring/Fal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_s1031"/>
              <p:cNvSpPr/>
              <p:nvPr/>
            </p:nvSpPr>
            <p:spPr>
              <a:xfrm>
                <a:off x="1985760" y="2875320"/>
                <a:ext cx="12859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Summ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41400" y="2619000"/>
                <a:ext cx="3073320" cy="421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42920" y="6584040"/>
                <a:ext cx="1803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Six Regression Equations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041560" y="1319040"/>
              <a:ext cx="25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Actual and Forecast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80" y="5832360"/>
              <a:ext cx="183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Histor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eak Day August 17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ttlement Data by Fue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1371600"/>
          <a:ext cx="8763120" cy="4613400"/>
        </p:xfrm>
        <a:graphic>
          <a:graphicData uri="http://schemas.openxmlformats.org/drawingml/2006/table">
            <a:tbl>
              <a:tblPr/>
              <a:tblGrid>
                <a:gridCol w="4141800"/>
                <a:gridCol w="1828800"/>
                <a:gridCol w="2792520"/>
              </a:tblGrid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15 Min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10%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fference from 2006 Normal Peak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Normal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6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Validation Actual 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6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.46%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fference from Initial Settlement H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Normal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Extreme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nd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62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255600"/>
            <a:ext cx="86328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990720"/>
            <a:ext cx="1065240" cy="298080"/>
          </a:xfrm>
          <a:prstGeom prst="wedgeRoundRectCallout">
            <a:avLst>
              <a:gd name="adj1" fmla="val -89018"/>
              <a:gd name="adj2" fmla="val 1591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,73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1828800"/>
            <a:ext cx="1065240" cy="298080"/>
          </a:xfrm>
          <a:prstGeom prst="wedgeRoundRectCallout">
            <a:avLst>
              <a:gd name="adj1" fmla="val -146990"/>
              <a:gd name="adj2" fmla="val -580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,259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3276720"/>
            <a:ext cx="1065240" cy="298080"/>
          </a:xfrm>
          <a:prstGeom prst="wedgeRoundRectCallout">
            <a:avLst>
              <a:gd name="adj1" fmla="val -69050"/>
              <a:gd name="adj2" fmla="val -318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,376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227160"/>
            <a:ext cx="914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7524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ter than normal summer season and everyone did w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 ~65,0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able Generation ~57,4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Network Resources ~6,4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Load Projection is Hourly (not 15 minute or Instantane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Peak 62,334 MW (subject to change based upon sett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 Planning Load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Variability Significant (much more that load var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240" y="358920"/>
            <a:ext cx="89755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6680" y="1368360"/>
            <a:ext cx="8977320" cy="548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572000"/>
            <a:ext cx="1446480" cy="298080"/>
          </a:xfrm>
          <a:prstGeom prst="wedgeRoundRectCallout">
            <a:avLst>
              <a:gd name="adj1" fmla="val -66791"/>
              <a:gd name="adj2" fmla="val 280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2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7360" y="19051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300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91120"/>
            <a:ext cx="1446120" cy="298080"/>
          </a:xfrm>
          <a:prstGeom prst="wedgeRoundRectCallout">
            <a:avLst>
              <a:gd name="adj1" fmla="val -66773"/>
              <a:gd name="adj2" fmla="val 225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7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70520" y="17524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2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36680"/>
            <a:ext cx="9144000" cy="552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514600"/>
            <a:ext cx="1446120" cy="298080"/>
          </a:xfrm>
          <a:prstGeom prst="wedgeRoundRectCallout">
            <a:avLst>
              <a:gd name="adj1" fmla="val -37282"/>
              <a:gd name="adj2" fmla="val 366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9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6840" y="15238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5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tchabl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809880"/>
            <a:ext cx="1752480" cy="298080"/>
          </a:xfrm>
          <a:prstGeom prst="wedgeRoundRectCallout">
            <a:avLst>
              <a:gd name="adj1" fmla="val -47023"/>
              <a:gd name="adj2" fmla="val -478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,376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2280" y="15238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,573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Network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2736720"/>
            <a:ext cx="1752480" cy="495360"/>
          </a:xfrm>
          <a:prstGeom prst="wedgeRoundRectCallout">
            <a:avLst>
              <a:gd name="adj1" fmla="val -53171"/>
              <a:gd name="adj2" fmla="val -257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397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ettlem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9320" y="563868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419 MW Reported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9:13:42Z</dcterms:created>
  <dc:creator> </dc:creator>
  <dc:description/>
  <dc:language>en-US</dc:language>
  <cp:lastModifiedBy>Floyd Trefny1</cp:lastModifiedBy>
  <dcterms:modified xsi:type="dcterms:W3CDTF">2006-10-12T17:53:38Z</dcterms:modified>
  <cp:revision>56</cp:revision>
  <dc:subject/>
  <dc:title>Slide 1</dc:title>
</cp:coreProperties>
</file>