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E2102-5E35-47EA-A022-34E607CC6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7340-F5C3-4965-B29C-D98190133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33231-007D-406E-A79D-834ED1F6E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4F1C0-FFDA-4081-A779-748FA4A58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84708-181E-457E-B87A-23A01CEE6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8F23D-E405-4ACE-998F-1B41F19CD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23106-320D-4F1C-B47C-B3FAF5B0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C9560-7117-4AE6-BB07-C71F7A16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89EE2-4ACE-42C4-B015-0F27FE588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C8914-B314-4A67-9143-C3A4F4F75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0379F-2D0A-4BB0-9044-EB1E9770F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9BC3-D2E9-4439-8B99-8F0C293E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A460F-89A7-4A13-A6BF-CB569030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DC76C-28DC-47AD-ACE9-D5E68466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5EB99-0686-4F7B-9056-82708CFE0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232ED-341E-4E46-9A6C-9B687A050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8F17A-3200-471B-9FD5-5135696A8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D88C-26F1-43DE-B379-84CB02E3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45BF-0F6B-4C03-A364-C710BE0B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C86BB-AEFF-43A8-8A20-3710A77B3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9199-66D7-468F-94E0-2535D8ACD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9870-C091-45CF-9E9B-49913BAD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16EC-DF1F-44A6-A72A-A446EFD2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1E0B-7ED6-4887-A06B-E972830F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F414-7890-40FC-BA9D-BED5D0B8383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C0DB-A472-40AF-96C6-B28CD7B2E07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RS in Nodal</a:t>
            </a:r>
            <a:br>
              <a:rPr sz="3600"/>
            </a:br>
            <a:r>
              <a:rPr b="0" lang="en-US" sz="2800" spc="-1" strike="noStrike">
                <a:solidFill>
                  <a:srgbClr val="000000"/>
                </a:solidFill>
                <a:latin typeface="Verdana"/>
              </a:rPr>
              <a:t>Proposal for Deployment &amp; Recall Procedures</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219320" y="2514600"/>
            <a:ext cx="6400800" cy="3548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COT ROS</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2-13/2006</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Niemey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Jon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Wheel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Green</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Duma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reitzma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on Requested of RO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dorse the principles in the white paper and forward white paper to TAC for consideration as “homework completed”.</a:t>
            </a:r>
            <a:endParaRPr b="0" lang="en-US" sz="3000" spc="-1" strike="noStrike">
              <a:solidFill>
                <a:srgbClr val="000000"/>
              </a:solidFill>
              <a:latin typeface="Verdana"/>
            </a:endParaRPr>
          </a:p>
        </p:txBody>
      </p:sp>
      <p:graphicFrame>
        <p:nvGraphicFramePr>
          <p:cNvPr id="105" name=""/>
          <p:cNvGraphicFramePr/>
          <p:nvPr/>
        </p:nvGraphicFramePr>
        <p:xfrm>
          <a:off x="3581280" y="3962520"/>
          <a:ext cx="1768680" cy="1585800"/>
        </p:xfrm>
        <a:graphic>
          <a:graphicData uri="http://schemas.openxmlformats.org/presentationml/2006/ole">
            <p:oleObj r:id="rId2" spid="">
              <p:embed/>
              <p:pic>
                <p:nvPicPr>
                  <p:cNvPr id="106" name="" descr=""/>
                  <p:cNvPicPr/>
                  <p:nvPr/>
                </p:nvPicPr>
                <p:blipFill>
                  <a:blip r:embed="rId3"/>
                  <a:stretch/>
                </p:blipFill>
                <p:spPr>
                  <a:xfrm>
                    <a:off x="3581280" y="3962520"/>
                    <a:ext cx="1768680" cy="1585800"/>
                  </a:xfrm>
                  <a:prstGeom prst="rect">
                    <a:avLst/>
                  </a:prstGeom>
                  <a:ln w="0">
                    <a:noFill/>
                  </a:ln>
                </p:spPr>
              </p:pic>
            </p:oleObj>
          </a:graphicData>
        </a:graphic>
      </p:graphicFrame>
      <p:sp>
        <p:nvSpPr>
          <p:cNvPr id="4" name="PlaceHolder 3"/>
          <p:cNvSpPr>
            <a:spLocks noGrp="1"/>
          </p:cNvSpPr>
          <p:nvPr>
            <p:ph type="sldNum" idx="3"/>
          </p:nvPr>
        </p:nvSpPr>
        <p:spPr/>
        <p:txBody>
          <a:bodyPr/>
          <a:p>
            <a:fld id="{F55C92C3-5053-40F8-8D0B-FFF5AF85A77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44080"/>
            <a:ext cx="8229600" cy="119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SSUE &amp; Background</a:t>
            </a:r>
            <a:endParaRPr b="0" lang="en-US" sz="3400" spc="-1" strike="noStrike">
              <a:solidFill>
                <a:srgbClr val="000000"/>
              </a:solidFill>
              <a:latin typeface="Verdana"/>
            </a:endParaRPr>
          </a:p>
        </p:txBody>
      </p:sp>
      <p:sp>
        <p:nvSpPr>
          <p:cNvPr id="88" name="PlaceHolder 2"/>
          <p:cNvSpPr>
            <a:spLocks noGrp="1"/>
          </p:cNvSpPr>
          <p:nvPr>
            <p:ph/>
          </p:nvPr>
        </p:nvSpPr>
        <p:spPr>
          <a:xfrm>
            <a:off x="566280" y="1782720"/>
            <a:ext cx="8001000" cy="4237200"/>
          </a:xfrm>
          <a:prstGeom prst="rect">
            <a:avLst/>
          </a:prstGeom>
          <a:noFill/>
          <a:ln w="0">
            <a:noFill/>
          </a:ln>
        </p:spPr>
        <p:txBody>
          <a:bodyPr lIns="90000" rIns="90000" tIns="46800" bIns="46800" anchor="t">
            <a:normAutofit fontScale="97000"/>
          </a:bodyPr>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August 10-11ROS meeting the PDCWG reported on a TAC assignment to define the proper procedures in Nodal for the deployment and recall of resources providing NSRS, </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at meeting Chair formed a small task force to examine Protocols 6.5.7.6.2.3(1) and recommend a set of procedural steps,</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mall task force met on 9/14 and considered two written proposals (J.Adams-ERCOT &amp; B.Green-GP&amp;L),</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Green’s proposal was selected by the task force and finaliz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3D45D2A-7BBA-43EF-AAC2-53A1155543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0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at the Nodacols Say</a:t>
            </a:r>
            <a:endParaRPr b="0" lang="en-US" sz="3400" spc="-1" strike="noStrike">
              <a:solidFill>
                <a:srgbClr val="000000"/>
              </a:solidFill>
              <a:latin typeface="Verdana"/>
            </a:endParaRPr>
          </a:p>
        </p:txBody>
      </p:sp>
      <p:sp>
        <p:nvSpPr>
          <p:cNvPr id="90"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5.7.6.2.3</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Non-Spinning Reserve Service Deployment </a:t>
            </a:r>
            <a:endParaRPr b="0" lang="en-US" sz="2000" spc="-1" strike="noStrike">
              <a:solidFill>
                <a:srgbClr val="000000"/>
              </a:solidFill>
              <a:latin typeface="Verdana"/>
            </a:endParaRPr>
          </a:p>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ERCOT shall deploy Non-Spinning Reserve Service using SCED for On-Line Generation Resources with Energy Offer Curves and by Operator Dispatch Instruction for Resources with Output Schedules, Off-Line Generation Resources and Load Resources.  </a:t>
            </a:r>
            <a:r>
              <a:rPr b="0" i="1" lang="en-US" sz="2000" spc="-1" strike="noStrike">
                <a:solidFill>
                  <a:srgbClr val="ff0000"/>
                </a:solidFill>
                <a:latin typeface="Verdana"/>
                <a:ea typeface="Times New Roman"/>
              </a:rPr>
              <a:t>ERCOT shall develop a procedure approved by TAC to deploy Resources providing Non-Spinning Reserve Service</a:t>
            </a:r>
            <a:r>
              <a:rPr b="0" lang="en-US" sz="2000" spc="-1" strike="noStrike">
                <a:solidFill>
                  <a:srgbClr val="ff0000"/>
                </a:solidFill>
                <a:latin typeface="Verdana"/>
                <a:ea typeface="Times New Roman"/>
              </a:rPr>
              <a:t>.</a:t>
            </a:r>
            <a:r>
              <a:rPr b="0" lang="en-US" sz="2000" spc="-1" strike="noStrike">
                <a:solidFill>
                  <a:srgbClr val="000000"/>
                </a:solidFill>
                <a:latin typeface="Verdana"/>
                <a:ea typeface="Times New Roman"/>
              </a:rPr>
              <a:t>  ERCOT operators shall implement the deployment procedure when a specified threshold(s) in MW of capability available to SCED to increase generation is reached. ERCOT Operators may implement the deployment procedure to recover deployed Responsive Reserve or when other Emergency Conditions exist.</a:t>
            </a:r>
            <a:endParaRPr b="0" lang="en-US" sz="2000" spc="-1" strike="noStrike">
              <a:solidFill>
                <a:srgbClr val="000000"/>
              </a:solidFill>
              <a:latin typeface="Verdana"/>
            </a:endParaRPr>
          </a:p>
          <a:p>
            <a:pPr marL="46980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4B38466-EDCD-42C3-9A04-710723DA9A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ditions Leading to NSRS Deployment</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etection of insufficient capacity for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ergy dispatch for future operation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isturbance Conditions: unit trip,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stained freq decay, sustained low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q op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SCED does not have enough energy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vailable to execute properly,</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 Operator makes final decision and initiates deploymen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5C902AC-459A-42C5-90B7-EBEB14CBC6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828440"/>
            <a:ext cx="8001000" cy="426708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SE gets a resource-specific instruction for </a:t>
            </a:r>
            <a:r>
              <a:rPr b="0" i="1" lang="en-US" sz="1800" spc="-1" strike="noStrike">
                <a:solidFill>
                  <a:srgbClr val="ff0000"/>
                </a:solidFill>
                <a:latin typeface="Verdana"/>
              </a:rPr>
              <a:t>off-line</a:t>
            </a:r>
            <a:r>
              <a:rPr b="0" i="1" lang="en-US" sz="1800" spc="-1" strike="noStrike">
                <a:solidFill>
                  <a:srgbClr val="000000"/>
                </a:solidFill>
                <a:latin typeface="Verdana"/>
              </a:rPr>
              <a:t> </a:t>
            </a:r>
            <a:r>
              <a:rPr b="0" i="1" lang="en-US" sz="1800" spc="-1" strike="noStrike">
                <a:solidFill>
                  <a:srgbClr val="ff0000"/>
                </a:solidFill>
                <a:latin typeface="Verdana"/>
              </a:rPr>
              <a:t>generation</a:t>
            </a:r>
            <a:r>
              <a:rPr b="0" lang="en-US" sz="1800" spc="-1" strike="noStrike">
                <a:solidFill>
                  <a:srgbClr val="000000"/>
                </a:solidFill>
                <a:latin typeface="Verdana"/>
              </a:rPr>
              <a:t> for NSRS with expected amount of capacity to be available and for how long, QSE must have resource on and ready for SCED base points asap, SCED will respond to changes in status via telemetry from QSE, resource must respond within 30 minutes, QSE will reduce NSRS A/S schedule to zero in COP and telemetry</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Load resource</a:t>
            </a:r>
            <a:r>
              <a:rPr b="0" lang="en-US" sz="1800" spc="-1" strike="noStrike">
                <a:solidFill>
                  <a:srgbClr val="000000"/>
                </a:solidFill>
                <a:latin typeface="Verdana"/>
              </a:rPr>
              <a:t> will get instruction for MW level of energy deployed and duration of instruction, if bought by block then deployed by block, load must respond within 30 minute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On-Line Generation w/energy offer curve</a:t>
            </a:r>
            <a:r>
              <a:rPr b="0" lang="en-US" sz="1800" spc="-1" strike="noStrike">
                <a:solidFill>
                  <a:srgbClr val="000000"/>
                </a:solidFill>
                <a:latin typeface="Verdana"/>
              </a:rPr>
              <a:t> will be notified of total capacity reserved for NSRS is being dispatched, ERCOT will auto calculate a new HASL for SCED by reducing the NSRS schedule to zero, QSE updates COP and telemetry parameters, resource must deliver in 30 minutes,</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2"/>
          <p:cNvSpPr>
            <a:spLocks noGrp="1"/>
          </p:cNvSpPr>
          <p:nvPr>
            <p:ph type="title"/>
          </p:nvPr>
        </p:nvSpPr>
        <p:spPr>
          <a:xfrm>
            <a:off x="380520" y="151920"/>
            <a:ext cx="81946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ployment Under Condition #1</a:t>
            </a:r>
            <a:br>
              <a:rPr sz="3400"/>
            </a:b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C179A0C-221A-4BC6-9849-AB9BD34300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609120"/>
            <a:ext cx="80010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1-cont’d</a:t>
            </a:r>
            <a:br>
              <a:rPr sz="2800"/>
            </a:br>
            <a:r>
              <a:rPr b="0" lang="en-US" sz="2800" spc="-1" strike="noStrike">
                <a:solidFill>
                  <a:srgbClr val="000000"/>
                </a:solidFill>
                <a:latin typeface="Verdana"/>
              </a:rPr>
              <a:t> </a:t>
            </a: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On-Line Generation w/output schedule</a:t>
            </a:r>
            <a:r>
              <a:rPr b="0" lang="en-US" sz="2400" spc="-1" strike="noStrike">
                <a:solidFill>
                  <a:srgbClr val="000000"/>
                </a:solidFill>
                <a:latin typeface="Verdana"/>
              </a:rPr>
              <a:t> will get an instruction to deploy NSRS with energy amount and duration, </a:t>
            </a:r>
            <a:r>
              <a:rPr b="0" i="1" lang="en-US" sz="2400" spc="-1" strike="noStrike">
                <a:solidFill>
                  <a:srgbClr val="ff0000"/>
                </a:solidFill>
                <a:latin typeface="Verdana"/>
              </a:rPr>
              <a:t>DSR</a:t>
            </a:r>
            <a:r>
              <a:rPr b="0" lang="en-US" sz="2400" spc="-1" strike="noStrike">
                <a:solidFill>
                  <a:srgbClr val="000000"/>
                </a:solidFill>
                <a:latin typeface="Verdana"/>
              </a:rPr>
              <a:t> will adjust its output schedule in telemetry and COP, for </a:t>
            </a:r>
            <a:r>
              <a:rPr b="0" i="1" lang="en-US" sz="2400" spc="-1" strike="noStrike">
                <a:solidFill>
                  <a:srgbClr val="ff0000"/>
                </a:solidFill>
                <a:latin typeface="Verdana"/>
              </a:rPr>
              <a:t>non-DSR</a:t>
            </a:r>
            <a:r>
              <a:rPr b="0" lang="en-US" sz="2400" spc="-1" strike="noStrike">
                <a:solidFill>
                  <a:srgbClr val="000000"/>
                </a:solidFill>
                <a:latin typeface="Verdana"/>
              </a:rPr>
              <a:t> ERCOT will adjust the output schedule for operating period to show deployment amoun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03FB5C2-9A71-4912-B01E-0CD1F01131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2</a:t>
            </a:r>
            <a:br>
              <a:rPr sz="2800"/>
            </a:br>
            <a:r>
              <a:rPr b="0" i="1" lang="en-US" sz="2000" spc="-1" strike="noStrike">
                <a:solidFill>
                  <a:srgbClr val="003366"/>
                </a:solidFill>
                <a:latin typeface="Verdana"/>
              </a:rPr>
              <a:t>[Disturbance Conditions]</a:t>
            </a:r>
            <a:endParaRPr b="0" lang="en-US" sz="20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rocedure for deployment will be the same as in Condition #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will be driven by the A/S Capacity Monitor program executing every 10 second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ECP processes may govern</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26C210C-51BC-46F9-9342-3A95F8CCF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3</a:t>
            </a:r>
            <a:br>
              <a:rPr sz="2800"/>
            </a:br>
            <a:r>
              <a:rPr b="0" i="1" lang="en-US" sz="2000" spc="-1" strike="noStrike">
                <a:solidFill>
                  <a:srgbClr val="003366"/>
                </a:solidFill>
                <a:latin typeface="Verdana"/>
              </a:rPr>
              <a:t>[SCED has insufficient energy available to operate properly]</a:t>
            </a:r>
            <a:endParaRPr b="0" lang="en-US" sz="20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ame deployment procedure as Conditions #1 &amp; #2,</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based on A/S Capacity Monitor, executing every 10 second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ED’s failure to converge initiates Emergency State, emergency processes will then govern deployment</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65A37B44-601B-49B6-B348-8EA910248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228600"/>
            <a:ext cx="80010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all of NSRS Deployments</a:t>
            </a:r>
            <a:endParaRPr b="0" lang="en-US" sz="2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Deployed for each clock hour until HRUC sees a sustained capacity margin &gt;8% of forecasted load deman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ff-line generation resource</a:t>
            </a:r>
            <a:r>
              <a:rPr b="0" lang="en-US" sz="2000" spc="-1" strike="noStrike">
                <a:solidFill>
                  <a:srgbClr val="000000"/>
                </a:solidFill>
                <a:latin typeface="Verdana"/>
              </a:rPr>
              <a:t> allowed to ramp down at normal rate and trip off,</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ffer curve)</a:t>
            </a:r>
            <a:r>
              <a:rPr b="0" lang="en-US" sz="2000" spc="-1" strike="noStrike">
                <a:solidFill>
                  <a:srgbClr val="000000"/>
                </a:solidFill>
                <a:latin typeface="Verdana"/>
              </a:rPr>
              <a:t> will stay on and restore NSRS A/S schedule and ERCOT will update its HASL prior to next SCE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utput schedule)</a:t>
            </a:r>
            <a:r>
              <a:rPr b="0" lang="en-US" sz="2000" spc="-1" strike="noStrike">
                <a:solidFill>
                  <a:srgbClr val="000000"/>
                </a:solidFill>
                <a:latin typeface="Verdana"/>
              </a:rPr>
              <a:t> will stay on and back out NSRS amount from schedule [can be done incrementally],</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Load Resource</a:t>
            </a:r>
            <a:r>
              <a:rPr b="0" lang="en-US" sz="2000" spc="-1" strike="noStrike">
                <a:solidFill>
                  <a:srgbClr val="000000"/>
                </a:solidFill>
                <a:latin typeface="Verdana"/>
              </a:rPr>
              <a:t> will restore NSRS capability and energy w/in 3 hours from deployment expiration or restore it from another resour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4D8B6B6-8639-4D98-8939-07E6B3AC6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19:58:58Z</dcterms:created>
  <dc:creator>Mark Younger</dc:creator>
  <dc:description/>
  <dc:language>en-US</dc:language>
  <cp:lastModifiedBy>RaJones</cp:lastModifiedBy>
  <dcterms:modified xsi:type="dcterms:W3CDTF">2006-10-11T18:09:07Z</dcterms:modified>
  <cp:revision>38</cp:revision>
  <dc:subject/>
  <dc:title>Current State of Market</dc:title>
</cp:coreProperties>
</file>