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0224-0B2E-4765-9186-5D35CE262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C383-8D5A-4E16-9ACE-04FE1278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6A3B-B741-4A02-B25E-5E849B766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55F4-50C7-49FF-AD23-DF85D5038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8D50-4139-4654-957C-03391A8E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ECBF-ADD7-4AF7-92A3-EEB7D33F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1432-A306-4870-ADAC-FEDFC500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E8FC-8F9B-4813-847B-CEEE5573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1B02-1F1B-46FF-BBB5-4F448818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244F-F683-420E-A39C-F9C8B6F6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7710-7AA0-4FF8-A773-959EB237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1C65-8F4B-4AFF-B4F2-6B4E488D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74DA-51BB-49E4-B288-9D56489C7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1447920"/>
            <a:ext cx="87631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d review of analysis on business processes (standard move ins, move outs off-cycle switches, 814_20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 still needed on historical usa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nt afternoon working on slide deck for Nov 8 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d draft recommendations for PR60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meeting will be 3-5pm at TX SET meeting on 10/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track to present findings at Nov 8 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680" y="304920"/>
            <a:ext cx="5639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R672 Retail Market Analysis Update to R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DBEE-DB2C-4FFE-BA5C-3F3544418A4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kfarley</cp:lastModifiedBy>
  <cp:lastPrinted>2002-09-24T18:27:58Z</cp:lastPrinted>
  <dcterms:modified xsi:type="dcterms:W3CDTF">2006-10-03T20:13:41Z</dcterms:modified>
  <cp:revision>631</cp:revision>
  <dc:subject/>
  <dc:title>PowerPoint Presentation</dc:title>
</cp:coreProperties>
</file>