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1368-FE52-437C-A4C6-6E44BCB5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B213-F384-4047-B303-BF3176F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B11F-B24F-47BE-9F80-617B5A38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1069-DED2-43F7-BF3D-4A721CD6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AF0B-00D4-4E28-AF7E-EB85DC8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A8CF-D514-460D-B741-932F934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BDBF-8CF0-423B-9A1B-451E0924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DB43-A4EF-4D40-A186-3CB1546E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40A8-593E-49E7-8D12-E070CB0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A608-41A9-4DEA-8300-E969927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D2A5-D13A-4AE2-B6DE-A10AD27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DA2B-AD15-4871-A24B-FD9286C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B21-FC2A-48A6-AE64-20889CEE1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satterfield@ercot.com" TargetMode="External"/><Relationship Id="rId2" Type="http://schemas.openxmlformats.org/officeDocument/2006/relationships/hyperlink" Target="mailto:jfrederick@ercot.com" TargetMode="External"/><Relationship Id="rId3" Type="http://schemas.openxmlformats.org/officeDocument/2006/relationships/hyperlink" Target="mailto:smunson@ercot.co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320004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October 11, 2006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Susan Muns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Liaison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6278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us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arget for schedule, budget, and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ject Phases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tion –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 – Target completion date December 9, 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– Mandated completion date July 1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ing – Target completion is post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 Activ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tarted internal Conceptual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T developed recommendations for TTPT Script Sub-team Market Test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 for MCT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Production Implementation and Contingency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monitor Market issues and prog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6104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ugust 10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hase 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arget completion of February 27, 2007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arget completion of June 16, 2007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arget completion of May 29, 2007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24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Dates to be confirmed upon Planning Phase 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09520" y="1066680"/>
          <a:ext cx="69249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066680"/>
                    <a:ext cx="69249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/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077320" cy="3953160"/>
        </p:xfrm>
        <a:graphic>
          <a:graphicData uri="http://schemas.openxmlformats.org/drawingml/2006/table">
            <a:tbl>
              <a:tblPr/>
              <a:tblGrid>
                <a:gridCol w="2438280"/>
                <a:gridCol w="3810240"/>
                <a:gridCol w="18288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50121_07 RBP – Stabilization necessary for successful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Mandate of 07/01/2007 poses tight timel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143000" y="629280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– ERCOT in Austin (10/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- ERCOT in Austin (11/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– CenterPoint in Houston (12/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all meetings are held in conjunction with TX SET meeting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ture Meetings/Market Commun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219320"/>
            <a:ext cx="73152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 Manag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R. Business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e Satterfie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nnifer Freder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satterfield@ercot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frederick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522 (w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733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771-9582 (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413-0815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Market Li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an Mu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unson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3881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826-0564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ementation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T requests RMS approval for the implementation of TX SET V3.0 over the weekend of June 23 – 24, 2007 with a contingency implementation weekend of June 30 – July 1,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629280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oting I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Planning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 PPL   Source: Market/PUCT   Priority: 2.1   Rank: 54    Budget: $3-$5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Ercot</cp:lastModifiedBy>
  <dcterms:modified xsi:type="dcterms:W3CDTF">2006-10-05T16:57:48Z</dcterms:modified>
  <cp:revision>93</cp:revision>
  <dc:subject/>
  <dc:title>Slide 1</dc:title>
</cp:coreProperties>
</file>