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B6E-26D7-4DEE-9805-C692FE41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7B6-396F-44A8-A43F-895FB7E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617-DF9B-4F5A-893D-79D91F9C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5F7-F771-499A-A532-FC794057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0CE-C742-472C-8739-FB9EDFF1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10B1-DD9E-4181-A676-CA80BCF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3F0B-01EA-43C1-93AD-5ACCB79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E938-C3C3-454C-9465-23D2695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9809-48FB-4ED5-9EB5-379794A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09F-B510-47B5-9FD8-B663BBA5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01E7-D6C9-4BAD-9442-6364542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545-20DF-4663-9F2A-3A388DB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29B-54CC-4EE9-BDF1-1D8FD6C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E1E1-83B2-4187-9FEE-C7362D6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5F2A-B1EE-4145-84F3-73F6525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A4C-C17B-4C82-B6DC-C8BEBDF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212B-BFB5-4EAA-ADC5-8A629D53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FB9-7787-4907-BBAF-3E51418E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B13-0C47-4A94-B955-0A5AFC3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78E-4F20-4E0C-867A-F8F4EC5E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D9A-55E9-40A7-9A6F-49312EB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1CB-E663-4FC8-BE00-08EEE739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774-C8DE-4F2B-8648-BAB45277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54C-63E1-4F25-A35C-689FBE30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1F7-3C1C-40F9-A82B-E65AA32B3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5BE-5BF4-4F4E-8B13-67B9862818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Arial Rounded MT Bold"/>
              </a:rPr>
              <a:t>ERCOT Update to RMS on IDR Requirement Report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ctober 1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657440"/>
            <a:ext cx="7848720" cy="49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AMarquez</cp:lastModifiedBy>
  <dcterms:modified xsi:type="dcterms:W3CDTF">2006-10-04T15:21:37Z</dcterms:modified>
  <cp:revision>109</cp:revision>
  <dc:subject/>
  <dc:title>IDR Taskforce Report to RMS</dc:title>
</cp:coreProperties>
</file>