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605C-D024-4AF9-8C31-B2AF203E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1732-316E-4D7C-A409-65E1A270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A9C9-15E4-457E-AB3D-B9558F15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03CE-FDDB-4A6E-B6D6-09E8D2F3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965C-A2F9-4F48-B5C1-72EEE174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EDE5-92ED-445B-94F7-CD83D1E0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8BC9-5F0B-49C1-8EE0-6A5EADE7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7DB5-58DF-47C7-BC36-D1D048CD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297D-6A36-4FB6-90AA-BB046170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F9C0-E77F-413C-AE92-4BFFC78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D188-A3A4-4A84-986A-4B074947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CB17-F96D-4BB3-9D5E-FCB3EBB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D545-BA72-44C8-B9CB-713DEF586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ctober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Year-To-Date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22200" y="1066680"/>
          <a:ext cx="6699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066680"/>
                    <a:ext cx="6699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ptember 2006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60440" y="1066680"/>
          <a:ext cx="64231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0440" y="1066680"/>
                    <a:ext cx="64231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295280"/>
          <a:ext cx="822960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822960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6-10-06T19:25:00Z</dcterms:modified>
  <cp:revision>33</cp:revision>
  <dc:subject/>
  <dc:title>Instructions</dc:title>
</cp:coreProperties>
</file>