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FADEA-6E94-4F89-AE8B-2EED5C4665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29C55-C203-4EB4-9DC1-931937D90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2F717-059E-4E98-9284-6108DEFBE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1DA5D-31CA-4742-B832-553684B904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015F0-A785-49DB-B633-E50DFFDAE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CE187-2474-4446-A8D0-635C22219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685FA-C8E6-467A-B9D9-A3289C7F2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76B3E-9370-4BBA-A6BF-95E8D08B0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35B62-D63B-4C9F-90A9-2A5BEB0D7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6B57A-18FB-48B5-B2CB-52A8BE716A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87320-1D2F-4050-BB8C-EBA5D3069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7351-EA2D-44D4-AC3F-3E7E31BFB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D78A-925C-4F94-89E4-BD24ED28A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amartinez@erco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24040" y="1293480"/>
            <a:ext cx="59436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ERCOT Outage Evaluation &amp; Resolution Phases I &amp; I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PR 60006_01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Project Update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October 11, 2006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Adam D. Martinez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Mgr, Market Operations DP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809880"/>
            <a:ext cx="716292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843120"/>
            <a:ext cx="868680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Stat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arget for Scope &amp;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 impact to testing &amp; production mig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P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on &amp; Planning Phases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Phase unde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ing Phase scheduled for First Quarter ‘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nt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testing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s plans to CERT and ITES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configuration and software installation in ITEST/C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Participan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edule Revision / Market Impa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76212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e Re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to ITEST environment to support Testing was delayed due to storage capacity limitation.  Issue resolved, however new schedule requi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53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perFree fileserver will be installed in ITEST/CERT week of 10/16/0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53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perFree fileserver production installation rescheduled for 11/11/06 Retail Re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53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Ad Hoc Connectivity Test Window for NAESB now scheduled for late Nov. 2006 after current Flight Test ends on 11/21/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53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ESB replacement production migration rescheduled for late Dec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Impacts from NAESB Cut-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roduction NAESB URL (NAESB.ercot.com) available mid to late Dece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require Market Participants to implement changes within MP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5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to new UR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5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User ID/Pass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5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PGP 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5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SSL certificates (if necessa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5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address changes to firewalls (if necessa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ing NAESB will remain in parallel production until all MPs are using new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rics Report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762120"/>
            <a:ext cx="8839440" cy="41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ion 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rics based on improvements from SCR 745 will not be available until all affected MPs complete NAESB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ipts will be made available to assist in transition to new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ing NAESB system will remain in place until all MPs are successfully using the new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 of Metrics based on SCR 7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all MPs have converted to the new NAESB URL, production metrics will be based on stats from both current and new NAESB si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recommends that the Market complete NAESB changes by agreed-upon date.  Proposed cut-off for use of existing NAESB: January 31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2076480"/>
            <a:ext cx="82296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 D. Martin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r, Market Operation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38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martinez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DTaylor</cp:lastModifiedBy>
  <dcterms:modified xsi:type="dcterms:W3CDTF">2006-10-04T20:15:21Z</dcterms:modified>
  <cp:revision>79</cp:revision>
  <dc:subject/>
  <dc:title>Instructions</dc:title>
</cp:coreProperties>
</file>