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5215-4FF0-4032-AC15-5BA4D5E65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882B-1B0B-45B2-8198-A497C6874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098720" y="68580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4960" y="6426000"/>
            <a:ext cx="50720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561A9-49FF-479A-B7E0-90034B64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B75DE-C367-4232-A26D-B16DD42F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A1772-E324-4B18-A213-AFFA6F09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9CDC-8B26-444E-83A7-F57D1E6D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03F38-905A-4B28-BC5B-4BBEC2FE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0AD4E-1514-4A6E-960E-1848AD3D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AD8F-354A-486F-ACCA-221DDCDD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A24F5-CE78-466A-964F-F8C1940E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A832-F3AF-466A-97C5-24E6F38B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D36B9-AEFC-444E-BC89-E431D493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4D7A-9191-4C93-9B86-818DA485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F51B-DB1F-4E86-A09F-5B2452D9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C3E5-459A-4E49-859E-21D25E0DB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11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tober 11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6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10/06/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began with Day 1 transactions flowing: 10/09/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1006 scheduled to conclude: 11/21/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testing scheduled to conclude: 12/12/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6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TD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New REPs – 18 New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New Umbrella D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Existing REPs testing in a new territory – 2 New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Existing REP testing new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Existing REPs testing Change of Servic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xisting REP (New Umbrella DUNs) changing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27 Total Tasks (plus 165 Total MarkeTrak API tasks = 56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6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tarted 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of 10/10/06 at 5:00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X.XX% compl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X.XX% by end of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PI Certific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06668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1006 is the first Flight to Market test and certify for MarkeTrak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Participants 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cripts utilized for MarkeTrak API testing / 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1 ERCOT/CR Connectivity script (CON57) and 1 ERCOT/TDSP Connectivity script (CON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5 Total Tasks for MarkeTrak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38160" y="255600"/>
            <a:ext cx="7175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4191120" cy="225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sherri slagowski</cp:lastModifiedBy>
  <dcterms:modified xsi:type="dcterms:W3CDTF">2006-10-03T20:43:03Z</dcterms:modified>
  <cp:revision>53</cp:revision>
  <dc:subject/>
  <dc:title>Instructions</dc:title>
</cp:coreProperties>
</file>