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A3C1-D25B-4077-9975-10F6F352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380880" y="10663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5446B-4295-4CDB-86B3-1E4D135D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CF5EE-57B9-41E9-90EB-4316128AF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38088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1516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49440" y="10663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38088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1516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49440" y="3573720"/>
            <a:ext cx="26989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AC612-6FA4-438E-AB41-C28C20FE7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380880" y="1066320"/>
            <a:ext cx="8382240" cy="48006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AF9B-71C0-4A64-9774-58EADCF42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380880" y="1066320"/>
            <a:ext cx="838224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624F-7A62-4945-8CA4-9FDB18C39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4F0C9-01C7-4935-92EC-64697AB3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DDE66-0866-44A4-94F1-7E9C5C906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229600" cy="31802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75FE-16C7-4BE5-9405-5787E9B9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604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38088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55AD7-E52A-4350-A1F3-C8CA4B85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380880" y="1066320"/>
            <a:ext cx="4090320" cy="4800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6040" y="35737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3153-9FD4-4132-8D98-67A36177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38088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6040" y="1066320"/>
            <a:ext cx="409032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380880" y="3573720"/>
            <a:ext cx="8382240" cy="22896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0848-3032-4337-8443-B8A23D203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066320"/>
            <a:ext cx="8382240" cy="4800600"/>
          </a:xfrm>
          <a:prstGeom prst="rect">
            <a:avLst/>
          </a:prstGeom>
          <a:noFill/>
          <a:ln w="0">
            <a:noFill/>
          </a:ln>
        </p:spPr>
        <p:txBody>
          <a:bodyPr lIns="90000" rIns="90000" tIns="46800" bIns="46800" anchor="t">
            <a:normAutofit/>
          </a:bodyPr>
          <a:p>
            <a:pPr marL="343080" indent="-169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E569-0981-4515-90D1-526DDBEF5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
          <p:cNvSpPr/>
          <p:nvPr/>
        </p:nvSpPr>
        <p:spPr>
          <a:xfrm>
            <a:off x="1066680" y="6432480"/>
            <a:ext cx="289584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ctober 11, 2006</a:t>
            </a:r>
            <a:endParaRPr b="0" lang="en-US" sz="1200" spc="-1" strike="noStrike">
              <a:solidFill>
                <a:srgbClr val="000000"/>
              </a:solidFill>
              <a:latin typeface="Arial"/>
            </a:endParaRPr>
          </a:p>
        </p:txBody>
      </p:sp>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63360" y="6289560"/>
            <a:ext cx="854280" cy="479520"/>
          </a:xfrm>
          <a:prstGeom prst="rect">
            <a:avLst/>
          </a:prstGeom>
          <a:ln w="0">
            <a:noFill/>
          </a:ln>
        </p:spPr>
      </p:pic>
      <p:sp>
        <p:nvSpPr>
          <p:cNvPr id="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ylight Savings Time 2007</a:t>
            </a:r>
            <a:endParaRPr b="0" lang="en-US" sz="2400" spc="-1" strike="noStrike">
              <a:solidFill>
                <a:srgbClr val="ffffff"/>
              </a:solidFill>
              <a:latin typeface="Arial Black"/>
            </a:endParaRPr>
          </a:p>
        </p:txBody>
      </p:sp>
      <p:sp>
        <p:nvSpPr>
          <p:cNvPr id="48" name="PlaceHolder 2"/>
          <p:cNvSpPr>
            <a:spLocks noGrp="1"/>
          </p:cNvSpPr>
          <p:nvPr>
            <p:ph/>
          </p:nvPr>
        </p:nvSpPr>
        <p:spPr>
          <a:xfrm>
            <a:off x="0" y="761760"/>
            <a:ext cx="9144000" cy="4724280"/>
          </a:xfrm>
          <a:prstGeom prst="rect">
            <a:avLst/>
          </a:prstGeom>
          <a:noFill/>
          <a:ln w="0">
            <a:noFill/>
          </a:ln>
        </p:spPr>
        <p:txBody>
          <a:bodyPr lIns="90000" rIns="90000" tIns="46800" bIns="46800" anchor="t">
            <a:normAutofit/>
          </a:bodyPr>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a:t>
            </a:r>
            <a:endParaRPr b="1"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ugust 8, 2005, President George W. Bush signed the </a:t>
            </a:r>
            <a:r>
              <a:rPr b="0" i="1" lang="en-US" sz="1800" spc="-1" strike="noStrike">
                <a:solidFill>
                  <a:srgbClr val="000000"/>
                </a:solidFill>
                <a:latin typeface="Arial"/>
              </a:rPr>
              <a:t>Energy Policy Act of 2005</a:t>
            </a:r>
            <a:r>
              <a:rPr b="0" lang="en-US" sz="1800" spc="-1" strike="noStrike">
                <a:solidFill>
                  <a:srgbClr val="000000"/>
                </a:solidFill>
                <a:latin typeface="Arial"/>
              </a:rPr>
              <a:t>. This Act changed the time change dates for Daylight Saving Time in the U.S. Beginning in 2007, DST will begin on the second Sunday of March and end the first Sunday of November. The Secretary of Energy will report the impact of this change to Congress. Congress retains the right to revert the Daylight Saving Time back to the 2005 time schedule once the Department of Energy study is complete</a:t>
            </a:r>
            <a:endParaRPr b="0" lang="en-US" sz="1800" spc="-1" strike="noStrike">
              <a:solidFill>
                <a:srgbClr val="000000"/>
              </a:solidFill>
              <a:latin typeface="Arial"/>
            </a:endParaRPr>
          </a:p>
          <a:p>
            <a:pPr marL="343080" indent="-1699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p</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DST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s at 2:00 a.m. on the first Sunday of April and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 at 2:00 a.m. on the last Sunday of Octob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DST will change 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at 2:00 a.m. on the second Sunday of March and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 at 2:00 a.m. on the first Sunday of Novemb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93D0EE4-AA9D-4A34-B208-D5823BE8DEDD}"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kfarley</cp:lastModifiedBy>
  <dcterms:modified xsi:type="dcterms:W3CDTF">2006-10-09T16:31:26Z</dcterms:modified>
  <cp:revision>140</cp:revision>
  <dc:subject/>
  <dc:title>Role of Account Management at ERCOT</dc:title>
</cp:coreProperties>
</file>