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1024-25C8-4D22-9449-CD617C5CE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16A6-3F1E-4868-8774-C0B10A496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C334-9169-4E51-AC3A-D6E970927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B65-964E-440D-BCB2-692C162A5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3014-A1F9-442F-BC31-2638CE6EC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D972-CF6D-4DD1-ACB2-33AF15F65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E300-FD8D-4848-ACAE-2F389EBF3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404E-1985-4639-91E0-1EAF62D66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7B2E-F22A-4C5E-8D41-47B3AA2B1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E18A-7EA9-43C1-BED5-EE8ACE5EC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9FE2-7604-4FA7-99EB-291A06255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F9E3-8E99-4C12-AD7B-DA8B40C55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AF24-B744-4D91-9D37-5019381D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hyperlink" Target="mailto:hparrish@erco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182880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50121_07 Retail Business Processes (RBP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11, 2006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8991720" cy="53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on target for Schedule, Scope, an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08/0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05/08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1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-Live on 12/10/2006 weekend; Stabilization through 02/09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Target to complete Febr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Build for Reprocessing and 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Build for Retail TML (Find ESIID, Find Transaction, Customer Sw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Migration Plan for cut-over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AT of Co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Data Conver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UAT on Reprocessing, ETS, and 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949320"/>
            <a:ext cx="8610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April 12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July 14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July 28, 2006 for Co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ternal 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letion Date of December 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letion of November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duction (Go live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end December 10, 2006  **Code Migration, Data Conversion, and Production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Statu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280" y="9140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 08/28 – 60% complete (approx. 600 scri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TML: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 10/02 – 0% (approx. 50 scri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ing: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 10/02 – 0% (approx. 70 script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S Testing: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 10/02 – 0% (approx. 60 script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Performance Testing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s 10/30 – 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Testing: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s 10/30 – 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urrently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total defects to date.  Breakd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– 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– 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Environment – 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–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known –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A exception Migration Weeken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es/Time Window Requi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:  7:00 AM  Friday, 12/08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: 11:30 PM Sunday, 12/10/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gration window Schedule accommodates Migration, Data Conversion, and Verification activities , and avoid high-volume transaction week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tional Information – Functions Aff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articipants utilizing NAESB WILL be able to send to ERCOT but will NOT be able to Receive from ERCOT during the ou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0400">
              <a:lnSpc>
                <a:spcPct val="100000"/>
              </a:lnSpc>
              <a:spcAft>
                <a:spcPts val="700"/>
              </a:spcAft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NAESB will be offline between 8:00AM to 9:00AM Saturday, 12/9/06 for server rebo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7 Transactions will NOT be forwarded during the ou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97 Functional Acknowledgements will NOT be sent during the ou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/Notification batch exception in the event of a roll-back on 12/10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ail components of the TML and API will NOT be available inclu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Report Explor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/ Searc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E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Find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Submit Trans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USA Functional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A exception Migration Weeke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(con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nversion Load 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 hour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outage to the Market by launching Go-Live with 3-6 months of 2006 descending transactional data (previously stored in Seebeyond TCH Data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n remaining years on following weekends.  (Low to zero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TML and API Find Transaction will be limited to Data Conversion 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 by late December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6 / January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 Exception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questing approval of exception migration support of thi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gration Weekend Time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838080"/>
          <a:ext cx="86104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104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35160"/>
            <a:ext cx="82296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, Market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10-04T01:26:14Z</dcterms:modified>
  <cp:revision>64</cp:revision>
  <dc:subject/>
  <dc:title>Instructions</dc:title>
</cp:coreProperties>
</file>