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9F3ABF-1922-4FCD-B39F-F43C1458CC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358801-5517-4E4B-A5DB-EEC778E026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CD3313-5D1C-4CDC-8703-A93664B2C7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30E376-544E-4867-B7F7-E021C9DD18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021558-2ECD-4691-9A7F-3EEF07C851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B3AB5B-DB5A-4D2C-BE3E-55682B8617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0D13DC-D3E9-4D64-AF90-811303638B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1B35B7-2012-4008-9CC0-C932CF91A5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D630E7-8B17-47FC-8FED-F70FD59E51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3283A3-904B-4791-B3A2-257BA0132E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99E84F-F185-418C-A769-1CEFF81B84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DD8305-36EC-479E-8810-15517FFE23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D3DC7-09F5-4701-91DE-769F2FB878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333520" y="1905120"/>
            <a:ext cx="647712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amartinez@ercot.com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440" y="1828800"/>
            <a:ext cx="80773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3600" spc="-1" strike="noStrike">
                <a:solidFill>
                  <a:srgbClr val="ffffff"/>
                </a:solidFill>
                <a:latin typeface="Lucida Bright"/>
              </a:rPr>
              <a:t>MODPO Update Project Financials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Lucida Bright"/>
              </a:rPr>
              <a:t>2006 Year-To-Date</a:t>
            </a:r>
            <a:br>
              <a:rPr sz="36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Lucida Bright"/>
              </a:rPr>
              <a:t>Retail Market Subcommitte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Lucida Bright"/>
              </a:rPr>
              <a:t>October 11, 2006</a:t>
            </a:r>
            <a:br>
              <a:rPr sz="2800"/>
            </a:br>
            <a:br>
              <a:rPr sz="2800"/>
            </a:br>
            <a:r>
              <a:rPr b="1" lang="en-US" sz="2400" spc="-1" strike="noStrike">
                <a:solidFill>
                  <a:srgbClr val="ffffff"/>
                </a:solidFill>
                <a:latin typeface="Lucida Bright"/>
              </a:rPr>
              <a:t>Adam Martinez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Lucida Bright"/>
              </a:rPr>
              <a:t>Mgr, Market Operations DPO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6" name=""/>
          <p:cNvSpPr/>
          <p:nvPr/>
        </p:nvSpPr>
        <p:spPr>
          <a:xfrm>
            <a:off x="1143000" y="3809880"/>
            <a:ext cx="7162920" cy="0"/>
          </a:xfrm>
          <a:prstGeom prst="line">
            <a:avLst/>
          </a:prstGeom>
          <a:ln w="316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90440" y="0"/>
            <a:ext cx="793296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006 PPL Status and Budget Update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163440" y="757080"/>
          <a:ext cx="8858160" cy="5033880"/>
        </p:xfrm>
        <a:graphic>
          <a:graphicData uri="http://schemas.openxmlformats.org/drawingml/2006/table">
            <a:tbl>
              <a:tblPr/>
              <a:tblGrid>
                <a:gridCol w="638280"/>
                <a:gridCol w="2706480"/>
                <a:gridCol w="644760"/>
                <a:gridCol w="1701720"/>
                <a:gridCol w="568440"/>
                <a:gridCol w="487440"/>
                <a:gridCol w="1014120"/>
                <a:gridCol w="1096920"/>
              </a:tblGrid>
              <a:tr h="36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ourc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jec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ject No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urrent Phase/Statu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6 Priorit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6 Rank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6 Budget Rang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6 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unning</a:t>
                      </a: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Rang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99"/>
                    </a:solidFill>
                  </a:tcPr>
                </a:tc>
              </a:tr>
              <a:tr h="237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ke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nhancement to FasTrak Tool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00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ecution Phas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0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8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$1M-$3M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1M-$3M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RCO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ndpoint Services - Phase I  (TIBCO Sub-project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121_0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lose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0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100k-$500k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1M-$3M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31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RCO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tail Business Processes (TIBCO sub-project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121_0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ecution Phas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0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1M-$3M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4M-$6M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31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RCO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ndpoint Services - Phase II (TIBCO sub-project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121_0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ecution Phas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0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100-$500K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4M-$6M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RCO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X SET 2.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3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lose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0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&lt;$100k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4M-$6M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31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RCO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5 SIR Enhancement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02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lose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0b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8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100k-$500k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4M-$6M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3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ke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X SET 3.0, including Mass Transition and T&amp;C'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38_0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lanning Phase; major carry-over into 2007 PP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.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500k-$1M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6M-$8M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64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ke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RCOT Outage Evaluation and Resolution, Ph. I &amp;I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0006_0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ecution Phas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500k-$1M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6M-$8M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9080">
                <a:tc gridSpan="8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O Cut Line </a:t>
                      </a:r>
                      <a:r>
                        <a:rPr b="1" i="1" lang="en-US" sz="9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Initial placement based on consolidated ERCOT PPL; RO allocation = $6.75M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0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5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ke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erformance Measures Reportin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0007_0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erred to 2007 PP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2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ke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s and Conditions Requirements (not included in TX SET release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0008_0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 2007 PPL for Phase 2 of PRR 672 (below capability line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31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RCO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OA Extend Footprin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0010_0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ncelled, not on 2007 PP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9080">
                <a:tc gridSpan="8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O Capability Range </a:t>
                      </a:r>
                      <a:r>
                        <a:rPr b="1" i="1" lang="en-US" sz="9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Line placement varies based on Forecasted Spend for Portfolio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RCO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SI ID Account Table Spli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0015_0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t Started; 2007 PP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30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RCO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RCOT.com Secured Are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0077_0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lanning Phas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.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100k-$500k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6M-$8M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RCO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DW Siebel Transitio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059_0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ecution Phas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500k-$1M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6M-$8M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31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RCO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DW TCH Transitio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060_0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ecution Phas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100k-$500k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6M-$8M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RCO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DW EAI Transitio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061_0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t Started; 2007 PP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31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RCO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TS Transition to EDW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088_0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t Started, 2007 PP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89" name=""/>
          <p:cNvSpPr/>
          <p:nvPr/>
        </p:nvSpPr>
        <p:spPr>
          <a:xfrm>
            <a:off x="152280" y="5791320"/>
            <a:ext cx="8763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59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s of 9/30/06, MODPO forecast spend though 2006 for combined RO &amp; MO projects indicates an that budget available covers Q4 2006 forecast spend, including the additional $200k added to MarkeTrak project budg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uestions / Contact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2076480"/>
            <a:ext cx="8229600" cy="22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am D. Martine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gr, Market Operations Divisional Projects Organ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C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512) 248-388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martinez@erco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/>
  <dc:description/>
  <dc:language>en-US</dc:language>
  <cp:lastModifiedBy>amartinez</cp:lastModifiedBy>
  <dcterms:modified xsi:type="dcterms:W3CDTF">2006-10-04T02:18:19Z</dcterms:modified>
  <cp:revision>44</cp:revision>
  <dc:subject/>
  <dc:title>Instructions</dc:title>
</cp:coreProperties>
</file>