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A2A-AA98-4C8E-A35F-1B68BD77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D60-753E-44D3-AC05-0FA19A50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E97-ED27-43DD-A601-54E8AD75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118-1901-4153-ADB1-44B8E54E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6B5-E264-4E22-AB9B-27305FD5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28A-51A4-4EB2-A6FC-85B0DF46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64C-CE4D-4072-BE02-A67EE11A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AE6-CD05-4AF2-9A75-C5FCE720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3A6-EBD7-4837-9455-2B7AA737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D8C-18F6-4050-833C-0ADAFE0D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7D4-DCA5-47DF-A7F5-C742F2A9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970-244A-4B0B-8535-8DA8E920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71EB-4F94-449F-9430-5E5E2215D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formats </a:t>
            </a:r>
            <a:br>
              <a:rPr sz="28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l Customer Choi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D3CB-D51C-4296-882F-FA6E8746EF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(thru 09/30/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5257800"/>
            <a:ext cx="8686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0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Progress D2D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3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 Total D2D Issue ESI IDs worked to date since January 1, 2006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3,2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D68-3945-4DBB-BEB3-D9DDB6758E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(thru 09/30/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541044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2280" y="297180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A0E-0D6F-44FC-8D77-1AFD547CC2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 (thru 09/30/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4100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167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F77-B5B7-406C-B0A2-E982D7E1D75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(thru 09/30/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5562720"/>
            <a:ext cx="85341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285 In Progress DEV Issues, 53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FA5-E26F-4E11-9599-4F4360F477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 (thru 09/30/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9608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103-7104-4549-9745-FFCA9154C1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(thru 09/30/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C24-92EB-4B4A-A64E-5413A1A644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4129-FA71-4E95-AC6F-8AED7AC2B5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F61-8BD9-4280-B2C4-66E704308E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AE4-9B01-4ADB-B2CA-B27AD828DE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02A-CDA8-47EC-B1A7-A12C1D6C18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8153280" cy="25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BA5-661C-461F-95C9-DFE1F6E9BD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84280" y="1441440"/>
            <a:ext cx="8178840" cy="434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92C-EE34-49D9-9852-A2244CF6F2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B48-BD7C-4EFC-BF37-12CAB54388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to Day’ FasTrak 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(thru 09/30/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038480"/>
            <a:ext cx="70102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 = ERCOT Initiated Is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ERCOT issue = Issues logged directly between the CR and TDSP with no ERCOT involvement to resol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egory of “All Other” does not have subtype.  Issues logged as “All Other” can include Transaction Issues, Rep of Record Issues, Service Order Change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63E-3F56-4BA5-A2D5-A168A01369B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lwest</cp:lastModifiedBy>
  <cp:lastPrinted>2002-09-24T18:27:58Z</cp:lastPrinted>
  <dcterms:modified xsi:type="dcterms:W3CDTF">2006-10-05T12:46:28Z</dcterms:modified>
  <cp:revision>636</cp:revision>
  <dc:subject/>
  <dc:title>PowerPoint Presentation</dc:title>
</cp:coreProperties>
</file>