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E469-E293-4D66-B890-5DBB44C33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8F3E-8EE7-4E5C-9B2F-D25913244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CEF7-EA1E-4FFF-B23A-22A096B15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916F-C9F9-4F75-9CD0-D379B2516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08A6-6BED-43AF-BFC5-926505C36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6EF1-AC0D-4963-B7B9-4B7D7A471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5F11-BEBA-426C-9772-98075AEDE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DCA5-45ED-4171-A09D-D026C01E6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F281-A721-460A-8C05-A2D433D44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4CEE-EE42-43DA-8921-C30E95715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70A3-DC0A-4D10-9A68-125AA473C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70DF-7667-4EAE-86AE-7708C086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FA5-CA47-4CC3-985A-5946D783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182880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nhancements to FasTrak</a:t>
            </a: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5000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1, 2006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0988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sue Resol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RMS – ERCOT reported two issues impacting schedule and bud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Scientific Notation Issue – when downloading long numbers from data to Excel (e.g. ESI IDs), number converts to scientific notation because field not recognized as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Update Issue – when a mass update request submitted by several users at same time, updates for some fail while others are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pproved support for ERCOT recommendation to move forward with project using new schedule and budget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464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fix for Scientific Notatio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464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-around okay for Mass Update issue; but fix 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issues now successfully resolved!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88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will launch with Mass Update functional and ESI-IDs not converting to scientific notation in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Event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esented at September Board of Directors meeting a request for approval of budget increase &amp; schedule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increase, EXCLUDING fix for Mass Update issue, estimated $18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project budget cap increasing from $2.5MM to $2.7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ed with project immediately and avoid continued delay from Mass Update issue, remaining activities will consume up to a 10-week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rket go-live date is Novemb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chedule minimizes impacts from ERCOT planned blackout periods and conflicts from other projects in pipeline (RBP &amp; TX SET 3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Board of Directors approved requested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Schedu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762120"/>
          <a:ext cx="8686800" cy="5364000"/>
        </p:xfrm>
        <a:graphic>
          <a:graphicData uri="http://schemas.openxmlformats.org/drawingml/2006/table">
            <a:tbl>
              <a:tblPr/>
              <a:tblGrid>
                <a:gridCol w="3124080"/>
                <a:gridCol w="2057400"/>
                <a:gridCol w="1752840"/>
                <a:gridCol w="175248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st Environment 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8 – 9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UAT – GUI &amp; API Regression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25 – 10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 Sand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ximately 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27 – 10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2 – 10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gration to CERT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3 – 10/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CERT Test – AP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30 – 1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Migration &amp; Stabilization Prior to Market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30 – 1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 L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rak Trai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to conduct “refresh” training for Market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 – October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t CenterPoint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las – October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t TX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 – October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t ERC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esigned to be “hands on”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Market feedback, the training will focu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is limited for these training classes so please register with Scott Egger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512-248-31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Profile Spreadsheet due no later than October 1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ERCOT to load your MarkeTrak users into the system prior to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submission rate at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 submission rate at 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 not submit a User Profile Spreadsheet, your MarkeTrak Administrator will have to manually load your users into the system AFTER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spreadsheets to Scott Egger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Contact at email or 512-248-3162 with questions about the User Profile Spreadsh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07648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6-10-04T02:17:26Z</dcterms:modified>
  <cp:revision>64</cp:revision>
  <dc:subject/>
  <dc:title>Instructions</dc:title>
</cp:coreProperties>
</file>