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3EA-612B-4E73-8A38-C47FEF43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10D-B9D0-46A6-AF9B-F458851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8C5-D53B-4B7A-9167-2E8FFD4F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676-CB6D-48EC-B915-2E23F974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DA0-4218-4DC4-BC82-8C6BA12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478-16A2-421B-8FFD-2EAE7BE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716-0A0D-45A5-BC52-77782A4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677-5F49-4C12-9F1A-5071DBC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A80-77BD-4759-A34C-C84E7A8C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84A-F006-4497-8356-3DA5838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225-BF0C-4C86-AAAF-9B0A56D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169-4654-4ACF-A892-3A6708E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98A5-7B0A-439A-9D8B-4D15E2E8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Load Forecast Uncertainty V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should not be man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has some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should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should decide the uncertainty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should recommend market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forecast is a system wide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uncertainty fix should be uplifted system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Day-Ahea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Forecast = Load forecast (LF) + 1800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(LF + 18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(LF + 1800)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skips capacity bids behind a 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constrained capacity cannot serve load increase within the constrained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assumes all constrained capacity pockets will experience an N-2 event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ed NSRS is not considered as available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 data shows 8 to 10% of on-line capacity being con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out load forecast uncertainty (LFU) from R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LFU with on-lin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ub the model to find inefficiencies in the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uncertainty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distribution of load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vailable capacity not being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ompares unconstrained on-line capacity to load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urchases RPRS if load forecast exceeds unconstrained on-lin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etermines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sufficient capacity equal to the hourly LFU by procuring incremental Ancill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urement of Ancillar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from Ancillary Servic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Responsive Reserv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Up Regul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3 from N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cures only as much hourly LFU as is required (peak LFU for peak hour and less than 100% LFU for non-peak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assigns the incremental AS on a load-ratio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lement process remains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Short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tart charge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inimum energy (LSL) at hig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paid only if de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lead time issues (gen responsi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enerator min up times (minimizes procur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cern with units failing to start (already on-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across multiple AS markets minimizes depletion of any one bid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RS is handled separately, but this solution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mizes, if not eliminates, RPRS procurement (quantity and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b the model to confirm that 8 to 10% of on-line capacity is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probability of multiple N-2 events occurring simultaneous is realistic o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the ability of  constraint capacity to serve load increases within the generation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capability of combine cycle units or other units to provide “reserve” capability during emergencies (duct fired, over-pressure,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Long-Ter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s, if not eliminates, RPRS procurement (quantity and ho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assigns cost of L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availabl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s divergence of Day-Ahead and Real-tim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20:55:33Z</dcterms:created>
  <dc:creator>Rafael Lozano</dc:creator>
  <dc:description/>
  <dc:language>en-US</dc:language>
  <cp:lastModifiedBy>Rafael Lozano</cp:lastModifiedBy>
  <dcterms:modified xsi:type="dcterms:W3CDTF">2006-07-31T21:00:07Z</dcterms:modified>
  <cp:revision>7</cp:revision>
  <dc:subject/>
  <dc:title>ERCOT Load Forecast Uncertainty</dc:title>
</cp:coreProperties>
</file>