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AF9-754E-4A08-9F06-9FED4F96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E60-D874-48CC-915E-B7FA632B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1C95-2A17-4977-A686-7EFE9E4B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9DE-C1B0-47C9-9C93-72963981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1287-F50A-47B3-BD23-5F60C214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4D7D-F23F-4E84-B492-621C6F9B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9875-C9D9-4BD0-BDE3-0CED5875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649E-3987-4ED7-949C-1C38B0A2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E82D-B442-402A-BB1B-22067BF2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5EE0-0437-436E-921F-242C14FA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A38E-0774-43BE-8568-9515B36D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4B6-6614-4409-9F4F-316D3F94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62D4-5438-4B1F-81A7-ADD755A7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0E04-FBF9-4E65-9D9D-716A2700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6E72-A4B8-48C4-A3D3-5DA2C378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B4EE-A2FA-4106-A1A7-CC94BE13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BF83-D0B6-45F0-A780-3605B711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5FB-05BD-4B83-BC77-4C71E40B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B3E-A9AB-41AF-8649-5AEE2AFC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F65-B0AF-4761-9321-5BDF1AC0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44B-79DB-4B76-AE20-8DD8C533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271-A8FE-4668-AFDB-3D36CE86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4AD-84AC-458F-AD73-212FB366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E13-ADDA-4252-B9F8-5E293622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3AEE-0FAA-43B2-A721-95B901E71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55600" y="6445080"/>
            <a:ext cx="2895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tember 26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"/>
          <p:cNvSpPr/>
          <p:nvPr/>
        </p:nvSpPr>
        <p:spPr>
          <a:xfrm>
            <a:off x="5181480" y="6445080"/>
            <a:ext cx="3733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rcial Operations Subcommitte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733920" y="64310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40CA-2FE3-4D1B-9CB3-508968720CB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C5EF-02DE-4F42-BFEE-CACBDBBAF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issues/prr/300-324/312/index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omm/projects/current/30026/index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omm/projects/current/40042_06/index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19080" y="1143000"/>
            <a:ext cx="9144000" cy="5715000"/>
          </a:xfrm>
          <a:prstGeom prst="rect">
            <a:avLst/>
          </a:prstGeom>
          <a:solidFill>
            <a:srgbClr val="294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5600" y="2057400"/>
            <a:ext cx="61722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ata Extrac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gr., Market Operations Divisional Project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ercial Operations Subcommittee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ember 26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C6E-05E5-4EA5-A0F7-0BDEF5383B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4397400" y="27903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657760" y="2758680"/>
            <a:ext cx="12960" cy="297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33920" y="276876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771120" y="2835000"/>
            <a:ext cx="19080" cy="24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meline Targets Consolidated Summa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104920" y="2806200"/>
            <a:ext cx="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85920" y="685800"/>
            <a:ext cx="19080" cy="557208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54400" y="685800"/>
            <a:ext cx="0" cy="560088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81640" y="704880"/>
            <a:ext cx="0" cy="556272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95160" y="279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320" y="2724120"/>
            <a:ext cx="9067680" cy="2556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2920" y="7365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Sept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56000" y="72720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14760" y="72720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Nov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0" y="1133280"/>
            <a:ext cx="914400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7680" y="3206880"/>
            <a:ext cx="904680" cy="8445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9/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EIS Producti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rebuchet MS"/>
              </a:rPr>
              <a:t>Mi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42_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95680" y="1176480"/>
            <a:ext cx="1419120" cy="10929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Mid to Late 10/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Complete Production Stabil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Market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300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42_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609120" y="2139840"/>
            <a:ext cx="972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2600" y="268272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3225960"/>
            <a:ext cx="847800" cy="102960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0/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ITEST Begins for 12/2/06 rele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50040" y="2657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00440" y="2644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8560" y="268272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32360" y="71424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Dec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4721400"/>
            <a:ext cx="685800" cy="10879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0/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ost User Guide with Cutover 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867040" y="279036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41560" y="2644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42080" y="265896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043680" y="2819160"/>
            <a:ext cx="14400" cy="14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72240" y="4286160"/>
            <a:ext cx="923760" cy="9892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2/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ITEST Begins for 1/18/07 rele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59 extra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75560" y="704880"/>
            <a:ext cx="0" cy="558180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6760" y="1368360"/>
            <a:ext cx="733320" cy="9662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9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EIS Producti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rebuchet MS"/>
              </a:rPr>
              <a:t>Mi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300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4880" y="268272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5083200"/>
            <a:ext cx="799920" cy="8445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9/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42_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oduction Stabilization be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6040" y="1211400"/>
            <a:ext cx="228600" cy="228600"/>
          </a:xfrm>
          <a:prstGeom prst="star5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25760" y="26668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00720" y="3206880"/>
            <a:ext cx="904680" cy="102960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2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EIS Producti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rebuchet MS"/>
              </a:rPr>
              <a:t>Mi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91160" y="264780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27800" y="5506920"/>
            <a:ext cx="799920" cy="8445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2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oduction Stabilization Be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400040" y="277776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43160" y="4406760"/>
            <a:ext cx="685800" cy="102960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0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TDSP ESIID Ext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82680" y="4343400"/>
            <a:ext cx="228600" cy="228600"/>
          </a:xfrm>
          <a:prstGeom prst="star5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48600" y="7239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8201160" y="704880"/>
            <a:ext cx="9360" cy="557208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429760" y="7239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21000" y="3029040"/>
            <a:ext cx="685800" cy="14839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1/3, 11/7 OR 11/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Technical &amp; Business Training Session by ERC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13440" y="1187280"/>
            <a:ext cx="1216080" cy="102960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/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Complete Production Stabil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Market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80400" y="1200240"/>
            <a:ext cx="228600" cy="228600"/>
          </a:xfrm>
          <a:prstGeom prst="star5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86440" y="267804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7727760" y="2811240"/>
            <a:ext cx="612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75600" y="3670200"/>
            <a:ext cx="904680" cy="9662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/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EIS Producti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rebuchet MS"/>
              </a:rPr>
              <a:t>Mi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59 extra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91520" y="2862360"/>
            <a:ext cx="782640" cy="11278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rebuchet MS"/>
              </a:rPr>
              <a:t>2/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Complete Production Stabil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Market Go Li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PR 50059 extrac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837640" y="2886120"/>
            <a:ext cx="228600" cy="228600"/>
          </a:xfrm>
          <a:prstGeom prst="star5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71840" y="4767120"/>
            <a:ext cx="939960" cy="9662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1/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ost updated User Docu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932360" y="283644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51360" y="267480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61000" y="2289240"/>
            <a:ext cx="193536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MPs request stabilization files for revie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818480" y="2203560"/>
            <a:ext cx="1120680" cy="3682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rebuchet MS"/>
              </a:rPr>
              <a:t>MPs request stabilization files for review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27240" y="2252520"/>
            <a:ext cx="1989000" cy="2005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MPs request stabilization files for revie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76200" y="2508120"/>
            <a:ext cx="1954440" cy="0"/>
          </a:xfrm>
          <a:prstGeom prst="line">
            <a:avLst/>
          </a:prstGeom>
          <a:ln w="5724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64240" y="2549520"/>
            <a:ext cx="1938240" cy="9360"/>
          </a:xfrm>
          <a:prstGeom prst="line">
            <a:avLst/>
          </a:prstGeom>
          <a:ln w="5724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37560" y="2541600"/>
            <a:ext cx="1120680" cy="9360"/>
          </a:xfrm>
          <a:prstGeom prst="line">
            <a:avLst/>
          </a:prstGeom>
          <a:ln w="5724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7680" y="3940200"/>
            <a:ext cx="914400" cy="5806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30026 Production Stabilization be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3440" y="2657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B0F-16D7-4C6A-9590-E887DFADA3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ject Activity - Other EDW-related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 50005 EMMS Extr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Stabilization on 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due to impact of PUCT Docket mandated changes for 10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 50025 ESIID Lookup/TDSP ESIID Extract (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R3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Stabilization &amp; Verification complete for TDSP ESIID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Go Live 10/2/2006; notice sent 9/20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PiApp in Integration Test UAT (ITE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d Market Go Live 12/9/0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 50030 EDW Lodestar Tran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 50059 EDW Siebel Tran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SP ESIID Extract DDL will add field for POLR Customer Class that will be provided with PR 40038 TX Set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40B-97AF-4299-8893-C0C26FBC43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457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C9A-BF60-4162-8047-AC76CFB0B0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Summar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 30026 EPS Data Extract (aka Resource ID Extrac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on Stabilization &amp; Verification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tract Project Information Postin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rket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User Guide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services/comm/projects/current/30026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DDL at TML Report Explorer/Extract Data Definitions - being verified for immediate p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Testing Strate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ing with the philosophy of past implementations of new reports/extracts, ERCOT will not be providing market test files for the new ex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186-ED0E-432C-8AD3-4AD0C700FB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85920" y="685800"/>
            <a:ext cx="19080" cy="557208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54400" y="685800"/>
            <a:ext cx="0" cy="560088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1640" y="704880"/>
            <a:ext cx="0" cy="556272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95160" y="279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2724120"/>
            <a:ext cx="9067680" cy="2556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2920" y="7365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Sept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72720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14760" y="72720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Nov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0" y="1133280"/>
            <a:ext cx="914400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95680" y="1176480"/>
            <a:ext cx="1419120" cy="90792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Mid to Late 10/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Complete Production Stabil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Market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300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09120" y="2139840"/>
            <a:ext cx="972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2600" y="268272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8560" y="268272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32360" y="71424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Dec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75560" y="704880"/>
            <a:ext cx="0" cy="558180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760" y="1368360"/>
            <a:ext cx="733320" cy="96624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9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EIS Producti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rebuchet MS"/>
              </a:rPr>
              <a:t>Mi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300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6040" y="1211400"/>
            <a:ext cx="228600" cy="228600"/>
          </a:xfrm>
          <a:prstGeom prst="star5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48600" y="7239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201160" y="704880"/>
            <a:ext cx="9360" cy="557208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29760" y="7239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27240" y="2252520"/>
            <a:ext cx="1989000" cy="20052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MPs request stabilization files for revie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76200" y="2508120"/>
            <a:ext cx="1954440" cy="0"/>
          </a:xfrm>
          <a:prstGeom prst="line">
            <a:avLst/>
          </a:prstGeom>
          <a:ln w="5724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7680" y="3124080"/>
            <a:ext cx="914400" cy="58068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30026 Production Stabilization be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rget Timelin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 30026 EPS Data Extract (aka Resource ID Extrac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824-C68B-4043-8A05-7D67A67CBC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Summar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 40042_06 Lodestar Batch Extra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16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on Stabilization &amp; Verification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16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tract Project Information Postin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roject to move current extracts for Shadow Pricing, Load, Generation and Settlements &amp; Billing from Data Archive to Lodestar ODS – AND – to create new  Settlement Input Data (SID)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User Guides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services/comm/projects/current/40042_06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DDLs at TML Report Explorer/Extract Data Definitions – using existing DDLs; SID is using the current S&amp;B DDL since it is an excerpt of the current S&amp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16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Testing Strate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 is using the current S&amp;B DDL since it is an excerpt of the current S&amp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ing with the philosophy of past implementations of new reports/extracts, ERCOT will not be providing market test files for the new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production stabilization 9/21/06–10/06, ERCOT will provide MP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at are currently opted in per extra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opportunity to request ERCOT’s verified stabilization files to be FTP’d, emailed or mailed.  Will allow MPs to see the addtime/timestamp 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will be sending a market notice 9/25 to offer this to market participants with information on how they need to request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775-53A6-4E35-849F-0D63C02982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H="1" flipV="1">
            <a:off x="771120" y="2835000"/>
            <a:ext cx="19080" cy="24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imeline Target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 40042_06 Lodestar Batch Extra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285920" y="685800"/>
            <a:ext cx="19080" cy="557208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54400" y="685800"/>
            <a:ext cx="0" cy="560088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81640" y="704880"/>
            <a:ext cx="0" cy="556272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95160" y="279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2724120"/>
            <a:ext cx="9067680" cy="2556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2920" y="7365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Sept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0" y="72720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14760" y="72720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Nov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0" y="1133280"/>
            <a:ext cx="914400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7680" y="3206880"/>
            <a:ext cx="904680" cy="844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9/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EIS Producti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rebuchet MS"/>
              </a:rPr>
              <a:t>Mi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42_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95680" y="1176480"/>
            <a:ext cx="1419120" cy="90792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Mid to Late 10/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Complete Production Stabil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Market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42_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2600" y="268272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32360" y="71424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Dec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75560" y="704880"/>
            <a:ext cx="0" cy="558180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4880" y="268272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4516560"/>
            <a:ext cx="799920" cy="844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9/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42_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oduction Stabilization be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6040" y="1211400"/>
            <a:ext cx="228600" cy="228600"/>
          </a:xfrm>
          <a:prstGeom prst="star5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48600" y="7239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8201160" y="704880"/>
            <a:ext cx="9360" cy="557208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429760" y="7239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7240" y="2252520"/>
            <a:ext cx="1989000" cy="20052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MPs request stabilization files for revie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76200" y="2508120"/>
            <a:ext cx="1954440" cy="0"/>
          </a:xfrm>
          <a:prstGeom prst="line">
            <a:avLst/>
          </a:prstGeom>
          <a:ln w="5724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D49-C00E-492C-818F-62C99A2CE0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 Statu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 40007 SCR 727 Phase II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Testing (PTEST)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tract Project Information Postin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’s project to move current extract for SCR 727 from Data Archive to Lodestar O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updated User Guide and cutover plan to project on ERCOT.com (http://www.ercot.com/services/comm/projects/current/40007/index.html) by 10/15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L will remain the same and is currently posted to TML/report explorer/public/extract data definitions – using existing DD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Testing Strate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production stabilization 12/2/06 – 01/07, ERCOT will provide MPs the opportunity to request ERCOT’s verified stabilization files to be FTP’d, emailed or m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allow MPs to see the addtime/timestamp lags, as well as the new naming convention on the count.csv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send a market notice after production migration with the details for market participants to request the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DE8-14E8-46DE-9CFB-3409F988A2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H="1" flipV="1">
            <a:off x="5657760" y="2758680"/>
            <a:ext cx="12960" cy="297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533920" y="276876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line Target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 40007 SCR 727 Phase II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104920" y="2806200"/>
            <a:ext cx="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85920" y="685800"/>
            <a:ext cx="19080" cy="557208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54400" y="685800"/>
            <a:ext cx="0" cy="560088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81640" y="704880"/>
            <a:ext cx="0" cy="556272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2724120"/>
            <a:ext cx="9067680" cy="2556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2920" y="7365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Sept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72720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14760" y="72720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Nov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0" y="1133280"/>
            <a:ext cx="914400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3225960"/>
            <a:ext cx="847800" cy="844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0/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ITEST Begins for 12/2/06 rele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50040" y="2657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00440" y="2644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32360" y="71424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Dec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4721400"/>
            <a:ext cx="685800" cy="108792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0/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ost User Guide with Cutover 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67040" y="279036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2644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75560" y="704880"/>
            <a:ext cx="0" cy="558180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00720" y="3206880"/>
            <a:ext cx="904680" cy="844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2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EIS Producti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rebuchet MS"/>
              </a:rPr>
              <a:t>Mi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91160" y="264780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27800" y="4724280"/>
            <a:ext cx="799920" cy="10296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2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oduction Stabilization Be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48600" y="7239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01160" y="704880"/>
            <a:ext cx="9360" cy="557208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429760" y="7239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1187280"/>
            <a:ext cx="1216080" cy="10296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/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Complete Production Stabil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Market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80400" y="1200240"/>
            <a:ext cx="228600" cy="228600"/>
          </a:xfrm>
          <a:prstGeom prst="star5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61000" y="2289240"/>
            <a:ext cx="1935360" cy="30708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MPs request stabilization files for revie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64240" y="2549520"/>
            <a:ext cx="1938240" cy="9360"/>
          </a:xfrm>
          <a:prstGeom prst="line">
            <a:avLst/>
          </a:prstGeom>
          <a:ln w="5724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CCE-65F8-48BF-98E6-5C005DD7E8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 Statu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 50024 SCR 740 Enhancements to SCR 727 Phase II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 Testing (PTEST)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tract Project Information Postin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draft versions of the following documents: User Guide, WSDL, Technical Specification, and Web Services 101 documentation at http://www.ercot.com/services/comm/projects/current/50024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notice will be sent when ERCOT posts any updates to the draft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Testing Strate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for a point-to-point market test still a work in progress.  ERCOT working through the details to ensure that the testing process is well-defined and environment hardware available/in place to support this type of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is working to provide MPs opportunity to perform Web Services connectivity testing by scheduling to test in CERT environment starting Q1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test will only test for a success/fail acknowledgement response on service request. This will ensure that MPs are able to connect to ERCOT point-to-point and ERCOT is able to read the automated Web Service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test will not provide payload data to the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7B5-6C3F-47E3-9F64-C172A11D60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flipV="1">
            <a:off x="4397400" y="27903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533920" y="276876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 Statu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 50024 SCR 740 Enhancements to SCR 727 Phase II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104920" y="2806200"/>
            <a:ext cx="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85920" y="685800"/>
            <a:ext cx="19080" cy="557208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54400" y="685800"/>
            <a:ext cx="0" cy="560088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81640" y="704880"/>
            <a:ext cx="0" cy="556272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2724120"/>
            <a:ext cx="9067680" cy="2556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2920" y="7365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Sept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72720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14760" y="72720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Nov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0" y="1133280"/>
            <a:ext cx="914400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3225960"/>
            <a:ext cx="847800" cy="844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0/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ITEST Begins for 12/2/06 rele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50040" y="2657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32360" y="71424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Dec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41560" y="2644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75560" y="704880"/>
            <a:ext cx="0" cy="558180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25760" y="26668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00720" y="3206880"/>
            <a:ext cx="904680" cy="844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2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EIS Producti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rebuchet MS"/>
              </a:rPr>
              <a:t>Mi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48600" y="7239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201160" y="704880"/>
            <a:ext cx="9360" cy="557208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429760" y="7239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21000" y="3029040"/>
            <a:ext cx="685800" cy="148392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1/3, 11/7 OR 11/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Technical &amp; Business Training Session by ERC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941720" y="283644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1360" y="267480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75040" y="4648320"/>
            <a:ext cx="939960" cy="96624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1/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ost updated User Docu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E3A-6DC4-494E-9A26-D7884F2BCF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amartinez</cp:lastModifiedBy>
  <dcterms:modified xsi:type="dcterms:W3CDTF">2006-09-26T17:52:39Z</dcterms:modified>
  <cp:revision>35</cp:revision>
  <dc:subject/>
  <dc:title>Role of Account Management at ERCOT</dc:title>
</cp:coreProperties>
</file>