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A5F-959A-4706-BB63-78F1AA8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C5F-2009-438E-8144-5E57E1C2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4C6-BF8F-4F7C-B807-73EE119A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07B-7883-48DD-93B4-8454310D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285-D4D2-4D55-BA2E-245216B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103-E231-45AB-9F9D-2F3B43C0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99E-94CB-4EC6-A675-614F282E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7CF-904C-4CE2-AF01-04E7B06B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326-C811-43A9-AF5F-292D32AB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2EF3-9A71-44BD-848F-3258AABA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272-3AD8-4E4C-87C0-6E08912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E86D-6C8A-4921-9C23-4504927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9072-C414-48AD-9F04-65192D6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9F0-0DEA-494B-9A85-49BAB1F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6F2A-5343-4026-AD91-58D42C2A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6157-775F-4A62-A863-C8BDE9CF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0F6-E05D-4E33-A591-79AFE5CB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1E43-4BD1-4EDA-BA80-F388A0E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DC9A-2B8A-46B9-BAFF-9792DEA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1C3F-4B29-4646-842E-3F70A5E3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9CD2-751D-4862-BBD9-A4B687BA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AC4-E85F-4568-89EB-424D1BF3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9A6-11D2-40C3-8E04-EE3DB86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C97-A9BD-4C06-AFE4-8E9B96CE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21E-CD4D-48AC-974E-9533389FB47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23A-4D98-4AEF-A424-CDFF3ABF826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 2006 Go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tember 26, 2006 COPS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tain a better understanding of the drivers of U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current line loss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DLF PRR 668 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TLF - upcoming NPRR to address monthly base case studies instead of seasonal base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inaccuracies in Profile shapes and assignments (this is being addressed by P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other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Distributed Generation: initial vs.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aluate the methodology for determining profile scaling factors in the data aggregation proces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his should be addressed by P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Have PWG investigate improvements in the NIDR estima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TDSPs have been doing this for a long time, so they should have 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Use last month or same month from last ye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termine if any Protocols changes are recommended and file PRR if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11.6 PRR will be f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Have comments sent back to UFETF list serve by Sep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Take to COPS for vote in Oct, then file 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te the potential for establishing UFE Analysis Zones by determining if suitable TDSP boundary metering data can be made available to ERCOT; if such data is available compare it to the ERCOT aggregated TDSP loa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AEP presented data on their boundary met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Significant challenges to data collection, data quality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Not currently feasible to do this based on availab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If market decides project is needed, then 11.6 allows project to be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alyze historical trends in the volatility and magnitude of UFE and explore the possibility of developing methods to forecast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Annual UFE analysis report (11.6) will cover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Forecasting UFE will continue to be a 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only if comments on 11.6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UFTEF by end of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everybody for all the hard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09-15T15:12:40Z</dcterms:modified>
  <cp:revision>15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77397683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Agenda Planning Conference call</vt:lpwstr>
  </property>
  <property fmtid="{D5CDD505-2E9C-101B-9397-08002B2CF9AE}" pid="6" name="_NewReviewCycle">
    <vt:lpwstr/>
  </property>
</Properties>
</file>