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240E-5060-482F-84E6-576C43541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6889-ABA4-4654-9BD2-512A15FA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5FA8-C406-4CA0-9D2F-F183194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8E0F-1457-4E18-991A-5335246AA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3297-9EB5-4304-97AA-FA56DDE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59E0-87BF-4C49-B671-01FAC78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522A-B93B-4098-9A50-55E71A2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9508-C8CA-4423-805F-D6CC848F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366D-7A11-40F7-AC32-7FB8167B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8703-CD15-4AF2-8BE6-99DD658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7968-8E64-4A49-956D-3CB8749E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37A9-532F-4B5D-A1EB-F5BF9C1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2D0C-0DA5-4741-BCC4-E7212314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meetings/pwg/keydocs/2006/0330/Oil_%26_Gas_preliminary_sample_r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2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EA83-9137-44DE-AD9D-8151E45655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21932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&amp; Gas New Profile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stimated Implementation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0968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ends on Market Approval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ing LPGRR and Profile Decision Tree approvals by December 2006 and following 150 day market notice, possible implementation in May 2007. Otherwise probably the Fall of 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92F1-20B3-4407-9F4B-27C14F8BAB8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558800"/>
            <a:ext cx="83059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&amp; Gas New Profile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il &amp; Gas New Profile 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approval, the PWG will submit LPGRR and Profile Decision Tree changes required fo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4628-C514-406E-8E8E-213B5A88E6D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828800"/>
            <a:ext cx="8534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nual Validation 2006 on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E783-07E2-4002-8002-FDFB6D1B198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Identify ways to accommodate extreme events on the Settlement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WG discussed again at the Aug. 30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ur ideas brainst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Use Load Research Samples to adjust profile shape for true-up. Wou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at profile type and weather zone level however data is not avai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nitial and final sett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Use Weather Zone boundary telemetry to estimate load lost in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. This would be used to adjust the profile shape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zone settlement prior to statewide UFE allocation and localiz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Use Lagged Dynamic Profiles. This shall be further discussed in lo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Use advanced meters for daily reads. This shall be further discussed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91A7-AE31-4CA3-9FC2-083E1A1871A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388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Evaluate Lagged Dynamic pro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WG discussed again at the Aug. 30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is shall be further discussed in long term load profile strategy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BE5A-93D2-4535-827E-3C01302558E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Load Profile Strategy Pl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133720"/>
            <a:ext cx="853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Current profiles are based on very old research data that was actually gathered to allow prediction of peak de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6 Annual Vali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s profile id assignments for residential seg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20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il and Gas Profile Recommendation (first new profi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ed May 200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mplement recalibrated 9 current ERCOT profiles based on current load research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 - 20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urther updated profile releases with round 2 samples and further reductions in migration (iterativ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Future 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Lagged Dynamic Profiles with static models for initial settlement, additional demographic segment profiles, and/or possible use of advanced meters with daily reads, hourly interval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F146-C114-4BEE-9820-6437B49A833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558800"/>
            <a:ext cx="83059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WG Meeting Procedures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S approves PWG Mee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A99F-F82A-4605-9A3B-41CA88CB6BD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ttlement Trade Day Transi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4520" y="2209680"/>
            <a:ext cx="8494560" cy="34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0179-8EC3-4367-AD83-7032717CCD1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up to this 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664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92BC-5D71-4530-B1B6-FE597D03F36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166840"/>
            <a:ext cx="8001000" cy="35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E4AE-4342-4DDB-9F4D-6E3116350E5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reviewed on August 29 and developed Option 3 M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E80B-8C00-43F7-9B35-C0E73DE11CF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per tim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F88F-A5AF-4204-9031-9CB285A09CE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47920"/>
            <a:ext cx="83059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 8/30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6800" y="2448000"/>
            <a:ext cx="7615080" cy="334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12A4-14A8-4989-9A81-E06A44BDBF9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 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hanged to ERCOT Sponsored and supported by PWG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imbursement has been waived by Reque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054F-DFEC-40B0-B673-3496DEE4C6D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5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&amp; Gas New Profile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438280"/>
            <a:ext cx="8458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filing date 2/28/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Load Research Requested by ERCOT Staff to support analysis of segment population per the Load Profiling Gu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Research analysis presented to PWG 3/30/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taff Recommendation presented to PWG 4/27/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discussions at subsequent PWG meetings and PWG conference call on 7/19/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as many as 20,000 ESIIDs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DEB6-78E5-44D9-8CFE-15FF5F52DD5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5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&amp; Gas New Profile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438280"/>
            <a:ext cx="845820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rcot.com/meetings/pwg/keydocs/2006/0330/Oil_%26_Gas_preliminary_sample_r.pp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commen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Key documents of thi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BC1D-8742-4151-B717-3E6EF64DF15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&amp; Gas New Profile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209680"/>
            <a:ext cx="84582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FE improvement due to the segment shape of Oil and Gas aggregate population on a more appropriate profile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COT, TDSP, QSE and CRs would need to add BUSOGFLT code to their systems. (No TxSet impa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COT settlement would need to add the new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QSE and CR shadow settlement and forecasting systems would need to handle the new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COT would be required to implement a quality assurance methodology as outlined in the ERCOT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4409-F363-4E9B-BA2B-9CADA7C5287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6-09-26T18:29:16Z</dcterms:modified>
  <cp:revision>199</cp:revision>
  <dc:subject/>
  <dc:title>PowerPoint Presentation</dc:title>
</cp:coreProperties>
</file>