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5DB4-754A-4895-B5E2-4BACE2A39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7564-FFC6-4B50-9389-2CBB5AB2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3563-88AB-4269-8CB1-570325D9E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4A98-B83F-4D77-AD7C-983ADF067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6027-E544-4923-A5BF-B400E041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7F3A-79EB-4E81-B1C0-5CD56CFC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F79F-D2B7-4DE2-89BA-5DAB2736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53EF-9E2E-4E89-9CC4-39A22515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49B5-2CC6-4DAF-9F34-34128CAE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A6CF-1A61-4C97-84FC-0B9AD95D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50EC-A059-48DC-B41B-3CD2A832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0F1E-B57B-4461-853F-B9500659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F934-79E0-4DC9-929D-7A61043484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51920" y="1294920"/>
            <a:ext cx="8915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esolve Funding Issue for Data Ex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ontinue Growth of Commercial Market Gu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ork with ERCOT staff to document and standardize communication flow around 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onitor implementation of SCR 740 (Enhancements to SCR 72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Understand UFE drivers and educate market participants to improve their ability to forecast U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onitor Progress of Load Research Study – needed transparency about market imp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ocus on Nodal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2006 Goal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20:57:57Z</dcterms:created>
  <dc:creator>Registered User</dc:creator>
  <dc:description/>
  <dc:language>en-US</dc:language>
  <cp:lastModifiedBy>Registered User</cp:lastModifiedBy>
  <dcterms:modified xsi:type="dcterms:W3CDTF">2006-09-19T00:34:12Z</dcterms:modified>
  <cp:revision>7</cp:revision>
  <dc:subject/>
  <dc:title>COPS GOALS 2006</dc:title>
</cp:coreProperties>
</file>