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C34-7E66-4A5D-A8E9-293B6E0D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899-6BFF-4067-9149-9C29F6D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F1F-6C91-4A40-8B43-DCF8C036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3C2-E876-4A33-9507-F81C43C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C7C-2B48-4E50-8631-0FD8E138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F60-B4E1-4DE6-BB5B-2C9A00FA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C11-0F08-4CC6-9776-F0CD3337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E43-9A9E-4545-97E6-A55424D7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3CB-AEE0-448E-9053-82664196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11-4F03-4E26-AEC2-38C5140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572-BBC3-48CF-A4B8-FDE2BDD6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0E6-A020-467A-8990-682DB3A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389-F041-447A-84A9-079AD8724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C Docket No. 3268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688 – Interim Nodal Surchar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/26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28B-EC41-41AF-9778-45C963AE3F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7.7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COT Nodal Implementation Sur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i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 * MR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iq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NIS amount per interval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iq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net metered gen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Wh per interval for the given 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al surcharge factor ($/MW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nute Settlement Interval be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A38-79AD-4B1E-9605-DDC8B4567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 Determi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COT Nodal Implementation Sur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AMT_&lt;QS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 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o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SITETOTCM_&lt;QSE&gt;_&lt;ZON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AM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NIS amount per 15-min interval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ITETOTC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net metered gen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Wh per 15-min interval for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0.0663/MWh for every 15-mi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566-62B8-49E4-BB5E-84A6E7B6C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in legacy zonal settlement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PRICE_&lt;QSE&gt; = NODSF for every 15-mi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QTY_&lt;QSE&gt;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o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SITETOTCM_&lt;QSE&gt;_&lt;ZON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AMT, QNSBILLAMT, QNSBILL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on trade date 10/1/2006 Initial Sett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ing issue on NOD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PRICE = 0.06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PRICE = 0.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88D-0BEF-46A0-AAC7-B4A9B17C4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bbarnes</cp:lastModifiedBy>
  <cp:lastPrinted>2002-09-24T18:27:58Z</cp:lastPrinted>
  <dcterms:modified xsi:type="dcterms:W3CDTF">2006-09-18T17:51:30Z</dcterms:modified>
  <cp:revision>310</cp:revision>
  <dc:subject>RMS</dc:subject>
  <dc:title>ERCOT RMS Update 10-16-03</dc:title>
</cp:coreProperties>
</file>