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319-DCAD-444C-857D-C146AC68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101-CAEE-44BE-8A3C-9E52B2F6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E69-AC66-489D-99DB-071BE328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885-574F-431F-99AE-E4A47831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22E-C816-415C-8F39-6CCEB419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0A2-3817-4D2D-AB3F-371967DB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7C1-D992-4EE0-9014-699F1EF9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E55-901B-46C7-AE66-4C8F02FB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D7D-7249-47E2-9E96-C739FFAE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B2A-3D81-4E84-AADE-EA479811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2D1-2EFA-47B3-85B4-A159016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77F-652F-41F0-8BFC-FC645199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9973-615F-4841-8A4C-26425B309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C Docket No. 3268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 688 – Interim Nodal Surchar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/26/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F14-FD4F-4D99-B887-027C88C6C0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.7.7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COT Nodal Implementation Sur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i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SF * MR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iq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 NIS amount per interval (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iq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net metered gene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Wh per interval for the given Q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S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al surcharge factor ($/MW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minute Settlement Interval be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A0B-604C-468D-A888-B8D77D59D2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l Determi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RCOT Nodal Implementation Sur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AMT_&lt;QSE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SF 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o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SITETOTCM_&lt;QSE&gt;_&lt;ZONE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AM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 NIS amount per 15-min interval (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ITETOTC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net metered gene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Wh per 15-min interval for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Q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S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0.0663/MWh for every 15-min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B5A-FD40-4D88-8B0F-2FC509E2E8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ed in legacy zonal settlement 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PRICE_&lt;QSE&gt; = NODSF for every 15-min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QTY_&lt;QSE&gt;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o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SITETOTCM_&lt;QSE&gt;_&lt;ZONE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AMT, QNSBILLAMT, QNSBILL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on trade date 10/1/2006 Initial Sett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ing issue on NOD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PRICE = 0.06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SPRICE = 0.0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7A3-7C2C-4F3E-9424-3DDE7F382F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R0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RR020 tabled until the final PUC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045-A9A2-4E03-B782-4BF981510E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wariner</dc:creator>
  <dc:description/>
  <dc:language>en-US</dc:language>
  <cp:lastModifiedBy>bbarnes</cp:lastModifiedBy>
  <cp:lastPrinted>2002-09-24T18:27:58Z</cp:lastPrinted>
  <dcterms:modified xsi:type="dcterms:W3CDTF">2006-09-22T20:15:22Z</dcterms:modified>
  <cp:revision>311</cp:revision>
  <dc:subject>RMS</dc:subject>
  <dc:title>ERCOT RMS Update 10-16-03</dc:title>
</cp:coreProperties>
</file>