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EC83-5F4A-458F-8D1A-A33AF020B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DBB6-0381-436E-B470-AF1CEC37A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51C2-524B-4BEF-A595-18634214D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3151-9F95-458E-B90C-CF636DFD1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320760"/>
            <a:ext cx="7175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FA72-3792-45EA-81D0-586573DCB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B040-563A-4C5A-A77C-6C48EDA02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5CC3-EE91-4812-92C1-5F351FBE4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500C-310C-4E66-A4AC-9E85209A0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20760"/>
            <a:ext cx="7175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B339-A499-4E87-9C67-9842F5193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FF1E-76A2-4ADB-BC31-054EF4F90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90F0-F852-46B8-9E1F-CB930E8F0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893C-3E28-4E67-BDE6-0951A043C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28720"/>
            <a:ext cx="9144000" cy="6660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03520" cy="82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96708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D321-72AF-40E9-8D46-F2D952996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378144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85120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Impact of Graduated Profiles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tudy used the gradual implementation of the new profiles over a period of 150 days. Test periods were selected for simulations of Initial and True-Up sett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new profile assignments per ESIID were constant over the periods for both old and new scenarios (This study does not assess the impact of ESIID profile assignment transiti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study periods were for points in time prior to the full implementation of the new profi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tion Period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1, 2005 through September 28, 2005 (True-U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1, 2006 through September 28, 2006 (Initial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C705-2453-4F87-9C85-DED85C5221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ERCOT-Wide UFE Differences 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4B62-AF18-4CCD-9ED1-8B094486C8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ERCOT-Wide UFE Differences 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27000"/>
            <a:ext cx="8924760" cy="593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07FE-1EAA-402F-95CE-CE0CCBA670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ERCOT-Wide UFE Differences 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E203-B935-4F8A-AE95-1E316561A9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ERCOT-Wide UFE Differences 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47840" y="2371680"/>
          <a:ext cx="8229600" cy="1905120"/>
        </p:xfrm>
        <a:graphic>
          <a:graphicData uri="http://schemas.openxmlformats.org/drawingml/2006/table">
            <a:tbl>
              <a:tblPr/>
              <a:tblGrid>
                <a:gridCol w="2943360"/>
                <a:gridCol w="2466720"/>
                <a:gridCol w="28195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UFE % - 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UFE % - 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gust 3 through August 6,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83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ncrease of 0.899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83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tt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1 through May 24,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62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Decrease of 0.068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4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2581200" y="15717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Period To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1D45-CCA7-4ACA-8C8F-24CB46DFA1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Load Differences for QSEs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89388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5E01-E84C-485E-8DB8-DA845601D6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Load Differences for QSEs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60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45AD-8A84-4DBE-97EA-23F2C9B56E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UFE Differences for QSEs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F09D-FE97-4CBC-B0B7-4D625F7387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UFE Differences for QSEs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A308-5CC6-457F-9D87-CBC5B32E81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Load Differences for LSEs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BB94-E6D2-4D3D-9950-E35C94AD84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Load Differences for LSEs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91116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884A-F311-4701-B22B-83E1214486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UFE Differences for LSEs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2187-AB8D-440A-9A2C-E7FF0B7B9A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UFE Differences for LSEs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Old vs New Graduated Profiles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E565-7281-4FC3-ABFF-7F374DB2F8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8:31:49Z</dcterms:created>
  <dc:creator>kbrink</dc:creator>
  <dc:description/>
  <dc:language>en-US</dc:language>
  <cp:lastModifiedBy>COpheim</cp:lastModifiedBy>
  <dcterms:modified xsi:type="dcterms:W3CDTF">2006-09-15T20:24:36Z</dcterms:modified>
  <cp:revision>175</cp:revision>
  <dc:subject/>
  <dc:title>Slide 1</dc:title>
</cp:coreProperties>
</file>