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A74A-1918-43F2-829D-AF2DFC943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9E59-9691-4EF5-8F30-D4B36ED5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B560-6C52-48FE-ABE8-DB0732CCD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516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4944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8088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516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4944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6C79-EB87-4049-AA6E-0343D4621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0B2E-0767-4068-94A5-AB46B2C9A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3339-5506-45D2-9AD1-6AF16E56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C965-A1B4-47DF-8F4C-A625A3E9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0444-71F5-4E1B-820F-A614DAC1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91ACC-B6BC-41C5-A014-A0342DFF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71CC-4AF9-4194-9397-7C3451A1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199A-E6A5-4CEC-8C3C-C2EA2D2F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0624-3D15-469B-9792-A8C40B49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C3AC2-C38A-40E1-9C51-39D36B88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63F9-28D3-4194-94E5-F9809A9D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A3CF-FC5E-478A-830E-0F647AE7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451A-BF27-4DEF-806C-EC7E79EE3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516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944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8088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516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944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081D-7EC5-4684-A3D5-B18CFEAC6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DA1C-CBD7-4D61-B002-837C0760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3CE4-7433-4B95-8F5C-344F130F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DB53-5F03-4045-A092-2CDD850F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AFD9-0F86-4FAA-9C7A-C28B1156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9EF5-1DA1-42D9-94A3-1AA19A9F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56A7-F2CC-40FF-9DDA-CF1209C6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87E2-E8F3-4549-82F7-4C38AFF3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69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0300-4E26-4322-AE7C-3AA83E524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55600" y="6445080"/>
            <a:ext cx="28958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ptember 26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"/>
          <p:cNvSpPr/>
          <p:nvPr/>
        </p:nvSpPr>
        <p:spPr>
          <a:xfrm>
            <a:off x="5181480" y="6445080"/>
            <a:ext cx="37339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ercial Operations Subcommitte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3733920" y="64310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1495-B53A-4DFA-AC2A-4FC808A6DEE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DF68-92C0-4226-AD23-0E4068870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ole of Account Management at ERCO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-19080" y="1143000"/>
            <a:ext cx="9144000" cy="5715000"/>
          </a:xfrm>
          <a:prstGeom prst="rect">
            <a:avLst/>
          </a:prstGeom>
          <a:solidFill>
            <a:srgbClr val="294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2057400"/>
            <a:ext cx="7467480" cy="38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oject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 40103 TML Phase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dam D. Martin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gr., Market Operations D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mercial Operations Subcommittee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ptember 26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027D-860E-4D40-ABA1-642B003AB9E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 Recent Activity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809640"/>
            <a:ext cx="8686800" cy="53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met with COPS on 07/26/06 and presented 30 requirements that COPS may want to impl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 categorized the 30 enhancement requests as follow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king Lot –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d by Nodal NOMCR process –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for Nodal –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ed by SCR 743 – 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ice to have for Zonal / Must have for Nodal –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 scope for this effort and Nodal –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ice to have for Zonal –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 requested ERCOT provide estimates on 5 of the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 wanted to discuss benefit of the 8 enhancements flagged as “Nice to have for Zonal / Must have for Nodal ” with respective companies prior to making the decision to impl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FB9D-5E45-4AC8-A807-E5E77B471B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RCOT Requirements Analysi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In scope for this effort and Nodal / Nice to have for Zonal”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2280" y="746280"/>
            <a:ext cx="8839440" cy="548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4484-B276-4125-B359-2B29DA9233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RCOT Requirements Analysi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Nice to have for Zonal / Must have for Nodal”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280" y="733320"/>
            <a:ext cx="8839440" cy="543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2C0F-858C-4181-842B-89D491DD8D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28600" y="8380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Delivery Targ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SIR process, delivery target no sooner than March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project process, delivery target no sooner than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arter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aints Impacting Delivery Timeli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s based on current project pipeline and resource al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Rs can be implemented during scheduled monthly releases based on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meline Analysi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303D-02B0-4BA7-9359-0ECDC361A1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52280" y="83772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cel current Zonal project, PR-401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constraints pushing out delivery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requirements currently on list would be addressed by Nodal rewrite of “MI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cellation frees up 2006/2007 funding for other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 to formally cancel with v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remaining Zonal enhancements under SIR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with Client Relations to submit SIRs for Zonal TML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CR required from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 DPO and MORO CART to schedule SIRs implementation in monthly release for TML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 DPO can provide SIR status to COPS on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RCOT Market Ops DPO Recommenda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375B-E116-4893-9C6A-522127AAA2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45728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C479-56C1-4171-A6C4-6F20FD4AEB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amartinez</cp:lastModifiedBy>
  <dcterms:modified xsi:type="dcterms:W3CDTF">2006-09-26T18:22:12Z</dcterms:modified>
  <cp:revision>35</cp:revision>
  <dc:subject/>
  <dc:title>Role of Account Management at ERCOT</dc:title>
</cp:coreProperties>
</file>