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B2F-3A3D-4CB1-80F9-9F3FB78A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4AF-29F6-4AD3-BEDB-A9BAB975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F17-B199-46AD-8C28-3C4A4AA9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194-8BA7-4A3B-9AB5-32ED0C2E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A4D-E23C-4A47-883F-CF2D43DC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6AF-4779-4E00-9726-0746EB66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297-65F1-4F86-BE84-43E9C88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516-D286-44A4-BF33-394E3153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E35-DF04-48AC-A528-8AEC32B7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E83-474A-4DEA-9147-3CE7239F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1B8-22A0-4155-9AB6-A607F43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A22-DEEA-4A70-8FFA-267D3EA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26E-3BCC-4DC0-894F-C87FD3924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ta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Annual Valid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September 26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0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6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61920" y="1092240"/>
            <a:ext cx="662472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4CF-995E-481E-98CB-AD8834BEA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636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6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123920"/>
            <a:ext cx="76122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 has found a work around to not send the second 814-20 which will allow  us to get back to the original completion of sending 814-20s from the TDSPs to 10-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processing 814-20 transactions from 9-16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current processing rate the backlog for 814-20s is approximately 11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ed schedule reflects ERCO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,000 814-20s Monday – 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,000 814-20s Saturday and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 of Business 814-20 transactions for Annual Validation is expected to start on October 13, 2006 (instead of October 1) as a result of the delay in submitting and processing Residential trans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Future volumes of Residential AV transactions are expected to be greatly reduced because of the new assignment algorithm implemented this 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41A-4755-42FF-B6B1-13001F6DE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DOtt</cp:lastModifiedBy>
  <cp:lastPrinted>2002-05-17T20:57:43Z</cp:lastPrinted>
  <dcterms:modified xsi:type="dcterms:W3CDTF">2006-09-26T14:17:10Z</dcterms:modified>
  <cp:revision>242</cp:revision>
  <dc:subject/>
  <dc:title>Retail Transactions Report</dc:title>
</cp:coreProperties>
</file>