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D6D-92B7-467D-ADF7-0A5BE04F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BF0-6AE9-43E1-8F2F-2F7D0F7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509-C105-4E6A-B0E6-2B207543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BE5-56A4-4059-A844-E5A8B618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E8D-5567-47A4-A1D1-4923C57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A80-C7CC-4087-88D3-F55E0C97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5B8-BF96-4A9D-8363-3BD2C94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DD9-9436-486E-87A9-E87E3947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B22-EC19-4FE8-A4C4-FE141EE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D87-DD5F-479C-9629-8A0F349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AB5-F227-4564-B44F-1E9AD7E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989-F186-42D0-AC23-902B51B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9/17/2006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B0EB-1F71-4AB2-AF6A-F589A20AB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eak Day August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ttlement Data by Fue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2514600"/>
          <a:ext cx="5943600" cy="1549440"/>
        </p:xfrm>
        <a:graphic>
          <a:graphicData uri="http://schemas.openxmlformats.org/drawingml/2006/table">
            <a:tbl>
              <a:tblPr/>
              <a:tblGrid>
                <a:gridCol w="3504960"/>
                <a:gridCol w="243864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8677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 Zone Forecast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685800"/>
            <a:ext cx="39621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1. Obtain weather and economic variables by weather  zone (historic and foreca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2. Develop regression equations by weather zone describing the historic actual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Monthly Energ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3. Incorporate forecasted values of economic and normalized temperatures for 2006-2011 by weather zone  into monthly energy equation to produce forecasted monthly energ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4. Incorporate normalized temperatures for 2006-2011 by weather zone into monthly energy equation to produce forecasted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5. Produce hourly demand forecast by weather zone by fitting forecasted monthly energy under projected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80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81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" name=""/>
              <p:cNvCxnSpPr>
                <a:stCxn id="86" idx="3"/>
                <a:endCxn id="82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>
                <a:stCxn id="88" idx="3"/>
                <a:endCxn id="82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>
                <a:stCxn id="90" idx="3"/>
                <a:endCxn id="83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" name=""/>
              <p:cNvCxnSpPr>
                <a:stCxn id="92" idx="3"/>
                <a:endCxn id="83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94" idx="3"/>
                <a:endCxn id="84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5" name=""/>
              <p:cNvCxnSpPr>
                <a:stCxn id="96" idx="3"/>
                <a:endCxn id="84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" name=""/>
              <p:cNvCxnSpPr>
                <a:stCxn id="82" idx="6"/>
                <a:endCxn id="81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" name=""/>
              <p:cNvCxnSpPr>
                <a:stCxn id="83" idx="6"/>
                <a:endCxn id="81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84" idx="6"/>
                <a:endCxn id="81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0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01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"/>
              <p:cNvCxnSpPr>
                <a:stCxn id="81" idx="2"/>
                <a:endCxn id="101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3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04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eath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12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88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41920" y="1319040"/>
              <a:ext cx="195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423720"/>
          <a:ext cx="9144000" cy="643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3720"/>
                    <a:ext cx="91440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Peak De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Settl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133640"/>
          <a:ext cx="914400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3640"/>
                    <a:ext cx="91440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Zone Forecast Valid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685800"/>
            <a:ext cx="3962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Summar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 Use the same historical data up to December 31, 2005, as in the weather normalized forecast, to calculate the coefficients for validating the forecast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 Produce the new forecast using actual 2006 temperatures and humidity (as contrasted with normalized weather profiles) but keep the same economic and other non-economic variables as used to produce the weather normalized long-term forecast by weather zon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Proces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Produce regression equations by weather zone describing the historic actu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Monthly Energ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Incorporate forecasted values for economic variables and actual values for temperatures and humidity for 2006 by weather zone  into monthly energy equation to produce forecasted monthly ener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3. Incorporate actual temperatures and humidity for 2006 by weather zone into load shape equation to produce forecasted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4. Produce hourly demand forecast by weather zone by fitting forecasted monthly energy under projected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133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134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8" name=""/>
              <p:cNvCxnSpPr>
                <a:stCxn id="139" idx="3"/>
                <a:endCxn id="135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0" name=""/>
              <p:cNvCxnSpPr>
                <a:stCxn id="141" idx="3"/>
                <a:endCxn id="135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2" name=""/>
              <p:cNvCxnSpPr>
                <a:stCxn id="143" idx="3"/>
                <a:endCxn id="136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"/>
              <p:cNvCxnSpPr>
                <a:stCxn id="145" idx="3"/>
                <a:endCxn id="136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6" name=""/>
              <p:cNvCxnSpPr>
                <a:stCxn id="147" idx="3"/>
                <a:endCxn id="137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8" name=""/>
              <p:cNvCxnSpPr>
                <a:stCxn id="149" idx="3"/>
                <a:endCxn id="137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0" name=""/>
              <p:cNvCxnSpPr>
                <a:stCxn id="135" idx="6"/>
                <a:endCxn id="134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1" name=""/>
              <p:cNvCxnSpPr>
                <a:stCxn id="136" idx="6"/>
                <a:endCxn id="134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2" name=""/>
              <p:cNvCxnSpPr>
                <a:stCxn id="137" idx="6"/>
                <a:endCxn id="134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3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54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"/>
              <p:cNvCxnSpPr>
                <a:stCxn id="134" idx="2"/>
                <a:endCxn id="154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6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57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ctual Tem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65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141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41560" y="1319040"/>
              <a:ext cx="25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Actual and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1371600"/>
          <a:ext cx="8763120" cy="4613400"/>
        </p:xfrm>
        <a:graphic>
          <a:graphicData uri="http://schemas.openxmlformats.org/drawingml/2006/table">
            <a:tbl>
              <a:tblPr/>
              <a:tblGrid>
                <a:gridCol w="4141800"/>
                <a:gridCol w="1828800"/>
                <a:gridCol w="2792520"/>
              </a:tblGrid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10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2006 Normal Peak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6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Validation Actual 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6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.46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Initial Settlement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Extreme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990720"/>
            <a:ext cx="1065240" cy="298080"/>
          </a:xfrm>
          <a:prstGeom prst="wedgeRoundRectCallout">
            <a:avLst>
              <a:gd name="adj1" fmla="val -89018"/>
              <a:gd name="adj2" fmla="val 159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,73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1828800"/>
            <a:ext cx="1065240" cy="298080"/>
          </a:xfrm>
          <a:prstGeom prst="wedgeRoundRectCallout">
            <a:avLst>
              <a:gd name="adj1" fmla="val -146990"/>
              <a:gd name="adj2" fmla="val -580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,259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3276720"/>
            <a:ext cx="1065240" cy="298080"/>
          </a:xfrm>
          <a:prstGeom prst="wedgeRoundRectCallout">
            <a:avLst>
              <a:gd name="adj1" fmla="val -69050"/>
              <a:gd name="adj2" fmla="val -318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6680" y="1368360"/>
            <a:ext cx="8977320" cy="548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4572000"/>
            <a:ext cx="1446480" cy="298080"/>
          </a:xfrm>
          <a:prstGeom prst="wedgeRoundRectCallout">
            <a:avLst>
              <a:gd name="adj1" fmla="val -66791"/>
              <a:gd name="adj2" fmla="val 280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2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7360" y="19051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300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4191120"/>
            <a:ext cx="1446120" cy="298080"/>
          </a:xfrm>
          <a:prstGeom prst="wedgeRoundRectCallout">
            <a:avLst>
              <a:gd name="adj1" fmla="val -66773"/>
              <a:gd name="adj2" fmla="val 225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0520" y="17524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2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514600"/>
            <a:ext cx="1446120" cy="298080"/>
          </a:xfrm>
          <a:prstGeom prst="wedgeRoundRectCallout">
            <a:avLst>
              <a:gd name="adj1" fmla="val -37282"/>
              <a:gd name="adj2" fmla="val 366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9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6840" y="15238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5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abl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3809880"/>
            <a:ext cx="1752480" cy="298080"/>
          </a:xfrm>
          <a:prstGeom prst="wedgeRoundRectCallout">
            <a:avLst>
              <a:gd name="adj1" fmla="val -47023"/>
              <a:gd name="adj2" fmla="val -478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42280" y="15238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,573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Network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736720"/>
            <a:ext cx="1752480" cy="495360"/>
          </a:xfrm>
          <a:prstGeom prst="wedgeRoundRectCallout">
            <a:avLst>
              <a:gd name="adj1" fmla="val -53171"/>
              <a:gd name="adj2" fmla="val -257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39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ettle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9320" y="563868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419 MW Reported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1371600"/>
          <a:ext cx="8686800" cy="482436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1447560"/>
                <a:gridCol w="1463760"/>
                <a:gridCol w="1736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from 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between NDC and Resource Plan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066680"/>
          <a:ext cx="7620120" cy="5207040"/>
        </p:xfrm>
        <a:graphic>
          <a:graphicData uri="http://schemas.openxmlformats.org/drawingml/2006/table">
            <a:tbl>
              <a:tblPr/>
              <a:tblGrid>
                <a:gridCol w="3505320"/>
                <a:gridCol w="1523880"/>
                <a:gridCol w="25909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atchable Gen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 MW Forced 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 Cap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 Capa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 % of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of Loa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2,300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9:13:42Z</dcterms:created>
  <dc:creator> </dc:creator>
  <dc:description/>
  <dc:language>en-US</dc:language>
  <cp:lastModifiedBy>H Durrwachter</cp:lastModifiedBy>
  <dcterms:modified xsi:type="dcterms:W3CDTF">2006-09-20T15:31:26Z</dcterms:modified>
  <cp:revision>46</cp:revision>
  <dc:subject/>
  <dc:title>Slide 1</dc:title>
</cp:coreProperties>
</file>