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B60B-8F7B-44EF-9F25-A8BBF931E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0640-669F-4C82-9E87-6CA862DC4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55B4-4241-4458-B97C-0132B44FC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ABAD-0F23-485F-B3AE-A55C7DF2D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E95F-511F-4D38-A01A-D7240C24B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AFA8-A5BC-4AB7-87AE-27AB4A343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A879-852B-4AD3-91E1-4393595C9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3A8B-2CFD-4750-8478-F144CC3FC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296D-EA7D-4D27-9DE3-D252C899D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0322-285F-4BBC-9833-D3A9AAC2A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FEC7-4638-4A57-8804-532B22FB9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0CC4-2EE2-4B01-8882-BCC38BEFE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EF383E6A-601F-4A7D-911F-4783E8BC9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1412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1412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2552040"/>
            <a:ext cx="78483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Side Working Group Up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0200" y="4960800"/>
            <a:ext cx="6248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ary Anne Brelins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agl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67640" y="5656320"/>
            <a:ext cx="198108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EEC6-6401-4209-A198-1187F658D8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SWG Meeting September 8th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2760" y="998640"/>
          <a:ext cx="8535960" cy="5351400"/>
        </p:xfrm>
        <a:graphic>
          <a:graphicData uri="http://schemas.openxmlformats.org/drawingml/2006/table">
            <a:tbl>
              <a:tblPr/>
              <a:tblGrid>
                <a:gridCol w="457200"/>
                <a:gridCol w="3779640"/>
                <a:gridCol w="2149560"/>
                <a:gridCol w="2149560"/>
              </a:tblGrid>
              <a:tr h="27648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iew Meeting Notes from 6/30/06 Mee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A. Brelins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:40 a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DSWG Goals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A. Brelins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:45 a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M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A. Brelins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00 a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72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 Rules/PRR Updates and Clar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PRR665 Revise RRS Performance Monitoring Crit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PRR682 EECP Event Realignment (and OGRR18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Notice of Diminishing Physical Responsive Ca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PRS Up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Controllable Load Resource Pil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Nodal Up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Load Resource EECP Deployment Under Nod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. Load Resource EECP Deployment Under Nod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 Kr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 Kr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 Kr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 Kr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 Kr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Patt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Patt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Patt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10 a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Workshop on Demand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 Claiborn-Pi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30 a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ad Participation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 Kr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00 a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WG Team Buil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A. Brelins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20 a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30 a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and Side Survey Questionn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00 p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WG Brainstorming Session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Zarnik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30 p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on Item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A. Brelins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:15 p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95A9-AA67-411D-BA4E-4BA1669F79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SWG Goals Updat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360" y="1314360"/>
            <a:ext cx="8756640" cy="448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DC0A-E967-46F3-B55D-6719DD7E36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mand Side Participation in ERCOT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8240" y="1150920"/>
            <a:ext cx="868680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5145-09B1-430F-8B68-B2AB77BAFE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C Workshop on Demand Response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8750" t="22659" r="51251" b="24220"/>
          <a:stretch/>
        </p:blipFill>
        <p:spPr>
          <a:xfrm>
            <a:off x="61920" y="1074600"/>
            <a:ext cx="8901000" cy="472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 flipV="1">
            <a:off x="6005520" y="3665160"/>
            <a:ext cx="914400" cy="6094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9560" y="3665520"/>
            <a:ext cx="228600" cy="45720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2720" y="419904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wo more workshops are 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619F-8607-42A7-8B87-30B8866CD2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C Workshop on Demand Respons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3438" t="35239" r="62808" b="16328"/>
          <a:stretch/>
        </p:blipFill>
        <p:spPr>
          <a:xfrm>
            <a:off x="214200" y="1125360"/>
            <a:ext cx="5867640" cy="4786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6520" y="5979960"/>
            <a:ext cx="8312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Presentations posted at: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http://www.puc.state.tx.us/electric/projects/32853/32853.c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E4C5-3AA7-4F07-BF24-50F71A0E36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SWG Special Task Forme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4200" y="998640"/>
            <a:ext cx="8747280" cy="51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6040" indent="-176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Side Working Group has initiated a special task force to reviewing current issues and develop solutions for load participation in the current zonal Protoc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a Stephenson with TXU is leading the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Force was initially targeted at LaaR participation in the RPRS market, but has expanded in scope to ensure current issues that hinder market participation by loads are ad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current list of issues for LaaR participation in ERCOT A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 - LaaRs currently blocked from particip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aR BES - LaaRs currently blocked from 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 Bidding of LaaRs - PRR 496 still in boxed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Bids for LaaRs - Simultaneous Solution Methodology that's been adopted will not accept tied LaaR bids for RRS and awards entire bid to other services if compet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LaaR for more than one Ancillary Service-Excess capacity cannot be used for oth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solutions and current status of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63440">
              <a:lnSpc>
                <a:spcPct val="100000"/>
              </a:lnSpc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order of magnitude estimate for market participation if solution is impl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next steps, responsible organization and due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eting tentatively scheduled Thursday September 28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6948-9021-4A90-A465-C77F100F00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xt DSWG Meeting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341360"/>
            <a:ext cx="8575920" cy="12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6040" indent="-1760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next meeting is scheduled for Friday, October 2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loween costume is op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9382" t="28126" r="63121" b="38281"/>
          <a:stretch/>
        </p:blipFill>
        <p:spPr>
          <a:xfrm>
            <a:off x="1967040" y="2827440"/>
            <a:ext cx="4572000" cy="35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3720-BF7E-4E7A-92C1-68AB5D8520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 Anne Brelinksy</cp:lastModifiedBy>
  <dcterms:modified xsi:type="dcterms:W3CDTF">2006-09-19T22:28:07Z</dcterms:modified>
  <cp:revision>44</cp:revision>
  <dc:subject/>
  <dc:title>DSWG Update to WMS</dc:title>
</cp:coreProperties>
</file>