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5DC-047C-46DC-93F3-BF49A124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A8A-7C74-46B2-A021-79FC081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5F3-E9AA-45B9-AC01-F53A7DA6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FC8-1DA0-434E-B535-A50A0CA6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931-9CDA-4DE2-A8FB-069E6F1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C54-40C2-4F86-B0D8-03B22870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6CB-CE0E-486D-951E-202EFA4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549-6637-49F6-8285-47B4C7B4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9D5-9E2F-4DDF-AE7D-1016AC2C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C03-76B0-40DD-BB7E-52E07390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B4D-CE8E-4F67-9D3E-AFF234AB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BE1-ACFE-431D-8EEA-625E02F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7632-855B-4CA3-BBDC-57FE632D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04920"/>
            <a:ext cx="830592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e the work of the HZ T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regular event re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ine issues associated with SB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olve the Demand Side resource 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 More depth in the TAC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pare some special reports to TA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mission outage scheduling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x/Understand B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ything else that TAC comes up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2:59:40Z</dcterms:created>
  <dc:creator>bbelk</dc:creator>
  <dc:description/>
  <dc:language>en-US</dc:language>
  <cp:lastModifiedBy>bbelk</cp:lastModifiedBy>
  <dcterms:modified xsi:type="dcterms:W3CDTF">2006-06-21T13:04:00Z</dcterms:modified>
  <cp:revision>2</cp:revision>
  <dc:subject/>
  <dc:title>Slide 1</dc:title>
</cp:coreProperties>
</file>