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20E14-4AB9-45B3-A358-B7FAE2BB0D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AA1ED-ABDF-4769-99A8-1FFD4F9A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D0559-829C-4773-BE38-CC0E3DBE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B6FE8-DC0D-467C-B290-D526757482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2C944-1CA0-4380-91DC-7A5F309B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91604-348C-4BA6-9BE2-0373C35D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9BFCB-6539-45F7-B2E8-8FEC14CB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0160E-DACC-470C-86C3-5187F508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0F99B-4C0C-4AD6-82C6-05F8F8EF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67802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8A3A8-962F-4D0B-82FE-22729FE1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DAF2B-4E6B-4F6F-898E-73AF691B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379E3-C2D1-4BA9-904C-DC51365D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87076-0976-4CFE-85FB-AB73D374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A8733-B4AC-416A-9CD2-FB013024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92863-4363-4DC8-85D3-650D2246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8437F-EB3A-400D-9B2C-9470A57D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0E352-A71C-431C-932C-CFD6AD6D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C4712-5B78-46F7-9B21-56F2EEBA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24707-FBFE-4FEF-8E85-AD029B50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B3865-4EF3-40B4-A329-21A221E6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67802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5FF82-C5B8-4925-BE57-198F148E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456DE-FBE1-4821-967E-6EDA0925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77CB9-C2DE-4016-BEA2-2482E5BB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5BC66-3A16-4B5C-BAB9-CFDE16B0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6249-A641-4E26-9A13-A0D799D989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1676520" cy="901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76320"/>
            <a:ext cx="1676520" cy="90144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C Half Banner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-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3829-BCF7-47A1-92E4-EEA8739DA3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1722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00400" cy="1722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TCA, CAM, and SFT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4920" y="4038480"/>
            <a:ext cx="6326280" cy="152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Presented by: John Duma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ptember 20, 2006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FB90E-D3C3-423C-93EE-0CCB3B4FE61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9/2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eal Time Contingency Analysi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50932" t="1687" r="938" b="10783"/>
          <a:stretch/>
        </p:blipFill>
        <p:spPr>
          <a:xfrm>
            <a:off x="914400" y="1371600"/>
            <a:ext cx="723888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931A6-CAFA-4601-B4AC-BA545358D2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20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arket Operator Interfac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14400" y="1415880"/>
            <a:ext cx="7467480" cy="5059440"/>
            <a:chOff x="914400" y="1415880"/>
            <a:chExt cx="7467480" cy="5059440"/>
          </a:xfrm>
        </p:grpSpPr>
        <p:pic>
          <p:nvPicPr>
            <p:cNvPr id="98" name="" descr=""/>
            <p:cNvPicPr/>
            <p:nvPr/>
          </p:nvPicPr>
          <p:blipFill>
            <a:blip r:embed="rId1"/>
            <a:srcRect l="0" t="6733" r="60185" b="30972"/>
            <a:stretch/>
          </p:blipFill>
          <p:spPr>
            <a:xfrm>
              <a:off x="914400" y="1415880"/>
              <a:ext cx="7467480" cy="50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 txBox="1"/>
            <p:nvPr/>
          </p:nvSpPr>
          <p:spPr>
            <a:xfrm>
              <a:off x="914400" y="1415880"/>
              <a:ext cx="7467480" cy="505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buClr>
                  <a:srgbClr val="000066"/>
                </a:buClr>
                <a:buSzPct val="13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83B34-D2AF-4CFB-9339-ADDAE9BDD6F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2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AM Implementa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Omega"/>
              </a:rPr>
              <a:t>CAM determines which overloads will be monitored by Simultaneous Feasibility Test (SFT)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Omega"/>
              </a:rPr>
              <a:t>SFT is a power flow analysis that computes shift factor impacts on monitored overloaded elements 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Omega"/>
              </a:rPr>
              <a:t>All calculated generation shift factors are forwarded to SPD (i.e. OC3 constraints for each overloaded element) 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Omega"/>
              </a:rPr>
              <a:t>SPD enforces these constraints and computes unit specific deployments   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D3F8-6A30-4838-B3AE-A0460AE2107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2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3880" y="1522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al Constraint Flowchar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ach Inter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4114800"/>
            <a:ext cx="3276720" cy="109980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Estimator Solu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Current Network Topology / L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5486400"/>
            <a:ext cx="3276720" cy="91692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Flow Case with Network Topology and MW Inj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1600200"/>
            <a:ext cx="838440" cy="36828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5181480"/>
            <a:ext cx="0" cy="228600"/>
          </a:xfrm>
          <a:prstGeom prst="line">
            <a:avLst/>
          </a:prstGeom>
          <a:ln w="2232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828800"/>
            <a:ext cx="1295280" cy="0"/>
          </a:xfrm>
          <a:prstGeom prst="line">
            <a:avLst/>
          </a:prstGeom>
          <a:ln w="2232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3505320"/>
            <a:ext cx="3962520" cy="91692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FT Loadflow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gency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s OC3 Constrai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1143000"/>
            <a:ext cx="1600200" cy="119124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 for the 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6560" y="1219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600200"/>
            <a:ext cx="3962160" cy="36828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ly Entered Constraints (oc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5240" y="2819520"/>
            <a:ext cx="3976920" cy="36828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SE Res. Plan  &amp; Real-Time 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809880" y="1981080"/>
            <a:ext cx="1981440" cy="457200"/>
          </a:xfrm>
          <a:prstGeom prst="line">
            <a:avLst/>
          </a:prstGeom>
          <a:ln w="2232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5960" y="2209680"/>
            <a:ext cx="3327840" cy="36828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SE Schedules and BES Bi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19720" y="2133720"/>
            <a:ext cx="1371600" cy="914400"/>
          </a:xfrm>
          <a:prstGeom prst="line">
            <a:avLst/>
          </a:prstGeom>
          <a:ln w="2232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1828800"/>
            <a:ext cx="457200" cy="0"/>
          </a:xfrm>
          <a:prstGeom prst="line">
            <a:avLst/>
          </a:prstGeom>
          <a:ln w="2232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920" y="365760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 of CAM/SFT to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2286000"/>
            <a:ext cx="0" cy="1066680"/>
          </a:xfrm>
          <a:prstGeom prst="line">
            <a:avLst/>
          </a:prstGeom>
          <a:ln w="34920">
            <a:solidFill>
              <a:srgbClr val="99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5638680"/>
            <a:ext cx="304920" cy="0"/>
          </a:xfrm>
          <a:prstGeom prst="line">
            <a:avLst/>
          </a:prstGeom>
          <a:ln w="2232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080" y="5446800"/>
            <a:ext cx="3444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55627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5029200"/>
            <a:ext cx="2133360" cy="128268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case/ Post Cont Overload Det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5105520"/>
            <a:ext cx="2438280" cy="128268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case/ Post Cont Overloads Selectable for Depl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43800" y="4800240"/>
            <a:ext cx="0" cy="228600"/>
          </a:xfrm>
          <a:prstGeom prst="line">
            <a:avLst/>
          </a:prstGeom>
          <a:ln w="2232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5715000"/>
            <a:ext cx="228600" cy="0"/>
          </a:xfrm>
          <a:prstGeom prst="line">
            <a:avLst/>
          </a:prstGeom>
          <a:ln w="2232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9D1FB-4E72-4052-B0A5-A9BF3C945845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2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straint Activity Manage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50481" t="1783" r="6938" b="57665"/>
          <a:stretch/>
        </p:blipFill>
        <p:spPr>
          <a:xfrm>
            <a:off x="380880" y="1676520"/>
            <a:ext cx="8455320" cy="45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8EE68-B575-4F17-8698-B693BB10C45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20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5T20:24:45Z</dcterms:created>
  <dc:creator>Manuel Atanacio</dc:creator>
  <dc:description>Presented at the Load Profiling, Forecasting &amp; Settlements Conference;</dc:description>
  <cp:keywords>ERCOT Retail Pros Cons Commercial Operations</cp:keywords>
  <dc:language>en-US</dc:language>
  <cp:lastModifiedBy>jdumas</cp:lastModifiedBy>
  <cp:lastPrinted>2006-09-19T15:42:49Z</cp:lastPrinted>
  <dcterms:modified xsi:type="dcterms:W3CDTF">2006-09-19T16:34:17Z</dcterms:modified>
  <cp:revision>277</cp:revision>
  <dc:subject>Texas Commercial Operations</dc:subject>
  <dc:title>PR-30148 EMMS Release 3.0 Monthly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