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anual Date&gt; – &lt;Manual Filename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19FF9B5-5861-4454-8DB8-0B9C149C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ICCP Business Case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By Jeyant Tamby, ERCO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Protocol Require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al Protocols require ERCOT to supply certain data via “SCADA or ICCP”.  Some 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.2(2) – “Communicate all Base Points, Dispatch Instructions and LMPs for energy and Ancillary Services using ICCP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Verbal Dispatch Instruc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7.6.1(4)  – “Control signals are provided to the QSE using the ICCP data link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7.6.2.2(11) – “ERCOT shall issue Responsive Reserve deployment Dispatch Instructions o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ICCP for Generation Resources and XML for Load Resourc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Communication Pat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080" y="2232000"/>
          <a:ext cx="85215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2232000"/>
                    <a:ext cx="85215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TU/DNP – Architectural Issu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with the RTUs is accomplished using the DNP 3.0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Model will increase DNP data exchange volume by more than 1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issues concerning the current architecture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capacity and performance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 consistent definition of data quality codes across all market participa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a security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Recommendation for Texas Nod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5080" y="2232000"/>
          <a:ext cx="85215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2232000"/>
                    <a:ext cx="85215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mpact Assess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evel of effort for a particular participant to convert to full ICCP data exchange depends on a number of factors such 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number of RTU points that must be mapped to the ICCP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diness of a system without ICCP to accept an ICCP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rticipants choosing an ICCP gateway, the native protocols available to connect the participant’s system to the gateway and the means by which physical connections can b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version Op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28880"/>
          <a:ext cx="8547120" cy="4525920"/>
        </p:xfrm>
        <a:graphic>
          <a:graphicData uri="http://schemas.openxmlformats.org/drawingml/2006/table">
            <a:tbl>
              <a:tblPr/>
              <a:tblGrid>
                <a:gridCol w="2928960"/>
                <a:gridCol w="1719360"/>
                <a:gridCol w="3898800"/>
              </a:tblGrid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Op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 Complex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version requir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nt is already exchanging all data via ICC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e RTU data to ICC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adding all points presently on the RTUs to the ICCP databas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e RTU data to ICCP and configure a new ICCP association with ERCO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es the effort of recommendation (2) plus testing new ICCP associations with ERCO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ure and implement ICCP via system upgrade or ICCP gatew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procuring an ICCP communication upgrade or adding an ICCP gatewa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version Prediction vs. Existing Capabil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028880"/>
          <a:ext cx="8546760" cy="4525560"/>
        </p:xfrm>
        <a:graphic>
          <a:graphicData uri="http://schemas.openxmlformats.org/drawingml/2006/table">
            <a:tbl>
              <a:tblPr/>
              <a:tblGrid>
                <a:gridCol w="1568880"/>
                <a:gridCol w="1460160"/>
                <a:gridCol w="1284480"/>
                <a:gridCol w="1277640"/>
                <a:gridCol w="1460160"/>
                <a:gridCol w="1495440"/>
              </a:tblGrid>
              <a:tr h="683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Participants with the stated cap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nt Ty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Data Exchange Cap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icted Conversion Op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-time Data via RTU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-time Data via ICCP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Available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r unknow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D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D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429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ough Cost Estimates by Op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028880"/>
          <a:ext cx="8547120" cy="4547880"/>
        </p:xfrm>
        <a:graphic>
          <a:graphicData uri="http://schemas.openxmlformats.org/drawingml/2006/table">
            <a:tbl>
              <a:tblPr/>
              <a:tblGrid>
                <a:gridCol w="1405080"/>
                <a:gridCol w="1522440"/>
                <a:gridCol w="1388880"/>
                <a:gridCol w="592200"/>
                <a:gridCol w="1387440"/>
                <a:gridCol w="592200"/>
                <a:gridCol w="1066680"/>
                <a:gridCol w="592200"/>
              </a:tblGrid>
              <a:tr h="2156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Tas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sion Op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2 - Move RTU data to ICC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2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3 - move RTU data to existing ICCP and configure a new ICCP assoc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3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4 - Procure and implement ICCP from a suppl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 4 - Hou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ning, Specification and Vendor Manag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, select and issue 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Manag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Deliver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6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t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8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Setup and Living 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Configuration/ Build D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7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Configuration/ point defin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2,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,8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5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 Build/L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up Associ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CP Installation/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2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ing with 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nt to Po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,2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1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6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 St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,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8,0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8,2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6,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2:59:26Z</dcterms:created>
  <dc:creator>Richard Howard</dc:creator>
  <dc:description/>
  <dc:language>en-US</dc:language>
  <cp:lastModifiedBy>jtamby</cp:lastModifiedBy>
  <dcterms:modified xsi:type="dcterms:W3CDTF">2006-09-06T20:25:28Z</dcterms:modified>
  <cp:revision>12</cp:revision>
  <dc:subject/>
  <dc:title>Texas Nodal ICCP Business Case DRAFT By Richard Howard, ERCOT</dc:title>
</cp:coreProperties>
</file>