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986-B16D-4D14-93C9-54D2E6A1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A4A-EA1A-4A37-B14E-168CA6F0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B51-904C-4840-B0D1-9F01684B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DDE-3E3A-4D43-B7DF-8526D647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370-92D0-410E-BD0E-0A16E76A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BA8-7606-47A6-88BA-6CE2BC5F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308-C5D8-40FC-96B4-A064C2D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91C-2420-4582-B42C-091FA026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9BF-00F9-4315-AB79-883A7C96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F65-C01C-4E14-9A44-859C16A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007-A02C-438B-9A02-748ED4A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F31-49BB-4F66-9AF1-F42129A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EB0B-CC96-4745-AB51-5CF9312D7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3516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RS Procuremen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on Whittle presented detailed discussion of how RPRS procurement engine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RS procurement process does appear to reflect the intentions of the market participants with two areas identified for improv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metrics to screen contingencies with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identifying online units targeted for non-spin reserve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working with ERCOT regarding when and how much sigma bias should be used in the load forec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looking at ways to use the Non-Spin Reserve Market to address reliability related issues rather than relying on RPRS which is primarily for ensuring there is enough next day 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03516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RS Procuremen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RS appeared to have significantly over-procu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solvable Contingen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bbons Creek – Greens Prairie Dckt,  Dansby – Atkins over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igation plan now in place, contingency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the MIS and replacement for the TML to support the nodal market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SE Managers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6:08:14Z</dcterms:created>
  <dc:creator>Gary D Miller</dc:creator>
  <dc:description/>
  <dc:language>en-US</dc:language>
  <cp:lastModifiedBy>Gary D Miller</cp:lastModifiedBy>
  <dcterms:modified xsi:type="dcterms:W3CDTF">2006-09-20T14:35:31Z</dcterms:modified>
  <cp:revision>6</cp:revision>
  <dc:subject/>
  <dc:title>Slide 1</dc:title>
</cp:coreProperties>
</file>