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60EF-8179-452A-824D-4F944D85D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FC22-6E75-4312-BCE5-19E4D02FF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EDFA-AEA1-4161-94D2-FFB41DF3C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7EFC-84BB-4554-9D69-B96887E26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1259-08D0-4534-A040-5BE6BA5DD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4340-377F-4037-A5E8-2CEA5D64E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34D2-2BE1-4F93-87DD-DA00FE42D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7032-42F8-41FE-ABAA-B0B301C04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0B7E-C4BD-49D7-A825-03618C9BB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2A79D-C02F-4AE9-8759-F696E2EB3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BDE55-3170-45C3-B347-8628B6F34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6B54-3A07-4533-9C03-6FAF37132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7CEA-2A3F-461B-9EC1-FD7D893C6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O Update to P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ember 21, 200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Status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066680"/>
            <a:ext cx="8534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Implementation D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 – SCR738 – MarkeTrak (FasTrak replac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vised implementation date = 11/11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ent Project Added to P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 – Majordomo Replacement (1.1/8.5, $100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s Now in Planning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 – PRR666 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. of RPRS Undersched. Capacity Charge Ca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 – PRR565 – Calc. of Losses for Sett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 – PRR668 – Distribution Loss Factor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Canc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 – Outage Scheduler Enhancements Phas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329C-6C0B-492D-B05B-E31BDDA046A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2007 Project Budget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1219320"/>
          <a:ext cx="6400800" cy="2209680"/>
        </p:xfrm>
        <a:graphic>
          <a:graphicData uri="http://schemas.openxmlformats.org/drawingml/2006/table">
            <a:tbl>
              <a:tblPr/>
              <a:tblGrid>
                <a:gridCol w="1746000"/>
                <a:gridCol w="2181240"/>
                <a:gridCol w="2473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itial Budget Requ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sed Budget Requ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5,7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4,2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16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12,7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2,058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1,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7,659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7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4,908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4,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36,37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30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33520" y="3962520"/>
          <a:ext cx="7924680" cy="2209680"/>
        </p:xfrm>
        <a:graphic>
          <a:graphicData uri="http://schemas.openxmlformats.org/drawingml/2006/table">
            <a:tbl>
              <a:tblPr/>
              <a:tblGrid>
                <a:gridCol w="1295280"/>
                <a:gridCol w="1447920"/>
                <a:gridCol w="1904760"/>
                <a:gridCol w="1524240"/>
                <a:gridCol w="175248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ry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line Mainten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CT/NERC/Mar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9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8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2,5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         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3,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4,3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5,3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         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4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8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2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4,7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         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97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1,32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2,3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         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   6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   1,5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11,4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5,3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10,17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 3,07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315200" y="1219320"/>
            <a:ext cx="129528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budget request to mee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391160" y="33526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009920" y="16002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2743200"/>
            <a:ext cx="129528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out of project budget by project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8BBF-C43C-4F76-A850-36D250FB38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2007 Project Budget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did the budget change take plac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ed ERCOT to maintain its current admin f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spcBef>
                <a:spcPts val="499"/>
              </a:spcBef>
              <a:buNone/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impac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marily IT infrastructure cha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s impacted ERCOT-requested proj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hanges to priorities or rankings in CO, MO, RO and 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spcBef>
                <a:spcPts val="499"/>
              </a:spcBef>
              <a:buNone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review is taking place now that Nodal budget is coming into foc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cts relate to IO and SO program are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CA0C-ED72-4D0F-BD5B-ACBB1ECDF9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anderson</cp:lastModifiedBy>
  <dcterms:modified xsi:type="dcterms:W3CDTF">2006-09-18T19:07:59Z</dcterms:modified>
  <cp:revision>181</cp:revision>
  <dc:subject/>
  <dc:title>Slide 1</dc:title>
</cp:coreProperties>
</file>