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8554-F25E-4B6F-8DC9-41258ACD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F04-7C58-4CED-B81A-FB07AABB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DDF-AF9B-4034-8DCF-9ED32B27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2DDE-68C2-4F53-89E7-66A9D99F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89A-5CF6-4F93-A787-D82FF14E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1515-77A6-42CB-A859-4AFE860D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411-4F62-468F-9D53-B835A5B3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19E-853B-4B75-BF13-FF35AF21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FE3-6446-4ED8-9CDC-85379654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D0F3-5671-4618-83D1-37FB89FC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6577-BE60-44F1-A14C-1376971C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FB04-4C85-441A-8A21-F56CB101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E0C1-0E73-4648-BB25-61FB065D3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1447920"/>
            <a:ext cx="87631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20480" indent="-420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d move-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760" indent="-350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MPs and ERCOT provided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1600" indent="-350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d ahead of time - ERCOT, AEP, TNMP, TXU ED, Centerpoint, Vantage and Green Mou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1600" indent="-350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d day of meeting - Direct Energy, Reliant, TXU ES, Constellation and First Choic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0480" indent="-420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760" indent="-350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-in transactions fairly evenly distributed throughout the d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760" indent="-350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m saw a need for additional analysis on move-ins around 3pm – 5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760" indent="-350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will share the three average turnaround times and overall average on Move 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760" indent="-350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s not using priority codes consist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0480" indent="-420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 remaining processes to be analy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760" indent="-350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will perform similar analysis and provide at next meeting (Oct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0480" indent="-420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rack to report findings at November 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680" y="304920"/>
            <a:ext cx="5639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R672 Retail Market Analysis Update to R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2B93-3D5D-4C95-AC64-2D33F88F0B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farley</cp:lastModifiedBy>
  <cp:lastPrinted>2002-09-24T18:27:58Z</cp:lastPrinted>
  <dcterms:modified xsi:type="dcterms:W3CDTF">2006-09-07T19:51:23Z</dcterms:modified>
  <cp:revision>630</cp:revision>
  <dc:subject/>
  <dc:title>PowerPoint Presentation</dc:title>
</cp:coreProperties>
</file>