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4673D-040A-4DB0-8474-86BD10FF67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72531-CC01-47BA-BA5B-6E6CAF8DC1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36520" y="674640"/>
            <a:ext cx="4599000" cy="344952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894960" y="6321600"/>
            <a:ext cx="507204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8F9DCB-795C-4176-9839-F6AAB7BBC9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2D7DD6-4C29-4910-9013-FB7D4521B2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576F7B-DDF8-48FE-A345-81A1020CBC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9BAC4B-0325-4AFE-8E74-05D9F6A030E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EE3117-1F87-4FEC-9CB5-0766603D8E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7079AA-2B27-4F3B-AA14-7435F250D9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9B4A47-6112-4CFB-9CC7-60CC2C3D4A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43FE92-F52E-459F-810E-47FCCA4278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E035A8-A0C0-426A-B7D1-A93BCE7CDF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350ECA-3D6B-408F-9C31-FBAF887F27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2BD268-65F1-40DA-A8C9-8133F13C99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55CBD4-F17B-4780-A053-D441B45399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39C52-B82D-485E-A9E0-F33A136CC2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333520" y="1905120"/>
            <a:ext cx="647712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mailto:amartinez@ercot.com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1828800"/>
            <a:ext cx="67053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3200" spc="-1" strike="noStrike">
                <a:solidFill>
                  <a:srgbClr val="ffffff"/>
                </a:solidFill>
                <a:latin typeface="Lucida Bright"/>
              </a:rPr>
              <a:t>MODPO Update - RO Financials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Lucida Bright"/>
              </a:rPr>
              <a:t>2006 Year-To-Dat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Lucida Bright"/>
              </a:rPr>
              <a:t>2007 Forecast</a:t>
            </a:r>
            <a:br>
              <a:rPr sz="3200"/>
            </a:b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Lucida Bright"/>
              </a:rPr>
              <a:t>Retail Market Subcommitte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Lucida Bright"/>
              </a:rPr>
              <a:t>September 13, 2006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Lucida Bright"/>
              </a:rPr>
              <a:t>Adam Martinez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Lucida Bright"/>
              </a:rPr>
              <a:t>Mgr, Market Operations DPO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3" name=""/>
          <p:cNvSpPr/>
          <p:nvPr/>
        </p:nvSpPr>
        <p:spPr>
          <a:xfrm>
            <a:off x="1143000" y="3809880"/>
            <a:ext cx="7162920" cy="0"/>
          </a:xfrm>
          <a:prstGeom prst="line">
            <a:avLst/>
          </a:prstGeom>
          <a:ln w="316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90440" y="0"/>
            <a:ext cx="793296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006 PPL Status and Budget Update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163440" y="757080"/>
          <a:ext cx="8858160" cy="4899240"/>
        </p:xfrm>
        <a:graphic>
          <a:graphicData uri="http://schemas.openxmlformats.org/drawingml/2006/table">
            <a:tbl>
              <a:tblPr/>
              <a:tblGrid>
                <a:gridCol w="638280"/>
                <a:gridCol w="2706480"/>
                <a:gridCol w="644760"/>
                <a:gridCol w="1701720"/>
                <a:gridCol w="568440"/>
                <a:gridCol w="487440"/>
                <a:gridCol w="1014120"/>
                <a:gridCol w="1096920"/>
              </a:tblGrid>
              <a:tr h="353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ourc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jec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ject No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urrent Phase/Statu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6 Priorit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6 Rank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6 Budget Rang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6 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unning</a:t>
                      </a: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Rang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99"/>
                    </a:solidFill>
                  </a:tcPr>
                </a:tc>
              </a:tr>
              <a:tr h="231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ke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nhancement to FasTrak Tool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00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ecution Phas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0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8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$1M-$3M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1M-$3M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5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RCO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ndpoint Services - Phase I  (TIBCO Sub-project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121_0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lose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0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100k-$500k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1M-$3M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5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RCO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tail Business Processes (TIBCO sub-project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121_0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ecution Phas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0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1M-$3M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4M-$6M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5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RCO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ndpoint Services - Phase II (TIBCO sub-project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121_0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ecution Phas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0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100-$500K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4M-$6M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3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RCO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X SET 2.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3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lose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0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&lt;$100k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4M-$6M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5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RCO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5 SIR Enhancement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02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lose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0b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8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100k-$500k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4M-$6M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ke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X SET 3.0, including Mass Transition and T&amp;C'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38_0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lanning Phase; major carry-over into 2007 PP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.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500k-$1M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6M-$8M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7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ke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RCOT Outage Evaluation and Resolution, Ph. I &amp;I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0006_0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ecution Phas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500k-$1M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6M-$8M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6560">
                <a:tc gridSpan="8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O Cut Line </a:t>
                      </a:r>
                      <a:r>
                        <a:rPr b="1" i="1" lang="en-US" sz="9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Initial placement based on consolidated ERCOT PPL; RO allocation = $6.75M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0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8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ke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erformance Measures Reportin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0007_0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erred to 2007 PP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2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ke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s and Conditions Requirements (not included in TX SET release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0008_0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 2007 PPL for Phase 2 of PRR 672 (below capability line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5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RCO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OA Extend Footprin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0010_0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ncelled, not on 2007 PP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6560">
                <a:tc gridSpan="8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O Capability Range </a:t>
                      </a:r>
                      <a:r>
                        <a:rPr b="1" i="1" lang="en-US" sz="9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Line placement varies based on Forecasted Spend for Portfolio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5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RCO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SI ID Account Table Spli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0015_0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t Started; 2007 PP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3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RCO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RCOT.com Secured Are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0077_0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lanning Phas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.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100k-$500k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6M-$8M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5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RCO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DW Siebel Transitio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059_0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Execution Phas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500k-$1M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6M-$8M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5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RCO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DW TCH Transitio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060_0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Execution Phas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100k-$500k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6M-$8M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5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RCO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DW EAI Transitio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061_0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t Started; 2007 PP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2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RCO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TS Transition to EDW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088_0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t Started, 2007 PP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96" name=""/>
          <p:cNvSpPr/>
          <p:nvPr/>
        </p:nvSpPr>
        <p:spPr>
          <a:xfrm>
            <a:off x="152280" y="5638680"/>
            <a:ext cx="87631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cc"/>
                </a:solidFill>
                <a:latin typeface="Arial"/>
              </a:rPr>
              <a:t>As of 8/31/06 financial update, MODPO forecast spend though 2006 for combined RO &amp; MO projects indicates an underspend of $232k against budget allocations.  MODPO predicts that the increase required for MarkeTrak budget will not impact any other projects on the current RO &amp; MO PP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44080" y="0"/>
            <a:ext cx="799956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007 PPL Update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189000" y="768240"/>
          <a:ext cx="8794800" cy="5581800"/>
        </p:xfrm>
        <a:graphic>
          <a:graphicData uri="http://schemas.openxmlformats.org/drawingml/2006/table">
            <a:tbl>
              <a:tblPr/>
              <a:tblGrid>
                <a:gridCol w="658800"/>
                <a:gridCol w="676080"/>
                <a:gridCol w="2590920"/>
                <a:gridCol w="743040"/>
                <a:gridCol w="720720"/>
                <a:gridCol w="1050840"/>
                <a:gridCol w="533520"/>
                <a:gridCol w="990360"/>
                <a:gridCol w="830520"/>
              </a:tblGrid>
              <a:tr h="550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ourc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ource Do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j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ject No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urrent Statu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7 Priorit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7 Ran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7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udget Range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7 Running Range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99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ke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R66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X. SET 3.0, including Mass Transition and T&amp;C'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38_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itiat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 – Carryov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3M-$5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2M-$4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RCO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DW Siebel Transit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059_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lanning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 – Carryov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&lt;$100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2M-$4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RCO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SI ID Account Table Spli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0015_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t Yet Starte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 – Carryov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100k-$500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2M-$4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RCO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DW TCH (Transaction Clearinghouse) Transit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060_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lanning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 – Carryov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&lt;$100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2M-$4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RCO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TS (ESIID Tracking System) Transition to EDW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088_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t Yet Starte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 – Carryov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500k-$1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4M-$6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RCO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DW EAI Transition (inc. PaperFree &amp; NAESB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061_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t Yet Starte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 – Carryov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100k-$500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4M-$6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1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RCO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IS Siebel to L* Data Comparis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ew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ew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 – Hig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100k-$500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4M-$6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7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ke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CR74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ebsite Enhancements for ERCOT Outag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ew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ew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 – Hig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100k-$500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4M-$6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ke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keTrak Enhancements (Workflow &amp; Reporting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ew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ew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 – Hig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500k-$1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6M-$8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RCO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ception Reporting / Monitoring Enhancement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ew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ew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 – Hig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100k-$500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6M-$8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RCO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ystematic Exception Reprocessing Functionalit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ew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ew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 – Hig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$500k-$1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6M-$8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RCO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ransition of Production Reporting to EIS - Retai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ew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ew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 – Hig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$100k-$500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6M-$8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89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RCO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tegration of Commercial Operations Data in EIS </a:t>
                      </a: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formerly Web Services that integrate L* and Siebel data for MPs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0028_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t Yet Starte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 – Hig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$100k-$500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6M-$8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76480">
                <a:tc gridSpan="9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Estimated Resource Capability - </a:t>
                      </a:r>
                      <a:r>
                        <a:rPr b="1" lang="en-US" sz="12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$7,000,000 (Reduced from $7,659,000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0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882720" y="1257480"/>
            <a:ext cx="7673760" cy="434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82600" indent="-282600">
              <a:lnSpc>
                <a:spcPct val="8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 algn="ctr">
              <a:lnSpc>
                <a:spcPct val="8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am D. Martine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gr, Market Operations Divisional Projects Organ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512) 248-388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martinez@erco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838160" y="149760"/>
            <a:ext cx="71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uestions / Contact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/>
  <dc:description/>
  <dc:language>en-US</dc:language>
  <cp:lastModifiedBy>amartinez</cp:lastModifiedBy>
  <dcterms:modified xsi:type="dcterms:W3CDTF">2006-09-13T07:52:11Z</dcterms:modified>
  <cp:revision>43</cp:revision>
  <dc:subject/>
  <dc:title>Instructions</dc:title>
</cp:coreProperties>
</file>