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176E-7C27-43C0-B37D-6E7062905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132-5DB2-4618-83CF-D3A1E493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979-C711-45EA-BED7-1011CBA8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278-298B-44CE-934D-03883F7B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A2F-3DB9-4527-A53E-8946EC52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540-7A95-4B13-AF68-90BBC303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C22-9FA9-42A6-8436-6F8F9230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016-8ACC-4C96-A372-A93FE2FA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88A-F420-45EE-BBCE-90D87896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1EB-947A-4343-88F1-C69BD772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808-375A-49AC-BCE0-8FAACB14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356-3387-46AC-9B13-16EB773B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C27-C397-469C-BE9B-5D33F6BE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719F-749F-48B9-B01F-F39494AF3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ptember 13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7A9-A296-4D70-AB83-04451D82CA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mercial Communications Working Grou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C approved COPMGGRR002: Unplanned Outage Communication Process includ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itial basic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ollow-up notification at set intervals with more detaile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nd of Outage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 of Lessons Lea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 additional costs to market when bundled with SCR7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R and NPRR to “Discontinue Interest Charges for Defaulting Entities at Time of Uplift” recommended to P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ctr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EC5-0F88-457C-A6DD-B28B4E76E4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Working Grou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nnual Validation on schedule for Residential customers, Business ESIIDs available to REPs on requ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WG will be requesting the addition of an Oil and Gas profile in the near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esting underway by ERCOT to determine the effect of the new Profile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identified 4 conversion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RCOT staff implementing options in testb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nce analysis complete COPS will vote on appro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oth the new profile models and an implementation plan should come before TAC in 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AC will need to determine timeframe for implementation (at least 150 days after appro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A89-B76B-494D-90BB-E58BF31632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28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Model Updates Timeline:</a:t>
            </a:r>
            <a:r>
              <a:rPr b="0" lang="en-US" sz="3600" spc="-1" strike="noStrike">
                <a:solidFill>
                  <a:srgbClr val="000000"/>
                </a:solidFill>
                <a:latin typeface="Antique Olive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123920"/>
          <a:ext cx="8534520" cy="5510160"/>
        </p:xfrm>
        <a:graphic>
          <a:graphicData uri="http://schemas.openxmlformats.org/drawingml/2006/table">
            <a:tbl>
              <a:tblPr/>
              <a:tblGrid>
                <a:gridCol w="1489320"/>
                <a:gridCol w="993600"/>
                <a:gridCol w="6051600"/>
              </a:tblGrid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Profile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21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hop on new profile model transition into market sett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29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completes analysis of transition alternatives and presents recommendation to PW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30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o Analysis and comparison with existing profiles with new profile id assignments from 2006 annual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/27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 new models to PWG and PWG achieves consensus on profile transition and action pl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0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24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te on approv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/2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te on approv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1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keholder approval complete - original was 11/31/2006 given to COPS on 4/28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31/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days notice comple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E14-C73A-4BD6-84D4-5BFCAD995F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ata Extract Working Grou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urrently meeting every oth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orking with ERCOT staff to determine if another viable alternative exists for screen scraping needs.  Everyone agrees a workable solution will need to be determined prior to Nodal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RCOT to deliver several major extracts in 200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 30026 Resource ID Extr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 40042_06 Lodestar Batch Extracts &amp; Market Cutover Pl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 40007 SCR 727 Phase II (ERCOT's move of extract to O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 50024 Phase II SCR 727 aka SCR 740 Web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CB9-6DF7-469A-A9AD-75EF60966A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FE Taskforce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urrently meeting every other mon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wo remaining iss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t the request of Ken Donohoo – submit a NPRR to modify language in Section 13 T&amp;D Loses.  Protocols currently uses “seasonal”, but a change to “monthly” i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quested guidance from COPS around language in current Protocol Section 11.6 UFE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PS requested TF submit a PRR to remove language requiring additional metering, but leave language requiring ERCOT to provide an annual analysis of 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772-674F-410E-A137-4C7B84DC95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PS Nodal Teleconference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PS members holding a weekly teleconference to discuss Nodal Settlement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roup will review documents prior to TPTF final review and provide feedback to TPTF via Alice Jackson and Judy Brisc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ividual companies still need to file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is forum has allowed COPS to provide input to ERCOT on data extract needs, zero fill data, settlement statement needs, and MIS posting n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alls will continue throughout Sept every Friday 1:30 – 3:30  Conference call numbers are posted on ERCO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A98-AC73-46E0-90F6-3EDDCF6F25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6-09-11T18:12:09Z</dcterms:modified>
  <cp:revision>185</cp:revision>
  <dc:subject/>
  <dc:title>Point-to-Point</dc:title>
</cp:coreProperties>
</file>