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052C-336F-4B1B-888D-8AA743DCB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36AA-EBF1-4DA3-95E3-892621816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15A8-425D-487C-B7F7-9237F7D6D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F7B1-28EC-44FD-B582-3EEFCC6D5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EB76-A102-4185-99E2-306610150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77E2-40AF-4C4C-BB50-15F838BC1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11CF-B212-45F2-BD81-DD332E39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04A7-5774-4FA3-A2B7-E32D9E2F3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8F07-D66C-44B8-AFDB-1192FAD8E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D7F2-4D03-4D62-B470-E269191E8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096D-811C-40D7-A9DA-E939A2794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FE6D-91F0-4650-BB92-A43F203D7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672-04E5-454B-8A29-E88A8C2CD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1523520"/>
            <a:ext cx="5943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RCOT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September 13, 2006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55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arget for Schedule, Scope, an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risk to schedule currently und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&amp; Planning Phase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 underway, scheduled completion in October ’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Phase not started, scheduled for December ’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installed and configured in Developmen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 testing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s plans to CERT and ITEST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ST environment buil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91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testing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/ Issues Lo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838080"/>
          <a:ext cx="8839440" cy="5184720"/>
        </p:xfrm>
        <a:graphic>
          <a:graphicData uri="http://schemas.openxmlformats.org/drawingml/2006/table">
            <a:tbl>
              <a:tblPr/>
              <a:tblGrid>
                <a:gridCol w="2946600"/>
                <a:gridCol w="3808440"/>
                <a:gridCol w="20844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/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risk – NAESB Production Release date change possibly needed to address storage capacity constr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63680" indent="-227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storage capacity to support project need is a conc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63680" indent="-227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&amp; implementation timelines associated with purchase of additional storage capacity may result in need to change production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eam working closely with Storage Team to mitigate imp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considering moving release to November 17th from October 7th to mitigate storage constraint by allowing additional window of time to secure needed storage.  A change to date also provides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63680" indent="-227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lease during ERCOT’s planned production migration window for November; no SLA exception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63680" indent="-227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lease prior to RBP production migration to ensure minimal resource contentions between the two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 Build Out project delivered test environment more like production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period curr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for 4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ing manual and automate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other UAT – do results match expected outco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esting performance /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py of produc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– is there any degradation to current processing ti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– are production volumes in dang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– do processes run for extended period without interru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Considera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09-13T07:49:38Z</dcterms:modified>
  <cp:revision>61</cp:revision>
  <dc:subject/>
  <dc:title>Instructions</dc:title>
</cp:coreProperties>
</file>