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485F-972F-4743-AC4F-458A1026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8949-48D0-41CD-ADE9-DCD260F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2C99-D61C-484A-A92D-F08B295E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0D06-3F43-4DB0-A813-635F221F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4615-619C-4DB5-A5AE-828A1A6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4215-4F16-4105-A558-CFF15494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2484-D694-4438-AC39-AD4B76F0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71BF-D2B9-4C89-BE7A-6C64CE5A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B342-AADC-4929-A6D0-BE35476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E363-E9CF-417F-BBEF-3EFDF2C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27A2-C1DB-4FA3-96E0-A7451DE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EA7D-0AC3-4A8E-9A43-EB5F37D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347-094F-4217-848D-CF4BEAE5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ear-To-Date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47840" y="1066680"/>
          <a:ext cx="6446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1066680"/>
                    <a:ext cx="6446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22200" y="1066680"/>
          <a:ext cx="669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066680"/>
                    <a:ext cx="669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838080"/>
          <a:ext cx="7391520" cy="52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39152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09-13T01:37:04Z</dcterms:modified>
  <cp:revision>26</cp:revision>
  <dc:subject/>
  <dc:title>Instructions</dc:title>
</cp:coreProperties>
</file>