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C506-8300-42FF-88AC-B1C0156BE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AB1B-2554-4761-9220-783C79339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8AD1-2793-4665-85A9-314D401E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89F7-EBB2-4D93-B3BA-0C6E9997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8D7A-696C-45A4-8C43-FA46370B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AD9D-8AD0-4D35-8B6E-69A20C7E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1AB1-96F8-461D-8DE5-958468FE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2F94-67F1-4B67-822D-88782764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4B53-B43E-427D-A838-9CB9993D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1E61-39D3-45C0-9E0B-81AAB478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652D-AA78-4580-B1D6-5622B180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C13A-E3FF-4AC0-85CE-48E6A9CC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C6A5-136B-4072-BC61-ECF0BE4E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BB47-2853-4983-ADE6-A63F841A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087A-622D-4B45-9091-367357BC8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ember 13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ptember 13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7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 – Flight 07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esting for Flight 0706 completed successfully on Tuesday, September 5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testing included MarkeTrak testing of the GUI and Bulk Inser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1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Orientation meeting held yesterday: 09/12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deadline: 09/20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09/26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10/06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: 10/09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11/21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191120" cy="225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sherri slagowski</cp:lastModifiedBy>
  <dcterms:modified xsi:type="dcterms:W3CDTF">2006-09-05T18:42:35Z</dcterms:modified>
  <cp:revision>46</cp:revision>
  <dc:subject/>
  <dc:title>Instructions</dc:title>
</cp:coreProperties>
</file>