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224A-1299-4FCC-899A-F11A26567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6E9B-906B-40E3-AECF-E5E463EF1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F537-69A6-4B8A-936B-3C41660C9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5C1A-A46D-4F2C-81A0-A8AD877F3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90C4-BB0C-40D3-A25C-FD3569810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52C9-F18A-4EB3-9BDC-32C5668ECE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E7AB-0107-4A64-BA53-D7942D0207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548E-1EA8-4F71-9A62-07633D0FFC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438D-F257-437C-AEB7-EFAA325399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3693-4F4B-4F58-9777-582CE0B16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0BDA-BD10-4923-805B-56DC9B5702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6F77-50F9-4DFA-BDA1-B1C62994E1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67E6-1247-44A3-BFDE-0ADF7460F6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23B2-279E-4F59-AE76-FEE424953E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F069-3EE3-4CDE-AED9-70DDB1781A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9E08-04C8-4937-9803-8C98D11B64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99AA-A78D-4C8F-9706-CB39779B2E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DBEB-BD87-41DE-A806-F2780F3D3C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438ED-F2F5-4CC5-B2DA-DEC340DB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613F4-A041-447B-94FD-7BD4AE61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47146-CD5D-4705-B8D6-7A757931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2CCF-C715-4E98-AE6E-CF74B179CB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F91CD-4B4D-4B0E-AD8E-3E04AA1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D8B1-3A81-4D8D-B616-093A0ADF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17B81-8A53-4AB5-B855-A4E31EFC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68140-CBA0-4EE8-9581-B971148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0E984-16A0-46C8-AE5B-7204B3E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2F20C-FE3D-4959-A98C-9ABAA24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925C3-9366-49F0-8D51-2A50C6BF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DD7F1-E278-4840-B7A6-9B1BE6DE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AFEC1-C89E-4E5C-898C-42F4CEAD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41E1-E6AF-4E00-A23A-942E8FB50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C220-A3D1-4501-9994-12CF361E7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FE41-3CD7-4999-9871-2B025AAC9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C761-3921-4118-805B-9D8E308E2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1908-485F-4D12-A76C-8CD0D331C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139760"/>
            <a:ext cx="779616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8600" indent="-226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18440" indent="-226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7560" indent="-226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57560" indent="-226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57560" indent="-226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9E4D-0B18-44BA-8788-9DF94E16519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25320" y="2066400"/>
            <a:ext cx="4280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6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289080"/>
            <a:ext cx="3274920" cy="382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08120" y="5721480"/>
            <a:ext cx="7731000" cy="0"/>
          </a:xfrm>
          <a:prstGeom prst="line">
            <a:avLst/>
          </a:prstGeom>
          <a:ln w="5724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0E8D-AA63-4AF5-A1BA-1A40D3BCE2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71AB-AB1F-491B-9A0B-79E4C4BC70B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2DE490B-B5E8-4BC7-BFED-44D03795EA78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8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FC5D-0636-43D5-8CCF-6D351E778A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tember 13, 200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21428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Terms and Conditions Task Force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76760" y="3271680"/>
            <a:ext cx="43419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sentatio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ail Market Sub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09280" y="995400"/>
            <a:ext cx="8163000" cy="59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MGRR, Safety Net Pro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ificant modification to current process and pract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ndard Move-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 Business Days prior noti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afety Net Proce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S will sweep their system betweem11-Noon the day before the requested date for all Standard Move-Ins that have been submitted, 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andard Safety Net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will be submitted for all requests that have not been confirmed by ERCOT transac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ority Move-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ust be received by 5 P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afety Net Proce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s will sweep their system at 2 PM the day of the Priority Move-In request date, 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iority Safety Net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ll be submitted for all priority requests that have not been confirmed by ERCOT transac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ting I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321000" y="213840"/>
            <a:ext cx="5089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TCTF Repor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CFCA-0637-4E0A-B7FE-53836C9D2B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09640" y="944640"/>
            <a:ext cx="8626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MGRR, Estimated Meter Read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ificant new rule provi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new process and proced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des for reason for esti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stomer - Denial of access – 10 new c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DSP - Standardized reason c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ket – reas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ce Majeure, Weather, Tampering, Mass Tran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ting I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321000" y="213840"/>
            <a:ext cx="5089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TCTF Repor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366D-EFE1-4E1D-9C48-D803749248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09640" y="944640"/>
            <a:ext cx="8626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MGRR, Standard Historical Usage Reque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ed language to reflect new requir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DSPs must provide data within 3 Business Days of receipt of valid LO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ed on September 6, 200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 for vote at October 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321000" y="213840"/>
            <a:ext cx="5089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TCTF Repor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2FEB-A75F-40D4-8A60-546168646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09640" y="969840"/>
            <a:ext cx="8626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MGRR, Invoice Dispute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oke process into 2 sec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 Dispute of TDSP char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ed new requirements that TDSP must respond in wri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DSP Dispute of 824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rified that invoices are only considered paid when remittance advice and funds are receiv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ed on September 6, 200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 for vote at October 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321000" y="213840"/>
            <a:ext cx="5089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TCTF Repor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FCB4-A7D2-4580-B6D0-D43193C7ED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09640" y="969840"/>
            <a:ext cx="8626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MGRR, Disconnect/Reconnect for Non-Pa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ised title to clarify this process only for DN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ised TDSP completion requirements to reflect new r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 provision that TDSPs will check Y/N indicator on service order request to determine if an overdue request can be completed on a Fri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ed on September 6,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for vote at October 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321000" y="213840"/>
            <a:ext cx="5089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TCTF Repor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9D09-5FFF-4254-85A3-757FDAEADE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7040" y="257040"/>
            <a:ext cx="8886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53CC-4950-4F9B-B365-7CEC5F667D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35:40Z</dcterms:created>
  <dc:creator>Registered User</dc:creator>
  <dc:description/>
  <dc:language>en-US</dc:language>
  <cp:lastModifiedBy>Registered User</cp:lastModifiedBy>
  <dcterms:modified xsi:type="dcterms:W3CDTF">2006-09-08T21:52:16Z</dcterms:modified>
  <cp:revision>104</cp:revision>
  <dc:subject/>
  <dc:title>Title of Presentation (Arial Bold Italic 40 Point, Navy)</dc:title>
</cp:coreProperties>
</file>