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FF3-F058-46BA-9482-22EB6B1D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3E7E-2C94-40CE-88A8-C703FCEF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C6DA-62D8-4B25-9382-90D53252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6B8F-E1A0-4E71-AAF8-81C9EC5A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44F-F9CB-4159-97DC-E2A07E5A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891-0C0C-4A6E-80D8-3DF86E99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7FC-6A2B-489C-8825-8CA097EC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D444-6024-400E-A15A-5BBED661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6B8F-0C55-4BCD-BE45-6EF55FA6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2D1-D13C-4345-B05F-D44995D9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B79-8F0C-44A5-874E-306EFF11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415-A2FC-4291-8F0A-5951674A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3898-E946-4302-8CC7-42BA4EA0C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ail Market Subcommitte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tember 13, 2006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erformance Measures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nd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Quarter 2006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ransaction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8600" y="1219320"/>
          <a:ext cx="8686440" cy="5409720"/>
        </p:xfrm>
        <a:graphic>
          <a:graphicData uri="http://schemas.openxmlformats.org/drawingml/2006/table">
            <a:tbl>
              <a:tblPr/>
              <a:tblGrid>
                <a:gridCol w="1956600"/>
                <a:gridCol w="1148400"/>
                <a:gridCol w="1094400"/>
                <a:gridCol w="1148760"/>
                <a:gridCol w="1094400"/>
                <a:gridCol w="1149840"/>
                <a:gridCol w="1094040"/>
              </a:tblGrid>
              <a:tr h="3862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24462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2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8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37,2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,62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4,24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,90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4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5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16,3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,9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,67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16,80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,4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8,53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15,6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,12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5,88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98,78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,6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,94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91,75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.4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,38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,42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11,08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,2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7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,52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07,98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,20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,49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93,24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,99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,3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8600" y="1219320"/>
          <a:ext cx="8686800" cy="5430600"/>
        </p:xfrm>
        <a:graphic>
          <a:graphicData uri="http://schemas.openxmlformats.org/drawingml/2006/table">
            <a:tbl>
              <a:tblPr/>
              <a:tblGrid>
                <a:gridCol w="1955880"/>
                <a:gridCol w="1147680"/>
                <a:gridCol w="1096920"/>
                <a:gridCol w="1149480"/>
                <a:gridCol w="1093680"/>
                <a:gridCol w="1149480"/>
                <a:gridCol w="1093680"/>
              </a:tblGrid>
              <a:tr h="385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24462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71,40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4,5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,05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,87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4.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6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4.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3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0.2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61,4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5.4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4,2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1,77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3.4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48,79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6.7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8,97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6.4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4,06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41,78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0.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,73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3.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8,72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6.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74,46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9,8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,63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22,98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1,14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8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3,03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7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27,68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3,22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0,17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27,04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3,20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0,17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01,59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4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0,45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8,9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0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TCTF</cp:lastModifiedBy>
  <cp:lastPrinted>2002-09-24T18:27:58Z</cp:lastPrinted>
  <dcterms:modified xsi:type="dcterms:W3CDTF">2006-09-06T21:50:04Z</dcterms:modified>
  <cp:revision>402</cp:revision>
  <dc:subject/>
  <dc:title>PowerPoint Presentation</dc:title>
</cp:coreProperties>
</file>