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933-E2B2-43BC-A428-66A82591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1BC-012F-490A-8EB3-C3737E1C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D59-7E69-40BD-9150-0626E8D2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458-2799-4902-BF13-AD7752FE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D03-C7C1-4E01-8FEA-23BB5D32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85E-E9A7-4FE7-A33F-5F6B13B3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477-41C1-4A58-AB68-3D734180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427-1697-4CAB-A6E5-DC47BFA1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9C9-2D9E-48A0-82AF-96506B00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8EB-51FC-41E4-8542-00A82F6E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AE1-00FC-4A8E-8C2B-CBB9CECD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59E-62E8-4551-A611-A346992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97DE-7DF9-410B-8F51-A14C7FCCD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DTWG Updat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MS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ing Incidents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RCOT System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tegrity Issu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ng the Texas Retail Mark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337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13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894-7FF7-42B5-9EC1-F58488CC91B9}" type="slidenum">
              <a:t>1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RMS meeting, ERCOT will include information regarding each incident of a system failure or data integrity issue affecting the Retai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 high level it will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In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r process affected (if possi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affecting availability (if applicable to Retail  Transaction Processing Avail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DF3-AA41-4FF7-9689-3203F187B1B3}" type="slidenum">
              <a:t>2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DTWG Review and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incident, TDTWG will review and attempt to address and identify a re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and agreement of Root Cause (as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and suggested res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 resolution is already being addressed in an existing approved pend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es, monitor for additional instances, and monitor for post implementation to ensure it is sufficiently addressed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not included in an existing project, determine TDTWG’s approach for determining a recommended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needed, TDTWG will draft SCR(s) for technical analysis for re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TWG will work with ERCOT to address technical issues each mon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DE1-1F05-47D1-AB76-5C0DDB696524}" type="slidenum">
              <a:t>3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S 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CRs are created TDTWG will provide detailed analysis to RMS for approval to move forw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alysis is performed by TDTWG, that information can be made available to RMS as requested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C3B-532D-4C4D-90DA-39D77CFF8EAE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40B-3A11-44C8-B658-70321C3080F0}" type="slidenum">
              <a:t>5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06-09-13T14:04:15Z</dcterms:modified>
  <cp:revision>391</cp:revision>
  <dc:subject/>
  <dc:title>PowerPoint Presentation</dc:title>
</cp:coreProperties>
</file>