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A443-ADB0-4003-A222-813C6D652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521C-B275-4DD6-BA67-D8614E4DE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118F-C47F-4007-AC70-5A38CC274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3AA9-A0CF-423E-A478-6AE487A65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1E12-C57E-4CFB-BDC3-2BBD8115F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BC8F-6EF1-4325-A208-3ADA373A2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5C6F-1E58-44BB-A847-6741C567A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98CA-841B-41BD-B69B-676808D97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F078-D038-460E-BDF2-A0D41393F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571F-68C5-413A-80D4-859712DC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45FA-DF5B-4BD6-8EC1-6BEEEA63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80D6-8B5C-4637-83D6-2B83BBD9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9DF1B-B3EC-444A-95F9-918A9EF8F6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1295280"/>
            <a:ext cx="78487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pporting materials for RMS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vided b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tail Customer Choice (RCC)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ED75-C54A-4CB8-8FCF-9D81ACC5406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 FasTrak Issue Sta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Issue Categor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hru 08/31/20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5562720"/>
            <a:ext cx="63244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the 226 In Progress DEV Issues, 25 are resolved and awaiting other party resolution check of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883944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B56E-948D-410E-B8A9-2F7AC89B420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 FasTrak Issue Sta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Issue Typ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hru 08/31/20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8382240" cy="243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78DA-E7B9-4554-933A-98B8F71224C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 FasTrak Issue Sta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Issue Categor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hru 08/31/20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00080" y="1295280"/>
            <a:ext cx="89424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B943-988B-441D-A9C2-F90416D7AE3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295280"/>
            <a:ext cx="91440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-Active Transac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olution Meas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962520"/>
            <a:ext cx="80773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67s Received on Cancelled Service 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07F5-D769-4434-BE84-AA5B42BC44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143000"/>
            <a:ext cx="87631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periodically receives 867_03 Finals and 867_04s for service orders that are Cancelled in ERCOT systems.  The Service Order Sub-Statuses that are considered Cancelled are:  CR Requested, Customer Objection, ERCOT Operating Rule, Manual, Permit Not Received, with Exception, Unexecutable and Rejected by TDSP.   This can indicate an out-of-sync condition between the TDSP and ERC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Mechanism for Handling 867 RCSO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ep 1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RCOT produces 867RCSO data each Friday and submits a report file to each TDSP and CR via the ERCOT Por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ep 2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he TDSPs review the report line items and take one of the following a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f the TDSP has cancelled the service 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no further action is re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f the TDSP has completed the service 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they will initiate a day-to-day FasTrak issue and work with ERCOT to get ERCOT systems changed to complete.  Completion of cancelled service orders will require the approval of the CR initiating the transac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Note: For Cancel by Customer Objection, the TDSP will honor the cancel in their system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67s received on Cancelled Service O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CAC7-6B85-4333-81F2-8E0BDB36A0C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67s received on Cancelled Service 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763120" cy="419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9B2B-C372-4E92-9EAA-F330B3D383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1295280"/>
            <a:ext cx="83059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rak Issue Stat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62320" y="3581280"/>
            <a:ext cx="5029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7E69-6CAD-452B-A1A5-13EF12171D8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y to Day’ FasTrak Issue Sta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Categor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hru 08/31/20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4038480"/>
            <a:ext cx="701028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Legen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unts are of issues submitted during each month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I = ERCOT Initiated Iss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n-ERCOT issue = Issues logged directly between the CR and TDSP with no ERCOT involvement to resolv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tegory of “All Other” does not have subtype.  Issues logged as “All Other” can include Transaction Issues, Rep of Record Issues, Service Order Changes, 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8839440" cy="274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89F6-33DB-496D-B1D9-A271CE785E2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y to Day’ FasTrak Issue Sta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Categor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hru 08/31/20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4952880"/>
            <a:ext cx="77724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the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43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n Progress D2D Issues,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249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re resolved and awaiting other party resolution check of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tal D2D Issue ESI IDs worked to date since January 1, 2006 =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35,9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534160" cy="3200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17EE-22C5-46BE-AE13-A5E92E4F6EB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y to Day’ FasTrak Issue Sta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Categor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hru 08/31/20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4724280" cy="12193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28600" y="2743200"/>
            <a:ext cx="8610480" cy="3505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A00B-AC95-48CD-B4B2-127B4E747C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 FasTrak Issue Sta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Issue Typ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hru 08/31/20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5410080"/>
            <a:ext cx="6019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Legen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unts are of issues submitted during each month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686800" cy="182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6BC1-C2BB-4BBA-9CB1-C6DDEF09B0C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lwest</cp:lastModifiedBy>
  <cp:lastPrinted>2002-09-24T18:27:58Z</cp:lastPrinted>
  <dcterms:modified xsi:type="dcterms:W3CDTF">2006-09-06T14:41:07Z</dcterms:modified>
  <cp:revision>628</cp:revision>
  <dc:subject/>
  <dc:title>PowerPoint Presentation</dc:title>
</cp:coreProperties>
</file>