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973-D5FB-486A-9C89-CBFF01C2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75A-CA4E-424F-A304-58CED872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3B5-6211-4ABB-BE5D-2B9796CF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CDB-A850-4C8E-B17E-38803149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BB3-F02B-4DCA-9F18-410D997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0FA-28A7-4829-90EB-90A938C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484-9FF0-48F1-98A2-812EBB0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365-5AA7-4812-88F6-1C5D89B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40C-0FDC-4075-94F2-7550C741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715-74A9-4FE8-9FDF-8E4A2DC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B0C-D23D-4EB8-AD53-93C86AC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3D0-675B-43E9-9FC1-125A655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99C9-0356-41E6-8FB3-CF20FF13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ta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Annual Valid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September 12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636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 – ERCOT Annual Validation 2006 Up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3360" y="1123920"/>
            <a:ext cx="7950240" cy="500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B83-9EAA-4769-B93D-94735DF6D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AMarquez</cp:lastModifiedBy>
  <cp:lastPrinted>2002-05-17T20:57:43Z</cp:lastPrinted>
  <dcterms:modified xsi:type="dcterms:W3CDTF">2006-09-12T14:44:08Z</dcterms:modified>
  <cp:revision>235</cp:revision>
  <dc:subject/>
  <dc:title>Retail Transactions Report</dc:title>
</cp:coreProperties>
</file>