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022E8-3746-4B68-8821-4E5AA6523B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5D4CD38-08B0-453A-AF12-9AD25D081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4BBD997-760A-4A5F-8843-860F678A02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FACA8E9-6CC5-4F34-A04E-532FFF094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CCFF683E-5AE0-4B63-B823-E8BE45A5F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53FD674-1BFA-45C6-AF84-F6C672FBE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B37E512-863D-485E-966A-4A8CD1329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6BB564D-6373-4D94-BC41-8C61950E4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AA3692F-F7A4-413D-98A9-A9C52E452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345329E-14CF-44AB-8A80-33C507312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EA8E848-D88F-4B4F-BDE3-CAF4746B9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6E7B2C2-1FAD-4C10-8C1C-39812E88C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A343-08F2-427A-B765-8FE8ADA03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828800"/>
            <a:ext cx="59436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Enhancements to FasTrak</a:t>
            </a:r>
            <a:r>
              <a:rPr b="1" lang="en-US" sz="3200" spc="-1" strike="noStrike">
                <a:solidFill>
                  <a:srgbClr val="ffffff"/>
                </a:solidFill>
                <a:latin typeface="Lucida Calligraphy"/>
              </a:rPr>
              <a:t> </a:t>
            </a:r>
            <a:r>
              <a:rPr b="1" lang="en-US" sz="3200" spc="-1" strike="noStrike">
                <a:solidFill>
                  <a:srgbClr val="ffffff"/>
                </a:solidFill>
                <a:latin typeface="Lucida Bright"/>
              </a:rPr>
              <a:t>PR 50007</a:t>
            </a:r>
            <a:br>
              <a:rPr sz="3200"/>
            </a:br>
            <a:r>
              <a:rPr b="1" lang="en-US" sz="3200" spc="-1" strike="noStrike">
                <a:solidFill>
                  <a:srgbClr val="ffffff"/>
                </a:solidFill>
                <a:latin typeface="Lucida Bright"/>
              </a:rPr>
              <a:t>Project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September 13, 2006</a:t>
            </a:r>
            <a:br>
              <a:rPr sz="2400"/>
            </a:br>
            <a:br>
              <a:rPr sz="2400"/>
            </a:br>
            <a:br>
              <a:rPr sz="2400"/>
            </a:br>
            <a:r>
              <a:rPr b="1" lang="en-US" sz="2000" spc="-1" strike="noStrike">
                <a:solidFill>
                  <a:srgbClr val="ffffff"/>
                </a:solidFill>
                <a:latin typeface="Lucida Bright"/>
              </a:rPr>
              <a:t>Adam Martinez</a:t>
            </a:r>
            <a:br>
              <a:rPr sz="2000"/>
            </a:br>
            <a:r>
              <a:rPr b="1" lang="en-US" sz="2000" spc="-1" strike="noStrike">
                <a:solidFill>
                  <a:srgbClr val="ffffff"/>
                </a:solidFill>
                <a:latin typeface="Lucida Bright"/>
              </a:rPr>
              <a:t>Mgr, Market Operations DPO</a:t>
            </a:r>
            <a:endParaRPr b="0" lang="en-US" sz="2000" spc="-1" strike="noStrike">
              <a:solidFill>
                <a:srgbClr val="ffffff"/>
              </a:solidFill>
              <a:latin typeface="Arial Black"/>
            </a:endParaRPr>
          </a:p>
        </p:txBody>
      </p:sp>
      <p:sp>
        <p:nvSpPr>
          <p:cNvPr id="86" name=""/>
          <p:cNvSpPr/>
          <p:nvPr/>
        </p:nvSpPr>
        <p:spPr>
          <a:xfrm>
            <a:off x="1143000" y="380988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Topics - Deferred Business Requirements</a:t>
            </a:r>
            <a:endParaRPr b="0" lang="en-US" sz="2400" spc="-1" strike="noStrike">
              <a:solidFill>
                <a:srgbClr val="ffffff"/>
              </a:solidFill>
              <a:latin typeface="Arial Black"/>
            </a:endParaRPr>
          </a:p>
        </p:txBody>
      </p:sp>
      <p:graphicFrame>
        <p:nvGraphicFramePr>
          <p:cNvPr id="107" name=""/>
          <p:cNvGraphicFramePr/>
          <p:nvPr/>
        </p:nvGraphicFramePr>
        <p:xfrm>
          <a:off x="228600" y="838080"/>
          <a:ext cx="8686800" cy="5340600"/>
        </p:xfrm>
        <a:graphic>
          <a:graphicData uri="http://schemas.openxmlformats.org/drawingml/2006/table">
            <a:tbl>
              <a:tblPr/>
              <a:tblGrid>
                <a:gridCol w="2438280"/>
                <a:gridCol w="2895840"/>
                <a:gridCol w="3352680"/>
              </a:tblGrid>
              <a:tr h="428760">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red Business Require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0949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fect / 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ason to Def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5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ulk Insert Performance – The requirement states that each issue submitted via Bulk Insert must be submitted in three seconds or l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testing environment, issues submitted via Bulk Insert consistently are submitted in 4.5 seco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fix post-launch when  production stats are confirmed.  ERCOT will monitor results to ensure optimal performance and minimal impact to user experi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ML to MarkeTrak Link prompts for Digital Cert tw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business requirement states that users will only have to enter their digital certificate once.  This defect only occurs when users access MarkeTrak via TM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fix post-launch.  Current work-around is for users to create “Favorites” link directly to MarkeTrak to avoid additional prompt for certificat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here are 3 concurrent users (same dig cert) the MarkeTrak system does not properly display the error messages for invalid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repeatedly educated the Market during this effort that all users need to have their own digital certific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not an issue impacting requirements as ERCOT has required that all users be assigned individual digital certific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advertent Switch Issues – The Siebel call is not populating all of the necessary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business requirement states that MarkeTrak will interface with Siebel to auto-populate information associated with Inadvertent Switch issues after it is submitted to 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ing fix post-launch.  ERCOT has already agreed to continue to support Siebel data population via manual steps as done today.  ERCOT will monitor volumes of Inadvertant Switch Issues and will escalate issue resolution if volumes become unmanage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Topics – Digital Certificates</a:t>
            </a:r>
            <a:endParaRPr b="0" lang="en-US" sz="2400" spc="-1" strike="noStrike">
              <a:solidFill>
                <a:srgbClr val="ffffff"/>
              </a:solidFill>
              <a:latin typeface="Arial Black"/>
            </a:endParaRPr>
          </a:p>
        </p:txBody>
      </p:sp>
      <p:sp>
        <p:nvSpPr>
          <p:cNvPr id="109" name="PlaceHolder 2"/>
          <p:cNvSpPr>
            <a:spLocks noGrp="1"/>
          </p:cNvSpPr>
          <p:nvPr>
            <p:ph/>
          </p:nvPr>
        </p:nvSpPr>
        <p:spPr>
          <a:xfrm>
            <a:off x="-360" y="762120"/>
            <a:ext cx="89154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asking for information related to ERCOT’s Digital Certificate Audit and plans for incorporation of MarkeTrak certificates to be included in audit scope</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ertificate Audit responsibility is with Larry Grimm, </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information delivered too late to respond by toda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plan to deliver information to RMS at October mee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sired, can also address topic during a weekly Monday call with the Market</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11"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Activities – API Issues</a:t>
            </a:r>
            <a:endParaRPr b="0" lang="en-US" sz="2400" spc="-1" strike="noStrike">
              <a:solidFill>
                <a:srgbClr val="ffffff"/>
              </a:solidFill>
              <a:latin typeface="Arial Black"/>
            </a:endParaRPr>
          </a:p>
        </p:txBody>
      </p:sp>
      <p:sp>
        <p:nvSpPr>
          <p:cNvPr id="88" name="PlaceHolder 2"/>
          <p:cNvSpPr>
            <a:spLocks noGrp="1"/>
          </p:cNvSpPr>
          <p:nvPr>
            <p:ph/>
          </p:nvPr>
        </p:nvSpPr>
        <p:spPr>
          <a:xfrm>
            <a:off x="0" y="761760"/>
            <a:ext cx="91440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reported to the Market on August 15</a:t>
            </a:r>
            <a:r>
              <a:rPr b="0" lang="en-US" sz="2400" spc="-1" strike="noStrike" baseline="30000">
                <a:solidFill>
                  <a:srgbClr val="000000"/>
                </a:solidFill>
                <a:latin typeface="Arial"/>
              </a:rPr>
              <a:t>th</a:t>
            </a:r>
            <a:r>
              <a:rPr b="0" lang="en-US" sz="2400" spc="-1" strike="noStrike">
                <a:solidFill>
                  <a:srgbClr val="000000"/>
                </a:solidFill>
                <a:latin typeface="Arial"/>
              </a:rPr>
              <a:t> that the product launch, scheduled for August 26, would be delayed</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P Header Interoperability Issue</a:t>
            </a:r>
            <a:r>
              <a:rPr b="0" lang="en-US" sz="2400" spc="-1" strike="noStrike">
                <a:solidFill>
                  <a:srgbClr val="000000"/>
                </a:solidFill>
                <a:latin typeface="Arial"/>
              </a:rPr>
              <a:t> - Delay was result of API interoperability issue discovered between ERCOT and Market Participant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pecified SOAP standard; did not specify “required” software tools for Market to use when generating API mess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in tools used by Market Participants and ERCOT delivered slight differences in message Header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information generated by “sender” did not match Header information expected by “receiv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5 MPs coding for API had to work with ERCOT individually to resolve issue because resolution depended on software tools used and changes specific for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Activities – API Issues</a:t>
            </a:r>
            <a:endParaRPr b="0" lang="en-US" sz="2400" spc="-1" strike="noStrike">
              <a:solidFill>
                <a:srgbClr val="ffffff"/>
              </a:solidFill>
              <a:latin typeface="Arial Black"/>
            </a:endParaRPr>
          </a:p>
        </p:txBody>
      </p:sp>
      <p:sp>
        <p:nvSpPr>
          <p:cNvPr id="90"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OAP Header issue, two additional API-related issues were identified during the interoperability resolution period</a:t>
            </a:r>
            <a:endParaRPr b="1" lang="en-US" sz="24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Issue</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to each MP; discovered during dev tests of SOAP Header fix</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by-case simple (incorrect or missing data, incorrect format), but time-consuming activity due to differences specific to each MP</a:t>
            </a: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I Market Certification Requirements Issue</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expectations between ERCOT and Market</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expecting full functionality certification based on TTPT scripts delivered for Market test</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PT communicated to MPs that full functionality testing not required, MPs only certify for functions to be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Activities – API Issues</a:t>
            </a:r>
            <a:endParaRPr b="0" lang="en-US" sz="2400" spc="-1" strike="noStrike">
              <a:solidFill>
                <a:srgbClr val="ffffff"/>
              </a:solidFill>
              <a:latin typeface="Arial Black"/>
            </a:endParaRPr>
          </a:p>
        </p:txBody>
      </p:sp>
      <p:sp>
        <p:nvSpPr>
          <p:cNvPr id="92"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and Market have resolved all known API issues</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f 5 MPs report readiness; 5</a:t>
            </a:r>
            <a:r>
              <a:rPr b="0" lang="en-US" sz="2000" spc="-1" strike="noStrike" baseline="30000">
                <a:solidFill>
                  <a:srgbClr val="000000"/>
                </a:solidFill>
                <a:latin typeface="Arial"/>
              </a:rPr>
              <a:t>th</a:t>
            </a:r>
            <a:r>
              <a:rPr b="0" lang="en-US" sz="2000" spc="-1" strike="noStrike">
                <a:solidFill>
                  <a:srgbClr val="000000"/>
                </a:solidFill>
                <a:latin typeface="Arial"/>
              </a:rPr>
              <a:t> MP not using API at initial launch</a:t>
            </a:r>
            <a:endParaRPr b="0" lang="en-US" sz="20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Issues Resolutions</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P Header Interoperability Issue</a:t>
            </a:r>
            <a:endParaRPr b="0" lang="en-US" sz="20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via fixes specific to each MP, but contained bulk of recode efforts to ERCOT code</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update API documentation to clarify standard and toolset options for future use</a:t>
            </a:r>
            <a:endParaRPr b="0" lang="en-US" sz="18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Issue</a:t>
            </a:r>
            <a:endParaRPr b="0" lang="en-US" sz="20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through 1-on-1 technical reviews and development testing cycles with each MP</a:t>
            </a:r>
            <a:endParaRPr b="0" lang="en-US" sz="18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Market Certification Requirements Issue</a:t>
            </a:r>
            <a:endParaRPr b="0" lang="en-US" sz="20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d via input and clarity from TTPT</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making changes to API permissions and Market test requirements to align with TTPT dir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Events – GUI Issues</a:t>
            </a:r>
            <a:endParaRPr b="0" lang="en-US" sz="2400" spc="-1" strike="noStrike">
              <a:solidFill>
                <a:srgbClr val="ffffff"/>
              </a:solidFill>
              <a:latin typeface="Arial Black"/>
            </a:endParaRPr>
          </a:p>
        </p:txBody>
      </p:sp>
      <p:sp>
        <p:nvSpPr>
          <p:cNvPr id="94"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urrently addressing 2 GUI-related issues</a:t>
            </a:r>
            <a:endParaRPr b="1" lang="en-US" sz="24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l Scientific Notation Issue – </a:t>
            </a:r>
            <a:r>
              <a:rPr b="0" lang="en-US" sz="2400" spc="-1" strike="noStrike">
                <a:solidFill>
                  <a:srgbClr val="000000"/>
                </a:solidFill>
                <a:latin typeface="Arial"/>
              </a:rPr>
              <a:t>when downloading long numbers from data to Excel (e.g. ESI IDs), number converts to scientific notation because field not recognized as text</a:t>
            </a:r>
            <a:endParaRPr b="1" lang="en-US" sz="24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ruled out root cause within product code; inherent in MS Exce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oceeding with investigation of internal options for solu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 testing of fix options underway; fix expected for initial launch</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 Update Issue – </a:t>
            </a:r>
            <a:r>
              <a:rPr b="0" lang="en-US" sz="2400" spc="-1" strike="noStrike">
                <a:solidFill>
                  <a:srgbClr val="000000"/>
                </a:solidFill>
                <a:latin typeface="Arial"/>
              </a:rPr>
              <a:t>when a mass update request submitted by several users at same time, updates for some fail while others are successful</a:t>
            </a:r>
            <a:endParaRPr b="1" lang="en-US" sz="24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functionally works, but may require resubmission to complet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ata integrity concerns related to multiple failed attemp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endor, Serena, engaged onsite at ERCOT to resolve issu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TA for delivery of f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Recommendation</a:t>
            </a:r>
            <a:endParaRPr b="0" lang="en-US" sz="2400" spc="-1" strike="noStrike">
              <a:solidFill>
                <a:srgbClr val="ffffff"/>
              </a:solidFill>
              <a:latin typeface="Arial Black"/>
            </a:endParaRPr>
          </a:p>
        </p:txBody>
      </p:sp>
      <p:sp>
        <p:nvSpPr>
          <p:cNvPr id="96"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time, ERCOT cannot provide revised budget &amp; schedule revisions that reflect all known impact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Update fix remains unknown; revisions to current estimates exclude impact of that issue</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ing RMS input and feedback today in support of ERCOT recommendation and budget request to be presented to ERCOT Board next week</a:t>
            </a:r>
            <a:endParaRPr b="1"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commendation:</a:t>
            </a:r>
            <a:r>
              <a:rPr b="0" lang="en-US" sz="2400" spc="-1" strike="noStrike">
                <a:solidFill>
                  <a:srgbClr val="000000"/>
                </a:solidFill>
                <a:latin typeface="Arial"/>
              </a:rPr>
              <a:t> proceed with remaining project activities in support of launch; do not wait on Mass Update fix </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Mass Update fix from critical pa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product to Market sooner, albeit with Mass Update feature that requires possible resubmissions to complete upd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ass Update fix a high priority item with intent to deliver AS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n Budget and Schedule Impacts</a:t>
            </a:r>
            <a:endParaRPr b="0" lang="en-US" sz="2400" spc="-1" strike="noStrike">
              <a:solidFill>
                <a:srgbClr val="ffffff"/>
              </a:solidFill>
              <a:latin typeface="Arial Black"/>
            </a:endParaRPr>
          </a:p>
        </p:txBody>
      </p:sp>
      <p:sp>
        <p:nvSpPr>
          <p:cNvPr id="98"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Impact</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increase, EXCLUDING fix for Mass Update issue, is estimated at $188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project budget cap increasing from $2.5MM to $2.7M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costs to date have maxed the approved budget cap</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completion of planned activities through GUI Market Test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completion of unplanned work and/or re-work related to analysis and coding efforts for API &amp; GUI issues (excluding Mass Update iss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Impact</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roceed with project immediately and avoid continued delay from Mass Update issue, remaining activities will consume up to a 10-week perio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go-live date is November 1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chedule minimizes impacts from ERCOT planned blackout periods and conflicts from other projects in pipeline (RBP &amp; TX SET 3.0)</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on next 2 slid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dget Increase Detail</a:t>
            </a:r>
            <a:endParaRPr b="0" lang="en-US" sz="2400" spc="-1" strike="noStrike">
              <a:solidFill>
                <a:srgbClr val="ffffff"/>
              </a:solidFill>
              <a:latin typeface="Arial Black"/>
            </a:endParaRPr>
          </a:p>
        </p:txBody>
      </p:sp>
      <p:graphicFrame>
        <p:nvGraphicFramePr>
          <p:cNvPr id="100" name=""/>
          <p:cNvGraphicFramePr/>
          <p:nvPr/>
        </p:nvGraphicFramePr>
        <p:xfrm>
          <a:off x="152280" y="1143000"/>
          <a:ext cx="8839440" cy="1771560"/>
        </p:xfrm>
        <a:graphic>
          <a:graphicData uri="http://schemas.openxmlformats.org/drawingml/2006/table">
            <a:tbl>
              <a:tblPr/>
              <a:tblGrid>
                <a:gridCol w="3811680"/>
                <a:gridCol w="2513160"/>
                <a:gridCol w="2514600"/>
              </a:tblGrid>
              <a:tr h="564480">
                <a:tc>
                  <a:txBody>
                    <a:bodyPr lIns="90000" rIns="90000" tIns="46800" bIns="46800" anchor="t">
                      <a:noAutofit/>
                    </a:bodyPr>
                    <a:p>
                      <a:pPr marL="173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 Categor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marL="173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ed Work – </a:t>
                      </a:r>
                      <a:endParaRPr b="0" lang="en-US" sz="1400" spc="-1" strike="noStrike">
                        <a:solidFill>
                          <a:srgbClr val="000000"/>
                        </a:solidFill>
                        <a:latin typeface="Arial"/>
                      </a:endParaRPr>
                    </a:p>
                    <a:p>
                      <a:pPr marL="173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 Comple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marL="173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planned Work – New/Repe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Lab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2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Lab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67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genc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5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316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8,93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1" name=""/>
          <p:cNvGraphicFramePr/>
          <p:nvPr/>
        </p:nvGraphicFramePr>
        <p:xfrm>
          <a:off x="152280" y="3156120"/>
          <a:ext cx="8839440" cy="3092400"/>
        </p:xfrm>
        <a:graphic>
          <a:graphicData uri="http://schemas.openxmlformats.org/drawingml/2006/table">
            <a:tbl>
              <a:tblPr/>
              <a:tblGrid>
                <a:gridCol w="3811680"/>
                <a:gridCol w="2513160"/>
                <a:gridCol w="251460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Activ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ed Work –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 Comple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planned Work - New/Repe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I and GUI issues resolution (to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Ne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Testing (pTest) / iTest Pre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Repe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st Environment Migr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Repe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UAT – GUI &amp; API Regression Te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Repe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CERT Test – AP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on Migr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on Stabilization Prior to Market Relea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Ne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Relea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Closu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0" y="762120"/>
            <a:ext cx="89154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budget increase is $187,579 and all Labor-related plus 10% contin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838080"/>
            <a:ext cx="8763120" cy="495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chedule Accounts for separate ERCOT and Market Release Dates</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tes tentative; final dates locked by end of week</a:t>
            </a:r>
            <a:endParaRPr b="0" lang="en-US" sz="16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d Schedule Detail</a:t>
            </a:r>
            <a:endParaRPr b="0" lang="en-US" sz="2400" spc="-1" strike="noStrike">
              <a:solidFill>
                <a:srgbClr val="ffffff"/>
              </a:solidFill>
              <a:latin typeface="Arial Black"/>
            </a:endParaRPr>
          </a:p>
        </p:txBody>
      </p:sp>
      <p:graphicFrame>
        <p:nvGraphicFramePr>
          <p:cNvPr id="105" name=""/>
          <p:cNvGraphicFramePr/>
          <p:nvPr/>
        </p:nvGraphicFramePr>
        <p:xfrm>
          <a:off x="152280" y="1227240"/>
          <a:ext cx="8839440" cy="4232160"/>
        </p:xfrm>
        <a:graphic>
          <a:graphicData uri="http://schemas.openxmlformats.org/drawingml/2006/table">
            <a:tbl>
              <a:tblPr/>
              <a:tblGrid>
                <a:gridCol w="3811680"/>
                <a:gridCol w="2513160"/>
                <a:gridCol w="2514600"/>
              </a:tblGrid>
              <a:tr h="415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Activ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 and GUI issues resolution (to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since 8/15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5 – 9/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esting (pTest) / iTest P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1 – 9/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st Environment Mig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8 – 9/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UAT – GUI &amp; API Regression Te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5 – 10/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ERT Test – AP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3 – 11/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raining Wind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3 – 11/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Migration &amp; Stabilization Prior to Market Rele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0 – 11/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Rele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los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3 – 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6-09-13T14:22:12Z</dcterms:modified>
  <cp:revision>59</cp:revision>
  <dc:subject/>
  <dc:title>Instructions</dc:title>
</cp:coreProperties>
</file>