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9A9C141-EBDA-4DD0-92E0-44003F2A4B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5840" y="698400"/>
            <a:ext cx="4656240" cy="3492720"/>
          </a:xfrm>
          <a:prstGeom prst="rect">
            <a:avLst/>
          </a:prstGeom>
          <a:ln w="0">
            <a:noFill/>
          </a:ln>
        </p:spPr>
      </p:sp>
      <p:sp>
        <p:nvSpPr>
          <p:cNvPr id="12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te taken by e-mail.  19 participants 17 for 0 against and 2 abst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5840" y="698400"/>
            <a:ext cx="4656240" cy="3492720"/>
          </a:xfrm>
          <a:prstGeom prst="rect">
            <a:avLst/>
          </a:prstGeom>
          <a:ln w="0">
            <a:noFill/>
          </a:ln>
        </p:spPr>
      </p:sp>
      <p:sp>
        <p:nvSpPr>
          <p:cNvPr id="11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WG – one PRRs that will come to TAC via PRS – one PRR never filed to be rej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WG – 5 CSCs and 4 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MSWG – working on PUC project and shuffling officers – told to report through W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o presented on a calculation error found in 666 and asked for gu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 Li presented on how Price administration for zonal congestion was being hand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5840" y="698400"/>
            <a:ext cx="4656240" cy="3492720"/>
          </a:xfrm>
          <a:prstGeom prst="rect">
            <a:avLst/>
          </a:prstGeom>
          <a:ln w="0">
            <a:noFill/>
          </a:ln>
        </p:spPr>
      </p:sp>
      <p:sp>
        <p:nvSpPr>
          <p:cNvPr id="11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R 607 One Minute Ramp – WMS took no action – is in the Que at PRS – there was some push back from ERCOT staff regarding uncertainty around how much impact this would have on staff trying to keep up with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R on RMR clawback was drafted, but due to a reduction in RMR energy being used, there was insufficient potential for a good Cost Benefit.  So no action was taken and the PRR will not held but not fi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the Clawback issue came from Dr. Patton, but I don’t think it was a part of the original 14.</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5840" y="698400"/>
            <a:ext cx="4656240" cy="3492720"/>
          </a:xfrm>
          <a:prstGeom prst="rect">
            <a:avLst/>
          </a:prstGeom>
          <a:ln w="0">
            <a:noFill/>
          </a:ln>
        </p:spPr>
      </p:sp>
      <p:sp>
        <p:nvSpPr>
          <p:cNvPr id="118"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 Managers meeting with ERCOT revealed that the RPRS procurement process does appear to reflect the intentions of the market participants with two areas identified for improve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of metrics to screen contingencies with no solu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for identifying online units targeted for non-spin reserv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RPRS engine is not aware that NSRS exists and therefore can utilize capacity that should be reserved for NSRS.  This potentially creates situations where online capacity that should be reserved for NSRS may be loaded and utilized to supply capacity insufficiency.  Response Reserve and Regulation Up Service are handled appropriately in the model.  The model needs to be modified such that it recognizes this NSRS requirement from online units.  A methodology for correcting this situation has been proposed and QSE Managers will continue to work with ERCOT to finalize and implement a suitable solution for this issu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5840" y="698400"/>
            <a:ext cx="4656240" cy="3492720"/>
          </a:xfrm>
          <a:prstGeom prst="rect">
            <a:avLst/>
          </a:prstGeom>
          <a:ln w="0">
            <a:noFill/>
          </a:ln>
        </p:spPr>
      </p:sp>
      <p:sp>
        <p:nvSpPr>
          <p:cNvPr id="120"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P D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dow Te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wett – TH Wartten/Obr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m Parker Gram Benbrook (both di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MWG will meet in September to take up the other two assignments (competitive constraint determination in nodal and the outage/crr issu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85840" y="698400"/>
            <a:ext cx="4656240" cy="3492720"/>
          </a:xfrm>
          <a:prstGeom prst="rect">
            <a:avLst/>
          </a:prstGeom>
          <a:ln w="0">
            <a:noFill/>
          </a:ln>
        </p:spPr>
      </p:sp>
      <p:sp>
        <p:nvSpPr>
          <p:cNvPr id="122"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ir Mary Anne Brelinsky </a:t>
            </a:r>
            <a:r>
              <a:rPr b="0" lang="en-US" sz="1600" spc="-1" strike="noStrike">
                <a:solidFill>
                  <a:srgbClr val="000000"/>
                </a:solidFill>
                <a:latin typeface="Arial"/>
              </a:rPr>
              <a:t>Now employed by Mpower (REP/QSE)</a:t>
            </a:r>
            <a:r>
              <a:rPr b="1" lang="en-US" sz="1200" spc="-1" strike="noStrike">
                <a:solidFill>
                  <a:srgbClr val="000000"/>
                </a:solidFill>
                <a:latin typeface="Arial"/>
              </a:rPr>
              <a:t> and Vice-Chair, Nelson Nease</a:t>
            </a:r>
            <a:r>
              <a:rPr b="0" lang="en-US" sz="1200" spc="-1" strike="noStrike">
                <a:solidFill>
                  <a:srgbClr val="000000"/>
                </a:solidFill>
                <a:latin typeface="Arial"/>
              </a:rPr>
              <a:t> </a:t>
            </a:r>
            <a:r>
              <a:rPr b="0" lang="en-US" sz="1600" spc="-1" strike="noStrike">
                <a:solidFill>
                  <a:srgbClr val="000000"/>
                </a:solidFill>
                <a:latin typeface="Arial"/>
              </a:rPr>
              <a:t>Represents Nucor Steel</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5840" y="698400"/>
            <a:ext cx="4656240" cy="3492720"/>
          </a:xfrm>
          <a:prstGeom prst="rect">
            <a:avLst/>
          </a:prstGeom>
          <a:ln w="0">
            <a:noFill/>
          </a:ln>
        </p:spPr>
      </p:sp>
      <p:sp>
        <p:nvSpPr>
          <p:cNvPr id="12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 of the mission of WMS is to review the current market mechanisms in an ongoing manner to assure their continued effectiveness.  One of the regular reports that we get is the CSC utilization report.  Isabell gave it and it’s the effectiveness of the analog corrections made by operations to control OC1 loadings.   We were reminded that there are several construction projects coming up in the near future that are going to impact operations and the cost of local congestion.  This has been a major factor over the past ye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ir instructed Ino Gonzalez that ERCOT should begin coding to their interpretation of the PRR, and mark up Protocol language for review by WMS within one week. The intent is to ensure the coding and the Protocol language are in agreement with each other.  WMS will then have one week to provide comments and a Market Participant will file the necessary PRR to clarify/correct the Protocols. Andy Gallo said that although this approach was unorthodox, it was acceptable to ERCOT Legal so long as the Protocols are corrected prior to implementation.  John Dumas filed a PRR687 to correct this.  Its urgent and shouldn’t impact implement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rpose of SCR 747</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nge current price administration logic to not have SPD post process solution results when no solution is available to solve zonal congestion.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price administration sets zonal MCPE to marginal price of each zone (cost of last Mw cleared in that zon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logic will allow the shadow price cap of $2500 to set prices across zones.  Part of accomplishing this includes changing some penalty factors to get the solution engines to address things in the right order.</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E8932-F78E-4243-A272-71B98F30E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5C097-DF08-4CA1-9B70-76E563F92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B3E60-C290-4483-BC1E-25B19F80A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5FECD-0025-4445-B1C8-437232B42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45B490-E174-47A8-A6FB-C04099754E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52DE0-C053-40B3-95F5-2C6B1297B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43142-2AAA-4263-AD8F-E1BA95474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23502-7326-41C5-B2B4-CDDB58A71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838F3-F641-4994-9DB5-3640D3B4A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E9E4D-4743-4189-A2DA-31C05C36A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75561-65A4-4455-AD1F-25B131C18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DFA6F-2E5B-4939-8D91-5416ACC41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F4DDC-70BD-4C27-8DA3-7C699505F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1B371-CB94-4B7C-9886-2D57C91D8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61376-D0EE-4AA2-A390-F167B3EA6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C1D521-28E5-4E94-AA4E-A23D0AA1E8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0F7FC8-A6D1-41E7-A8EF-5C8A3939A2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197FD-B61B-473C-8EEA-337346843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18AF9-C878-428C-AC87-1C4D2C3FD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384C0-6DE8-4A49-AF81-E33CC39E8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93AF1-2BD5-40A9-A7FF-B3A629C00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ED109-5179-4877-8E4A-D25795F78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F150A-8DAF-45B2-B8BF-A9ABAA63C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7F353-95EA-4E3E-8E52-6BBB83A49D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A203C-8884-4449-8045-3EA1CE3E6BA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0FEB4-95E9-4765-B033-68084A81343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tember 2006</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2531024D-351C-4F38-B798-9ECB2C860B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MS Motion on Co-Optimization</a:t>
            </a: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MS has found that while it would be feasible to implement either of the forms of Co-Optimization, the impact on the cost, schedule and risk associated with implementing the option outweighs the potential benefit of doing so in the initial implementation.  For this reason, the WMS recommends that the initial implementation of the Texas Nodal Market not include either Sequential or Real Time Co-Optimizatio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CC1A8B5-34BA-48C9-8890-CE08823F02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Support for NERC CEH Program</a:t>
            </a:r>
            <a:r>
              <a:rPr b="0" lang="en-US" sz="4000" spc="-1" strike="noStrike">
                <a:solidFill>
                  <a:srgbClr val="e5ffff"/>
                </a:solidFill>
                <a:latin typeface="Tahoma"/>
              </a:rPr>
              <a:t> </a:t>
            </a:r>
            <a:endParaRPr b="0" lang="en-US" sz="4000" spc="-1" strike="noStrike">
              <a:solidFill>
                <a:srgbClr val="e5ffff"/>
              </a:solidFill>
              <a:latin typeface="Tahoma"/>
            </a:endParaRPr>
          </a:p>
        </p:txBody>
      </p:sp>
      <p:sp>
        <p:nvSpPr>
          <p:cNvPr id="1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MS supports the development and administration of a North American Electric Reliability Council Continuing Education Hours program. ERCOT System Operations will submit a budget to provide CEHs to attendees of the annual ERCOT Training Seminar and Black Start training starting in 2007. ERCOT System Operations Training Department will submit a budget for additional resources if it is necessary to provide NERC CEH for Market Participant certificatio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914485BD-01C3-4CEA-AA32-359A19B1DA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ubgroups of WMS</a:t>
            </a: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bined Cycle RPRS Task Forc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ptimization Task Forc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tion Adequacy Task Forc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MS Frequency Control Task Forc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gestion Management Working Group</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and-Side Response Working Group</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tering Working Group</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fied Scheduling Entity Managers Working Group</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CF0BE346-0B42-4C9E-99A1-2D21EED1E1D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 Brief</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ee Working Group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Task Force Repor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 ERCOT Staff Presentation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te on Operator training &amp; NERC CEH program</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cussion and vote on Co-Optimiza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0BB917E2-64F9-4F64-81D6-3B42B7F4ED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QSEWG</a:t>
            </a:r>
            <a:endParaRPr b="0" lang="en-US" sz="4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PRR finalized that will be reported through P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PRR not submitted due to low  Cost/Benefit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assignment given by WMS on RPRS to find anomalous procurement date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19924676-68D8-4FB4-A02F-293B003646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QMWG</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PRS procurement process does appear to reflect the intentions of the market participants with two areas identified for improvement</a:t>
            </a:r>
            <a:endParaRPr b="0" lang="en-US" sz="2800" spc="-1" strike="noStrike">
              <a:solidFill>
                <a:srgbClr val="ffffff"/>
              </a:solidFill>
              <a:latin typeface="Tahoma"/>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ment of metrics to screen contingencies with no solution.</a:t>
            </a:r>
            <a:endParaRPr b="0" lang="en-US" sz="2400" spc="-1" strike="noStrike">
              <a:solidFill>
                <a:srgbClr val="ffffff"/>
              </a:solidFill>
              <a:latin typeface="Tahoma"/>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hod for identifying online units targeted for non-spin reserve service.</a:t>
            </a:r>
            <a:endParaRPr b="0" lang="en-US" sz="24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0BA31543-F45C-411E-885F-1CE14A9A01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CMWG</a:t>
            </a:r>
            <a:endParaRPr b="0" lang="en-US" sz="40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mmends keeping the same CSCs except for the North to Northeast</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s in zones similar to 2006 with NE becoming part of the North Zone</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out 250MW of load shift (excluding NE zone)</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MS supported CMWG by vote and recommends the Same to TAC</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435E979A-9E30-4F36-91DB-8C0BD49572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CMWG</a:t>
            </a:r>
            <a:endParaRPr b="0" lang="en-US" sz="40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MS recommends that the ERCOT Board and TAC approve five CSCs and four Congestion Zones for 2007.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s should be the same as 2006 except for the elimination of the Farmersville Royce double circuit.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55FE9D13-D970-4A1D-AAAC-11D48F44CA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DSWG</a:t>
            </a:r>
            <a:endParaRPr b="0" lang="en-US" sz="40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pdated WMS on issues related to Load Participation Docket at the PUC.</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affirmed Chair Mary Anne Brelinsky and approved new Vice Chair Nelson Nease </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PlaceHolder 3"/>
          <p:cNvSpPr>
            <a:spLocks noGrp="1"/>
          </p:cNvSpPr>
          <p:nvPr>
            <p:ph type="sldNum" idx="3"/>
          </p:nvPr>
        </p:nvSpPr>
        <p:spPr/>
        <p:txBody>
          <a:bodyPr/>
          <a:p>
            <a:fld id="{7A734FA6-53D8-42F3-9F99-CBBC707AC9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ask Force Reports</a:t>
            </a: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TF – Confirmation of Vice Chair only (Henry Durrwachte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PRS (On loan from PRS) update only – examining procurement and allocation issu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lleluiah, the Frequency TF did not mee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4542B17A-65DC-403A-8B02-FCCDB24362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RCOT Staff Presentations</a:t>
            </a:r>
            <a:endParaRPr b="0" lang="en-US" sz="4400" spc="-1" strike="noStrike">
              <a:solidFill>
                <a:srgbClr val="e5ffff"/>
              </a:solidFill>
              <a:latin typeface="Tahoma"/>
            </a:endParaRPr>
          </a:p>
        </p:txBody>
      </p:sp>
      <p:sp>
        <p:nvSpPr>
          <p:cNvPr id="1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SC Utiliz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rror in PRR666 formul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R747 – Removal of Price Administration for Zonal Conges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ndor input on Co-Optimization</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78F5C206-9C6D-493E-9FCF-1CC4B6CDA1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belk</cp:lastModifiedBy>
  <dcterms:modified xsi:type="dcterms:W3CDTF">2006-08-30T15:29:46Z</dcterms:modified>
  <cp:revision>60</cp:revision>
  <dc:subject/>
  <dc:title>WMS Report TO TAC</dc:title>
</cp:coreProperties>
</file>