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6175-5EB2-4B41-9AF8-CC59DF00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5FF6-8296-4D35-B3E4-D0A83236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05FF-C7E2-48A4-8F62-944D1B24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CB14-74E1-46C0-B007-64AA26DD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84B6-0900-4B6C-B3B5-89A887998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EE54-A3A2-43F4-BBA7-AF2126F1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0E03-FDF2-4E01-BD28-1056AF0C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5CEE-BBAE-46A4-948B-2446C843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66ED-0BFC-42E0-9D85-6E0CBB57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AC49-9935-4FB5-B01A-994C4FF2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321A-2FFA-42AC-B6C5-72873233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A631-E346-486D-8776-3B706ADE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83D4-B2C2-4F69-B318-1FD06A9F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9340-DDA4-4796-9A7C-F44BB61D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FF57-3A78-434D-838E-DFA12DEE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277C-E5CC-47B5-AF4A-6310CC17B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DB97-1C02-4074-B15F-3C048278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48B8-3717-4065-AB10-D195D8AE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6985-907A-47A2-8C7D-617FB775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BD01-64FA-4895-A992-19836C76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B58C-375A-4A60-AAF2-D9E135D0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7118-B093-44BF-A25D-EFB77599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5EE1-1243-43C3-B2FF-6D1220D1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80D2-ECBB-422D-8C74-8C38FB72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130D-0700-407E-BF76-512644DC42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85EE-4A24-4354-BF29-B19AB5280D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Protocol Revision Subcommittee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Presentation to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ERCOT Technical Advisory Committ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September 7,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82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Emergency Electric Curtailment Plan (EECP) Event Realignment --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88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ERCOT Nodal Implementation Surcharge-- </a:t>
            </a:r>
            <a:r>
              <a:rPr b="1" i="1" lang="en-US" sz="3200" spc="-1" strike="noStrike">
                <a:solidFill>
                  <a:srgbClr val="ff3300"/>
                </a:solidFill>
                <a:latin typeface="Tahoma"/>
              </a:rPr>
              <a:t>URGEN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57200" y="1371600"/>
          <a:ext cx="8229600" cy="417024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plements PUCT Order for Nodal Implementation Surcharg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forms to PUCT Order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tablishes a new ERCOT surcharg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RCOT implements new charge typ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7 Priority 1, Rank 7.5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with 1 abstention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pon System Implem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88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ERCOT Nodal Implementation Surcharge-- </a:t>
            </a:r>
            <a:r>
              <a:rPr b="1" i="1" lang="en-US" sz="3200" spc="-1" strike="noStrike">
                <a:solidFill>
                  <a:srgbClr val="ff3300"/>
                </a:solidFill>
                <a:latin typeface="Tahoma"/>
              </a:rPr>
              <a:t>URGEN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2895480"/>
            <a:ext cx="38088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3962520"/>
            <a:ext cx="38088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60720" y="290988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$50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43440" y="3962520"/>
            <a:ext cx="342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mpacts Lodestar/Billing Syste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90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Termination of the Modified Competitive Solution Method-- </a:t>
            </a:r>
            <a:r>
              <a:rPr b="1" i="1" lang="en-US" sz="3200" spc="-1" strike="noStrike">
                <a:solidFill>
                  <a:srgbClr val="ff3300"/>
                </a:solidFill>
                <a:latin typeface="Tahoma"/>
              </a:rPr>
              <a:t>URGEN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57200" y="1371600"/>
          <a:ext cx="8229600" cy="417024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Suez, IGEN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plements PUCT Order in Project 31972, Market Power &amp; Resource Adequacy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forms to PUCT Order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tablishes a new ERCOT surcharg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unanimously recommended approval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ctober 1, 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90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Termination of the Modified Competitive Solution Method-- </a:t>
            </a:r>
            <a:r>
              <a:rPr b="1" i="1" lang="en-US" sz="3200" spc="-1" strike="noStrike">
                <a:solidFill>
                  <a:srgbClr val="ff3300"/>
                </a:solidFill>
                <a:latin typeface="Tahoma"/>
              </a:rPr>
              <a:t>URGEN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RPRS Upda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S’ RPRS TF completed its investigation of RPRS procur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 general, TF determined that the procurement engine was working proper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SE WG will continue to look at RPRS operational solutions/altern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anks to Manny Munoz (CenterPoint) &amp; Gary Miller (BTU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S provides its recommendation to TAC to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R 687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RPRS Under-Scheduled Capacity Delineation -- </a:t>
            </a: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57200" y="1371600"/>
          <a:ext cx="8229600" cy="417024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difies PRR 666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arifies PRR 666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ame as PRR 6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ame as PRR 6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unanimously recommended approval as revised by PRS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pon System Implem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R 687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RPRS Under-Scheduled Capacity Delineation -- </a:t>
            </a: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14800" y="2895480"/>
            <a:ext cx="38088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114800" y="3962520"/>
            <a:ext cx="38088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31920" y="290988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me as PRR 6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55680" y="397656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me as PRR 6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R 676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– RPRS Solution with Nodal RUC-Type Procurement &amp; Cost Allocation -- </a:t>
            </a: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457200" y="1371600"/>
          <a:ext cx="8229600" cy="505476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9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CPS Energy, Mun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R revises RPRS to use Nodal RUC-Type procurement and cost allocation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duces capacity insufficiency fees and eliminates excess funds/cost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participants would need to revise RPRS shadow settlement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ork would accompany PRR 666/68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/B Ratio – 1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7 Priority 2, Rank 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tion to approve with PRR 674 features failed by 1.792 to 5.083 with 4 abstention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5.375 to 0.625 with 4 abstentions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pon System Implem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R 676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– RPRS Solution with Nodal RUC-Type Procurement &amp; Cost Allocation -- </a:t>
            </a: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14800" y="2895480"/>
            <a:ext cx="38088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114800" y="396252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841640" y="2909880"/>
            <a:ext cx="24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$500K with PRR 68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794840" y="3976560"/>
            <a:ext cx="32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acts Lodestar, POS/M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S 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PRS Upd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6 NPRRs for Appro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 PRRs Reje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7 PRRs for Appro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 Non-System Changes – IA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 System Change – CBA/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 Urg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Recommended TAC A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Appro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PRR 653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–  OOME Ramp Rate Adhere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PRR 671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–  Remove Sunset Date on Floor for RRS B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PRR 682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--  Emergency Electric Curtailment Plan (EECP) Event Realignment -- 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PRR 676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--  RPRS Solution with Nodal RUC-Type Procurement &amp; Cost Allocation -- 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PRR 687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--  RPRS Under-scheduled Capacity Delineation -- 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PRR 688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--  ERCOT Nodal Implementation Surcharge – </a:t>
            </a:r>
            <a:r>
              <a:rPr b="1" i="1" lang="en-US" sz="2000" spc="-1" strike="noStrike">
                <a:solidFill>
                  <a:srgbClr val="ff3300"/>
                </a:solidFill>
                <a:latin typeface="Tahoma"/>
              </a:rPr>
              <a:t>URG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PRR 690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--  Termination of Modified Competitive Solution Method – </a:t>
            </a:r>
            <a:r>
              <a:rPr b="1" i="1" lang="en-US" sz="2000" spc="-1" strike="noStrike">
                <a:solidFill>
                  <a:srgbClr val="ff3300"/>
                </a:solidFill>
                <a:latin typeface="Tahoma"/>
              </a:rPr>
              <a:t>URG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Nodal PR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S unanimously recommended approval of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PRR011 –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vision to Credit Requireme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PRR012 –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RR Granularity in CRR Auc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PRR014 –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Zonal PRR Synchronization for Section 1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PRR015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– Zonal PRR Synchronization Section 22, Attachment 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PRR016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– TPTF Clean-up Items for Section 2, 3, &amp; 1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RCOT believes these changes can be absorbed into the initial requirements/design/schedu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S, with 1 abstention, recommended approval of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PRR013 – Section 2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Zonal PRR Synchronization &amp; ERCOT Staff Clarification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RCOT believes these changes can be absorbed into the initial requirements/design/schedu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Rejected PR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R 607 – One Minute Ramp Schedu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otion to approve received 12 Nays, and 3 Absten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R 674 – Temporary Alteration of Settlement Equations Related to the RPRS Under-Scheduled Charge – URG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otion to reject approved 4.525 to 2.475 with 2 absten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53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OOME Ramp Rate Adherence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1828800"/>
          <a:ext cx="8229600" cy="458784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Constellation, IPM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lows a QSE to request a VDI when being un-deployed from OOME instructions at a rate greater than the QSE’s ramp rat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rrects payments to generators providing reliability services and eliminates a disincentive to providing OOME servic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me minor uplift due to OOME un-deploy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with 5 abstentions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vember 1, 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53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OOME Ramp Rate Adherence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71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Remove Sunset Date on Floor for Responsive Reserve Service Bid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981080"/>
          <a:ext cx="8229600" cy="422748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Reliant for DSWG, IPM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moves the 1/1/07 sunset date while maintaining the requirement that offers not be submitted for less than $0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tinues current practic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unanimously recommended approval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vember 1, 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71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Remove Sunset Date on Floor for Responsive Reserve Service Bid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82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Emergency Electric Curtailment Plan (EECP) Event Realignment --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371600"/>
          <a:ext cx="8229600" cy="417024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Garland P&amp;L for ROS, Mun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igns Protocols with OGRR 186, realigning EECP procedures to allow ERCOT to perform faster communication of system condition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proved EECP communication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with 1 abstention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ctober 1, 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Reliant</dc:creator>
  <dc:description/>
  <dc:language>en-US</dc:language>
  <cp:lastModifiedBy>Reliant</cp:lastModifiedBy>
  <dcterms:modified xsi:type="dcterms:W3CDTF">2006-09-07T02:20:28Z</dcterms:modified>
  <cp:revision>59</cp:revision>
  <dc:subject/>
  <dc:title>Protocol Revision Subcommittee</dc:title>
</cp:coreProperties>
</file>