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28080"/>
            <a:ext cx="899172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8D657D6-198D-49E3-9D15-67389716F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 Market Implementation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AC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September 7, 2006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32040" y="793800"/>
            <a:ext cx="784368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Scenario “Baseline” 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253800">
              <a:spcBef>
                <a:spcPts val="788"/>
              </a:spcBef>
              <a:buClr>
                <a:srgbClr val="0099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TF Decision 9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253800">
              <a:spcBef>
                <a:spcPts val="788"/>
              </a:spcBef>
              <a:buClr>
                <a:srgbClr val="0099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 9/19/06 Commitment  - Date &amp;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Nodal Vendor Sel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253800">
              <a:spcBef>
                <a:spcPts val="788"/>
              </a:spcBef>
              <a:buClr>
                <a:srgbClr val="0099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SOL Selected as Integration Designer/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253800">
              <a:spcBef>
                <a:spcPts val="788"/>
              </a:spcBef>
              <a:buClr>
                <a:srgbClr val="0099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 Vendor Selected; MSA/SOW i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affing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253800">
              <a:spcBef>
                <a:spcPts val="788"/>
              </a:spcBef>
              <a:buClr>
                <a:srgbClr val="0099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Community Rallying to Solve EMS Skill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253800">
              <a:spcBef>
                <a:spcPts val="788"/>
              </a:spcBef>
              <a:buClr>
                <a:srgbClr val="0099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PM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253800">
              <a:spcBef>
                <a:spcPts val="788"/>
              </a:spcBef>
              <a:buClr>
                <a:srgbClr val="0099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Project Resources Susceptible to Production Prior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 Topic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20:16:50Z</dcterms:created>
  <dc:creator>tpare</dc:creator>
  <dc:description/>
  <dc:language>en-US</dc:language>
  <cp:lastModifiedBy>khager</cp:lastModifiedBy>
  <dcterms:modified xsi:type="dcterms:W3CDTF">2006-09-06T23:54:53Z</dcterms:modified>
  <cp:revision>108</cp:revision>
  <dc:subject/>
  <dc:title>Texas Nodal Scenario definition &amp; evaluation Draft storyboard Tim Pare, July 26, 2006</dc:title>
</cp:coreProperties>
</file>