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448-3AC3-475F-9E22-2EB6AB24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C6D-99CB-475B-AE94-B816A65E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5ED-94B8-4C8D-ADA8-B0FB62E4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06B-6469-42C1-9113-7F1FE3EB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8937-9988-4A93-B840-8FD9F39A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4E44-6820-47A9-B65C-9096DC26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4E74-4FC9-4042-AA52-9CBE39C8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6F05-D679-4F1F-A594-8B0D04D6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F0FA-C60C-469F-8870-E1BB093B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B05C-9280-4425-B794-80136AAF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4F86-6445-4557-8699-4E735521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A28-2F64-4573-8739-358C5471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C175-A719-490F-BE80-1EE83A5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E46D-0C88-4126-BC5C-5CEE1A16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866D-C90B-47B7-8B51-FC8FCC1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57F1-012C-45B7-A763-6938E2AD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0C2B-16B3-43F3-AC31-32F19A64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F14-F76B-4504-BC62-F85675BB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521-A227-4FE9-9C86-C654BDD5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703-1319-41AE-AC8A-8300E22A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949-063E-4F3A-B881-EFF0BC4B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095-4FC2-46DA-B7AF-CB34C11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9D7-278F-4297-961B-FFDB9F0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BE9-E00D-4F66-81C5-06D90322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4631-3E32-4C34-B617-749918DA58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CC1D-FE55-436A-80D4-173ADAA15D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tember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C ERO Develop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COT Compliance is continuing to collect contact information from ERCOT Entities responsible for NERC Reliability Standards.  Current deadline for submission of list of identified responsible Entities is September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July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FERC approved NERC’s application to become the Electric Reliability Organization (ER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ft Texas Regional Entity budget submitted to NERC in Ju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sed Regional Entity Work Plan submitted to NERC in Ju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ft Delegation Agreement between NERC and ERCOT filed August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RCOT’s July score was 153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RCOT’s CPS1 scores show significant improvement over the same month for the past three years since the implementation of PRR 525 with the exception of Januar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cores for July indicate 35 QSEs passed / 1 non-wind-only QSE failed the measu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erformance of Wind-Only QSEs is not improving, possibly declin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 Plan Performance Metric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ly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. Grimm</cp:lastModifiedBy>
  <dcterms:modified xsi:type="dcterms:W3CDTF">2006-08-30T13:08:01Z</dcterms:modified>
  <cp:revision>194</cp:revision>
  <dc:subject/>
  <dc:title>PRR 525 Compliance Analysis</dc:title>
</cp:coreProperties>
</file>