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4572F-703B-429F-8C9C-72849F7DF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C6BB1-07E6-4CCB-81AF-93950C996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049E9-4ABC-4C47-B0A4-11BBD4DC1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4934F-662D-4DC5-8DB9-7B96A5E43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A10A3-F0F5-4CF8-AC3A-3D79BD2C3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0CAC6-7520-4278-9C25-470FCBFC2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D3F91-3EF7-4AED-9E87-34E18E4FC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A0322-39EE-4B06-BF4A-7385FBA4A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6762E-CB9D-43B9-8B7A-79A4199D4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9C945-DEF1-4BA1-A442-7B3FD2DC1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4F848-E8FF-4D92-A474-0A3CDB200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04D26-DAAE-41DB-8876-2607C0D99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63A27-AD15-407B-86CA-9520F7A0E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6B112-5EFC-43F8-A93D-F029E9635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5B84A-0AB8-4241-94A8-88BB73E7B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417AF-2F03-47F5-9063-C032BAD47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2FEAF-99E3-44E0-B5F0-7929B7D4B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8037D-37E1-4BB1-9EAC-149B151FB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3199B-2AFF-4D72-A98F-B549CE036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4FFF5-77B8-4D04-96FE-419B6EB6E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47DAF-AC20-4142-B60C-D32CCBC9C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A58EB-ED64-47CC-B875-7F0F66181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901E2-3590-4E41-B283-B7B43EECC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49B89-23EC-46A9-BAB3-4F6533A0D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8504B-F2DA-462F-80C2-C28620BCFE1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8873E-4652-45DA-8295-5CD58D6D2F5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RMS Update to TAC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ptember 7, 200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519840" y="185400"/>
            <a:ext cx="7417800" cy="116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0066"/>
                </a:solidFill>
                <a:latin typeface="Arial"/>
              </a:rPr>
              <a:t>RMS Voting Item</a:t>
            </a:r>
            <a:endParaRPr b="1" lang="en-US" sz="3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MGRR038 TNMP Weather Zone Zip Code T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ifies the title of  Appendix C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des additional zip codes for TNMP Service Territo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animously approved at 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MS requests TAC approval of RMGRR03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19840" y="185400"/>
            <a:ext cx="7417800" cy="116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0066"/>
                </a:solidFill>
                <a:latin typeface="Arial"/>
              </a:rPr>
              <a:t>RMS Updates</a:t>
            </a:r>
            <a:endParaRPr b="1" lang="en-US" sz="3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ketrak implementation delayed due to  incompatibility issues detected in API 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ompatibility issues resulted from multiple tools Market Participants used to create AP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UI certification testing is complete and API testing will resume when Market Participants have completed their coding chang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 target for Go-Live is late October 200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MS to review schedule changes, budget impacts, and project impac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lvl="1" marL="664560" indent="0">
              <a:lnSpc>
                <a:spcPct val="80000"/>
              </a:lnSpc>
              <a:spcBef>
                <a:spcPts val="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lvl="1" marL="664560" indent="0">
              <a:lnSpc>
                <a:spcPct val="80000"/>
              </a:lnSpc>
              <a:spcBef>
                <a:spcPts val="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lvl="1" marL="66456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lvl="1" marL="66456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0066"/>
                </a:solidFill>
                <a:latin typeface="Arial"/>
              </a:rPr>
              <a:t>RMS Updates</a:t>
            </a:r>
            <a:endParaRPr b="1" lang="en-US" sz="3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8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MS reviewed outages from July and early August as requested by TA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rvice degradation issues are not included in the monthly Service Availability statistics provided to RM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X Data Transport Working Group will begin an effort to review root causes and develop any system changes needed to reduce degraded service 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plicate transaction issues are the primary concern and ERCOT will update RMS on changes that should provide improvements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lvl="1" marL="595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95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595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595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595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519840" y="185400"/>
            <a:ext cx="7417800" cy="116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RMS Update to TAC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8T19:57:48Z</dcterms:created>
  <dc:creator>ShBowling</dc:creator>
  <dc:description/>
  <dc:language>en-US</dc:language>
  <cp:lastModifiedBy>ShBowling</cp:lastModifiedBy>
  <dcterms:modified xsi:type="dcterms:W3CDTF">2006-08-30T22:44:33Z</dcterms:modified>
  <cp:revision>49</cp:revision>
  <dc:subject/>
  <dc:title>RMS Update to TAC</dc:title>
</cp:coreProperties>
</file>