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D835-9229-45F4-8399-E8C6E7B58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5CA-B4EA-4D1A-93D0-F2CCD9E9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57A-AC6E-45AA-83A6-B5CA69A0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89E-DAF6-429A-ACA2-D50F1443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D56-110E-4D6E-BDF9-A135910E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7F2-B665-484C-B9FB-CD64C16D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487-5E04-4A5A-B4AF-3EE2C631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AD8-EB55-4E9A-879E-55C67876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292-F533-464F-B325-D08C272F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9B3-F14F-4384-A24D-C286526B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34B-3353-488F-A75C-E8DBAEB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061-105B-46BB-A2D1-E7EC417B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000-996F-435C-8D88-EB6C5CC0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C57C-7A21-49CA-89CF-D516FF0E9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ptember 7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3EB-B381-4B2A-84F1-BE00A499FE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mercial Communications Working Group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PMGGRR002: Unplanned Outage Communication Process includ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itial basic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ollow-up notification at set intervals with more detailed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nd of Outage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 of Lessons Lea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 additional costs to market when bundled with SCR7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R and NPRR to “Discontinue Interest Charges for Defaulting Entities at Time of Uplift” recommended to P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ctr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83C-7835-45E4-85A3-FB08987A14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ile Working Group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nnual Validation on schedule for Residential customers, Business ESIIDs available to REPs on requ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WG will be requesting the addition of an Oil and Gas profile in the near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esting underway by ERCOT to determine the effect of the new Profile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identified 4 conversion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RCOT staff implementing options in testb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nce analysis complete COPS will vote on appro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oth the new profile models and an implementation plan should come before TAC in 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AC will need to determine timeframe for implementation (at least 150 days after appro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B26-9396-444B-93FA-D520A68C5E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828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ile Model Updates Timeline:</a:t>
            </a:r>
            <a:r>
              <a:rPr b="0" lang="en-US" sz="3600" spc="-1" strike="noStrike">
                <a:solidFill>
                  <a:srgbClr val="000000"/>
                </a:solidFill>
                <a:latin typeface="Antique Olive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123920"/>
          <a:ext cx="8534520" cy="5510160"/>
        </p:xfrm>
        <a:graphic>
          <a:graphicData uri="http://schemas.openxmlformats.org/drawingml/2006/table">
            <a:tbl>
              <a:tblPr/>
              <a:tblGrid>
                <a:gridCol w="1489320"/>
                <a:gridCol w="993600"/>
                <a:gridCol w="6051600"/>
              </a:tblGrid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Profile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21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shop on new profile model transition into market sett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29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W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completes analysis of transition alternatives and presents recommendation to PW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30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W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o Analysis and comparison with existing profiles with new profile id assignments from 2006 annual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/27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W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 new models to PWG and PWG achieves consensus on profile transition and action pl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0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24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te on approv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/2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te on approv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1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keholder approval complete - original was 11/31/2006 given to COPS on 4/28/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31/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days notice comple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998-09CD-4E81-B55D-0D3A6BD72E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ata Extract Working Group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urrently meeting every oth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orking with ERCOT staff to determine if another viable alternative exists for screen scraping needs.  Everyone agrees a workable solution will need to be determined prior to Nodal mar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RCOT to deliver several major extracts in 200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 30026 Resource ID Extr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 40042_06 Lodestar Batch Extracts &amp; Market Cutover Pl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 40007 SCR 727 Phase II (ERCOT's move of extract to O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 50024 Phase II SCR 727 aka SCR 740 Web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217-DC78-4E84-BDA7-E77CA03CE0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FE Taskforce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urrently meeting every other mon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wo remaining iss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t the request of Ken Donohoo – submit a NPRR to modify language in Section 13 T&amp;D Loses.  Protocols currently uses “seasonal”, but a change to “monthly” i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250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quested guidance from COPS around language in current Protocol Section 11.6 UFE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PS requested TF submit a PRR to remove language requiring additional metering, but leave language requiring ERCOT to provide an annual analysis of 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35E-A117-435C-A20B-87D12A54FE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PS Nodal Teleconference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PS members holding a weekly teleconference to discuss Nodal Settlement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roup will review documents prior to TPTF final review and provide feedback to TPTF via Alice Jackson and Judy Brisc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ividual companies still need to file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is forum has allowed COPS to provide input to ERCOT on data extract needs, zero fill data, settlement statement needs, and MIS posting n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alls will continue throughout Sept every Friday 1:30 – 3:30  Conference call numbers are posted on ERCO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41A-E2C5-4026-9678-032E851CEC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6-09-04T22:57:01Z</dcterms:modified>
  <cp:revision>184</cp:revision>
  <dc:subject/>
  <dc:title>Point-to-Point</dc:title>
</cp:coreProperties>
</file>