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A9A-C1E4-45BD-8C4F-70D71AE9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3D8-1858-4698-A623-4BBDCDA6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6C3-F01A-494F-BC90-5AA62A59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72A7-5327-42BC-A1CF-E701EAE6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6F5-DD9D-4C06-8EC4-F255DDDE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8730-A5A8-4CC9-9DF6-0E178A07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E806-6E0B-4604-ACD3-2840F5D3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EBB-E37E-4EC6-AD60-BFB1E37B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D53-B856-4B36-AA83-6967EAC6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74A-5440-4430-88F4-EBCFCC49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4AA-A62C-4FC4-AEC3-EA05A3F3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858-A32D-4650-80DD-3A9CDA36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3215-D8AC-4C94-9B7F-DD62B9238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9/7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jor Discussion Items at 8/10-11/06 ROS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al Operating Gu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passed to maintain separate Operating Guides, as is do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, after Nodal begins, with simplified refer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 673 Adjust Scale Fa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passed to endorse sliding scale with max value of 2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in value of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 647 Gross and Net Repor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passed to endorse simplified OWG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C Continuing Education Hou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imous motion to endorse ERCOT support of CEH credit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Seminar and Black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phasor Project Endors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passed to endorse ERCOT funding and particip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taffing / Resource All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imous motion that ERCOT seriously consider ongoing and fu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 reliability when determining resources and priorities, and that TA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BOD be advised that improvements are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9/7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ems Requiring TAC Vote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RR 186 EECP Realig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imous motion to adopt new EECP steps and operating action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reviously shown to TAC.  Unanimous motion to sponsor a draf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that adopts the provisions of OGRR 186 by re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RR 003 Section 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imous motion to endorse with changes, to insure treatment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ircuit contingencies consistent with current prac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s of Consist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passed to endorse consistency document, and definition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planning model, brought forth by the joint TPTF/ROS T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RR 181 Submission of Consistent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motion passed to endorse OWG version that now reflect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les of Consistency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TF Assignment - Definition of Simple Trans. Ou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imous motion to endorse ERCOT propo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TF Assignment – Optimal Frequency B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imous motion to endorse PDCWG proposal, as amen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03:10Z</dcterms:created>
  <dc:creator>Paul Breitzman</dc:creator>
  <dc:description/>
  <dc:language>en-US</dc:language>
  <cp:lastModifiedBy>Paul Breitzman</cp:lastModifiedBy>
  <dcterms:modified xsi:type="dcterms:W3CDTF">2006-09-01T21:08:33Z</dcterms:modified>
  <cp:revision>20</cp:revision>
  <dc:subject/>
  <dc:title>ROS Report to TAC – 2/2/06 Major Discussion Items at 1/13/06 RO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83655260</vt:r8>
  </property>
  <property fmtid="{D5CDD505-2E9C-101B-9397-08002B2CF9AE}" pid="3" name="_AuthorEmail">
    <vt:lpwstr>PaulB@gplops.org</vt:lpwstr>
  </property>
  <property fmtid="{D5CDD505-2E9C-101B-9397-08002B2CF9AE}" pid="4" name="_AuthorEmailDisplayName">
    <vt:lpwstr>Breitzman, Paul</vt:lpwstr>
  </property>
  <property fmtid="{D5CDD505-2E9C-101B-9397-08002B2CF9AE}" pid="5" name="_EmailSubject">
    <vt:lpwstr/>
  </property>
</Properties>
</file>