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EE79-CCEA-401B-A763-BF518A3DD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3D41-57A4-4581-8216-9A69D722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68FC-E2CE-4B2E-B3C7-04D32BD0A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92D3-E1F1-4A36-8030-FCF753526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BCA6-67F2-4712-9129-98672F2B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F47A-E721-4706-BD11-F918E7B9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3067-7F2E-4F59-A99B-D9D2B6A7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D547-A187-4F24-8428-B090F0D3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04E0-4E37-4D4E-A7F9-4A2A6F1F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0FDD-7B1D-452E-84F4-F647B67E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302E-9386-4345-8A52-BAB489EA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46DC-01F7-43DE-A86F-C9A727CF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AD2C-2652-4818-899F-F02128830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COT Load Forecast Uncertainty V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gust 2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ad Foreca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ad forecast is load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should not be manipu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ad forecast has some uncertain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certainty should be addre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should decide the uncertainty am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should recommend market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ad forecast is a system wide conc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ad uncertainty fix should be uplifted system 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Day-Ahead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Forecast = Load forecast (LF) + 1800 M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compares unconstrained on-line capacity to (LF + 18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purchases RPRS if (LF + 1800) exceeds unconstrained on-line capa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skips capacity bids behind a constra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assumes constrained capacity cannot serve load increase within the constrained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assumes all constrained capacity pockets will experience an N-2 event simultaneous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warded NSRS is not considered as available 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liminary data shows 8 to 10% of on-line capacity being constra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7391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rt-Term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parate out load forecast uncertainty (LFU) from RP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ve LFU with on-line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-Term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rub the model to find inefficiencies in the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assum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uncertainty am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distribution of load incr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available capacity not being consi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ort-Term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determines load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compares unconstrained on-line capacity to load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purchases RPRS if load forecast exceeds unconstrained on-line capa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determines LF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procures sufficient capacity equal to the hourly LFU by procuring incremental Ancilla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urement of Ancillary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procures from Ancillary Services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3 from Responsive Reserve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3 from Up Regulation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3 from NS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procures only as much hourly LFU as is required (peak LFU for peak hour and less than 100% LFU for non-peak hou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assigns the incremental AS on a load-ratio-sh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tlement process remains the s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Short-Term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tart charge p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inimum energy (LSL) at high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ergy is paid only if deploy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generator lead time issues (gen responsibil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generator min up times (minimizes procure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oncern with units failing to start (already on-li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ion across multiple AS markets minimizes depletion of any one bid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PRS is handled separately, but this solution 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mizes, if not eliminates, RPRS procurement (quantity and ho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ng-Term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rub the model to confirm that 8 to 10% of on-line capacity is constra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whether the probability of multiple N-2 events occurring simultaneous is realistic or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 the ability of  constraint capacity to serve load increases within the generation po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the capability of combine cycle units or other units to provide “reserve” capability during emergencies (duct fired, over-pressure, …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Long-Term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s, if not eliminates, RPRS procurement (quantity and hou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ly assigns cost of LF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zes available capa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ts divergence of Day-Ahead and Real-time Mar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efficient Mar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9T20:55:33Z</dcterms:created>
  <dc:creator>Rafael Lozano</dc:creator>
  <dc:description/>
  <dc:language>en-US</dc:language>
  <cp:lastModifiedBy>Rafael Lozano</cp:lastModifiedBy>
  <dcterms:modified xsi:type="dcterms:W3CDTF">2006-07-31T21:00:07Z</dcterms:modified>
  <cp:revision>7</cp:revision>
  <dc:subject/>
  <dc:title>ERCOT Load Forecast Uncertainty</dc:title>
</cp:coreProperties>
</file>