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7C24-E277-4995-ACF0-3902FA01C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D3E1-EA5C-44EE-9FED-A799D689E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9C0C-0AC5-4AD9-89D6-7B32D9B6E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91E8-85C4-4BCE-91EA-FFE519366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4BC4-B537-45DA-B936-17A5D9CE0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A1E1-E612-423C-BAD3-8DD8B2F0A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377F-AF19-48DC-B34A-DF46C518D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EADB-42C7-49E7-9D26-D3D6DCB03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0349-3DC5-431E-94D4-6A8C5A776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7747D-B9EB-4157-94FE-D21FA2799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A2D6A-981B-41CA-BEF5-A9E2F269F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2B8B7-C267-4A6E-91C3-F4C919A60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AB12E-56F2-4BEF-A2F2-F73C75917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B88E8-52B7-4B5C-B92D-7D97FBD38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CF227-A069-4C34-81C8-F94C3F3E5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9A45D-FAE1-499A-8B38-3C1F35261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63F51-214E-4146-83D9-142DB39AB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71DBA-0382-4516-95A8-8E37B8FF6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D1904-A68A-4D40-BB8A-6F4502C94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30BDD-9BAE-4C84-A524-8B37D1D96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3BE37-5501-4B81-9186-7B8C00235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C135-DC7E-4428-A96F-22CFD1A69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007E-04B6-4ABC-AC64-A37845E19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82F8-6D56-40B4-8883-5E15D4CE8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6589800" y="6114960"/>
            <a:ext cx="2138400" cy="4111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39440" y="1307880"/>
            <a:ext cx="774396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7840" indent="-177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65240">
              <a:spcBef>
                <a:spcPts val="499"/>
              </a:spcBef>
              <a:buClr>
                <a:srgbClr val="ff6633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749160" indent="-177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028880" indent="-165240">
              <a:spcBef>
                <a:spcPts val="499"/>
              </a:spcBef>
              <a:buClr>
                <a:srgbClr val="ff66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490760" indent="-2332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490760" indent="-2332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490760" indent="-2332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09720" y="5940360"/>
            <a:ext cx="7777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6C648-D49D-4BEC-95C5-219F6AAAC1A8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09360" y="4633200"/>
            <a:ext cx="777708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909720" y="5940360"/>
            <a:ext cx="7777080" cy="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-1440"/>
            <a:ext cx="9144000" cy="391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09720" y="5940360"/>
            <a:ext cx="7777080" cy="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738360" y="1307880"/>
            <a:ext cx="77198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7840" indent="-17784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457200" indent="-165240">
              <a:spcBef>
                <a:spcPts val="499"/>
              </a:spcBef>
              <a:buClr>
                <a:srgbClr val="ff6633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749160" indent="-1774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028880" indent="-165240">
              <a:spcBef>
                <a:spcPts val="499"/>
              </a:spcBef>
              <a:buClr>
                <a:srgbClr val="ff66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1490760" indent="-2332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1490760" indent="-233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1490760" indent="-233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232680" y="5952960"/>
            <a:ext cx="2639880" cy="831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09360" y="669600"/>
            <a:ext cx="777708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4149720"/>
            <a:ext cx="9144000" cy="27147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6297480" y="5872320"/>
            <a:ext cx="2789280" cy="87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09720" y="5940360"/>
            <a:ext cx="7777080" cy="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38360" y="1307880"/>
            <a:ext cx="77198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7840" indent="-17784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457200" indent="-165240">
              <a:spcBef>
                <a:spcPts val="499"/>
              </a:spcBef>
              <a:buClr>
                <a:srgbClr val="ff6633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749160" indent="-1774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028880" indent="-165240">
              <a:spcBef>
                <a:spcPts val="499"/>
              </a:spcBef>
              <a:buClr>
                <a:srgbClr val="ff66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1490760" indent="-2332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1490760" indent="-233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1490760" indent="-233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6389640" y="5979960"/>
            <a:ext cx="2384640" cy="750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09360" y="669600"/>
            <a:ext cx="777708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0" y="4149720"/>
            <a:ext cx="9144000" cy="27147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6316560" y="5846760"/>
            <a:ext cx="2679840" cy="844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586560" y="6113520"/>
            <a:ext cx="2138400" cy="4111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909720" y="5940360"/>
            <a:ext cx="7777080" cy="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738360" y="1307880"/>
            <a:ext cx="77198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7840" indent="-17784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457200" indent="-165240">
              <a:spcBef>
                <a:spcPts val="499"/>
              </a:spcBef>
              <a:buClr>
                <a:srgbClr val="ff6633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749160" indent="-1774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028880" indent="-165240">
              <a:spcBef>
                <a:spcPts val="499"/>
              </a:spcBef>
              <a:buClr>
                <a:srgbClr val="ff66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1490760" indent="-2332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1490760" indent="-233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1490760" indent="-233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09360" y="669600"/>
            <a:ext cx="777708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0" y="4149720"/>
            <a:ext cx="9144000" cy="271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7AE42-E468-4656-8574-6F730C8E0D57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UFETF Upda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ugust 22, 2006 COPS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ck Moore; UFETF Co-Chai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istribution Loss Facto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66"/>
                </a:solidFill>
                <a:latin typeface="Arial"/>
              </a:rPr>
              <a:t>PRR 668 filed May 24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66"/>
                </a:solidFill>
                <a:latin typeface="Arial"/>
              </a:rPr>
              <a:t>PRS approved June 22 and prioritized July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66"/>
                </a:solidFill>
                <a:latin typeface="Arial"/>
              </a:rPr>
              <a:t>TAC approved August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66"/>
                </a:solidFill>
                <a:latin typeface="Arial"/>
              </a:rPr>
              <a:t>Will go to Board of Directors in September (normal timel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UFE Analysis Backgroun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82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"/>
              </a:rPr>
              <a:t>PRR 241, UFE Analysis, approved June 2001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Revises the beginning date for UFE analysis to Jan 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Modifies the language to accommodate Dec 2001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Adds language to require TDSPs to leave "old control area" boundary meters in place until UFE analysis zones are def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Definition of zones to take place after June 2001 but supporting Dec 2001 dead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Project 30022_01 deleted by RMS for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UFE Analysis Backgroun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336666"/>
                </a:solidFill>
                <a:latin typeface="Arial"/>
              </a:rPr>
              <a:t>April 2003 BOD Recommend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Explore alternative methods for UFE allocation (</a:t>
            </a:r>
            <a:r>
              <a:rPr b="0" lang="en-US" sz="2800" spc="-1" strike="noStrike">
                <a:solidFill>
                  <a:srgbClr val="336666"/>
                </a:solidFill>
                <a:latin typeface="Arial"/>
              </a:rPr>
              <a:t>ERCOT PR-30022</a:t>
            </a: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UFE Zones, by Substation, Weath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Re-convene UF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UFETF Updat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36666"/>
                </a:solidFill>
                <a:latin typeface="Arial"/>
              </a:rPr>
              <a:t>Met August 3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Will submit NPRR for Section 13: T&amp;D L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66"/>
                </a:solidFill>
                <a:latin typeface="Arial"/>
              </a:rPr>
              <a:t>Ken Donohoo is reviewing before submit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66"/>
                </a:solidFill>
                <a:latin typeface="Arial"/>
              </a:rPr>
              <a:t>Changes language from “seasonal” to “monthl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PRR for Section 11.6: UFE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66"/>
                </a:solidFill>
                <a:latin typeface="Arial"/>
              </a:rPr>
              <a:t>Option 1: Eliminate Language in Section 11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66"/>
                </a:solidFill>
                <a:latin typeface="Arial"/>
              </a:rPr>
              <a:t>Submit project request for UF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66"/>
                </a:solidFill>
                <a:latin typeface="Arial"/>
              </a:rPr>
              <a:t>Option 2: Rewrite in meaningful ma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66"/>
                </a:solidFill>
                <a:latin typeface="Arial"/>
              </a:rPr>
              <a:t>UFETF favors Option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Keep in Protocols with expectation of work being comple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No substantial impact to Nod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UFETF Updat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66"/>
                </a:solidFill>
                <a:latin typeface="Arial"/>
              </a:rPr>
              <a:t>Next meeting on Sep 14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66"/>
                </a:solidFill>
                <a:latin typeface="Arial"/>
              </a:rPr>
              <a:t>Close UFTEF by end of year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66"/>
                </a:solidFill>
                <a:latin typeface="Arial"/>
              </a:rPr>
              <a:t>Still on tr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6666"/>
                </a:solidFill>
                <a:latin typeface="Arial"/>
              </a:rPr>
              <a:t>Any questions?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8T16:01:52Z</dcterms:created>
  <dc:creator>cmoore</dc:creator>
  <dc:description/>
  <dc:language>en-US</dc:language>
  <cp:lastModifiedBy>cmoore</cp:lastModifiedBy>
  <dcterms:modified xsi:type="dcterms:W3CDTF">2006-08-11T21:27:45Z</dcterms:modified>
  <cp:revision>34</cp:revision>
  <dc:subject/>
  <dc:title>UFETF 2006 Go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063480501</vt:r8>
  </property>
  <property fmtid="{D5CDD505-2E9C-101B-9397-08002B2CF9AE}" pid="3" name="_AuthorEmail">
    <vt:lpwstr>Chuck.Moore@directenergy.com</vt:lpwstr>
  </property>
  <property fmtid="{D5CDD505-2E9C-101B-9397-08002B2CF9AE}" pid="4" name="_AuthorEmailDisplayName">
    <vt:lpwstr>Moore, Chuck</vt:lpwstr>
  </property>
  <property fmtid="{D5CDD505-2E9C-101B-9397-08002B2CF9AE}" pid="5" name="_EmailSubject">
    <vt:lpwstr>Draft COPS August Meeting Agenda and Request for Presentation Materials</vt:lpwstr>
  </property>
  <property fmtid="{D5CDD505-2E9C-101B-9397-08002B2CF9AE}" pid="6" name="_NewReviewCycle">
    <vt:lpwstr/>
  </property>
</Properties>
</file>