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FF7-A370-4254-9CCA-68A289C6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B083-8320-4823-8352-09193824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CDD-2D88-45C6-A018-1B041016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2344-DA02-43BB-B985-18C4C40A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23F8-E67D-432D-B8FE-2ECAAC63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778-6144-4FA5-AF34-ABBAEBC9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ABB-C803-4DF5-A3EE-0B205907F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8BD4-6808-45B1-83C5-D25C2FFF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DD1A-D24D-4646-8ED1-C241632B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5C05-444A-491A-B82C-3CAA2D86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88DB-F574-4B66-A3C6-CB0C696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26A-B255-4E37-9DFF-77F3D0AC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1634-7BFC-4BED-AE39-A0FE9A9D1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ata Extracts Working Group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DEWG) Upda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 August 22,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eeting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gust 1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amp; 1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Austin 1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 2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COT Austin 16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reen Scrap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 that there is no other way to get some data without continual website refres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data elements missing in certain extracts that is available on websi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Action: can you determine what is being “hit” the m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 Action: please provide data elements that you think are only available on th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ML Phase III extract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ew/Discuss Siebel Service Order Extrac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uss discontinuation of Dynamic Extr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uss discontinuation of Market Participant Transaction Report aka Darkside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ract Schedule Changes delivering to Market in 2006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 30026 Resource ID Extra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 40042_06 Lodestar Batch Extracts &amp; Market Cutover P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 40007 SCR 727 Phase II (ERCOT's move of extract to O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ject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vided project summary updates from 2006/20077 MO PPL &amp; RO PPL to help MPs understand EDW/EIS projects and how they relate to DEWG / C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rns raised about API testing related to web services projects, related to lessons learned surrounding MarkeTrak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DEWG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 50024 Phase II SCR 727 aka SCR 740 Web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rrent Project Timeli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SDL/XSD Draft publication d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siness User Information S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view data request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UI Draft scre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Questions 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124080" y="2514600"/>
            <a:ext cx="289584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00208429</cp:lastModifiedBy>
  <dcterms:modified xsi:type="dcterms:W3CDTF">2006-08-22T02:44:21Z</dcterms:modified>
  <cp:revision>17</cp:revision>
  <dc:subject/>
  <dc:title>PowerPoint Presentation</dc:title>
</cp:coreProperties>
</file>