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974A-F42A-4B72-9433-2E6858110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Settlement System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022-50E1-4060-8C60-D00CE260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90D-5837-4310-A92D-EBA669C1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4A6-A19B-4B6E-A4B7-156ED8F4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731D-826B-4B05-B4BD-33052A89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D18F-4381-46CF-B3A0-7BAEA5BB8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7943-9E9D-4587-A70E-47D149D5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13E6-A88E-451B-977D-A0DFC4EA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AD9CD-E9D7-4774-9FCE-59A8A9CC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463C-77E7-4967-B1BA-D28437A5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AE88-CB85-4110-8FDB-04AC58D2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D892-184B-4BF6-8350-E3F04409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9E5-6DE2-4D42-96E3-22F8EC02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282C-472A-4DAF-AD81-1EA2C486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9C14-BEE4-4141-9EC0-630D6A4A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5367-95B2-48B7-A0CA-EC081775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825F-06DC-41D6-AD17-483A28E1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8003-A636-46E9-8E08-33C7AE02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0E29-9004-4924-8A9C-7013EA20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365-92AC-4B29-BB9C-02F12942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567-2A89-4D81-A62E-D78960CD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54B2-E3CF-4847-A185-E71CFB9D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64DF-1F4C-49D8-B39D-E676ADE5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A0D-DFD7-4A79-B1A7-D64A7462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D6B-FA29-480D-974C-B8898C33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3856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425680" y="0"/>
            <a:ext cx="309384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552C-7ED7-4D1A-B8F3-FF3CA85216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4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916A-9AED-4CA8-9E18-308B8564C8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4876920"/>
            <a:ext cx="8839440" cy="19573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11430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COPS 8/22/06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 Output – Zero Dat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Objective: Review 7/26/06 workshop design concepts for nodal settlement output zero dat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2B3-40EE-445B-BFFB-FA8AFB439C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odal Settlements Calculation Driv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631960" y="838080"/>
            <a:ext cx="414972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1356-10DC-46BB-9DFD-2625311CC1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Design Proposal – 8/22/06 COPS Vot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dal settlement calculations that do not have input drivers will not execute and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1) zero output values will be padded and shown at QSE/Trade Date Level on Statement Summary and Extracts </a:t>
            </a:r>
            <a:r>
              <a:rPr b="1" lang="en-US" sz="1700" spc="-1" strike="noStrike">
                <a:solidFill>
                  <a:srgbClr val="ff0000"/>
                </a:solidFill>
                <a:latin typeface="Verdana"/>
              </a:rPr>
              <a:t>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(2) zero output values will NOT be padded or shown on Statements or Extrac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dal settlement calculation output that results in a zero amount value for every interval will be shown at QSE/Trade Date Level within Statement Summary and Extrac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put drivers exist and calculation execu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dal settlement calculation output that nets to zero within the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sam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intervals will be shown at QSE/Trade Date Level within Statement Summary and Extrac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put drivers exist and calculation execu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odal settlement calculation output that nets to zero between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different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intervals will be shown at the interval level and QSE/Trade Date Level within Statement Summary, Statement Detail, and Extrac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put drivers exist and calculation execu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rade date volume information at the top of the statements will be rem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09C1-4850-478D-8AD0-9C27CA2A75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Design Proposal – Clarific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dal settlement calculation output that nets to zero within the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sam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intervals will be shown at QSE/Trade Date Level within Statement Summary and Extra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8520" y="2847960"/>
            <a:ext cx="8888400" cy="240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7B1-470C-4AE4-BE2C-E8A96E0545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Settlements System Design Proposal – Clarificatio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dal settlement calculation output that nets to zero between </a:t>
            </a: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ifferen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intervals will be shown at the interval level and QSE/Trade Date Level within Statement Summary, Statement Detail, and Extrac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8240" y="2895480"/>
            <a:ext cx="886932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AD17-C3B2-4493-A555-055A7C4C64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Nodal Protocol Compliance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1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ttlement Statement Process for the DA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duce daily Settlement Statements for the Day-Ahead Market (DAM), as defined in Section 9.2.2, Settlement Statements for the DAM, that show a breakdown of financial obligations between ERCOT and a Market Participant incurred in the DAM, including any administrative and miscellaneous charges applicable to the DAM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2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 Settlement Statements for the DAM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7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ttlement Statements for the DAM must break fees down by Charge Types into the appropriate one-hour Settlement Interval for that typ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3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DAM Settlement Charge Typ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vide, on each Settlement Statement, the dollar amount for each DAM Settlement charge and paymen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2.5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DAM Resettlement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 DAM Resettlement Statement must reflect differences to financial records generated on the previous Settlement Statement for the given DAM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1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ttlement Statement Process for the Real-Time Market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duce daily Settlement Statements for the Real-Time Market (RTM), as defined in Section 9.5.2, Settlement Statements for the RTM, that show a breakdown of Charge Types incurred in the RTM, including any administrative and miscellaneous charges applicable to the RTM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2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Settlement Statements for the RT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8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 Settlement Statement for the RTM must break the fees down by Charge Type into the appropriate 15-minute or one-hour Settlement Interval for that typ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3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eal-Time Market Settlement Charge Typ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shall provide, on each RTM Settlement Statement, the dollar amount for each RTM Settlement charge and paymen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5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TM Final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n RTM Final Statement will reflect differences to financial records generated on the previous Settlement Statement for the given Operating Da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6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TM Resettlement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6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n RTM Resettlement Statement will reflect differences to financial records generated on the previous Settlement Statement for the given Operating Day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9.5.8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1000" spc="-1" strike="noStrike">
                <a:solidFill>
                  <a:srgbClr val="000000"/>
                </a:solidFill>
                <a:latin typeface="Verdana"/>
              </a:rPr>
              <a:t>RTM True-Up Statemen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n RTM True-Up Statement will reflect differences to financial records generated on the previous Settlement Statement for the given Operating Day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F896-C9E3-4692-A0C6-AE07243112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barnes</cp:lastModifiedBy>
  <dcterms:modified xsi:type="dcterms:W3CDTF">2006-08-22T02:20:15Z</dcterms:modified>
  <cp:revision>2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