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2D1C-1AE2-4C6F-953C-E113C46C0C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B23C-B888-4C35-BCF5-E2AFC0B9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75B5-EC76-45B9-B142-BC8C8B21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9028-D5E0-4D69-8EC1-2EFE50847C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988CD-C344-4460-9105-9C087280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C87B8-38C8-4A86-8A5B-D9B119A2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8916B-884D-4DD6-B624-B618BF6E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7180F-5A30-4323-9273-60EB6107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7F5A-4FF4-47C2-9006-61CB38D6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FC1B2-D3F8-4B76-83F4-C3925973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013C8-89AE-41BC-A870-0AFF2290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44AA-7478-4EA1-9B96-4F1A1A9F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FBAB-AD11-4B63-B6FB-681F855B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ugust 22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BF24-45D0-4536-9B62-8FB182FEB1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2952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’s all there i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57920" cy="420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BBE2-99F2-484A-8BC4-C86EEE05EA52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3276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5638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BBA7-286D-4747-8E42-31AAC5B6476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828800"/>
            <a:ext cx="853416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Settlement trade day transition to new profiles under discu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ntative timeline has been revised, see later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ccuracy criteria discuss for sample design per time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.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6386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o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6FB8-C690-4C3D-BB11-B29F026D8A6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date 7/25/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81848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7B95-B056-4395-814B-E8552771C03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828800"/>
            <a:ext cx="853416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 was approved by PWG consensus at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ow to implement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s significan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issue, Aug. 30 to discuss furth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nual Validation 2006 on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hall update the default assignments by weather zone at a later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D3CC-BBB1-4792-9298-B8C9A6347215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057400"/>
            <a:ext cx="8534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uly 1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R Market Notice sent announcing the ESIID change lists ar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Progre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RCOT is coordinating with TDSPs flow of 814_20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Residential transactions for meter reads effective on or after August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transactions for meter reads effective on or after October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1EC9C-69AB-424F-91FC-41723A794BEE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05740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007, IDR Requirement Changes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rocess for Load Profiling Guide Revisions was approved by COPS in Ju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 Procedures for PWG is being developed and pending re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70FE6-A876-42A9-8841-E007DD838F58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ject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2081160"/>
            <a:ext cx="7772400" cy="325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120C9-CE3B-47FB-93FB-11809675DF7F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up to this poi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2906640" cy="28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53DA7-1F69-491D-AA90-83CCB1136016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2,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PWG 042706</cp:lastModifiedBy>
  <dcterms:modified xsi:type="dcterms:W3CDTF">2006-08-14T15:59:06Z</dcterms:modified>
  <cp:revision>187</cp:revision>
  <dc:subject/>
  <dc:title>PowerPoint Presentation</dc:title>
</cp:coreProperties>
</file>