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F34A-9443-4682-9C3F-72BEAA008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8ABC2-5CBF-4CA9-84BE-87E4D9BF0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1ED1E-1A33-4F91-A9CF-8BF5CCF33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151E2-D586-4F4D-9925-817D09AEC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4633F-6D24-4C1A-88BE-37A3F18ECC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1F86E-EA5D-4BB2-B0BF-119FEB4CF6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C666D-68B3-4D63-8D4C-57CDFBC9D6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ED570-0B32-4E36-BB9C-FED81BFB13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CBFBF-C755-4D94-80D0-3ABF3632D8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DA4D0-A099-405D-86E3-546CD8D73C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FC7B8-224F-4D38-9D54-385E4C925B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25DB-524A-41C1-BBB4-BCCD2DCD2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60A75-3B35-4EA0-85CA-35A18770B7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463FF-AAB1-4E47-979D-98AE7A615C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BDB3B-2951-47E0-9A46-A6E9D14CE7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E2573-B69A-49D5-A797-76DAF058EE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15AEB-28DD-430E-879B-7FC514C213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54B0-4E42-4D3D-9307-79A2EA58A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92CE-1BE4-489F-9ABC-52B1935A7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37047-A035-43E4-A33D-A417E6728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26E4-5E4C-4FB0-AC7F-175257FAF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AE993-9467-4917-9856-759FAC6B8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AB08-E068-4BB9-895B-10B428D7C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A5E9-6AC9-423E-AA39-2A968A97A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18F0-9D82-48EB-A8E9-3C439378C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6868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1722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3752-2853-47D9-98A8-61C64015A0C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762120"/>
            <a:ext cx="7925040" cy="19810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624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Local Congestion Costs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January – June Update</a:t>
            </a:r>
            <a:br>
              <a:rPr sz="3600"/>
            </a:br>
            <a:endParaRPr b="1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4495680"/>
            <a:ext cx="6553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August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Outline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thly Cost updates 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 Specific-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OOME and Local Balancing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 Specific-D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OOME and Local Balancing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 2006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CEB2B-EEF4-4CD8-A9BE-0591642A35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OOMC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42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57200" y="5257800"/>
          <a:ext cx="8153280" cy="909720"/>
        </p:xfrm>
        <a:graphic>
          <a:graphicData uri="http://schemas.openxmlformats.org/drawingml/2006/table">
            <a:tbl>
              <a:tblPr/>
              <a:tblGrid>
                <a:gridCol w="2279520"/>
                <a:gridCol w="1996920"/>
                <a:gridCol w="199404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or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year to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 2006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F6D35-3A2C-44D9-AE4A-201484A9CE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Unit Specific-Up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42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57200" y="5410080"/>
          <a:ext cx="8229240" cy="914040"/>
        </p:xfrm>
        <a:graphic>
          <a:graphicData uri="http://schemas.openxmlformats.org/drawingml/2006/table">
            <a:tbl>
              <a:tblPr/>
              <a:tblGrid>
                <a:gridCol w="2238120"/>
                <a:gridCol w="1960200"/>
                <a:gridCol w="1957320"/>
                <a:gridCol w="2073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or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year to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 2006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01CD9-B3BF-48A0-870F-345EC8A1B7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Unit Specific-Down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3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57200" y="5410080"/>
          <a:ext cx="8229600" cy="909720"/>
        </p:xfrm>
        <a:graphic>
          <a:graphicData uri="http://schemas.openxmlformats.org/drawingml/2006/table">
            <a:tbl>
              <a:tblPr/>
              <a:tblGrid>
                <a:gridCol w="2238480"/>
                <a:gridCol w="1960560"/>
                <a:gridCol w="1957320"/>
                <a:gridCol w="2073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or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year to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 2006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63204-F8E7-43C3-8C1C-C6EB874855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RMR Net by Month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5334120"/>
          <a:ext cx="8229600" cy="909360"/>
        </p:xfrm>
        <a:graphic>
          <a:graphicData uri="http://schemas.openxmlformats.org/drawingml/2006/table">
            <a:tbl>
              <a:tblPr/>
              <a:tblGrid>
                <a:gridCol w="2238480"/>
                <a:gridCol w="1960560"/>
                <a:gridCol w="1957320"/>
                <a:gridCol w="2073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or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year to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6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 2006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E5F24-30E0-4A25-A042-1696C62A7F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 Narrow"/>
              </a:rPr>
              <a:t>Costs by Area</a:t>
            </a:r>
            <a:endParaRPr b="1" lang="en-US" sz="34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104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 2006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48F3-1A0E-4337-BFAA-F603B4D4BC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 Narrow"/>
              </a:rPr>
              <a:t>RPRS by Month - 2006</a:t>
            </a:r>
            <a:endParaRPr b="1" lang="en-US" sz="38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5029200"/>
          <a:ext cx="8229600" cy="1219320"/>
        </p:xfrm>
        <a:graphic>
          <a:graphicData uri="http://schemas.openxmlformats.org/drawingml/2006/table">
            <a:tbl>
              <a:tblPr/>
              <a:tblGrid>
                <a:gridCol w="2819160"/>
                <a:gridCol w="1143000"/>
                <a:gridCol w="1143000"/>
                <a:gridCol w="990720"/>
                <a:gridCol w="990720"/>
                <a:gridCol w="1143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Replac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al/System-wide Replac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 2006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212C-C075-43E8-9DAD-3BF762151A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 Narrow"/>
              </a:rPr>
              <a:t>Local Congestion Costs</a:t>
            </a:r>
            <a:br>
              <a:rPr sz="3800"/>
            </a:b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($ Millions)</a:t>
            </a:r>
            <a:endParaRPr b="1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295280"/>
          <a:ext cx="8153280" cy="4835160"/>
        </p:xfrm>
        <a:graphic>
          <a:graphicData uri="http://schemas.openxmlformats.org/drawingml/2006/table">
            <a:tbl>
              <a:tblPr/>
              <a:tblGrid>
                <a:gridCol w="3863880"/>
                <a:gridCol w="1428840"/>
                <a:gridCol w="1565280"/>
                <a:gridCol w="129528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8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3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Specific – U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Specific – Dow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P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1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6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to date through Ju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4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9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 2006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54AF-A5CF-4A38-A78A-3CED10460A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iflores</dc:creator>
  <dc:description/>
  <dc:language>en-US</dc:language>
  <cp:lastModifiedBy>ercot/if</cp:lastModifiedBy>
  <dcterms:modified xsi:type="dcterms:W3CDTF">2006-08-15T20:38:35Z</dcterms:modified>
  <cp:revision>128</cp:revision>
  <dc:subject/>
  <dc:title>CSC util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