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5A9-D883-45BA-B42F-19DB01EF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6EF-D8CE-4BF9-A913-F9C9C00C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9E5-4B83-4917-BBC8-29BA707D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F0B-74AB-4149-946A-7972FC85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259-FF48-4E12-80A8-2A6FD640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0E7-C644-442E-B490-8AF3F16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328-D231-4864-9608-D40FD4D8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E6C-C8CE-48DB-A483-98514697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E28-B0E6-4109-975C-F284E42C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803-4991-4069-B1F1-9FAF51BE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CEE-BF29-4DB8-ADCF-9A085F6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CEE-F7B4-403C-995B-0F25A6A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BE89-8CC4-40F8-8BD8-1F3DE3572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C Staff’s Conc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91440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equential Co-optimization, that may be in effect for a short period of time, is not the righ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Patton has made his preference regarding RT Co-optimization very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does not see any significant benefits in implementing Sequential Co-optimization.  Rather, he has recommended to implement RT Co-optimization six months to a year after nodal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not believe it is prudent to spend more than $1.0 million to implement Sequential Co-optimization to be in place for a short period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ot appropriate to implement Sequential Co-optimization that results in delay in the nodal implement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ot prudent to further complicate market design at thi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commend RT Co-optimization be included in the first major nodal software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ous commitments by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nce on IMM and/or Experts to assess it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expect implementation unless its inferiority is well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9:33:29Z</dcterms:created>
  <dc:creator>padib</dc:creator>
  <dc:description/>
  <dc:language>en-US</dc:language>
  <cp:lastModifiedBy>padib</cp:lastModifiedBy>
  <dcterms:modified xsi:type="dcterms:W3CDTF">2006-08-16T19:46:19Z</dcterms:modified>
  <cp:revision>2</cp:revision>
  <dc:subject/>
  <dc:title>PUC Staff’s Concerns</dc:title>
</cp:coreProperties>
</file>