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90EA-24C6-44B2-BF8E-E04684ACE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1545-23F6-4615-8C53-2A6BF493B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9C73-F721-44B4-8836-A9A2B50E3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89C7-5AD0-465C-BED4-FDD62B2F5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7BEAD-90BF-458C-8249-4A15D5FA3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8896F-6C85-4017-B453-28F8E6451D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4F49-D8DD-4FE3-99FD-F1AFF8B9E0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4572E-CFD4-4BB5-BFF4-B708F7AEFB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B8D23-28F3-4546-A5E3-B0A822D0BF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B4620-281E-47A5-B7A1-D6ECDC3690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37657-5B9C-49E7-BD0F-5C2E98B77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7CF3-E75A-4DE9-915C-929CA7AC1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304E6-423A-402D-8BCD-E8C0A7AEFA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5B593-A458-4429-9EDB-21DEA3847B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3DD6C-609E-4D21-B8B8-8633A918AF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1C90A-963C-4A8A-BC7D-A20E43A031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3B375-5107-43DC-ACED-5B9E8D7BC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21A9-C88E-4908-B2FE-A0DC9E369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6C8F-0394-4067-8899-0BB59B8BC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C845-EB2C-45FD-BB5D-0F1A60BF8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4B3E-2FA8-4840-824A-E6673A8E4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51F2-337E-4165-B9FA-7D316B174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9439-DE72-4933-8992-7C8B86BA7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1BE9-2EAC-4D83-899F-DC92800C8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5FCF-5F5C-44D0-9BB4-F32F87BA2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7FF2-7FEB-49F5-9D8B-CF39ED1C514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Q2 - 2006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August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Jun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9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9CC1-4F8B-4DBA-996E-BCD850B67A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N_H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267080" cy="2667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419112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65C6-188A-4DC7-839A-6D676E8AB8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S_N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362320" y="3809880"/>
            <a:ext cx="426708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1654-7350-42CE-A473-A4749FE3FE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S_H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572000" cy="262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28600" y="914400"/>
            <a:ext cx="41911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1DFA-2766-4874-9405-1961CE7A68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: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n – Jun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72000" y="114300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34340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78A9-41B8-4F62-97FD-E0B48EC315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osts of Over-constraining vs. Under-constraining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4191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all binding intervals where the actual CSC flow is less than 100% of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actual flow and 100% of the limit, times th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334120"/>
            <a:ext cx="434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intervals where the actual flow is greater than the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flow and the limit, times the averag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34340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5599-A48D-43FE-A897-1A9D4EC056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s of over cons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8590-EDA0-4171-85B2-852679DA22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5105520"/>
          <a:ext cx="7575480" cy="1212840"/>
        </p:xfrm>
        <a:graphic>
          <a:graphicData uri="http://schemas.openxmlformats.org/drawingml/2006/table">
            <a:tbl>
              <a:tblPr/>
              <a:tblGrid>
                <a:gridCol w="1371600"/>
                <a:gridCol w="761760"/>
                <a:gridCol w="838440"/>
                <a:gridCol w="838080"/>
                <a:gridCol w="838080"/>
                <a:gridCol w="914400"/>
                <a:gridCol w="914400"/>
                <a:gridCol w="109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Yr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 Yr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~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868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74E3-5CFA-4DC2-BEDC-801D2F51BE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5120" y="5410080"/>
          <a:ext cx="5586120" cy="912960"/>
        </p:xfrm>
        <a:graphic>
          <a:graphicData uri="http://schemas.openxmlformats.org/drawingml/2006/table">
            <a:tbl>
              <a:tblPr/>
              <a:tblGrid>
                <a:gridCol w="892080"/>
                <a:gridCol w="781200"/>
                <a:gridCol w="780840"/>
                <a:gridCol w="825480"/>
                <a:gridCol w="988920"/>
                <a:gridCol w="658800"/>
                <a:gridCol w="65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CEF1-C68D-41FA-AEFB-F65C686C9F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914400"/>
          <a:ext cx="7924680" cy="535608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  <a:gridCol w="609480"/>
                <a:gridCol w="533520"/>
                <a:gridCol w="609480"/>
                <a:gridCol w="609480"/>
                <a:gridCol w="609840"/>
                <a:gridCol w="533160"/>
                <a:gridCol w="609840"/>
                <a:gridCol w="609480"/>
                <a:gridCol w="609480"/>
                <a:gridCol w="685800"/>
                <a:gridCol w="76212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0A67-E7F7-4010-8FA9-CD756EA057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914400"/>
          <a:ext cx="7848360" cy="5140440"/>
        </p:xfrm>
        <a:graphic>
          <a:graphicData uri="http://schemas.openxmlformats.org/drawingml/2006/table">
            <a:tbl>
              <a:tblPr/>
              <a:tblGrid>
                <a:gridCol w="539640"/>
                <a:gridCol w="612720"/>
                <a:gridCol w="615960"/>
                <a:gridCol w="539640"/>
                <a:gridCol w="615960"/>
                <a:gridCol w="615960"/>
                <a:gridCol w="613080"/>
                <a:gridCol w="539640"/>
                <a:gridCol w="641160"/>
                <a:gridCol w="590760"/>
                <a:gridCol w="612720"/>
                <a:gridCol w="62532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3D70-FA51-4CC6-8652-2C1C2BC08E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H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Jun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EEC7-08A8-46FC-9458-90173AFAC2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Jun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18FB-8E76-42BD-8EBC-99CF2F1850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Jun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ugust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80BE-7ACE-4B0F-BCC0-885EA32771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6-08-15T20:45:52Z</dcterms:modified>
  <cp:revision>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