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5C31-5DA1-4B92-A5E3-5AE00DF26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4824-C83D-4A76-8BAC-02F6FA03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A153-EA82-4281-9052-38AE6416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AFBB-765A-474D-A6FB-AD53E815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DF95-6CB4-45B3-8CFE-947B1C87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A4F1-BF5D-4882-A132-2DECA05F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13DF-F981-4A5A-98F8-65951FCE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9BAE-795F-4074-903D-7D9EF189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0645-D45F-415A-AF2B-BE38F938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1293-C269-41A6-8F5C-351800E9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C1EA-A5FA-4D6E-AD82-FEEADB96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E7F4-FDDD-4EF4-B087-A6454A04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B693-0711-43FB-ADAB-C5A9E4136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SE Managers Working Group Report to WM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gust 18, 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from August 9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aw-back provision in RMR contrac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MS directed QSEMWG to investigate the significance of RMR capacity not offered in B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data indicates some intervals where RMR capacity could have been utiliz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SE Managers discussed again and elect not to pursue due to minimal return on inves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80880" y="190440"/>
          <a:ext cx="8506080" cy="637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0440"/>
                    <a:ext cx="8506080" cy="637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R 607 – One Minute Ram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nt of PRR is to allow QSE’s to better represent start-up and shut-down of un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15 minute schedules do not accurately represent these ramps and is causing SCE complianc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PL has revised the PRR to address issue through a compliance measurement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R 607 – One Minute Ramping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Compliance expressed views on the PRR and will submit comments during the PRR review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14:31:46Z</dcterms:created>
  <dc:creator>Larry Gurley</dc:creator>
  <dc:description/>
  <dc:language>en-US</dc:language>
  <cp:lastModifiedBy>Gary D Miller</cp:lastModifiedBy>
  <dcterms:modified xsi:type="dcterms:W3CDTF">2006-08-10T19:28:12Z</dcterms:modified>
  <cp:revision>8</cp:revision>
  <dc:subject/>
  <dc:title>QSE Managers Working Group Report to WMS February 22, 2006</dc:title>
</cp:coreProperties>
</file>