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70C2-3D51-4694-BCDA-C9C3D2F5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8D18-3B59-4C28-AEA0-BB893413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0115-F808-40B2-B7D3-7B5EAB3B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3D5-B787-454A-B6F1-4E3A2480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29AF-7E57-4919-960F-D58B208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F0FB-37F9-4C31-BF9C-A2C0163A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74BD-AD22-41F0-A110-CFD1F183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A90A-55F7-4EC8-AAA8-59667D8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84FD-3BBB-42D4-86F7-E139884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920A-7129-46EB-8123-9ADC52A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B240-4B06-4F6E-9538-91A577F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5DBB-CC3D-4857-8146-A1B86A0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0D5-FD28-4DAE-87F8-BBF125BB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3990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l-time Co-optimiz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M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randon Whitt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ad, Real-time Market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6 August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ission Ord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ket No. 315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Order 5 April, 2006 Ordering Paragraph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and the electric-market stakeholders shall determine whether co-optimization is feasible and beneficial to implement in the wholesale market as approved by this Order.  Any modifications to the protocols required to implement co-optimization shall be brought to the Commission for final approv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6 August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MS Involv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as asked to question potential vendors about costs and schedule impac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o-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-ahead co-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fic cost or schedule impact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Real-time and Hour-ahead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s to protocols and system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elected, estimates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WMS minutes fo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6 August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asked MMS vendor to determine cost and schedule impacts of implementing each of the two co-optimization options, neither of which have requirements defined.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Co-optimization (Hour Ahead)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System Cost &amp; Schedul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$950,000 + $250,000 ris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2 months MMS project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2 month impact on Texas Nodal, cost not quant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als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Impact Certain (cost not quantified, analysis in progr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Staff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Rules Changes – Proposed NPRR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 Co-optimization (Every SCED ru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System Cost &amp; Schedul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$950,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2 months MMS project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2 month impact on Texas Nodal, cost not quant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also consid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Impact Certain (cost not quantified, must have additional information such as NPR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S Impact Certain (cost not quantified, must have additional information such as NPR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mechanics between QSE and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ap of AS Deployment and Re-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Rules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867280"/>
            <a:ext cx="7467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Also referred to as “Sequential Optimization” in Potomac Memo to P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Risk uncertainty due to new software development and the addition of a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6 August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ditional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6 August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randon T. Whittle</cp:lastModifiedBy>
  <dcterms:modified xsi:type="dcterms:W3CDTF">2006-08-16T17:18:00Z</dcterms:modified>
  <cp:revision>34</cp:revision>
  <dc:subject/>
  <dc:title>Instructions</dc:title>
</cp:coreProperties>
</file>