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8959850" cy="6721475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B7AD5-A293-4227-BAB9-D637A434A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DD9D-A7A9-4F21-B6A5-0965B63E2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83D2-D2CD-457B-B8A9-62B7FDFB1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0520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5152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522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0520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5152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61E3-5D82-431F-9B5D-552DD0263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6440" y="31176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6DDE-37E5-4444-B231-656C9DD39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0520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5152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522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0520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5152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3396-571C-4DED-BE4A-386DA3260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76430-B7FD-4C85-B23E-B85539BE3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7B96-BD09-4A90-BB21-C3FAC650C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6440" y="31176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E747-A198-4F2C-9E97-0BA8E8F55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7488-9D2E-48B5-A12A-4FC1C7FD6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63D1-46D1-4436-94F6-D2E6D76F7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FF94-F4DC-430C-AF70-1C1940A6A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551800" y="6511680"/>
            <a:ext cx="185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E6E36E1F-D409-48CC-90E4-8ADCBEEF2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14120">
              <a:buClr>
                <a:srgbClr val="006b61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77760" indent="-114120">
              <a:buClr>
                <a:srgbClr val="000000"/>
              </a:buClr>
              <a:buSzPct val="89000"/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11124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57480" indent="-11124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57480" indent="-11124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5280" y="922320"/>
            <a:ext cx="860292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5280" y="650556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5280" y="19224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" name="McK Slide Elements"/>
          <p:cNvGrpSpPr/>
          <p:nvPr/>
        </p:nvGrpSpPr>
        <p:grpSpPr>
          <a:xfrm>
            <a:off x="136440" y="1122480"/>
            <a:ext cx="8595360" cy="5371920"/>
            <a:chOff x="136440" y="1122480"/>
            <a:chExt cx="8595360" cy="5371920"/>
          </a:xfrm>
        </p:grpSpPr>
        <p:sp>
          <p:nvSpPr>
            <p:cNvPr id="7" name="McK Measure" hidden="1"/>
            <p:cNvSpPr/>
            <p:nvPr/>
          </p:nvSpPr>
          <p:spPr>
            <a:xfrm>
              <a:off x="137520" y="1122480"/>
              <a:ext cx="1433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McK Footnote" hidden="1"/>
            <p:cNvSpPr/>
            <p:nvPr/>
          </p:nvSpPr>
          <p:spPr>
            <a:xfrm>
              <a:off x="136440" y="6103440"/>
              <a:ext cx="859176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" name="McK Legend"/>
            <p:cNvGrpSpPr/>
            <p:nvPr/>
          </p:nvGrpSpPr>
          <p:grpSpPr>
            <a:xfrm>
              <a:off x="7872480" y="1538280"/>
              <a:ext cx="859320" cy="767160"/>
              <a:chOff x="7872480" y="1538280"/>
              <a:chExt cx="859320" cy="76716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7872480" y="1538280"/>
                <a:ext cx="859320" cy="182880"/>
                <a:chOff x="7872480" y="1538280"/>
                <a:chExt cx="859320" cy="182880"/>
              </a:xfrm>
            </p:grpSpPr>
            <p:sp>
              <p:nvSpPr>
                <p:cNvPr id="11" name="" hidden="1"/>
                <p:cNvSpPr/>
                <p:nvPr/>
              </p:nvSpPr>
              <p:spPr>
                <a:xfrm>
                  <a:off x="7872480" y="1560600"/>
                  <a:ext cx="28404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McK Footnote" hidden="1"/>
                <p:cNvSpPr/>
                <p:nvPr/>
              </p:nvSpPr>
              <p:spPr>
                <a:xfrm>
                  <a:off x="8219160" y="153828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7872480" y="1731960"/>
                <a:ext cx="859320" cy="182880"/>
                <a:chOff x="7872480" y="1731960"/>
                <a:chExt cx="859320" cy="182880"/>
              </a:xfrm>
            </p:grpSpPr>
            <p:sp>
              <p:nvSpPr>
                <p:cNvPr id="14" name="" hidden="1"/>
                <p:cNvSpPr/>
                <p:nvPr/>
              </p:nvSpPr>
              <p:spPr>
                <a:xfrm>
                  <a:off x="7872480" y="1754280"/>
                  <a:ext cx="284040" cy="139680"/>
                </a:xfrm>
                <a:prstGeom prst="rect">
                  <a:avLst/>
                </a:prstGeom>
                <a:solidFill>
                  <a:srgbClr val="47474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McK Footnote" hidden="1"/>
                <p:cNvSpPr/>
                <p:nvPr/>
              </p:nvSpPr>
              <p:spPr>
                <a:xfrm>
                  <a:off x="8219160" y="17319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872480" y="1927440"/>
                <a:ext cx="859320" cy="182880"/>
                <a:chOff x="7872480" y="1927440"/>
                <a:chExt cx="859320" cy="182880"/>
              </a:xfrm>
            </p:grpSpPr>
            <p:sp>
              <p:nvSpPr>
                <p:cNvPr id="17" name="" hidden="1"/>
                <p:cNvSpPr/>
                <p:nvPr/>
              </p:nvSpPr>
              <p:spPr>
                <a:xfrm>
                  <a:off x="7872480" y="1949400"/>
                  <a:ext cx="284040" cy="1400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McK Footnote" hidden="1"/>
                <p:cNvSpPr/>
                <p:nvPr/>
              </p:nvSpPr>
              <p:spPr>
                <a:xfrm>
                  <a:off x="8219160" y="192744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7872480" y="2122560"/>
                <a:ext cx="859320" cy="182880"/>
                <a:chOff x="7872480" y="2122560"/>
                <a:chExt cx="859320" cy="182880"/>
              </a:xfrm>
            </p:grpSpPr>
            <p:sp>
              <p:nvSpPr>
                <p:cNvPr id="20" name="" hidden="1"/>
                <p:cNvSpPr/>
                <p:nvPr/>
              </p:nvSpPr>
              <p:spPr>
                <a:xfrm>
                  <a:off x="7872480" y="2144880"/>
                  <a:ext cx="284040" cy="139680"/>
                </a:xfrm>
                <a:prstGeom prst="rect">
                  <a:avLst/>
                </a:prstGeom>
                <a:solidFill>
                  <a:srgbClr val="dadad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McK Footnote" hidden="1"/>
                <p:cNvSpPr/>
                <p:nvPr/>
              </p:nvSpPr>
              <p:spPr>
                <a:xfrm>
                  <a:off x="8219160" y="21225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" name="McK Sticker"/>
            <p:cNvGrpSpPr/>
            <p:nvPr/>
          </p:nvGrpSpPr>
          <p:grpSpPr>
            <a:xfrm>
              <a:off x="7289280" y="1166400"/>
              <a:ext cx="1434960" cy="221400"/>
              <a:chOff x="7289280" y="1166400"/>
              <a:chExt cx="1434960" cy="221400"/>
            </a:xfrm>
          </p:grpSpPr>
          <p:sp>
            <p:nvSpPr>
              <p:cNvPr id="23" name="McK Sticker" hidden="1"/>
              <p:cNvSpPr/>
              <p:nvPr/>
            </p:nvSpPr>
            <p:spPr>
              <a:xfrm>
                <a:off x="7289280" y="1166760"/>
                <a:ext cx="1434960" cy="219600"/>
              </a:xfrm>
              <a:prstGeom prst="leftRightArrow">
                <a:avLst>
                  <a:gd name="adj1" fmla="val 100000"/>
                  <a:gd name="adj2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360" bIns="18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812880"/>
                    <a:tab algn="l" pos="1625760"/>
                    <a:tab algn="l" pos="2438280"/>
                    <a:tab algn="l" pos="3251160"/>
                    <a:tab algn="l" pos="4064040"/>
                    <a:tab algn="l" pos="4876920"/>
                    <a:tab algn="l" pos="5689440"/>
                    <a:tab algn="l" pos="6502320"/>
                    <a:tab algn="l" pos="7315200"/>
                    <a:tab algn="l" pos="8128080"/>
                    <a:tab algn="l" pos="8940960"/>
                    <a:tab algn="l" pos="9753480"/>
                    <a:tab algn="l" pos="1056636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STICKER (ALL CA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" name=""/>
              <p:cNvCxnSpPr/>
              <p:nvPr/>
            </p:nvCxnSpPr>
            <p:spPr>
              <a:xfrm>
                <a:off x="7291080" y="116640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5" name=""/>
              <p:cNvCxnSpPr/>
              <p:nvPr/>
            </p:nvCxnSpPr>
            <p:spPr>
              <a:xfrm>
                <a:off x="7291080" y="138708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50960" y="2884320"/>
            <a:ext cx="5732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46160" y="1677960"/>
            <a:ext cx="8668800" cy="3053880"/>
            <a:chOff x="146160" y="1677960"/>
            <a:chExt cx="8668800" cy="3053880"/>
          </a:xfrm>
        </p:grpSpPr>
        <p:sp>
          <p:nvSpPr>
            <p:cNvPr id="64" name=""/>
            <p:cNvSpPr/>
            <p:nvPr/>
          </p:nvSpPr>
          <p:spPr>
            <a:xfrm>
              <a:off x="146160" y="473184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6160" y="167796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McK Title Elements"/>
          <p:cNvGrpSpPr/>
          <p:nvPr/>
        </p:nvGrpSpPr>
        <p:grpSpPr>
          <a:xfrm>
            <a:off x="7754760" y="1023840"/>
            <a:ext cx="1117800" cy="4138920"/>
            <a:chOff x="7754760" y="1023840"/>
            <a:chExt cx="1117800" cy="4138920"/>
          </a:xfrm>
        </p:grpSpPr>
        <p:sp>
          <p:nvSpPr>
            <p:cNvPr id="67" name="McK Sticker" hidden="1"/>
            <p:cNvSpPr/>
            <p:nvPr/>
          </p:nvSpPr>
          <p:spPr>
            <a:xfrm>
              <a:off x="7754760" y="1023840"/>
              <a:ext cx="1117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I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McK Date" hidden="1"/>
            <p:cNvSpPr/>
            <p:nvPr/>
          </p:nvSpPr>
          <p:spPr>
            <a:xfrm>
              <a:off x="8488440" y="497988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47840" y="1572480"/>
            <a:ext cx="8064000" cy="38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6160" indent="425520" algn="ctr">
              <a:buClr>
                <a:srgbClr val="006b61"/>
              </a:buClr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97000" indent="566640" algn="ctr">
              <a:buClr>
                <a:srgbClr val="000000"/>
              </a:buClr>
              <a:buSzPct val="89000"/>
              <a:buFont typeface="Arial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433440" indent="71280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33440" indent="712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33440" indent="712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445840"/>
            <a:ext cx="7848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40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WG Update to WM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02920" y="4216320"/>
            <a:ext cx="191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ust 16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080" y="311760"/>
            <a:ext cx="85359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ote to Reaffirm DSWG Chair and Affirm Vice Chair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4200" y="1074600"/>
            <a:ext cx="784872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76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 to reaffirm Mary Anne Brelinsky as Chair of DSWG due to company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spcBef>
                <a:spcPts val="499"/>
              </a:spcBef>
              <a:spcAft>
                <a:spcPts val="499"/>
              </a:spcAft>
              <a:buClr>
                <a:srgbClr val="00279f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employed by Mpower (REP/Q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 to affirm Nelson Nease as Vice Chair of DSWG to replace prior Vice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spcBef>
                <a:spcPts val="499"/>
              </a:spcBef>
              <a:spcAft>
                <a:spcPts val="499"/>
              </a:spcAft>
              <a:buClr>
                <a:srgbClr val="00279f"/>
              </a:buClr>
              <a:buSzPct val="125000"/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Nucor St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5B40-40F9-4E9C-98E6-E662AA6F84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080" y="311760"/>
            <a:ext cx="76215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xt DSWG Meeting Scheduled for September 8th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840" y="998640"/>
            <a:ext cx="8076960" cy="29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 already identified for September mee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Participation Update (Kre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Update (Patter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Response Survey preparation (Brelins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PJM Demand Response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Response Programs in the Competitive Electric Market; PUC project number is 32853 (PU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nstorming Session for Demand Response Possibilities: Stag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DAFC-1B48-4790-88FD-B492BA297D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ad Participation and Price Responsivenes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4200" y="998640"/>
            <a:ext cx="8305920" cy="57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WG was asked to quantify how much load responded during the April 17th ev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1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vent Facts for Load Price Responsiven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150 MWs of Load committed to sell Responsive Reserve on April 1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1,300 MWs of Load was manually shed by L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CPE did not post above $599 for any interval and was later adjusted down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 was unexpected and public appeal for curtailments was dela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no systematic way to determine how much non LaaR load responded to price at either the ERCOT or the QS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ed multiple REPs, brokers, and consultants who shared similar responses for the lack of Price Responsive load participation on April 1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gnitude and duration of prices did not warrant the shut down of commercial fac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ctation that high prices would not “stic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 QSE/REPs have communication chains in place to quickly/effectively notify loa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believe that 100 – 500 MWs of non-LaaR load may have responded to 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906BC-E3EE-497C-91DE-88F36095DD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pril 17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MCP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06440" y="957240"/>
            <a:ext cx="8190000" cy="545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93D6-550E-4097-8B85-E5764CF2D2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mand Response Survey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4200" y="1074600"/>
            <a:ext cx="8575920" cy="51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has offered to administer a Demand Response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WG to finalize questions for the survey at next meeting (Sept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rom Market Participants will be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question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6880" indent="-30492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REPs currently offering price response programs? To which customer segments? If not, why no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6880" indent="-30492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what extend will the nodal market change Price Response programs that are in use today, or that might be envision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6880" indent="-30492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cost of IDR metering a significant barrier to price response programs? To which segments? Is it the same across all TDSPs or is it a bigger problem at some than at oth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6880" indent="-30492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ypes of incentives are required in order to entice a customer to formally disclose its plans to curtail at certain price levels to the market (as opposed to simply voluntarily or passively responding to price signals)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9A68A-0BD9-4052-A293-3B25D24A5C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y Anne Brelinksy</cp:lastModifiedBy>
  <dcterms:modified xsi:type="dcterms:W3CDTF">2006-08-15T20:14:24Z</dcterms:modified>
  <cp:revision>30</cp:revision>
  <dc:subject/>
  <dc:title>DSWG Update to WMS</dc:title>
</cp:coreProperties>
</file>