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F182-31D6-4B15-B88A-48F1B59FB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61AB-3DBE-4FEE-9404-0CD2EA269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A013-643C-4906-A8B1-B2B310803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1F04-7C8B-45AE-98F4-E05E4C0FB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9A37-7B8B-4B33-9C48-CB2A7550D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0D24-F3B7-4D58-9C12-F6D7E4CF0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0159-42D2-49E6-98A1-CFB9DC43B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9BEE-7F10-478E-9279-90F1E799E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D8FC-06D3-466A-8B07-A5BE0C6DB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CBE5-A7B9-4723-8182-AD6BC4CA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84BF-3726-4777-85AE-92ECD599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15BC-5A12-4FD4-ADD8-DEA1F024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563E6-263D-4833-96A3-1497AD223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pacity Cost Allocation Propos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09E5-DFC0-485C-A41D-E2B9B5EF34F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iven that Capacity is Procured in order to satisfy the following four basic drive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ad forecast Sigma B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l Cong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Bal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acity Insu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61CA-EC6F-491E-9404-5F097075E8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that ERCOT cannot breakdown the discrete cause/effect contributions of each of these driver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20EB-2F8D-4668-8A3B-0202E8974F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n let us assume that each of these drivers contributes equally towards the procurement of capacity; i.e.,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ach driver contributes 25% towards the procurement of next day capa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038D-A480-4146-85F0-0C8D5CB3F76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 one further assumes that drivers 1-3 produce costs that should logically be uplifted to the market, since they are for system reliability reasons, and that driver #4 is assignable to those QSEs that are short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0DB3-4641-4C53-AC65-6DA9E378514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n: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lternative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14400" y="1980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plift 75% of the total cost for capacity to the market on a load ratio share basis and the remaining 25% to those QSEs that are sh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4E00-0B0B-4E81-BD60-1C512CF976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: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lternative 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which assumes that STEP 1 is made up of all but driver 4 and that STEP 2 is made up of all but driver 2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06668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plift all of STEP 1 capacity costs (currently done) and 2/3  of STEP 2 costs while assigning the other 1/3 of STEP 2 costs to those QSEs that are sh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A1FA-8953-46C3-98AA-8A1EA1A3EF1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ither one of these alternatives uplifts the majority of the capacity costs but also charges “Short” QSEs and extra amount for “leaning on” next day capacity procureme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48B7-F908-424F-92BE-3714FE384F7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8:09:24Z</dcterms:created>
  <dc:creator>00056986</dc:creator>
  <dc:description/>
  <dc:language>en-US</dc:language>
  <cp:lastModifiedBy>00056986</cp:lastModifiedBy>
  <dcterms:modified xsi:type="dcterms:W3CDTF">2006-08-16T09:31:46Z</dcterms:modified>
  <cp:revision>9</cp:revision>
  <dc:subject/>
  <dc:title>Capacity Cost Allocation Proposal</dc:title>
</cp:coreProperties>
</file>