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7700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024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367160"/>
            <a:ext cx="559728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252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73252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ACD3-4285-4EC9-8428-EF1EE1557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0024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Initial Cond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Load Forecast 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= 489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URS + RRS 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= 20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Resource Plan Max 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= 555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Dispatchable Generation 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= 555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System Capacity Constraint   48940 + 2050 ≤ 55505   (Satisfied for rest of solu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Power Balance Constraint                 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           48940 = 4894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Step 1 Procurement (for transmission constraint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Step 1 Procurement 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= 933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Resource Plan Max 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= 564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Dispatchable Generation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= 48536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Power Balance Constraint         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          48536 &lt; 48940   (Not satisfied)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Step 2 Procurement (to meet load forecast and capacit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Step 2 Procurement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= 4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Resource Plan Max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= 568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Dispatchable Generation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= 489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Power Balance Constraint        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        48940 = 48940   (satisfi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469a2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Note: when compared to RPRS report online, this number seems 15 MW too large.  For this actual day, 15 MW of RPRS generation was deselected by the ERCO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o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1280-AEA6-4F28-8E95-090D58A6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4100-A25F-4BF8-A2A0-8CE91A9C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6B3F-5C64-43D3-8E7D-DDCB2E15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6737-B1DC-4826-A752-4A7538E6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37AD-2987-4581-A88F-274408CB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A454-4363-4C2C-B00F-CD28601A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987E-0DA9-43EE-BCF0-EA2C12B4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4FB1-5DEF-4E29-8C45-466E1396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BDBA-3755-4E66-81C9-530EFBE9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933-D3AD-4C02-BF3A-4D0B3DA6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99BD-5D5D-4F43-B359-42481171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C42-096F-491A-9CB1-6881B5E4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23FF-051F-4419-8308-C4324F8E3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S RPRS Task Force Status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d for WMS and P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09E8-6DD3-49F5-9AAD-0009CA9BC6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 PRRs Have Been Submitted, All of which address the Allocation of Excess F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R67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the uplift/assignment due to QSE short positions and uplifts all RPRS costs incurred on a load ratio share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R676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ys for RPRS with generic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s short QSEs up to twice the cost rate for RPRS procurement and then uplift the remainder on a load ratio share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67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s Excess Funds to QSEs relative to their “long”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562-13D0-4B26-A13F-AB318F4B50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 for PRR 67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encourage self-scheduling of next day capacity via accurate load and balanced sched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primary cost of RPRS is for reliability and security procurement reasons and not QSE “Shortness”; thus, most of the cost should be uplif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st proposal to implement (turns off Step 2 procurement and corresponding settlem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rve as a temporary solution until the allocation issues are assessed in greater det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A461-8B77-4F0B-AE86-E107A6C197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 for PRR6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s QSEs to self schedule generation capacity via accurate day-ahead load and balanced sched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more difficult to implement than PRR674, is easier to implement than PRR67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guarantee that corresponding Resource Plans match load schedules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lead to “long schedule” gaming in order to get Excess Fund pay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4903-7C3A-489B-9FD7-430A498317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 for PRR6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s a compromise position between the polar opposites 674 and 67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a method that is similar to what Nodal will use for RUC procur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paying for RPRS with generic costs instead of MCPC it diminishes market incentives for providing RP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difficult PRR to imp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9BF-DC11-4C71-8248-4DAC9397D8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and Next Step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4B1-930C-4538-A41E-1094DC07EE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Force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Effect of Load Forecast Sigma Bias and Power Balance on procurement of RP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amount of bias appropri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Power Balance create additional Bi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presence of n-2 criteria in this procur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unutilized capacity is on the syst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other ancillary services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e Allocation of Excess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3039-BA91-4CAB-9EED-092FA37B93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the Amount of Sigma Bias appropriat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ma Bias is based on historic peak hour error between day-ahead forecast and ac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has improved in the last two months and the amount of sigma bias has been reduced from 1800 MW to 1500 M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has been sufficient capacity committed even during record-breaking lo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s for less than half of RPRS procu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nsensus on appropriateness has been reached but the bias is recognized as an ERCOT derived reliability parameter in day-ahead pl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BBFF-C1B8-4F70-9201-2D5FE34505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 Bala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for NERC n-1 deliverability criteria  given a Resource Plan prof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s on more capacity until n-1 criteria is m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ccount for a significant amount of capacity procurement with most of the effect in Step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integral part of the RPRS engine that went into effect earlier this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to that, process was manually intense and not as complete with respect to n-1 compli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4DD-99E4-4C6C-B767-8BC7E04CA9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ion: June 20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Plan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 (for transmission constraints)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 Capacity insufficiency and Step 1 and 2 Power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Step 1 and 2 Capacity Proc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Capacity for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,940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,5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33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4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337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,842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B480-ECB1-4551-8A8F-E19867E3D9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2006  HE 1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838080"/>
            <a:ext cx="1981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49528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343400" y="152352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1828800"/>
            <a:ext cx="6858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1828800"/>
            <a:ext cx="685800" cy="3124080"/>
          </a:xfrm>
          <a:prstGeom prst="rect">
            <a:avLst/>
          </a:prstGeom>
          <a:solidFill>
            <a:srgbClr val="fcf8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541008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able Generation is available generation which is not limited by an n-1 transmission constra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541008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acity is the sum of HSL of all generation on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3276720"/>
            <a:ext cx="91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17524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,5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523880"/>
            <a:ext cx="68580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1447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,8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2971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,5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58672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17524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,5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4800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RS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15000" y="3048120"/>
            <a:ext cx="685800" cy="1904760"/>
          </a:xfrm>
          <a:prstGeom prst="rect">
            <a:avLst/>
          </a:prstGeom>
          <a:solidFill>
            <a:srgbClr val="fcf8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49528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49528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49528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49528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49528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00800" y="2666880"/>
            <a:ext cx="685800" cy="2286000"/>
          </a:xfrm>
          <a:prstGeom prst="rect">
            <a:avLst/>
          </a:prstGeom>
          <a:solidFill>
            <a:srgbClr val="fcf8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1676520"/>
            <a:ext cx="68580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495288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914400"/>
            <a:ext cx="228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-1 Dispatchable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114800" y="2514600"/>
            <a:ext cx="4724280" cy="520200"/>
            <a:chOff x="4114800" y="2514600"/>
            <a:chExt cx="4724280" cy="520200"/>
          </a:xfrm>
        </p:grpSpPr>
        <p:sp>
          <p:nvSpPr>
            <p:cNvPr id="86" name=""/>
            <p:cNvSpPr/>
            <p:nvPr/>
          </p:nvSpPr>
          <p:spPr>
            <a:xfrm>
              <a:off x="4114800" y="25909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8,9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14800" y="2666880"/>
              <a:ext cx="3124080" cy="0"/>
            </a:xfrm>
            <a:prstGeom prst="line">
              <a:avLst/>
            </a:prstGeom>
            <a:ln w="3240">
              <a:solidFill>
                <a:srgbClr val="8080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238880" y="251460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Balance Constra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-228600" y="1905120"/>
            <a:ext cx="5105520" cy="520200"/>
            <a:chOff x="-228600" y="1905120"/>
            <a:chExt cx="5105520" cy="520200"/>
          </a:xfrm>
        </p:grpSpPr>
        <p:sp>
          <p:nvSpPr>
            <p:cNvPr id="90" name=""/>
            <p:cNvSpPr/>
            <p:nvPr/>
          </p:nvSpPr>
          <p:spPr>
            <a:xfrm>
              <a:off x="3733920" y="21337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,9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47920" y="2209680"/>
              <a:ext cx="3047760" cy="0"/>
            </a:xfrm>
            <a:prstGeom prst="line">
              <a:avLst/>
            </a:prstGeom>
            <a:ln w="3240">
              <a:solidFill>
                <a:srgbClr val="8080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-228600" y="190512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pacity Constra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668-624B-4DF3-B563-32AD3EBC01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Other Ancillary Services to meet Sigma Bia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ma B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posal to use the non-spin reserve market for sigma bias has been offered by stakehol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is looking at this as an alternative day-ahead procur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issue: how does ERCOT know if offline reserve is being used to satisfy non-spin reserve service vs. satisfying RPRS or OOM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29B-3105-4773-90EC-E8923D0673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Other Ancillary Services to meet Power Bal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wer Balance logic is intertwined with the Step 1 and 2 RPRS en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nalysis is needed with respect to Power Balance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ecial task force or consulting services may be needed to perform this analysis due to the confidential nature of actual generator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38BF-A6E0-47CE-ADA9-096D16F64D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of Excess 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s have centered around what constitutes assignability of RPRS procur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rance for sigma bias and n-1 criteria (power balance) vs. QSE short-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- RPRS Task Force Status Summary - August 14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2E3D-E848-49BD-BD26-C162FD847A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3T20:39:42Z</dcterms:created>
  <dc:creator>00056986</dc:creator>
  <dc:description/>
  <dc:language>en-US</dc:language>
  <cp:lastModifiedBy>00056986</cp:lastModifiedBy>
  <dcterms:modified xsi:type="dcterms:W3CDTF">2006-08-14T20:41:50Z</dcterms:modified>
  <cp:revision>33</cp:revision>
  <dc:subject/>
  <dc:title>PRS RPRS Task Force Status Summary</dc:title>
</cp:coreProperties>
</file>