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C3685F-F56F-4B37-B2B1-AB690836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818C-645A-4CE6-9341-803197E0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B031-208A-454B-BD85-4E8221F3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DEB0-F835-4C87-AB32-4B6EC99B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B8B4-9D73-47C2-932A-C63810FE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2E6-29F8-459C-B689-76B98BA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E0EB-110B-4119-8A3A-50B5F2C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9BC5-C12F-4621-9206-9E7D38E5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D3A-6D07-4039-9BE6-07BE94BF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D768-66B8-400A-AC59-78C5DE5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ABC-56AD-417E-93D1-51353B4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3BC5-FDC9-4D14-B9E4-AB9F784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79A7-CBEC-4BD3-A85D-DCBA7BE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E0C-A8C3-45A7-A946-F99F457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839-C59B-406C-B4E3-7B8905D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8E1C-57E9-4B9E-B7ED-B2563CA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7BF8-A982-4D79-95C9-754E7794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58A4-95C4-48E4-817E-37D56358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AFA4-6E09-4BE5-B894-27D57F4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A9CA-4C5B-4586-A998-EBCE8F7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D190-656B-4938-B290-FE366F6C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004D-7492-4A3E-8F1C-3CFF4E9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CA4D-1DB3-48D7-BA7E-C8E529CE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F694-5C33-4A49-8CF5-0BB1FFD2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C346-F570-4D2C-9BC0-0C44823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ADE-669E-44D6-8378-F886BABD4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62B-A785-4FEC-8653-14727A883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MWG updat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1936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6 August,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7 CSC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assig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 discussion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7 CSC Analy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 on July 28 to review additional analysis performed by ERCOT Staff and discus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the South to Houston double circuit line based on the impact of the Hilje project; requested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zone cluster map for 5 C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the Northeast to North CSC; requested 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track congestion activity on this CSC and the CREs during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7 CSC Recommend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recommends that for 2007, the CSCs remain the same as 2006, except that the NE_N CSC (Farmersville-Royse double circuit) no longer be a CS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uture top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ated for September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ve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ation of generator outages in TCR cal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1:13:43Z</dcterms:created>
  <dc:creator>ercot/if</dc:creator>
  <dc:description/>
  <dc:language>en-US</dc:language>
  <cp:lastModifiedBy>ercot/if</cp:lastModifiedBy>
  <dcterms:modified xsi:type="dcterms:W3CDTF">2006-08-10T16:47:21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