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FC1F-097A-4349-A28E-9C07B9E7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ADB0-FD80-4BCD-A19E-6248602F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B4B3-DDC0-4567-B188-CC4CA92C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EC67-3E55-462E-96F5-DDD638B3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798-FBAB-4B8D-9DC3-0D57FD04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5B75-F45F-47B9-9905-3C85E84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828E-C11D-43F6-94F3-9201CA5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888E-D02E-421D-927A-8327694A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2A8A-1386-4180-8397-4FF802F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9E98-7F94-463B-B150-BDAB56CE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0CF8-F75F-4B84-846C-D08A727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8E4D-16AD-4CA2-85DE-4B8AB74E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9C6-4270-4BF3-9F03-5646C01F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0120-5494-4A79-B3D0-0F2CD53B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04FE-D8A7-4931-8C03-90C09055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BB26-B648-4273-ACD0-38A64C14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2343-502A-4159-B8D2-EDE05C22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2EA0-4157-44BA-BEBB-22801440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2F46-DE74-4EA5-83D8-9CA1494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A881-2D85-4078-B3FC-3B21B806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66D7-8573-4066-B226-9780177E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2876-6544-49CC-9BC9-CC00441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E186-CF44-4383-9BD3-BED4E6D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1FA5-1744-4D62-9E0C-46C0D84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904-6C4B-4E53-81BC-AD9838777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4A9D-680C-442D-A676-5ED8D097219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514-124B-4B5B-B02D-8D1907B3CDA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56E-1A0D-4BEF-99A8-95431B46B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2763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MS Meeting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3840" y="63244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5040" y="96372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666 Implementation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A403-05A1-4DB2-AA1B-97DDF1A350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E543B6-1A36-4B17-A615-39BEFA8283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PRS Under Scheduled Capa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6600" y="2286000"/>
                <a:ext cx="90774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q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P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h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q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in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q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q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-53352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7200" y="4800600"/>
                <a:ext cx="3529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cros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h</m:t>
                                    </m:r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MS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i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1920" y="5943600"/>
                <a:ext cx="8812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S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R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OS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R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S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R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OS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R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-2286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5524560" y="2171520"/>
            <a:ext cx="380880" cy="2590560"/>
          </a:xfrm>
          <a:custGeom>
            <a:avLst/>
            <a:gdLst>
              <a:gd name="textAreaLeft" fmla="*/ 0 w 380880"/>
              <a:gd name="textAreaRight" fmla="*/ 137520 w 3808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8000640" y="2819160"/>
            <a:ext cx="381240" cy="1447920"/>
          </a:xfrm>
          <a:custGeom>
            <a:avLst/>
            <a:gdLst>
              <a:gd name="textAreaLeft" fmla="*/ 0 w 381240"/>
              <a:gd name="textAreaRight" fmla="*/ 13752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038480"/>
            <a:ext cx="11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et 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70000" y="39625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s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AB5F-0AB2-4D39-BD3C-83D83B82B3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7AC9E0-4AEA-4910-A496-6BAB4CAF81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Load Position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447920"/>
          <a:ext cx="8229600" cy="4674960"/>
        </p:xfrm>
        <a:graphic>
          <a:graphicData uri="http://schemas.openxmlformats.org/drawingml/2006/table">
            <a:tbl>
              <a:tblPr/>
              <a:tblGrid>
                <a:gridCol w="1395360"/>
                <a:gridCol w="1662120"/>
                <a:gridCol w="2073240"/>
                <a:gridCol w="1395360"/>
                <a:gridCol w="1703520"/>
              </a:tblGrid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4108-2840-42E0-8547-FE455D72A52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410CE9-7E5E-4382-AE32-24E64C1EB7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Load Position Calc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Value for the H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3124080"/>
          <a:ext cx="8229600" cy="1368720"/>
        </p:xfrm>
        <a:graphic>
          <a:graphicData uri="http://schemas.openxmlformats.org/drawingml/2006/table">
            <a:tbl>
              <a:tblPr/>
              <a:tblGrid>
                <a:gridCol w="1395360"/>
                <a:gridCol w="1662120"/>
                <a:gridCol w="2073240"/>
                <a:gridCol w="1395360"/>
                <a:gridCol w="170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(MW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BFB2-B773-44E2-B54A-1671BDEC205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971BB-1F7A-432C-BDB9-829400E63D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matches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5840" y="27036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Excel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4860-C58F-471D-82D5-B5876C3212A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3A43F9-F2FD-4B90-B512-887C4D972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3:08:18Z</dcterms:created>
  <dc:creator>igonzalez</dc:creator>
  <dc:description/>
  <dc:language>en-US</dc:language>
  <cp:lastModifiedBy>igonzalez</cp:lastModifiedBy>
  <dcterms:modified xsi:type="dcterms:W3CDTF">2006-08-10T18:11:46Z</dcterms:modified>
  <cp:revision>10</cp:revision>
  <dc:subject/>
  <dc:title>WMS Meeting August 2006 </dc:title>
</cp:coreProperties>
</file>