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65A-6F91-4BF3-89FC-7EE33EB4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CF7-0BCD-4C78-9589-825AD404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CEE-41DD-4542-AC43-2647F3F1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12B-8352-4E08-ABA7-E0F29FB4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1299-5754-4D35-91BE-529AB496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B429-AC67-43C3-851D-0E18E467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9227-917F-4437-9A5E-AACAE457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9149-44A8-41CB-8687-3B3EDB80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F0E3-AE1D-4CFF-AFBA-83F7864E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D659-CDBA-4E3C-BC8D-D36D2E76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B2FC-7B16-41D5-B6FA-5F6D45AE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6DD-F510-47B0-B094-010C657C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F807-7202-411F-A7F6-309C694D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AABC-1EB1-4D04-83D8-52AB3DE9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33FC-E804-4717-A03F-527344C6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5E8A-6533-4B6B-81C6-8D318932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86FC-D3D5-439A-BF7D-B6C06FE3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AFD-A4FE-48CD-BB70-AAAAE6E3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68D-4C84-47D8-AB81-F3E7EA69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E68-0E27-4E4A-A9D1-14AFBB0C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A92-6DC0-415F-9535-DA3B9BF8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B872-913F-45C6-ABC0-2933FF95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73E-3A1B-4957-857B-11778EA8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5ACE-A35F-4D70-9087-31BDC58D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A837-DDB4-49E6-9855-3BEBA34A6F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85F1-44B3-4D49-8174-226FB661DE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CR 747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 August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by Young 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R 747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ed for implementation by ERCOT board on 12/13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PR-60080_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MMS 3.6 Upg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e Separation of MCE and U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R 74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scheduled for implementation in production October 200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R 747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of SCR 7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current price administration logic to not have SPD post process solution results when no solution is available to solve zonal conges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ly, price administration sets zonal MCPE to marginal price of each zone (cost of last Mw cleared in that zon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logic will allow the shadow price cap of $2500 to set prices across z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R 747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changes to penalty factors to allow implementation of SCR 7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ly:  Shadow Price penalty factor set to $2500.00, and BES ramp rate penalty factor set to $1001.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ed:  To ensure SPD will not violate BES ramp rate constraint (which would produce unwanted price administration results), ERCOT plans to increase the BES ramp rate penalty factor to $1400.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R 747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changes continu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ew penalty factor is suggested based on historical maximum zonal shift factor differenti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.  OC1 SP Pf = $2500.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urrent:  1001/.411 = $2435.5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posed:  1400/.411 = $3406.3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increasing the BES Ramp Rate Penalty Factor to 1400, we preclude SPD from violating this constraint before the OC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R 747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9:45:36Z</dcterms:created>
  <dc:creator>jfirestone</dc:creator>
  <dc:description/>
  <dc:language>en-US</dc:language>
  <cp:lastModifiedBy>jfirestone</cp:lastModifiedBy>
  <dcterms:modified xsi:type="dcterms:W3CDTF">2006-08-08T20:08:32Z</dcterms:modified>
  <cp:revision>3</cp:revision>
  <dc:subject/>
  <dc:title>SCR 747</dc:title>
</cp:coreProperties>
</file>