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97700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2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3600" y="-360"/>
            <a:ext cx="3032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00240" y="689040"/>
            <a:ext cx="45972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367160"/>
            <a:ext cx="559728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32520"/>
            <a:ext cx="3032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3600" y="8732520"/>
            <a:ext cx="3032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466D2-2EC6-4A41-93B2-1BD0CCD6B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20024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00200" y="4368600"/>
            <a:ext cx="559728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Initial Cond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Load Forecast 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= 489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URS + RRS 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= 20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Resource Plan Max 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= 555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Dispatchable Generation 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= 555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System Capacity Constraint   48940 + 2050 ≤ 55505   (Satisfied for rest of solu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Power Balance Constraint                 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           48940 = 48940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Step 1 Procurement (for transmission constraint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Step 1 Procurement 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= 933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Resource Plan Max 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= 564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Dispatchable Generation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= 48536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Power Balance Constraint         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          48536 &lt; 48940   (Not satisfied)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Step 2 Procurement (to meet load forecast and capacit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Step 2 Procurement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= 4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Resource Plan Max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= 568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Dispatchable Generation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= 489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Power Balance Constraint        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        48940 = 48940   (satisfi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 Note: when compared to RPRS report online, this number seems 15 MW too large.  For this actual day, 15 MW of RPRS generation was deselected by the ERCO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rato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4753-AFFB-45E5-BF9A-D3FD8E9E2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8526-D114-43E8-A65E-F4142AA5B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38AF-B90C-42E1-A7C8-2B75E2149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5F9F-4FF4-4821-B4CD-DD04B22ED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84A4-47DB-4C59-80AC-00ED16854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EDFA-8568-4E48-BEB7-0A9729DEB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9694-4EC9-4FD8-8ABB-3EB585E64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07ED-39AA-40D5-9E52-747E8EC46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7986-8FE0-44E3-B34B-4721873FA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B10B-2BB3-4E24-95F0-A9BBEC65C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6DDE-F6D4-41D7-89FD-9A45A621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1B0B-E9AA-4B27-ADC4-964DDEFC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F46A3-CFD3-4946-9FCF-44C809E8A4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S RPRS Task Force Status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d for WMS and P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ust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S - RPRS Task Force Status Summary - August 14,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8E42-B529-4504-BC19-272A5A01192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ree PRRs Have Been Submitted, All of which address the Allocation of Excess F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R674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s the uplift/assignment due to QSE short positions and uplifts all RPRS costs incurred on a load ratio share ba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R676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ys for RPRS with generic c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s short QSEs up to twice the cost rate for RPRS procurement and then uplift the remainder on a load ratio share ba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R678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cates Excess Funds to QSEs relative to their “long” pos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S - RPRS Task Force Status Summary - August 14,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699A-1AFF-4C85-8C33-C90807D0F96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s/Cons for PRR 67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not encourage self-scheduling of next day capacity via accurate load and balanced sched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s primary cost of RPRS is for reliability and security procurement reasons and not QSE “Shortness”; thus, most of the cost should be uplif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iest proposal to implement (turns off Step 2 procurement and corresponding settlemen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serve as a temporary solution until the allocation issues are assessed in greater deta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S - RPRS Task Force Status Summary - August 14, 2006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5893-1AC9-42EC-8223-CAFE4584939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s/Cons for PRR67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urages QSEs to self schedule generation capacity via accurate day-ahead load and balanced sched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hough more difficult to implement than PRR674, is easier to implement than PRR67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guarantee that corresponding Resource Plans match load schedules provi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lead to “long schedule” gaming in order to get Excess Fund pay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S - RPRS Task Force Status Summary - August 14, 2006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96D8-56B6-431E-98FE-3F4C9E254DB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s/Cons for PRR67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ers a compromise position between the polar opposites 674 and 67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a method that is similar to what Nodal will use for RUC procur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paying for RPRS with generic costs instead of MCPC it diminishes market incentives for providing RP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difficult PRR to impl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S - RPRS Task Force Status Summary - August 14, 2006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F364-ACFE-4E31-9FC4-8D5947F57CE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 and Next Step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S - RPRS Task Force Status Summary - August 14,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BDFF-E028-47F9-A428-03C0B3E072D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sk Force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Effect of Load Forecast Sigma Bias and Power Balance on procurement of RP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amount of bias appropria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the Power Balance create additional Bi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re a presence of n-2 criteria in this procure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unutilized capacity is on the syst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other ancillary services be u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lve Allocation of Excess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S - RPRS Task Force Status Summary - August 14,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BF9C-C526-431B-87F1-E6CD21CBBF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 the Amount of Sigma Bias appropriate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ma Bias is based on historic peak hour error between day-ahead forecast and act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or has improved in the last two months and the amount of sigma bias has been reduced from 1800 MW to 1500 M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has been sufficient capacity committed even during record-breaking loa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unts for less than half of RPRS procur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nsensus on appropriateness has been reached but the bias is recognized as an ERCOT derived reliability parameter in day-ahead pla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S - RPRS Task Force Status Summary - August 14,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5756-BDA3-45D5-81DE-CEC6BB6E19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 Balanc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for NERC n-1 deliverability criteria  given a Resource Plan profi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s on more capacity until n-1 criteria is m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account for a significant amount of capacity procurement with most of the effect in Step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n integral part of the RPRS engine that went into effect earlier this y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 to that, process was manually intense and not as complete with respect to n-1 compli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S - RPRS Task Force Status Summary - August 14,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993A-EAFE-4314-8717-DC4A436A9E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ion: June 20,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 Plan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1 (for transmission constraints) Proc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2 Capacity insufficiency and Step 1 and 2 Power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Step 1 and 2 Capacity Procu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Capacity for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8,940 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5,5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33 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4 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337 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6,842 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S - RPRS Task Force Status Summary - August 14, 2006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14B6-9112-47AE-80CF-DC436C390A4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ne 2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2006  HE 1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838080"/>
            <a:ext cx="1981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aci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4952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4343400" y="1523520"/>
            <a:ext cx="0" cy="441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1828800"/>
            <a:ext cx="6858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29200" y="1828800"/>
            <a:ext cx="685800" cy="3124080"/>
          </a:xfrm>
          <a:prstGeom prst="rect">
            <a:avLst/>
          </a:prstGeom>
          <a:solidFill>
            <a:srgbClr val="fcf8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95680" y="5410080"/>
            <a:ext cx="3124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able Generation is available generation which is not limited by an n-1 transmission constra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28800" y="5410080"/>
            <a:ext cx="1828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acity is the sum of HSL of all generation on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705720" y="3276720"/>
            <a:ext cx="914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05320" y="17524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,5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8120" y="1523880"/>
            <a:ext cx="685800" cy="34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05320" y="14479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6,8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29718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8,5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58672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114800" y="17524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,5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162920" y="48006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PRS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715000" y="3048120"/>
            <a:ext cx="685800" cy="1904760"/>
          </a:xfrm>
          <a:prstGeom prst="rect">
            <a:avLst/>
          </a:prstGeom>
          <a:solidFill>
            <a:srgbClr val="fcf8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00200" y="49528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952880" y="495288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71800" y="49528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562720" y="49528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49528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400800" y="2666880"/>
            <a:ext cx="685800" cy="2286000"/>
          </a:xfrm>
          <a:prstGeom prst="rect">
            <a:avLst/>
          </a:prstGeom>
          <a:solidFill>
            <a:srgbClr val="fcf8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362320" y="1676520"/>
            <a:ext cx="685800" cy="32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09680" y="495288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029200" y="914400"/>
            <a:ext cx="2286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-1 Dispatchable Gener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4114800" y="2514600"/>
            <a:ext cx="4724280" cy="520200"/>
            <a:chOff x="4114800" y="2514600"/>
            <a:chExt cx="4724280" cy="520200"/>
          </a:xfrm>
        </p:grpSpPr>
        <p:sp>
          <p:nvSpPr>
            <p:cNvPr id="86" name=""/>
            <p:cNvSpPr/>
            <p:nvPr/>
          </p:nvSpPr>
          <p:spPr>
            <a:xfrm>
              <a:off x="4114800" y="2590920"/>
              <a:ext cx="114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8,94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14800" y="2666880"/>
              <a:ext cx="3124080" cy="0"/>
            </a:xfrm>
            <a:prstGeom prst="line">
              <a:avLst/>
            </a:prstGeom>
            <a:ln w="3240">
              <a:solidFill>
                <a:srgbClr val="80808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238880" y="2514600"/>
              <a:ext cx="1600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wer Balance Constrai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-228600" y="1905120"/>
            <a:ext cx="5105520" cy="520200"/>
            <a:chOff x="-228600" y="1905120"/>
            <a:chExt cx="5105520" cy="520200"/>
          </a:xfrm>
        </p:grpSpPr>
        <p:sp>
          <p:nvSpPr>
            <p:cNvPr id="90" name=""/>
            <p:cNvSpPr/>
            <p:nvPr/>
          </p:nvSpPr>
          <p:spPr>
            <a:xfrm>
              <a:off x="3733920" y="2133720"/>
              <a:ext cx="114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0,99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447920" y="2209680"/>
              <a:ext cx="3047760" cy="0"/>
            </a:xfrm>
            <a:prstGeom prst="line">
              <a:avLst/>
            </a:prstGeom>
            <a:ln w="3240">
              <a:solidFill>
                <a:srgbClr val="80808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-228600" y="1905120"/>
              <a:ext cx="1600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pacity Constrai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S - RPRS Task Force Status Summary - August 14,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2E7B-575A-4B96-A4EB-576A0F25C0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of Other Ancillary Services to meet Sigma Bia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ma Bi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posal to use the non-spin reserve market for sigma bias has been offered by stakehol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 is looking at this as an alternative day-ahead procur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key issue: how does ERCOT know if offline reserve is being used to satisfy non-spin reserve service vs. satisfying RPRS or OOM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S - RPRS Task Force Status Summary - August 14,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C348-C526-4BAD-A64E-5B3FA019891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of Other Ancillary Services to meet Power Bala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wer Balance logic is intertwined with the Step 1 and 2 RPRS eng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analysis is needed with respect to Power Balance resul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pecial task force or consulting services may be needed to perform this analysis due to the confidential nature of actual generator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S - RPRS Task Force Status Summary - August 14,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AD3D-01FE-42DD-9093-C876591AA6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ocation of Excess F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ions have centered around what constitutes assignability of RPRS procure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urance for sigma bias and n-1 criteria (power balance) vs. QSE short-schedu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S - RPRS Task Force Status Summary - August 14,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9472-5459-428D-B00B-8D9750DCF0A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3T20:39:42Z</dcterms:created>
  <dc:creator>00056986</dc:creator>
  <dc:description/>
  <dc:language>en-US</dc:language>
  <cp:lastModifiedBy>00056986</cp:lastModifiedBy>
  <dcterms:modified xsi:type="dcterms:W3CDTF">2006-08-14T20:41:50Z</dcterms:modified>
  <cp:revision>33</cp:revision>
  <dc:subject/>
  <dc:title>PRS RPRS Task Force Status Summary</dc:title>
</cp:coreProperties>
</file>