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A7DB-1B3D-499A-B289-E365ACEF3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CBA9-FA1D-486F-9D52-830B39665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DE23-EB48-4EDF-886E-9CED5AF88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5B87-3F16-44B9-AA83-283F3B421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7B70-E341-4B26-AC9A-DAFF19C9E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EB61-C5E9-4374-AE7D-2C12279FA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FD9C-F3A8-42C5-B5A6-35A4EB823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3000-4B1B-4CF0-9E0C-8F68A86A2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C02F-E042-43D2-8E1B-A8C266181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55BD-3ACF-47BC-9C8C-C54A3C147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7566-CAAE-4660-B7AE-5FB407EEE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541B-B556-4ED7-9278-8BC95D8DB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238560" y="6374880"/>
            <a:ext cx="59054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COT Publ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021DDBA9-666F-4806-AA4D-984817F018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680" y="223812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– CART Projec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09680" y="3048120"/>
            <a:ext cx="577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Revision Subcommittee               Update   08/17/20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O Projects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41200" y="990720"/>
          <a:ext cx="8508960" cy="4665600"/>
        </p:xfrm>
        <a:graphic>
          <a:graphicData uri="http://schemas.openxmlformats.org/drawingml/2006/table">
            <a:tbl>
              <a:tblPr/>
              <a:tblGrid>
                <a:gridCol w="8508960"/>
              </a:tblGrid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Document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Lawson - Time Trac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hysical Security Project #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CyberSecurity Project #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CyberSecurity Project #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Collateral Calc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CyberSecurity Project #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CyberSecurity Project #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CyberSecurity Project #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CyberSecurity Project #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CyberSecurity Project #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Vendor and Contract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Lawson - Process F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Lawson 8.1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Single Time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23720" y="5850000"/>
            <a:ext cx="275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Completed or near comple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9200" y="605304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ew or Not Sta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440" y="6299280"/>
            <a:ext cx="25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66ff"/>
                </a:solidFill>
                <a:latin typeface="Arial"/>
              </a:rPr>
              <a:t>Active (at least in Ini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4B5F-CD13-4241-B4FA-9A9D8060A6F1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8964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5f5d"/>
                </a:solidFill>
                <a:latin typeface="Arial"/>
              </a:rPr>
              <a:t>Completed or Near Completion</a:t>
            </a:r>
            <a:endParaRPr b="0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1960" y="1231920"/>
          <a:ext cx="8242560" cy="2581200"/>
        </p:xfrm>
        <a:graphic>
          <a:graphicData uri="http://schemas.openxmlformats.org/drawingml/2006/table">
            <a:tbl>
              <a:tblPr/>
              <a:tblGrid>
                <a:gridCol w="8242560"/>
              </a:tblGrid>
              <a:tr h="85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Document Management                                                                     $500k - $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99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Implement a Document Management solution, beginning with Legal Depar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99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calable across the enterpr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99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Went live in Ju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Lawson - Time Tracking                                                                     $100k - $5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99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Implemented time tracking for all employees in Laws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99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Completed Janu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Physical Security Project #1                                                              $100k - $5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CyberSecurity Project #1                                                                   $500k - $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4C4E-394A-4F8C-9BCC-A4CD11026F57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Active (at least in Initiation)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4160" y="901800"/>
          <a:ext cx="8597880" cy="3932280"/>
        </p:xfrm>
        <a:graphic>
          <a:graphicData uri="http://schemas.openxmlformats.org/drawingml/2006/table">
            <a:tbl>
              <a:tblPr/>
              <a:tblGrid>
                <a:gridCol w="8597880"/>
              </a:tblGrid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CyberSecurity Project #2                                                                  $ 100k - $5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Collateral Calculation                                                                        $100k - $5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996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Develop an automated credit monitoring and collateral calculation tool with reporting capabi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996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Currently in Execution – projected completion is Septe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CyberSecurity Project #</a:t>
                      </a: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3                                                                  $500k - $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CyberSecurity Project #</a:t>
                      </a: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4                                                                  </a:t>
                      </a: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$100k - $5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CyberSecurity Project #</a:t>
                      </a: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5                                                                  </a:t>
                      </a: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$100k - $5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CyberSecurity Project #6                                                                  </a:t>
                      </a: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$500k - $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748C-C910-4CDC-8FA2-DB0ED76892C8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Active (at least in Initiation)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4160" y="901800"/>
          <a:ext cx="8597880" cy="3649680"/>
        </p:xfrm>
        <a:graphic>
          <a:graphicData uri="http://schemas.openxmlformats.org/drawingml/2006/table">
            <a:tbl>
              <a:tblPr/>
              <a:tblGrid>
                <a:gridCol w="859788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CyberSecurity Project #7                                                                  </a:t>
                      </a: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$100k - 5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Vendor and Contract Management                                                  $100k - $5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996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Provide a database that will track and report vendors, contracts, and on-site consultants, to facilitate the enforcement of policies, procedures and financial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996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Currently in Execution – projected completion is Septe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Lawson - Process Flow                                                                      </a:t>
                      </a: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$100k - $5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996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Enforce compliance and streamline several key business processes at ERCOT in the areas of Procurement, Finance, and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996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Currently in Execution – projected completion is Octo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Lawson 8.1 Upgrade                                                                           $100k - $5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996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Upgrade current Lawson application suite to 9.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996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Currently in Ini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Single Time Entry                                                                               &lt; </a:t>
                      </a: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$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996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Implement functionality in Lawson to enter project actual ti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9966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Currently in Ini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B477-E461-475F-956C-2500B6F8433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New or Not Started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FA73-F699-4CD2-B0BA-F68FF9C2D21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11680"/>
            <a:ext cx="7175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Integration &amp; Resource Constraints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ly projected to need additional funds for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26C4-9EC2-4157-8452-DF5256876916}" type="slidenum">
              <a:t>7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/>
  <dc:description/>
  <dc:language>en-US</dc:language>
  <cp:lastModifiedBy>tanderson</cp:lastModifiedBy>
  <dcterms:modified xsi:type="dcterms:W3CDTF">2006-08-11T15:42:12Z</dcterms:modified>
  <cp:revision>196</cp:revision>
  <dc:subject/>
  <dc:title>Project Management Process Work-Group-B Meeting</dc:title>
</cp:coreProperties>
</file>