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0615-7729-49DC-B7E0-DAB0F9E38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CE59-ED7D-4B28-857D-ED258221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6B23-1F4D-4A4A-8281-074ABB53E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1B86-2D31-4E45-A92B-3DFB03AEE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E0D8-FBAB-4C42-9AF8-D05268412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854D-97C5-487A-A054-9DB58694E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924D-205F-4D70-90EC-4BFCC825F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3654-9FD8-4A25-894D-71D2EAC0C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6A95-1069-48FD-88C6-EBD6AEF51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B9E3-1382-412B-AD34-9D8D789A3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BDF4-EF56-47FF-A25D-6264F055A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BED7-CE0E-4571-A19E-FC6C1161D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F55-F93E-4165-BEBF-1DF2A5F1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7,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Status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Implementation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 – SCR738 – MarkeTrak (FasTrak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 scheduled for 8/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ed implementation date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Project Ini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 - PRR666 – Modification of RPRS Under-Scheduled Capacity Charg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Placed On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– PRR601 – 15 Minute Ramping for BES and Base Pow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re resourc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and MO PRR activities are presenting a risk to Nodal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B1B9-C479-4EA6-9E87-5C150AF9E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P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 with 2007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rging 2006 PPL with 2007 PP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consolidated view of the project 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s acceleration of specific projects into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PRR66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 PPL po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d August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be updated week of August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00"/>
              </a:spcBef>
              <a:buNone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tion of Combined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administrative 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499"/>
              </a:spcBef>
              <a:buNone/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A396-8CCA-4829-9C94-6812CC65A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1800" y="914400"/>
            <a:ext cx="1218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P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1800" y="1523880"/>
            <a:ext cx="1218960" cy="3003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Carryo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59200" y="2514600"/>
            <a:ext cx="1218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P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9200" y="2819520"/>
            <a:ext cx="1218960" cy="365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Carryo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8160" y="5181480"/>
            <a:ext cx="1079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076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914400"/>
            <a:ext cx="30481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ged P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1600200"/>
            <a:ext cx="1219320" cy="4829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Projects That Will Complete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 Carryov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20760" y="2133720"/>
            <a:ext cx="8510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18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8160" y="3505320"/>
            <a:ext cx="1079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600200"/>
            <a:ext cx="609480" cy="4848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1600200"/>
            <a:ext cx="609480" cy="484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1600200"/>
            <a:ext cx="609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6 Bud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1600200"/>
            <a:ext cx="609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7 Bud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600200"/>
            <a:ext cx="609840" cy="484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-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-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1600200"/>
            <a:ext cx="60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ority 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PL 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C33E-3331-4C10-8FE7-69819ABE95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07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Monthly Proje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95280"/>
            <a:ext cx="868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mproved understanding of ERCOT project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nthly PRS agenda item for a brief overview from one of the five ERCOT Progra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Program Are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ste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ail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ke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Jul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u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porat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354F-0DA3-46FC-A510-5B0F6EEB4D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8-11T18:03:47Z</dcterms:modified>
  <cp:revision>168</cp:revision>
  <dc:subject/>
  <dc:title>Slide 1</dc:title>
</cp:coreProperties>
</file>