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500E4-9C21-447F-A281-4E80BFF85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5A180-B8EE-485D-A5C1-E5E531A9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00240-86ED-4AAE-A523-99C721C13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69D20-BA88-4D5A-9954-1979CB321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E1F45-264F-40D4-BF36-C9C2C30B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84C2A-8403-4075-BA66-F316F103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6E96B-DCDA-4EDE-BA21-844108FE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8F5B3-27BD-4991-BE6A-CECDEADF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F4D69-E994-4761-A14A-26697DFD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422C2-D8D9-491A-AB5D-05C21A33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B2354-89A8-4AF2-8B40-753D0E3A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204D8-D544-4C17-AF2F-F438BD11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9AFE-A90B-47C9-A5B1-6318E6169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il Market Sub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gust 9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gust 9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160" y="5067360"/>
            <a:ext cx="60483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ail Market Subcommitte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amartinez@ercot.co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2392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Retail Business Processes (RBP)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Project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 Sub-project of the Service Oriented Architecture (SOA) Initiativ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Oriented Architecture (SOA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 is to deliver a technology and framework that allows business to optimize their business processes through better orchestration, management and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current SeeBeyond components with TIB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 sufficient TIBCO licensing footprint to support future imple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 Service Oriented Architecture (SO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A Sub-projec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28600" y="762120"/>
          <a:ext cx="8686800" cy="5332320"/>
        </p:xfrm>
        <a:graphic>
          <a:graphicData uri="http://schemas.openxmlformats.org/drawingml/2006/table">
            <a:tbl>
              <a:tblPr/>
              <a:tblGrid>
                <a:gridCol w="990720"/>
                <a:gridCol w="1752480"/>
                <a:gridCol w="4191120"/>
                <a:gridCol w="17524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 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on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/Clo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121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vice Oriented Architec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ent project – TIBCO software purchase; SOA sub-project definition/delivery strategy; SOA methodology approach, standards, template docu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until all sub-project are closed; deliverable 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121-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BCO Haw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lementation of TIBCO production monitoring softw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121-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 Information Distribution (MI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lacement of SeeBeyond integration and RMC component within Report Explorer function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121-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mework Services (F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ivery of key underlying TIBCO framework components to support business proces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121-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inuous Service Agreement (CS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lacement of SeeBeyond components contained within the CSA business process to support TX SET 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121_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dpoint Services, Phase 1 (ES, Ph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lacement of first sets of existing SeeBeyond point-to-point integration between applications that reside outside of a business pro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121_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tail Business Processes (RB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319040"/>
                          <a:tab algn="l" pos="2176560"/>
                          <a:tab algn="l" pos="2571840"/>
                          <a:tab algn="l" pos="3429000"/>
                          <a:tab algn="l" pos="4286160"/>
                          <a:tab algn="l" pos="5143680"/>
                          <a:tab algn="l" pos="6000840"/>
                          <a:tab algn="l" pos="6858000"/>
                          <a:tab algn="l" pos="7715160"/>
                          <a:tab algn="l" pos="8572680"/>
                          <a:tab algn="l" pos="9429840"/>
                          <a:tab algn="l" pos="10287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lacement of SeeBeyond components contained within the following business proces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09760" indent="-100080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1319040"/>
                          <a:tab algn="l" pos="2176560"/>
                          <a:tab algn="l" pos="2571840"/>
                          <a:tab algn="l" pos="3429000"/>
                          <a:tab algn="l" pos="4286160"/>
                          <a:tab algn="l" pos="5143680"/>
                          <a:tab algn="l" pos="6000840"/>
                          <a:tab algn="l" pos="6858000"/>
                          <a:tab algn="l" pos="7715160"/>
                          <a:tab algn="l" pos="8572680"/>
                          <a:tab algn="l" pos="9429840"/>
                          <a:tab algn="l" pos="10287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MVO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ME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09760" indent="-100080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1319040"/>
                          <a:tab algn="l" pos="2176560"/>
                          <a:tab algn="l" pos="2571840"/>
                          <a:tab algn="l" pos="3429000"/>
                          <a:tab algn="l" pos="4286160"/>
                          <a:tab algn="l" pos="5143680"/>
                          <a:tab algn="l" pos="6000840"/>
                          <a:tab algn="l" pos="6858000"/>
                          <a:tab algn="l" pos="7715160"/>
                          <a:tab algn="l" pos="8572680"/>
                          <a:tab algn="l" pos="9429840"/>
                          <a:tab algn="l" pos="10287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CSA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09760" indent="-100080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1319040"/>
                          <a:tab algn="l" pos="2176560"/>
                          <a:tab algn="l" pos="2571840"/>
                          <a:tab algn="l" pos="3429000"/>
                          <a:tab algn="l" pos="4286160"/>
                          <a:tab algn="l" pos="5143680"/>
                          <a:tab algn="l" pos="6000840"/>
                          <a:tab algn="l" pos="6858000"/>
                          <a:tab algn="l" pos="7715160"/>
                          <a:tab algn="l" pos="8572680"/>
                          <a:tab algn="l" pos="9429840"/>
                          <a:tab algn="l" pos="10287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, scheduled for Late Q4 p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121_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point Services, Phase 2 (ES, Ph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lacement of last sets of existing SeeBeyond point-to-point integration between applications that reside outside of a business pro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, scheduled for Late Q4 production with RB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tail Business Process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us – Active, in Exec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 project, Priority 1.0a, Rank .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onsor/Owners – Giuliani / Day &amp; Gru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Oversight / Management– Martinez / Satterfield (P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Business – RCC, CODIA, MO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Support – Dev, Release Mgmt, Prod Support, Tech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Activ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of core components (transaction services)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ed migration of core components to iTest this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d to begin ERCOT UAT of core components next week to run through November time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core components, (reprocessing &amp; monitoring) development to complete in upcoming weeks with UAT to fo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approach used for like projects touching same functions (i.e., TX SET relea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tail Business Process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ing Consid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 Build-out project delivered test environment more like production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 period currently planned for up to 12-week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testing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veraging manual and automated scri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to other UAT – do results match expected outcom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testing performance / st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copy of produc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– is there any degradation to current processing tim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– are production volumes in dang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bility – do processes run for extended period without interrup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ill communicate status of testing efforts to Market via regular notices from Client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BP Timelin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066680"/>
          <a:ext cx="8229600" cy="41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6680"/>
                    <a:ext cx="8229600" cy="41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4038480" y="5181480"/>
            <a:ext cx="1219320" cy="457200"/>
          </a:xfrm>
          <a:prstGeom prst="borderCallout1">
            <a:avLst>
              <a:gd name="adj1" fmla="val 18750"/>
              <a:gd name="adj2" fmla="val -8333"/>
              <a:gd name="adj3" fmla="val -365625"/>
              <a:gd name="adj4" fmla="val 213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X SET 3.0 Develop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895480" y="3200400"/>
            <a:ext cx="2438640" cy="1523880"/>
            <a:chOff x="2895480" y="3200400"/>
            <a:chExt cx="2438640" cy="1523880"/>
          </a:xfrm>
        </p:grpSpPr>
        <p:sp>
          <p:nvSpPr>
            <p:cNvPr id="104" name=""/>
            <p:cNvSpPr/>
            <p:nvPr/>
          </p:nvSpPr>
          <p:spPr>
            <a:xfrm>
              <a:off x="5029200" y="3200400"/>
              <a:ext cx="304920" cy="30492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95480" y="4267080"/>
              <a:ext cx="1219320" cy="457200"/>
            </a:xfrm>
            <a:prstGeom prst="borderCallout1">
              <a:avLst>
                <a:gd name="adj1" fmla="val 18750"/>
                <a:gd name="adj2" fmla="val -8333"/>
                <a:gd name="adj3" fmla="val -198958"/>
                <a:gd name="adj4" fmla="val 18268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duction Laun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6.6605E-006 L 0.14166 6.6605E-006 E">
                                      <p:cBhvr>
                                        <p:cTn id="10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gration Consider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MS approval for SLA excep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gration week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for migration schedule similar to TX SET release whereby transactions to/from ERCOT are ramped down to facilitate migration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come back to RMS in September to provide more information and to seek approvals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s / Conta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152388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m D. Martin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r, Market Operations Divisional Projects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12) 248-38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martinez@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amartinez</cp:lastModifiedBy>
  <dcterms:modified xsi:type="dcterms:W3CDTF">2006-08-09T14:07:32Z</dcterms:modified>
  <cp:revision>46</cp:revision>
  <dc:subject/>
  <dc:title>Instructions</dc:title>
</cp:coreProperties>
</file>