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B0CD-3837-4F57-8B17-8D32E521A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779616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6400" y="2851920"/>
            <a:ext cx="779616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8FD4-28CE-4CAA-A516-148B981F5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6400" y="285192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1320" y="285192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3ACF-DEEF-4ADF-B325-A6F5D15D6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13976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600" y="113976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6400" y="285192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285192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600" y="285192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B05A-1C1B-43CB-9A5D-125F587F3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06400" y="1139760"/>
            <a:ext cx="779616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779616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05960" y="256680"/>
            <a:ext cx="70484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96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06400" y="285192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6400" y="1139760"/>
            <a:ext cx="779616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1293-C411-4A7B-B57A-491172AC0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1320" y="285192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06400" y="2851920"/>
            <a:ext cx="779616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779616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06400" y="2851920"/>
            <a:ext cx="779616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06400" y="285192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1320" y="285192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42680" y="113976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8600" y="113976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06400" y="285192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42680" y="285192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8600" y="2851920"/>
            <a:ext cx="25102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779616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5A92-1A93-4259-BDC7-861191264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FC8E-A122-4CA8-97BA-DF1BC0BD1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9AB8-1E79-4D0D-987B-1EFEC186C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5960" y="256680"/>
            <a:ext cx="70484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0A60-3838-4997-B90F-EC4257AC5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6400" y="285192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2117-46BB-497C-BC57-FCFB6816D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1320" y="285192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87F2-6398-4617-BAE2-0438C2472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640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1320" y="1139760"/>
            <a:ext cx="380448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6400" y="2851920"/>
            <a:ext cx="7796160" cy="15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4199-8A26-4496-AE47-E9A8D31F2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5960" y="256680"/>
            <a:ext cx="70484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1139760"/>
            <a:ext cx="7796160" cy="32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8600" indent="-226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18440" indent="-226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7560" indent="-226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57560" indent="-226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57560" indent="-226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2842-7CA8-4212-887A-6C1725AD8B3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8120" y="5954760"/>
            <a:ext cx="7731000" cy="0"/>
          </a:xfrm>
          <a:prstGeom prst="line">
            <a:avLst/>
          </a:prstGeom>
          <a:ln w="5724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58080"/>
            <a:ext cx="91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Success of the Texas Electric Retail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5320" y="2066400"/>
            <a:ext cx="4280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6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9080"/>
            <a:ext cx="3274920" cy="382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120" y="5721480"/>
            <a:ext cx="7731000" cy="0"/>
          </a:xfrm>
          <a:prstGeom prst="line">
            <a:avLst/>
          </a:prstGeom>
          <a:ln w="57240">
            <a:solidFill>
              <a:srgbClr val="002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6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960"/>
              </a:solidFill>
              <a:latin typeface="Arial"/>
            </a:endParaRPr>
          </a:p>
          <a:p>
            <a:pPr lvl="1" marL="1144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28600" y="4952520"/>
            <a:ext cx="8686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60"/>
                </a:solidFill>
                <a:latin typeface="Arial"/>
              </a:rPr>
              <a:t>August 9, 2006</a:t>
            </a:r>
            <a:endParaRPr b="1" lang="en-US" sz="2400" spc="-1" strike="noStrike">
              <a:solidFill>
                <a:srgbClr val="00296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21428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99"/>
                </a:solidFill>
                <a:latin typeface="Arial"/>
              </a:rPr>
              <a:t>Terms and Conditions Task Force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657600"/>
            <a:ext cx="67053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sentatio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ail Market Sub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7040" y="257040"/>
            <a:ext cx="888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CTF Re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840" y="1139760"/>
            <a:ext cx="8626320" cy="47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R 672 Retail Market Tim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S passed the PRR with URGE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ovided Impac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 passed PRR672 – Phas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concerning absence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ed additions before BOD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collaborate on benefi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: $6,464,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9A4D-BE1E-4029-B802-11E32E831A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7040" y="257040"/>
            <a:ext cx="888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CTF Re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840" y="974520"/>
            <a:ext cx="8626320" cy="58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MGRR, Safety Net Move-In/Priority Request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modification to current process an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Move-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Business Days prior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Ne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S will sweep their system at 12 Noon the day before the requested date for all Standard Move-Ins that have been submitted,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Safety 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ubmitted for all requests that have not been confirmed by ERCOT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Move-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received by 5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Ne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s will sweep their system at 2 PM the day of the Priority Move-In request date,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ority Safety 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submitted for all priority requests that have not been confirmed by ERCOT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3A57-9FA6-43EC-8931-614BC36D45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7040" y="257040"/>
            <a:ext cx="888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CTF Re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5840" y="1139760"/>
            <a:ext cx="8626320" cy="49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MGRR, Estimated Meter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new rule pro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new proces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s for reason for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- Denial of access – 10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SP - Standardized reason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–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Majeure, Weather, Tampering, Mass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3116-1231-4495-879B-5360847B40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7040" y="257040"/>
            <a:ext cx="88869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CTF Report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                      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139400"/>
            <a:ext cx="8626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4058-14B8-4402-8113-F8B8329439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35:40Z</dcterms:created>
  <dc:creator>Registered User</dc:creator>
  <dc:description/>
  <dc:language>en-US</dc:language>
  <cp:lastModifiedBy>Registered User</cp:lastModifiedBy>
  <dcterms:modified xsi:type="dcterms:W3CDTF">2006-08-09T14:55:59Z</dcterms:modified>
  <cp:revision>99</cp:revision>
  <dc:subject/>
  <dc:title>Title of Presentation (Arial Bold Italic 40 Point, Navy)</dc:title>
</cp:coreProperties>
</file>