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D1A2-02E4-426C-A394-26D6E825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3CC9-D5F9-4E21-AB66-33619725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4F20-4D04-4A17-9070-5FAC6AAD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287C-C8E8-4B77-9EB7-B0C2A7CB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D7E8-CD9A-4A37-9092-032742D1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3EA0-F421-4BC2-AE0F-51F6C99C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E9EA-8F30-4F7C-982D-10AF7B93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CAE9-7F30-46F1-862C-FC199326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11BF-BC46-4128-A9F6-0CC7414F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3833-1BC0-4DF2-92E0-41F23801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8DE4-D7FC-48F9-AFF4-88FB699A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808F-09E4-45A7-B58B-14F27770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1C9D-3284-4CC9-9B41-7E8694C43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9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gust 9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hsatterfield@ercot.com" TargetMode="External"/><Relationship Id="rId2" Type="http://schemas.openxmlformats.org/officeDocument/2006/relationships/hyperlink" Target="mailto:jfrederick@ercot.com" TargetMode="External"/><Relationship Id="rId3" Type="http://schemas.openxmlformats.org/officeDocument/2006/relationships/hyperlink" Target="mailto:smunson@ercot.co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239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ERCOT TX SET 3.0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X SET Implementations – an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vers of Project Sco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Consolidation and Cost 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Cont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X SET Implementations – An 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05160" y="837720"/>
            <a:ext cx="4647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xas Set Project Delivery</a:t>
            </a:r>
            <a:r>
              <a:rPr b="1" lang="en-US" sz="1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Project Planning Managemen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80000"/>
              </a:lnSpc>
              <a:spcBef>
                <a:spcPts val="2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Times New Roman"/>
              </a:rPr>
              <a:t>Pre Bus Req. Cost Estimates, Schedule, Resourc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80000"/>
              </a:lnSpc>
              <a:spcBef>
                <a:spcPts val="2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  <a:ea typeface="Times New Roman"/>
              </a:rPr>
              <a:t>Acquire Project Tea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80000"/>
              </a:lnSpc>
              <a:spcBef>
                <a:spcPts val="2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  <a:ea typeface="Times New Roman"/>
              </a:rPr>
              <a:t>Project Plan Developments Including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99cc00"/>
                </a:solidFill>
                <a:uFillTx/>
                <a:latin typeface="Arial"/>
                <a:ea typeface="Times New Roman"/>
              </a:rPr>
              <a:t>Defining and Documenting Requirement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80000"/>
              </a:lnSpc>
              <a:spcBef>
                <a:spcPts val="2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  <a:ea typeface="Times New Roman"/>
              </a:rPr>
              <a:t>ERCOT Develops Detailed Business Requirement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80000"/>
              </a:lnSpc>
              <a:spcBef>
                <a:spcPts val="2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  <a:ea typeface="Times New Roman"/>
              </a:rPr>
              <a:t>ERCOT Impact Analysi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95640">
              <a:lnSpc>
                <a:spcPct val="80000"/>
              </a:lnSpc>
              <a:spcBef>
                <a:spcPts val="24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  <a:ea typeface="Times New Roman"/>
              </a:rPr>
              <a:t>Application Analysi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956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rastructure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RCOT Conceptual and Detailed System Desig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and Test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d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 Test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Migration Strategi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Team Communic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igration Planning (TES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and Market Flight Test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956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er Acceptance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956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ad/Performance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956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fect Tracking/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956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Flight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igration Planning (PRO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lan Outag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Migration Coordination P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lease Management Pl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tion to Produc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956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Ve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956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Ve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956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-L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914400"/>
            <a:ext cx="4114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Coordination and ERCOT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Form Market Coordination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  <a:ea typeface="Times New Roman"/>
              </a:rPr>
              <a:t>Finalize TX SET Release Market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gin Coordination of Market-Wide Implementation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cc00"/>
                </a:solidFill>
                <a:uFillTx/>
                <a:latin typeface="Arial"/>
                <a:ea typeface="Times New Roman"/>
              </a:rPr>
              <a:t>ERCOT Representation and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  <a:ea typeface="Times New Roman"/>
              </a:rPr>
              <a:t>RMS Up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  <a:ea typeface="Times New Roman"/>
              </a:rPr>
              <a:t>Texas Set WG Up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  <a:ea typeface="Times New Roman"/>
              </a:rPr>
              <a:t>Texas Test Plan WG Up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  <a:ea typeface="Times New Roman"/>
              </a:rPr>
              <a:t>Market Coordination Team Up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91680">
              <a:lnSpc>
                <a:spcPct val="80000"/>
              </a:lnSpc>
              <a:spcBef>
                <a:spcPts val="3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  <a:ea typeface="Times New Roman"/>
              </a:rPr>
              <a:t>Overall Project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91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l Testing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91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Testing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ssons Lea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Financial True Up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6477120"/>
            <a:ext cx="350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90440" indent="-190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Blue – Completed   </a:t>
            </a:r>
            <a:r>
              <a:rPr b="1" lang="en-US" sz="1200" spc="-1" strike="noStrike">
                <a:solidFill>
                  <a:srgbClr val="99cc00"/>
                </a:solidFill>
                <a:latin typeface="Arial"/>
                <a:ea typeface="Times New Roman"/>
              </a:rPr>
              <a:t>Green – In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4191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1600200"/>
            <a:ext cx="5335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1600200"/>
            <a:ext cx="53352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R40038_01 Scope Description: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1500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LR Ru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mplementation of recent PUCT rule dealing with Mass Transition of customers in event of an MP defaul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76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allocate POLR ESI IDs to POLR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76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ation of POLR Customer Class for all ESI IDs involved in a Mass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76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to initiate a drop to POLR using Texas Set transactions (PRR 66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76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7/01/2007 PUCT directed implementation 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R 672 Transaction Timin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mplementation of portion of PRR 672 directing that ERCOT process priority Move-Ins within two (2) Retail Business Hours.  Other changes in PRR672 to be included in a future project subject to business cases/process analysis under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X SET Change Contro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RMS Approved change controls in support of Miscellaneous changes (10), Terms and Conditions(1) and Mass Transition(1) - deemed necessary to implement along with TX SET 3.0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rivers of Project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Consolidation and Estimated Costs (pre-requirements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295280"/>
            <a:ext cx="4038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Transition/POLR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40038_01 - Priority 1.1/7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438280"/>
            <a:ext cx="4038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s and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60008_01/PRR 672 - Priority 1.1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733920"/>
            <a:ext cx="4114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Set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50_01 - Priority 2.1/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495680" y="1981080"/>
            <a:ext cx="1295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572000" y="2285640"/>
            <a:ext cx="12952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1295280"/>
            <a:ext cx="28195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Set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40038_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38098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6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60008_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29718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320" y="19810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- 3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6200" y="3197160"/>
            <a:ext cx="34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1 - .5  MM,  Phases 2/3 -  $2.5 - $4.5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1240" y="441972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3 - $5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4880" y="3048120"/>
            <a:ext cx="26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3 - $5 MM  / Target Release 7/1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3000" y="4800600"/>
            <a:ext cx="29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2.5 - $4.5 MM  /  Target Release -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000" y="5334120"/>
            <a:ext cx="78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olidation decision driven by PUCT compliance dates, resource availabilit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development/testing environment avail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77120" y="5181480"/>
            <a:ext cx="20574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Fligh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3/20 – conne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4/16 – Da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5/29 – Flight 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080" y="93600"/>
            <a:ext cx="868680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838080"/>
          <a:ext cx="79246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79246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Conta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838080"/>
            <a:ext cx="73152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Project Manag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SR. Business Analy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pe Satterfiel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Jennifer Freder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satterfield@ercot.co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frederick@erco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248-6522 (w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248-6733 (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771-9582 (c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413-0815 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Market Lia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san Mu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munson@erco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248-3881 (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826-0564 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hsatterfield</cp:lastModifiedBy>
  <dcterms:modified xsi:type="dcterms:W3CDTF">2006-08-07T18:39:16Z</dcterms:modified>
  <cp:revision>37</cp:revision>
  <dc:subject/>
  <dc:title>Instructions</dc:title>
</cp:coreProperties>
</file>