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95F-9BD4-4FE9-B5BB-87757008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E2D-33DF-47BC-A9DB-6B0A9FAB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B8D-A877-435B-94D0-84193ACB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96F-3BD3-4FB1-8BCB-9D01E26F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84C-9CE2-4B4B-A6F6-B4A3677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C09-8014-45E3-AFF2-B79FD759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3D3-4EE6-4ADF-94D1-69F7BF2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447-3F1B-43DF-9539-A68C4165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0BE-05B1-4115-8AF0-0F2ABAF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B04-7C6B-4F10-AB7D-CD109D6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F85-9121-4EC3-8A72-768E0E6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DF6-EB52-4C30-AF8B-A13D46A5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DE74-EBC6-4662-B3A3-4D2BBC5FB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8/09/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60A-1240-4964-9F30-46C5779A90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rak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s sent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1 – 17/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2 – 2/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3 – 4/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ent to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1 – 6/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2 – 0/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3 – 0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2362320"/>
            <a:ext cx="3733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447920"/>
            <a:ext cx="373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s sent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1 – 3/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2 – 4/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3 – 2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63C-DAB2-491D-9C59-3017F45E4B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rak Testing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n issues at thi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rak testing started one day late (08/08/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cripts (API &amp; GUI) were able to begin testing except for MTGUI02 (Bulk Ins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 to be provided to testing participants when this script is available to be tes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aware of one script (MTGUI17 – DEV Characteristic) which needs to be 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410-AB5D-4028-9B3C-C902053DFF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3D4-9CDC-402D-842F-1FAC5848E0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 – 07/07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an – 07/10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706 scheduled to conclude 08/22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y testing scheduled to conclude 09/12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DCE-F38E-4F9E-9384-28F5D73D92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TDS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s – 0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mbrella D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testing in new territory – 4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new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and 1 TDSP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49 Total Tasks (plus 428 Total MarkeTrak Tasks = 36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5D7-79BA-43F5-BFD8-FD7352A4F6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tarted 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08/08/06 at 9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.32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.32% by end of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393-ADF9-41AE-8A7D-82DB657A63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utstanding transactions for Wee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bound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Outbound from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outstanding transactions for Wee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Inbound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Outbound from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3AF-1A21-4D34-B151-CD3AC0D94E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 outstanding transactions for Wee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Inbound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Outbound from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 outstanding transactions for Week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Inbound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 Outbound from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 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699-EE44-42CD-B264-E2F64609C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7 outstanding transactions for Week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6 Inbound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1 Outbound from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A70-E108-45B8-93B5-1C45E7AEF8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rak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rak Testing API/GUI: 08/07/06 – 08/18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 required testers (adding business functionality)  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volunteer testers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 and GUI combined testing participants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esting participant has been paired between a CR and T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cation will be made to testing participants when MarkeTrak scripts are completed to allow for internal ‘sandbox’ training/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4B5-980A-45DB-ADAF-F8E0A399BF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rak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scripts created for API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scripts created for GUI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RCOT/CR Connectivity script (CON57) to be used for either API and/or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RCOT/TDSP Connectivity script (CON58) to be used for either API and/or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8 Total Tasks for both API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6AC-7FD5-4A4A-86F9-6F7ABF6C49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sherri slagowski</cp:lastModifiedBy>
  <cp:lastPrinted>2002-09-24T18:27:58Z</cp:lastPrinted>
  <dcterms:modified xsi:type="dcterms:W3CDTF">2006-08-09T04:21:40Z</dcterms:modified>
  <cp:revision>400</cp:revision>
  <dc:subject/>
  <dc:title>PowerPoint Presentation</dc:title>
</cp:coreProperties>
</file>