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EC6F-D737-4E9B-BEC2-2C5A7638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4D34-2BF7-4F65-8AC1-F9C0551E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AADC-DCA7-4DED-8CC0-4699E46B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9F96-1349-41FD-A19B-1DAAB689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D217-83D4-42EF-8175-C17227F0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552D-A32D-44CE-B8EC-9A7E0CFC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8FE0-5920-4BBF-8105-42FA9F87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6CD8-FCE1-4647-B704-4AB9CCD2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4A20-7ED5-4D40-8EAD-EC61CE90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2951-6996-4E0D-8217-F884A48A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1C96-4BB0-46FD-B81D-1286C86D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509F-313C-46E6-87E0-8DC73C0C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DDC4-137B-4197-9FA6-FAC141FED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80880" y="650880"/>
          <a:ext cx="8305920" cy="560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50880"/>
                    <a:ext cx="830592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62120" y="333360"/>
          <a:ext cx="7391160" cy="49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33360"/>
                    <a:ext cx="739116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203480" y="5065560"/>
            <a:ext cx="672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09280" y="5181480"/>
            <a:ext cx="4612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/7   Siebel data base outag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h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/11 NAESB outag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5 h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/19 FTP server reboo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 min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/21 NAESB outa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25 h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/20 TML JRUN erro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75 h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14:10:34Z</dcterms:created>
  <dc:creator>ERCOT</dc:creator>
  <dc:description/>
  <dc:language>en-US</dc:language>
  <cp:lastModifiedBy>ERCOT</cp:lastModifiedBy>
  <dcterms:modified xsi:type="dcterms:W3CDTF">2006-08-07T14:11:02Z</dcterms:modified>
  <cp:revision>1</cp:revision>
  <dc:subject/>
  <dc:title>Slide 1</dc:title>
</cp:coreProperties>
</file>