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2C3-FECB-48B3-ADBD-D1BBA0DB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325-1357-4089-8423-E9A9EC9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954-9B87-49D3-B25D-995A0BF6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8A0-0BB3-4566-ABAA-64125DF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6044-F4A8-4FC0-A1CC-6C961ED4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6A6-7C82-451B-947F-61502ED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B6C5-0C2E-4484-81AA-2FA0BB4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1C11-3645-439E-9DCB-BCAAFF0C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E34-B5E4-47A2-98D3-60454C7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488-C73C-45EF-918A-09CB9FF9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098-E520-48E9-9816-CA18A98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C6E-22C3-4D34-A745-5A28928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BD1C-8C42-4B89-8FF7-74DB5AA8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4FD-6212-4FE0-8E42-11C63C9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58F-D694-44A0-B4A5-3EF01966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7D6E-6F86-492D-BB12-69881E7C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039-0EE0-4328-B23A-2BEBB8C8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187-FE29-46F5-A30B-D002679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C60-C7B3-4876-B7CA-AF62DDFB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74D-692B-486C-A2CC-0B06EFAC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251-75BA-4189-853F-9A0A4EEC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485-1EA9-4C5F-A0C0-44C8BE0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67D-7484-4E18-8619-3BD0260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D7-093B-4AAE-8A28-8BE80BB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AFF-CAD7-41E9-81D7-965A0D2224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824-7377-4564-AC65-CA4989E676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Voting It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GRR005 Process for Competitive Metering Guide Rev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s a revision process consistent with other Market Gu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nimously approved at 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S requests TAC approval of CMGRR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approved the  2007 Flight Tes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107: TX Set Version 2.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Dec 13,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Dec 19,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Jan 12 – Feb 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407: TX Version 3.0 – T&amp;Cs and POL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March 14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April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April 13 – May 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7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June 20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June 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July 6 – Aug 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10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Sep 19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Sep 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Oct 5 – Nov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approved establishing a Market Coordination Team to manage the TX SET v3.0 project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T provides Market Participants with a single point of communications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CT will communicate and coordinate project progr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articipant Intern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articipant Internal Development/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Cut-over det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/No-Go Criteria and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7-27T14:52:48Z</dcterms:modified>
  <cp:revision>46</cp:revision>
  <dc:subject/>
  <dc:title>RMS Update to TAC</dc:title>
</cp:coreProperties>
</file>