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B4C2-8554-4508-93E1-3BCD31C6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431-F693-471E-AC31-BF21E0492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4960" y="63216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7A90-68B0-449B-B31C-E6A347EB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61CD-188A-42F8-924C-411B4DB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9AA0-4403-450B-874E-313C164C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9C5B-C919-403E-B694-E976C23C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09BE-128B-4AE4-8DC6-EADCAB5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7092-70D5-4909-9487-726DF26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8E95-FB33-4A4C-B496-D6E85F4E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66AD-C906-4EE1-8D1E-AC90C834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F360-839F-4A4D-90D2-7505B5AB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EACE-3CE2-41B8-AB3E-72BC720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4204-7387-421A-9ADB-41AA6F4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1849-B580-4EEA-B2B8-C71A6F6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3D7-1D41-46DC-B5A6-D17945E9A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9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MO DPO Projec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6 PPL Status &amp; Budget Upda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PPL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006 PPL Status and Budge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3440" y="757080"/>
          <a:ext cx="8858160" cy="5248440"/>
        </p:xfrm>
        <a:graphic>
          <a:graphicData uri="http://schemas.openxmlformats.org/drawingml/2006/table">
            <a:tbl>
              <a:tblPr/>
              <a:tblGrid>
                <a:gridCol w="638280"/>
                <a:gridCol w="2706480"/>
                <a:gridCol w="644760"/>
                <a:gridCol w="1701720"/>
                <a:gridCol w="568440"/>
                <a:gridCol w="487440"/>
                <a:gridCol w="1014120"/>
                <a:gridCol w="1096920"/>
              </a:tblGrid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/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ning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3.0, including Mass Transition and T&amp;C'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; major carry-over in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erred 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 (not included in TX SET releas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iginally combined with TX SET 3.0 and deleted as separate project for 2007;  now on 2007 PPL for Phase 2 of PRR 672 (below capability li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celled, not on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,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4080" y="195120"/>
            <a:ext cx="799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007 PPL Update – TAC Approved Ver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9000" y="768240"/>
          <a:ext cx="8794800" cy="5551560"/>
        </p:xfrm>
        <a:graphic>
          <a:graphicData uri="http://schemas.openxmlformats.org/drawingml/2006/table">
            <a:tbl>
              <a:tblPr/>
              <a:tblGrid>
                <a:gridCol w="658800"/>
                <a:gridCol w="676080"/>
                <a:gridCol w="2590920"/>
                <a:gridCol w="743040"/>
                <a:gridCol w="720720"/>
                <a:gridCol w="1050840"/>
                <a:gridCol w="533520"/>
                <a:gridCol w="990360"/>
                <a:gridCol w="83052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 D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unning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6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. SET 3.0, including Mass Transition and T&amp;C'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(Transaction Clearinghouse) Tran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(ESIID Tracking System) Transition to ED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 (inc. PaperFree &amp; NAES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 Siebel to L* Data Compari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7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site Enhancements for ERCOT Outa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Enhancements (Workflow &amp; Report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ption Reporting / Monitoring Enhanc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atic Exception Reprocessing Functiona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of Production Reporting to EIS - Reta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tion of Commercial Operations Data in EIS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rmerly Web Services that integrate L* and Siebel data for MP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imated Resource Capability - $7,659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8160" y="253440"/>
            <a:ext cx="71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Questions /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08-09T02:34:05Z</dcterms:modified>
  <cp:revision>42</cp:revision>
  <dc:subject/>
  <dc:title>Instructions</dc:title>
</cp:coreProperties>
</file>