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D81-2E55-4D5B-B1C5-431EB24F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F3D-F46F-4C1C-8E0C-AA30845C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0E5-E256-4681-94A5-17EFEAC1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6BB-3F53-4AE1-85ED-EA1C00B6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AE8-BDBD-4DAE-BC16-2D58F42A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339-130E-4483-927B-05062C08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B71-4712-4F23-ADFB-75A89BE0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DAE-63A3-4E9E-9ABC-EB0378BC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BA6-CEA6-43C0-B168-5067CFD1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D31-5E5C-4DAA-B516-EF2ECB97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C5B-A5A6-42C1-8274-64A47E28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50D-EC22-4D94-8812-98AB605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FD4A-3D7D-42FC-BE6C-150E89A3B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7600"/>
            <a:ext cx="883908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dtaylor@ercot.com" TargetMode="External"/><Relationship Id="rId2" Type="http://schemas.openxmlformats.org/officeDocument/2006/relationships/hyperlink" Target="mailto:jthomas@erco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106668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hieve improved Market performance and reliability through a reduction of ERCOT Retail Systems unplanned ou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High Availability (HA) solutions for the NAESB application and Paperfree file server to target 99.99% availability for these systems in order to meet the 99.25% availability target for all retail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 Build-ou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7200" y="533520"/>
            <a:ext cx="51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77400" y="127080"/>
            <a:ext cx="50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-60006_01 ERCOT Outage Eval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Resolution Phases I &amp;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400800"/>
            <a:ext cx="12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gust 9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01000" y="64008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685800"/>
            <a:ext cx="8763120" cy="51055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 23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ebruary 13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ESB RFP Posted – April 1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tas Cluster Server RFP Posted – May 15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ESB Vendor Selected – May 26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tas Cluster Server Vendor Selected – June 2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 23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ugust 2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/Go L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1, 2006  - Paperfree production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8, 2006 - NAESB production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cember 14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04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52520" y="0"/>
            <a:ext cx="741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-60006_01 ERCOT Outage Eval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Resolution Phases I &amp;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477120"/>
            <a:ext cx="13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gust 9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64771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685800"/>
            <a:ext cx="8839440" cy="55627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ESB contract signed July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free contract finalized week of July 31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installed in Development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ESB Technical Architecture document prep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xt step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 NAESB &amp; Paperfree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stallation in Development environment week of August 14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ESB Detailed Design document prepa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04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52520" y="0"/>
            <a:ext cx="741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-60006_01 ERCOT Outage Eval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Resolution Phases I &amp;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6477120"/>
            <a:ext cx="13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gust 9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64771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1069920"/>
            <a:ext cx="8077320" cy="4797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. Lead: Denise E. Tay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9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taylo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M:  Julie Th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 512-248-6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: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thomas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prompted the project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 745 Retail Outage Evaluation &amp; Resol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I - NAESB/Proxy Clustered Enviro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II -Paperfree Clustered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ing business driv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ing solutions to reduce or virtually eliminate single points of failure would address a significant portion of the numbers and duration of unplanned out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533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77400" y="127080"/>
            <a:ext cx="508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-60006_01 ERCOT Outage Eval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Resolution Phases I &amp;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6840" y="6477120"/>
            <a:ext cx="12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gust 9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01000" y="6477120"/>
            <a:ext cx="85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DTaylor</cp:lastModifiedBy>
  <dcterms:modified xsi:type="dcterms:W3CDTF">2006-08-01T15:32:36Z</dcterms:modified>
  <cp:revision>208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2-38D4-A149-08521C1C1544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