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591D2-C285-41B9-8F74-EA15EE433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C28C2-0BA8-443A-BE15-1A3C9D9E6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CF49F-FA8A-47A0-A378-C21AF3DF9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0BB73-A82B-438A-87E6-5713CCC2C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2F9FF-36A6-4179-A07B-8E8D36E67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CAEB3-69AA-41EC-945D-F9212C148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D1A6C-2DA9-4501-A7B7-85521C31D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9606B-16ED-4D4E-B5DA-12061CC67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30492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F0957-4D86-4616-8EF7-C807B5323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C6D6C-4974-40B0-B1A6-2623E1D7A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F5BE9-DC1D-4C64-B6E1-CFEEB6A89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B09D1-FC4B-4E8F-A887-97D19D851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FD4E3-9F65-4D0E-AE7A-B286B45E7F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828800" cy="98280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228600" y="1143000"/>
            <a:ext cx="8686800" cy="76320"/>
          </a:xfrm>
          <a:prstGeom prst="rect">
            <a:avLst/>
          </a:prstGeom>
          <a:gradFill rotWithShape="0">
            <a:gsLst>
              <a:gs pos="0">
                <a:srgbClr val="00475e"/>
              </a:gs>
              <a:gs pos="100000">
                <a:srgbClr val="0099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6360" bIns="36360" anchor="ctr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80880" y="1295280"/>
            <a:ext cx="784872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pporting materials for RMS</a:t>
            </a:r>
            <a:br>
              <a:rPr sz="3600"/>
            </a:b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ovided by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tail Customer Choice (RCC)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82FD0-860E-4CF5-9E8C-8F680D948FC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V FasTrak Issue Stat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y Issue Category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thru 07/31/2006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4920" y="6019920"/>
            <a:ext cx="84582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f the 294 In Progress DEV Issues, 49 are resolved and awaiting other party resolution check of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28600" y="1295280"/>
            <a:ext cx="8686800" cy="4572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66976-44F4-4071-B691-F2D72251B61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V FasTrak Issue Stat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32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y Issue Typ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thru 07/31/2006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609480" y="2057400"/>
            <a:ext cx="7772400" cy="2438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7170F-0686-4078-AAF6-5E3B79D4D5E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V FasTrak Issue Stat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y Issue Category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thru 07/31/2006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52280" y="1295280"/>
            <a:ext cx="8839440" cy="4953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6EE63-0871-47C4-9D99-C2579E06FD2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1295280"/>
            <a:ext cx="914400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-Active Transac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solution Measur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3962520"/>
            <a:ext cx="807732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67s Received on Cancelled Service Ord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31200-603A-4D56-B628-E25ADE836A1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1143000"/>
            <a:ext cx="87631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52520" indent="-4525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99"/>
                </a:solidFill>
                <a:uFillTx/>
                <a:latin typeface="Times New Roman"/>
              </a:rPr>
              <a:t>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RCOT periodically receives 867_03 Finals and 867_04s for service orders that are Cancelled in ERCOT systems.  The Service Order Sub-Statuses that are considered Cancelled are:  CR Requested, Customer Objection, ERCOT Operating Rule, Manual, Permit Not Received, with Exception, Unexecutable and Rejected by TDSP.   This can indicate an out-of-sync condition between the TDSP and ERCO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99"/>
                </a:solidFill>
                <a:uFillTx/>
                <a:latin typeface="Times New Roman"/>
              </a:rPr>
              <a:t>Mechanism for Handling 867 RCSO</a:t>
            </a: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Step 1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ERCOT produces 867RCSO data each Friday and submits a report file to each TDSP and CR via the ERCOT Por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Step 2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The TDSPs review the report line items and take one of the following action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If the TDSP has cancelled the service ord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no further action is requir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)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If the TDSP has completed the service ord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they will initiate a day-to-day FasTrak issue and work with ERCOT to get ERCOT systems changed to complete.  Completion of cancelled service orders will require the approval of the CR initiating the transact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Note: For Cancel by Customer Objection, the TDSP will honor the cancel in their system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67s received on Cancelled Service Ord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29EC1-0D98-4E98-9864-BB9939A63C7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67s received on Cancelled Service Ord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447920"/>
            <a:ext cx="8458200" cy="4724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690E5-3484-40E5-A8DB-42385E47731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80880" y="1295280"/>
            <a:ext cx="830592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asTrak Issue Statu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362320" y="3581280"/>
            <a:ext cx="5029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F253D-8E11-4213-897E-1CC4A5C4BF4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y to Day’ FasTrak Issue Stat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y Category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thru 07/31/2006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28600" y="4876920"/>
            <a:ext cx="701028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Legen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unts are of issues submitted during each month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I = ERCOT Initiated Iss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n-ERCOT issue = Issues logged directly between the CR and TDSP with no ERCOT involvement to resolv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tegory of “All Other” does not have subtype.  Issues logged as “All Other” can include Transaction Issues, Rep of Record Issues, Service Order Changes, etc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52280" y="1295280"/>
            <a:ext cx="8839440" cy="3505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535C2-F4F9-4932-8884-D19E62EDCBCB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y to Day’ FasTrak Issue Stat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y Category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thru 07/31/2006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04920" y="5334120"/>
            <a:ext cx="7696080" cy="99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f the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539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In Progress D2D Issues,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289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are resolved and awaiting other party resolution check of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tal D2D Issue ESI IDs worked to date since January 1, 2006 =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30,8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52280" y="1523880"/>
            <a:ext cx="8305920" cy="3362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7E1D7-65CC-4ABE-9AE8-BC1851DD450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y to Day’ FasTrak Issue Stat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y Category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thru 07/31/2006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04920" y="1371600"/>
            <a:ext cx="5410080" cy="13716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04920" y="2895480"/>
            <a:ext cx="8534160" cy="327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F5A5D-DA93-4D81-AE86-0AAEB934D9D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V FasTrak Issue Stat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y Issue Type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thru 07/31/2006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5410080"/>
            <a:ext cx="6019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Legen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unts are of issues submitted during each month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28600" y="2286000"/>
            <a:ext cx="8534520" cy="1538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31FBF-7B90-4A45-B6AF-3FFF62EF2FA0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29T21:45:07Z</dcterms:created>
  <dc:creator>kcotner</dc:creator>
  <dc:description/>
  <dc:language>en-US</dc:language>
  <cp:lastModifiedBy>kfarley</cp:lastModifiedBy>
  <cp:lastPrinted>2002-09-24T18:27:58Z</cp:lastPrinted>
  <dcterms:modified xsi:type="dcterms:W3CDTF">2006-08-02T16:38:46Z</dcterms:modified>
  <cp:revision>624</cp:revision>
  <dc:subject/>
  <dc:title>PowerPoint Presentation</dc:title>
</cp:coreProperties>
</file>