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5137-E037-4554-A253-CCB44730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onvey our interpretation of a simple outage, let’s go over a few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MPs are calculated using a DC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pology refers to the shape of a network, or the network's layout. How different nodes in a network are connected to each other and how they communicate are determined by the network's topology. Topologies are eithe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hysic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gic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 Protocol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 Planned Outage or Maintenance Outage of any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Transmission Element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Network Operations Model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such that when the Transmission Element is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removed from its normal servic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absent a Forced Outage of other Transmission Elements, the Outage does not cause a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topology chang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LMP calculation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and thus cannot cause any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LMPs to chang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with or without the Transmission Element that is suffering the Outage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EF8-3621-4C6B-9229-856EBBCA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EC5-9C5D-40BE-BC4D-CD55EEBE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91A-B962-4731-B795-6B62F8A4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C5B-5025-43B2-9C7F-50303555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780-E9B1-4E55-AC5A-E084528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C16-AD1F-4DE0-89C1-B9B5AD27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109-39AB-46AC-972C-BF4F5D02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809-B345-4F3E-9B4D-4E734FB8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846-A12C-47CB-BF48-9C0CF06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FF7-AE12-477F-B2B7-725F06B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2A7-C718-408F-BF77-B19B52D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146-8467-4975-97BE-8E9E8AE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C48-549A-446C-9649-20EFBBCA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ebopedia.com/quick_ref/network.html" TargetMode="External"/><Relationship Id="rId2" Type="http://schemas.openxmlformats.org/officeDocument/2006/relationships/hyperlink" Target="http://www.webopedia.com/quick_ref/node.html" TargetMode="External"/><Relationship Id="rId3" Type="http://schemas.openxmlformats.org/officeDocument/2006/relationships/hyperlink" Target="http://www.webopedia.com/quick_ref/physical_topology.html" TargetMode="External"/><Relationship Id="rId4" Type="http://schemas.openxmlformats.org/officeDocument/2006/relationships/hyperlink" Target="http://www.webopedia.com/quick_ref/logical_topology.html" TargetMode="External"/><Relationship Id="rId5" Type="http://schemas.openxmlformats.org/officeDocument/2006/relationships/hyperlink" Target="http://www.webopedia.com/quick_ref/node.html" TargetMode="External"/><Relationship Id="rId6" Type="http://schemas.openxmlformats.org/officeDocument/2006/relationships/hyperlink" Target="http://www.webopedia.com/quick_ref/bus.html" TargetMode="External"/><Relationship Id="rId7" Type="http://schemas.openxmlformats.org/officeDocument/2006/relationships/hyperlink" Target="http://www.webopedia.com/quick_ref/backbone.html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etworkTopologies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swers.com/main/ntquery?dsid=2222&amp;dekey=Electrical+element" TargetMode="External"/><Relationship Id="rId2" Type="http://schemas.openxmlformats.org/officeDocument/2006/relationships/hyperlink" Target="http://www.answers.com/main/ntquery?dsid=2222&amp;dekey=Resistor" TargetMode="External"/><Relationship Id="rId3" Type="http://schemas.openxmlformats.org/officeDocument/2006/relationships/hyperlink" Target="http://www.answers.com/main/ntquery?dsid=2222&amp;dekey=Inductor" TargetMode="External"/><Relationship Id="rId4" Type="http://schemas.openxmlformats.org/officeDocument/2006/relationships/hyperlink" Target="http://www.answers.com/main/ntquery?dsid=2222&amp;dekey=Capacitor" TargetMode="External"/><Relationship Id="rId5" Type="http://schemas.openxmlformats.org/officeDocument/2006/relationships/hyperlink" Target="http://www.answers.com/main/ntquery?dsid=2222&amp;dekey=Switch" TargetMode="External"/><Relationship Id="rId6" Type="http://schemas.openxmlformats.org/officeDocument/2006/relationships/hyperlink" Target="http://www.answers.com/main/ntquery?dsid=2222&amp;dekey=Integrated+circuit" TargetMode="External"/><Relationship Id="rId7" Type="http://schemas.openxmlformats.org/officeDocument/2006/relationships/hyperlink" Target="http://www.answers.com/main/ntquery?dsid=2222&amp;dekey=Electricity+distribution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IMPLE TRANSMISSION OU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V="1">
            <a:off x="1600200" y="50288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23520" y="2286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286000"/>
            <a:ext cx="122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048200" y="228600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600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57360" y="2133360"/>
            <a:ext cx="171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9810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ad or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105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9036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486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002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0020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6172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3429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191120"/>
            <a:ext cx="2857680" cy="904680"/>
          </a:xfrm>
          <a:prstGeom prst="wedgeRoundRectCallout">
            <a:avLst>
              <a:gd name="adj1" fmla="val -119055"/>
              <a:gd name="adj2" fmla="val 352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191120"/>
            <a:ext cx="4114800" cy="914400"/>
          </a:xfrm>
          <a:prstGeom prst="wedgeRoundRectCallout">
            <a:avLst>
              <a:gd name="adj1" fmla="val -94060"/>
              <a:gd name="adj2" fmla="val -230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or breakers can be taken out as a Simple Outage provided the Unit is on a Planned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657600"/>
            <a:ext cx="30456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5562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62120" y="41911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2120" y="34286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4648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447560" y="4572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of energized Transmission voltage level devices that directly connect to normally open-ended line segments and will not swap load or change load flow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ertain restrictions, an ongoing bus outage may be expanded to include directly connected lines that were open-ended by the bus outage if the requesting TO controls all involved equipment. The line(s) must have a single switch or breaker to isolate it from the remaining energized system.  To qualify for this expansion, the opposite end of the line/equipment newly included in the existing outage must be isolated from the next bus through opening a single switch or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work on breakers that directly connect to a generator if the unit is scheduled off line due to a planned or forced outage.  The maintenance work may be expanded to include the line open ended by that breaker, if the line segment can be isolated by a single switch or breaker.  The maintenance must end prior to the unit becoming available and must not delay the unit’s ability to return to service nor affect the unit(s)’ cap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Question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pology refers to the shape of a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network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, or the network's layout. How differen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nod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in a network are connected to each other and how they communicate are determined by the network's topology. Topologies are eithe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hysic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logic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elow are diagrams of the most common network topolog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sh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ices are connected with many redundant interconnections between networ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nod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. In a true mesh topology every node has a connection to every other node in the networ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us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devices are connected to a central cable, called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bu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backbon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ng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devices are connected to one another in the shape of a closed loop, so that each device is connected directly to two other devices, one on either side of 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ee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hybrid topology. Groups of star-configured networks are connected to a linear bus backb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olog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odal Protocol Defi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26 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imple Transmission Ou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lanned Outage or Maintenance Outage of any Transmission Element in the Network Operations Model such that when the Transmission Element is removed from its normal service, absent a Forced Outage of other Transmission Elements, the Outage does not cause a topology change in the LMP calculation and thus cannot cause any LMPs to change with or without the Transmission Element that is suffering the Ou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ology refers to the shape of a network, or the network's layout. How different nodes in a network are connected to each other and how they communicate are determined by the network's topology. Topologies are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olog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etwork Top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 showing different network layo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3880"/>
            <a:ext cx="7925040" cy="421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60958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ividual symbols in each example represent  a Load,  a Generator, or 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lectrical Networ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 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interconnection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ectrical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sis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duc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aci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witch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It can be as small a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tegrated circui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n a silicon chip, or as large a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lectricity distribut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r transmission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mple Transmission Outage bound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must not cause a topology change in the LMP cal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request must be submitted at least 1 day prior to the requested start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not cause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not violate applicable reliability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to 12 hours or less in d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ation time shall not exceed 1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e Transmission Outage bound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29000" y="4724280"/>
            <a:ext cx="341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33920" y="4495320"/>
            <a:ext cx="2365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3809880" cy="609480"/>
          </a:xfrm>
          <a:prstGeom prst="wedgeRoundRectCallout">
            <a:avLst>
              <a:gd name="adj1" fmla="val 44041"/>
              <a:gd name="adj2" fmla="val 3013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RCOT Model must indicate switch position is normally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2209680"/>
            <a:ext cx="2666880" cy="609840"/>
          </a:xfrm>
          <a:prstGeom prst="wedgeRoundRectCallout">
            <a:avLst>
              <a:gd name="adj1" fmla="val -72856"/>
              <a:gd name="adj2" fmla="val 322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1018800" y="3828960"/>
            <a:ext cx="27612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7581240" y="3819240"/>
            <a:ext cx="27648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5514840" y="3848040"/>
            <a:ext cx="27612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 rot="5400000">
            <a:off x="3057480" y="3857760"/>
            <a:ext cx="27648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2238480"/>
            <a:ext cx="60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419720"/>
            <a:ext cx="609840" cy="533160"/>
          </a:xfrm>
          <a:prstGeom prst="hexagon">
            <a:avLst>
              <a:gd name="adj" fmla="val 28596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7242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47242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4724280"/>
            <a:ext cx="12956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9480" y="594360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symbols  represent  a Load or 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7524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962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133720"/>
            <a:ext cx="30492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2743200"/>
            <a:ext cx="30492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7432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7432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720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0512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7672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7672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42840" y="3200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63244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6272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38188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20040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4114800"/>
            <a:ext cx="381240" cy="3049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10280" y="5409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1880" y="5409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00440" y="5410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772040" y="5410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5410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5410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200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295280" y="32004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200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286000"/>
            <a:ext cx="2857680" cy="905040"/>
          </a:xfrm>
          <a:prstGeom prst="wedgeRoundRectCallout">
            <a:avLst>
              <a:gd name="adj1" fmla="val -54000"/>
              <a:gd name="adj2" fmla="val 122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9568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06:54Z</dcterms:created>
  <dc:creator>RPoston</dc:creator>
  <dc:description/>
  <dc:language>en-US</dc:language>
  <cp:lastModifiedBy>RPoston</cp:lastModifiedBy>
  <dcterms:modified xsi:type="dcterms:W3CDTF">2006-07-18T16:13:48Z</dcterms:modified>
  <cp:revision>14</cp:revision>
  <dc:subject/>
  <dc:title>SIMPLE TRANSMISSION OUTAGE</dc:title>
</cp:coreProperties>
</file>