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4B5-FA40-47E6-B4E1-39E88EA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8CC-DCAA-4AF4-80AC-4B27B3F0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F28-44EE-4BA7-9276-F3E8692F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0DC-480E-40AF-A3B4-53E29F79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0EB-8953-4EDD-8057-C08B748F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42B8-5726-4329-80BA-20886C10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C39-0BB9-4888-8BE5-453E7FB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B8BD-4D2F-44D0-B829-40FC1DA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BB5-0DE3-4555-A3D8-81C0B7A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CB7C-9267-4129-B4A1-BE4D175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F202-C65F-4877-BAB1-9B8D25A4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DA6-45C8-4BA7-9FBA-A2C9EBB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A9A-CAB1-4089-BCD9-5D43847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CE92-9DA7-46FA-83C7-73D8C61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491-E565-44AB-A72E-859CAC7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4DA-9055-47A2-93D0-1284800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D71-9DF8-4A5F-BC5F-BADFB0F2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1D6-1E2C-451A-9E86-BAD27CE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706-E4DC-4986-8DEC-4FEB181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DFD-38AC-4222-85B8-256B92C5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E83-7931-4FFC-8062-035B432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7BD-C286-4C85-B942-1C1FCF3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2C8-0906-4CA5-BD16-966ED7F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E5A-FD51-483F-8B76-49B48F3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739-3C7E-4F25-A14B-1E604FB2F8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EEA8-EC01-4BAA-8FD0-1E4F62A855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7986-A46A-4A03-B39A-67FCC61E743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3514-D980-4F9D-8028-1F50A2602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Kezunovic, G. Huang, T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Grady, S. Santoso, UT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J. Lee, UT Arling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, August 11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867280"/>
            <a:ext cx="45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宋体"/>
              </a:rPr>
              <a:t>©2006 Mladen Kezunovic. 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720" y="503280"/>
            <a:ext cx="806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宋体"/>
              </a:rPr>
              <a:t>Use of synchronized sampling in substations and system-wide appl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57200" y="990720"/>
            <a:ext cx="8305920" cy="5562360"/>
            <a:chOff x="457200" y="990720"/>
            <a:chExt cx="8305920" cy="5562360"/>
          </a:xfrm>
        </p:grpSpPr>
        <p:grpSp>
          <p:nvGrpSpPr>
            <p:cNvPr id="304" name=""/>
            <p:cNvGrpSpPr/>
            <p:nvPr/>
          </p:nvGrpSpPr>
          <p:grpSpPr>
            <a:xfrm>
              <a:off x="457200" y="1066680"/>
              <a:ext cx="2971440" cy="609840"/>
              <a:chOff x="457200" y="1066680"/>
              <a:chExt cx="2971440" cy="609840"/>
            </a:xfrm>
          </p:grpSpPr>
          <p:sp>
            <p:nvSpPr>
              <p:cNvPr id="305" name=""/>
              <p:cNvSpPr/>
              <p:nvPr/>
            </p:nvSpPr>
            <p:spPr>
              <a:xfrm>
                <a:off x="531360" y="1066680"/>
                <a:ext cx="289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mail, Fax, Hosting, WWW, Pager Notif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" y="1066680"/>
                <a:ext cx="2897280" cy="609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038480" y="990720"/>
              <a:ext cx="952560" cy="609480"/>
              <a:chOff x="4038480" y="990720"/>
              <a:chExt cx="952560" cy="6094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038480" y="990720"/>
                <a:ext cx="952560" cy="609480"/>
                <a:chOff x="4038480" y="990720"/>
                <a:chExt cx="95256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38480" y="1058400"/>
                  <a:ext cx="8841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38480" y="990720"/>
                  <a:ext cx="952560" cy="609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4106520" y="990720"/>
                <a:ext cx="86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ntranet Intern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638680" y="990720"/>
              <a:ext cx="2362320" cy="609480"/>
              <a:chOff x="5638680" y="990720"/>
              <a:chExt cx="2362320" cy="609480"/>
            </a:xfrm>
          </p:grpSpPr>
          <p:sp>
            <p:nvSpPr>
              <p:cNvPr id="313" name=""/>
              <p:cNvSpPr/>
              <p:nvPr/>
            </p:nvSpPr>
            <p:spPr>
              <a:xfrm>
                <a:off x="5638680" y="990720"/>
                <a:ext cx="236232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Wide-area network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hubs, routers, gateways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8680" y="990720"/>
                <a:ext cx="2362320" cy="609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990720" y="2057400"/>
              <a:ext cx="1371600" cy="580680"/>
              <a:chOff x="990720" y="2057400"/>
              <a:chExt cx="1371600" cy="580680"/>
            </a:xfrm>
          </p:grpSpPr>
          <p:sp>
            <p:nvSpPr>
              <p:cNvPr id="316" name=""/>
              <p:cNvSpPr/>
              <p:nvPr/>
            </p:nvSpPr>
            <p:spPr>
              <a:xfrm>
                <a:off x="990720" y="2057400"/>
                <a:ext cx="1371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analysi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90720" y="20574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543480" y="2514600"/>
              <a:ext cx="2057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809880" y="2057400"/>
              <a:ext cx="1524240" cy="580680"/>
              <a:chOff x="3809880" y="2057400"/>
              <a:chExt cx="1524240" cy="5806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09880" y="2057400"/>
                <a:ext cx="1524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Mobile Agent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9880" y="2057400"/>
                <a:ext cx="152424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1981080"/>
              <a:ext cx="1447560" cy="580680"/>
              <a:chOff x="6400800" y="1981080"/>
              <a:chExt cx="1447560" cy="580680"/>
            </a:xfrm>
          </p:grpSpPr>
          <p:sp>
            <p:nvSpPr>
              <p:cNvPr id="323" name=""/>
              <p:cNvSpPr/>
              <p:nvPr/>
            </p:nvSpPr>
            <p:spPr>
              <a:xfrm>
                <a:off x="6400800" y="198108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contro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1981080"/>
                <a:ext cx="144756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733920" y="28479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MTRADE IEC 618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181480" y="3657600"/>
              <a:ext cx="3200400" cy="2547000"/>
              <a:chOff x="5181480" y="3657600"/>
              <a:chExt cx="3200400" cy="25470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181480" y="3657600"/>
                <a:ext cx="3200400" cy="337320"/>
                <a:chOff x="5181480" y="3657600"/>
                <a:chExt cx="3200400" cy="337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18148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25780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62920" y="5334120"/>
                <a:ext cx="838080" cy="337320"/>
                <a:chOff x="7162920" y="5334120"/>
                <a:chExt cx="838080" cy="337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2392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6292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562720" y="5334120"/>
                <a:ext cx="838080" cy="337320"/>
                <a:chOff x="5562720" y="5334120"/>
                <a:chExt cx="838080" cy="3373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390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6272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62920" y="4876920"/>
                <a:ext cx="838080" cy="337320"/>
                <a:chOff x="7162920" y="4876920"/>
                <a:chExt cx="838080" cy="337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2392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6292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62720" y="4876920"/>
                <a:ext cx="838080" cy="337320"/>
                <a:chOff x="5562720" y="4876920"/>
                <a:chExt cx="838080" cy="337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390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6272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162920" y="4419720"/>
                <a:ext cx="838080" cy="337320"/>
                <a:chOff x="7162920" y="4419720"/>
                <a:chExt cx="838080" cy="3373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2392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292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562720" y="4419720"/>
                <a:ext cx="838080" cy="337320"/>
                <a:chOff x="5562720" y="4419720"/>
                <a:chExt cx="838080" cy="337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6390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6272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324480" y="5791320"/>
                <a:ext cx="990360" cy="413280"/>
                <a:chOff x="6324480" y="5791320"/>
                <a:chExt cx="990360" cy="413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324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00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62120" y="3657600"/>
              <a:ext cx="3200400" cy="2547000"/>
              <a:chOff x="762120" y="3657600"/>
              <a:chExt cx="3200400" cy="2547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762120" y="3657600"/>
                <a:ext cx="3200400" cy="337320"/>
                <a:chOff x="762120" y="3657600"/>
                <a:chExt cx="3200400" cy="3373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6212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3844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066680" y="4419720"/>
                <a:ext cx="838080" cy="337320"/>
                <a:chOff x="1066680" y="4419720"/>
                <a:chExt cx="838080" cy="337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1430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6668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66880" y="5334120"/>
                <a:ext cx="838080" cy="337320"/>
                <a:chOff x="2666880" y="5334120"/>
                <a:chExt cx="838080" cy="337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432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6688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66880" y="4876920"/>
                <a:ext cx="838080" cy="337320"/>
                <a:chOff x="2666880" y="4876920"/>
                <a:chExt cx="838080" cy="337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432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6688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666880" y="4419720"/>
                <a:ext cx="838080" cy="337320"/>
                <a:chOff x="2666880" y="4419720"/>
                <a:chExt cx="838080" cy="3373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7432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66688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066680" y="5334120"/>
                <a:ext cx="838080" cy="337320"/>
                <a:chOff x="1066680" y="5334120"/>
                <a:chExt cx="838080" cy="3373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1430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6668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066680" y="4876920"/>
                <a:ext cx="838080" cy="337320"/>
                <a:chOff x="1066680" y="4876920"/>
                <a:chExt cx="838080" cy="3373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1430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06668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752480" y="5791320"/>
                <a:ext cx="990360" cy="413280"/>
                <a:chOff x="1752480" y="5791320"/>
                <a:chExt cx="990360" cy="413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752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28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2286000" y="3962520"/>
                <a:ext cx="0" cy="1828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28800" y="45720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28800" y="50292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28800" y="5486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8006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22860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22860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9000" y="160020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2680" y="167652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495680" y="1600200"/>
              <a:ext cx="75960" cy="457200"/>
              <a:chOff x="4495680" y="1600200"/>
              <a:chExt cx="75960" cy="457200"/>
            </a:xfrm>
          </p:grpSpPr>
          <p:sp>
            <p:nvSpPr>
              <p:cNvPr id="386" name=""/>
              <p:cNvSpPr/>
              <p:nvPr/>
            </p:nvSpPr>
            <p:spPr>
              <a:xfrm>
                <a:off x="457164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9568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52578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292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20040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3868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0040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428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1148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7340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96252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24480" y="45720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24480" y="50292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4480" y="54864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D59-7ED8-4EFA-838F-C492EBA0E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1: Development of New Field Equipment (CB Monitor, field test s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#2: Deployment of new applications (substations, control Center, ERC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3: Exploration of new services (Calibration Lab and Economic study of benef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A5B-0A68-429F-B11E-0D5489341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9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8720" y="1634760"/>
            <a:ext cx="8535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ircuit Breaker Monitor (CBM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1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BM analysis (CBM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FR analysis (DF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PR analysis (DP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tegrated substation analysis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C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Equip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ertification and calibration lab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3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eld test equipment for GPS-enabled IE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 #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38E-F1DD-42A0-83BD-78ED6764F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Cen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ault lo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arm Process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oltage Security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te Estimat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odel Verifi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Economic Benefits,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Task#3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CB6-A71B-4585-8A8E-C5F318D37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60240" y="1676160"/>
            <a:ext cx="7645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Automated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D61-12E9-4BE1-ACDB-861E6659F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5240" y="549720"/>
            <a:ext cx="8534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s 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23924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A, DPRA, DF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ed testing in TAMU 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client-serv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field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EEE-4683-447B-BDA9-1CD9459B4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49360" y="1351080"/>
            <a:ext cx="8190000" cy="5110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Overall Architectur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CF2-99A7-4412-932C-D1A78E5665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nchronized Sampling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BM Synchronization circui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4955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synchro" descr=""/>
          <p:cNvPicPr/>
          <p:nvPr/>
        </p:nvPicPr>
        <p:blipFill>
          <a:blip r:embed="rId1"/>
          <a:stretch/>
        </p:blipFill>
        <p:spPr>
          <a:xfrm>
            <a:off x="1174680" y="1622520"/>
            <a:ext cx="679608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A75-4B65-4364-AB88-C4E224CCA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3960" y="39240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45KV Line, CNP Substa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413000" y="1854360"/>
            <a:ext cx="6610320" cy="44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C6A-D3AC-4997-9012-7391A1E61B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ED connections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eld Setu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433520" y="1817640"/>
            <a:ext cx="627696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9D3-93C0-41C5-876C-08D75291AD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5BA-AB83-4C2D-B383-4C29C5F81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73200" y="1397160"/>
          <a:ext cx="7772400" cy="4868640"/>
        </p:xfrm>
        <a:graphic>
          <a:graphicData uri="http://schemas.openxmlformats.org/drawingml/2006/table">
            <a:tbl>
              <a:tblPr/>
              <a:tblGrid>
                <a:gridCol w="988920"/>
                <a:gridCol w="847800"/>
                <a:gridCol w="593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</a:tr>
              <a:tr h="1008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b testing and field installation of individ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nitoring and control fun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the Texas A&amp;M University (TAMU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 using digital simul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CNP substation using field dat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b testing and field installation of an integrated monitoring and control fun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the TAMU lab using digital simulat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CNP substation using field dat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F54-65D6-4636-A884-016E3BD75B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067-F1AC-4867-97A2-34E87C098A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799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RCOT Analysis Applic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55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arm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oltag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tate Estim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odel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Interfaces for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F6C-0FB6-427D-B7EC-8F635C072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31E-EC51-45DB-A28F-98FB446CC4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nchronized sampling util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dvantage of synchronized samples coming from variety of IEDs (DFRs, DPRs, CBMs,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extracted features from the measured data (phasors, switching times, para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ed features using GPS-precision time-st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A3E-8B42-4F1F-AF55-C50BB1EAEF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3A2-3C70-427D-B6C7-B01CB42F50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Proces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utomate Cause-effect analysi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s using GPS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data from other IEDs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corporate the information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DA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detailed inform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data for reporting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7B9-366A-4FC6-941B-AEF8DA8BDF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63360" y="1606320"/>
            <a:ext cx="76374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alculate static stability margin index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regulated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of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 IEDs located at neighboring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Use voltage stability index for estim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margin of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introducing a w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trends for future training use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 esti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8F1-3A6C-4863-8305-CB195FC0C2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Estim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GPS-synchronized data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EDs in addition to R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e Synchronized Pha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improve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mprove Topology Processor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Synchronized CBM statu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 displays with time-sta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nitor performance of the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by comparing the result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-synchronized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528-0DEE-49A8-8CE0-8AC70CD159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0800" y="1606320"/>
            <a:ext cx="76582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Ver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other IEDs in 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mpare system responses (measu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simulations (using mod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easure dynamic responses (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oads) and estimat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adding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pdate the models “Continuous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F61-CF1E-41D0-B800-E91E0B3EA4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 and TE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E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ed in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unded by members: TXU, CNP, AEP-Texas,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, Freescale, National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cused on commercialization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ate Agency managed by Texas A&amp;M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eader of a consortium of universities (TxC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ested in working with CCET on development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olutions (Synchronized Sampling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627960"/>
            <a:ext cx="32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987-F480-4AFD-8E3E-6C3015A595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46B-0336-45EE-8C2D-1D2CF3407A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TF Applic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3, 2006: CCE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3, 2006: TO’s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11, 2006: ROS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???, 2006: CCET Board Approval of the commercializ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???, 2006: ERCO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7, 2006: ETF Application D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2006: ETF award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2007: start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115-7E64-428D-B3D1-D295779255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303-27B4-4785-9D25-22E6B26785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substation developments will be completed in FY2006 and demonstr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utility in FY2006 will be CNP (two substations) with a possible extension to AEP-Texas and TXU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ERCOT applications will be initi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F support will bring match-funding for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atch-funding will come from EPRI, DOE and ERCOT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pending budget appro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xCEE universities will be involved in development; TEES will be the Lead i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ization plan will be out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FCE-3D67-41DB-A7DC-8BABF5AF3A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6640560"/>
            <a:ext cx="330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E39-C6A7-4B71-B45D-39C6AFD60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new concept of data integration and informatio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the 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oducts to facilitate the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 th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a commercialization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F22-3290-4D1E-B638-F60225F7F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Main Ide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31920" y="2193840"/>
            <a:ext cx="6845400" cy="4009320"/>
            <a:chOff x="1231920" y="2193840"/>
            <a:chExt cx="6845400" cy="4009320"/>
          </a:xfrm>
        </p:grpSpPr>
        <p:sp>
          <p:nvSpPr>
            <p:cNvPr id="101" name=""/>
            <p:cNvSpPr/>
            <p:nvPr/>
          </p:nvSpPr>
          <p:spPr>
            <a:xfrm>
              <a:off x="5702400" y="3100320"/>
              <a:ext cx="237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mission Li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0840" y="2193840"/>
              <a:ext cx="0" cy="2197080"/>
            </a:xfrm>
            <a:prstGeom prst="line">
              <a:avLst/>
            </a:prstGeom>
            <a:ln w="158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4600" y="2849400"/>
              <a:ext cx="308160" cy="2858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0840" y="3552840"/>
              <a:ext cx="28447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0480" y="3552840"/>
              <a:ext cx="25815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0320" y="3552840"/>
              <a:ext cx="0" cy="509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84800" y="407520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84800" y="428472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0320" y="4284720"/>
              <a:ext cx="0" cy="1461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0480" y="5743440"/>
              <a:ext cx="1239840" cy="324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4600" y="3762360"/>
              <a:ext cx="0" cy="5554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95720" y="3773520"/>
              <a:ext cx="0" cy="5493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0800" y="3552840"/>
              <a:ext cx="0" cy="9478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8640" y="3552840"/>
              <a:ext cx="0" cy="11970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8640" y="4749840"/>
              <a:ext cx="2374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1920" y="2895480"/>
              <a:ext cx="205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urr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9440" y="4390920"/>
              <a:ext cx="73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898640" y="3449520"/>
              <a:ext cx="721800" cy="208080"/>
              <a:chOff x="1898640" y="3449520"/>
              <a:chExt cx="721800" cy="2080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9864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837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223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060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4552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3505320"/>
              <a:ext cx="118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160" y="3511440"/>
              <a:ext cx="89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B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38736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apacitiv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2360" y="4003560"/>
              <a:ext cx="536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35160" y="4378320"/>
              <a:ext cx="204840" cy="24768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16320" y="5892840"/>
              <a:ext cx="1960560" cy="4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8480" y="4626000"/>
              <a:ext cx="0" cy="10159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38480" y="5641920"/>
              <a:ext cx="1238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0800" y="4500720"/>
              <a:ext cx="166068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3000" y="4664160"/>
              <a:ext cx="204840" cy="24912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16320" y="4898880"/>
              <a:ext cx="0" cy="993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0480" y="4378320"/>
              <a:ext cx="382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342040" y="4003560"/>
              <a:ext cx="366120" cy="1201320"/>
              <a:chOff x="5342040" y="4003560"/>
              <a:chExt cx="366120" cy="1201320"/>
            </a:xfrm>
          </p:grpSpPr>
          <p:sp>
            <p:nvSpPr>
              <p:cNvPr id="137" name=""/>
              <p:cNvSpPr/>
              <p:nvPr/>
            </p:nvSpPr>
            <p:spPr>
              <a:xfrm>
                <a:off x="5342040" y="4428360"/>
                <a:ext cx="36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ce157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6720" y="4003560"/>
                <a:ext cx="0" cy="54612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6720" y="4699080"/>
                <a:ext cx="0" cy="50580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4979880" y="5202360"/>
              <a:ext cx="457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79880" y="5202360"/>
              <a:ext cx="0" cy="2826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5520" y="5896080"/>
              <a:ext cx="11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ur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0160" y="5757840"/>
              <a:ext cx="91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995720" y="4003560"/>
              <a:ext cx="4413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520" y="3757680"/>
              <a:ext cx="2048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410080" y="3755880"/>
              <a:ext cx="2066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00480" y="4626000"/>
              <a:ext cx="123984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4320" y="5194440"/>
              <a:ext cx="412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8280" y="4351320"/>
              <a:ext cx="3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4533840"/>
              <a:ext cx="4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54320" y="4805280"/>
              <a:ext cx="0" cy="384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3280" y="4000680"/>
              <a:ext cx="0" cy="465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4520" y="5194440"/>
              <a:ext cx="0" cy="293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356000" y="2193840"/>
              <a:ext cx="744480" cy="608040"/>
              <a:chOff x="4356000" y="2193840"/>
              <a:chExt cx="744480" cy="608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376880" y="2193840"/>
                <a:ext cx="723600" cy="608040"/>
              </a:xfrm>
              <a:prstGeom prst="rect">
                <a:avLst/>
              </a:prstGeom>
              <a:solidFill>
                <a:srgbClr val="96969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56000" y="236196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CB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264200" y="4303800"/>
              <a:ext cx="836280" cy="625320"/>
              <a:chOff x="4264200" y="4303800"/>
              <a:chExt cx="836280" cy="625320"/>
            </a:xfrm>
          </p:grpSpPr>
          <p:sp>
            <p:nvSpPr>
              <p:cNvPr id="158" name=""/>
              <p:cNvSpPr/>
              <p:nvPr/>
            </p:nvSpPr>
            <p:spPr>
              <a:xfrm>
                <a:off x="4273560" y="4303800"/>
                <a:ext cx="826920" cy="625320"/>
              </a:xfrm>
              <a:prstGeom prst="rect">
                <a:avLst/>
              </a:prstGeom>
              <a:solidFill>
                <a:srgbClr val="99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64200" y="4530600"/>
                <a:ext cx="82692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238640" y="5478480"/>
              <a:ext cx="1033560" cy="523800"/>
              <a:chOff x="4238640" y="5478480"/>
              <a:chExt cx="1033560" cy="523800"/>
            </a:xfrm>
          </p:grpSpPr>
          <p:sp>
            <p:nvSpPr>
              <p:cNvPr id="161" name=""/>
              <p:cNvSpPr/>
              <p:nvPr/>
            </p:nvSpPr>
            <p:spPr>
              <a:xfrm>
                <a:off x="4376880" y="5478480"/>
                <a:ext cx="723600" cy="523800"/>
              </a:xfrm>
              <a:prstGeom prst="rect">
                <a:avLst/>
              </a:prstGeom>
              <a:solidFill>
                <a:srgbClr val="99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38640" y="5581800"/>
                <a:ext cx="103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F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79840" y="3238560"/>
              <a:ext cx="620640" cy="523800"/>
              <a:chOff x="4479840" y="3238560"/>
              <a:chExt cx="620640" cy="52380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1640" y="3238560"/>
                <a:ext cx="618840" cy="523800"/>
              </a:xfrm>
              <a:prstGeom prst="rect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9840" y="335268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12D-A5BB-4B3C-8448-1EE737142C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1218960"/>
            <a:ext cx="8457840" cy="4654440"/>
            <a:chOff x="457200" y="1218960"/>
            <a:chExt cx="8457840" cy="4654440"/>
          </a:xfrm>
        </p:grpSpPr>
        <p:sp>
          <p:nvSpPr>
            <p:cNvPr id="168" name=""/>
            <p:cNvSpPr/>
            <p:nvPr/>
          </p:nvSpPr>
          <p:spPr>
            <a:xfrm>
              <a:off x="2625840" y="1467000"/>
              <a:ext cx="7578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78200" y="1467000"/>
              <a:ext cx="825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5080" y="1483200"/>
              <a:ext cx="897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07560" y="1483200"/>
              <a:ext cx="8935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97560" y="3584880"/>
              <a:ext cx="10026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7480" y="4662000"/>
              <a:ext cx="8276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7600" y="3036960"/>
              <a:ext cx="82548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07560" y="303696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9800" y="2170080"/>
              <a:ext cx="8287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2760" y="4674960"/>
              <a:ext cx="82872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F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7360" y="4699440"/>
              <a:ext cx="9111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B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34240" y="4710600"/>
              <a:ext cx="8247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P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8160" y="4699440"/>
              <a:ext cx="8683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88480" y="471060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O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4960" y="1848600"/>
              <a:ext cx="0" cy="281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4640" y="3974040"/>
              <a:ext cx="0" cy="70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664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32720" y="283428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8040" y="425916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5920" y="3427920"/>
              <a:ext cx="0" cy="58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333320" y="4009680"/>
              <a:ext cx="731880" cy="66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0960" y="1848600"/>
              <a:ext cx="0" cy="173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13560" y="184860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892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668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57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00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6304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5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35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8752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0720" y="3427920"/>
              <a:ext cx="0" cy="55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720" y="3974040"/>
              <a:ext cx="609840" cy="72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6960" y="1872360"/>
              <a:ext cx="0" cy="282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14000" y="1872360"/>
              <a:ext cx="0" cy="29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7680" y="2561040"/>
              <a:ext cx="0" cy="47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100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8400" y="3427920"/>
              <a:ext cx="0" cy="52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98400" y="3950640"/>
              <a:ext cx="623520" cy="73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309640" y="1218960"/>
              <a:ext cx="0" cy="181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9640" y="123120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7680" y="1231200"/>
              <a:ext cx="0" cy="24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5128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91356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333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07924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8568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09588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02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478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68204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26452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00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63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33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9240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6156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728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6304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57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3560" y="3974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824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736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9720" y="39981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0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586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856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6720" y="343980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5660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7864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72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5760" y="2572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0040" y="536436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6160" y="537552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0640" y="53755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5120" y="53863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9640" y="537552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3680" y="54136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5080" y="54136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6880" y="53992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31160" y="53992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67920" y="54136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63280" y="54118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600" y="1514520"/>
              <a:ext cx="201852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ENTRALIZED LO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4480" y="3119040"/>
              <a:ext cx="1965240" cy="703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UBS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4532400"/>
              <a:ext cx="196344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WITCHYARD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C79-1BDE-44C5-85AF-B8CC0BE38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e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27120" y="3313080"/>
            <a:ext cx="6324120" cy="2950920"/>
            <a:chOff x="1527120" y="3313080"/>
            <a:chExt cx="6324120" cy="2950920"/>
          </a:xfrm>
        </p:grpSpPr>
        <p:sp>
          <p:nvSpPr>
            <p:cNvPr id="257" name=""/>
            <p:cNvSpPr/>
            <p:nvPr/>
          </p:nvSpPr>
          <p:spPr>
            <a:xfrm>
              <a:off x="17625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4280" y="5531760"/>
              <a:ext cx="68724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69600" y="5531760"/>
              <a:ext cx="86400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32080" y="5531760"/>
              <a:ext cx="1119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P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51680" y="5531760"/>
              <a:ext cx="78552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3760" y="5531760"/>
              <a:ext cx="10209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B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55280" y="5531760"/>
              <a:ext cx="76608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6040" y="5531760"/>
              <a:ext cx="903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RT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7120" y="5531760"/>
              <a:ext cx="94248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F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9440" y="5531760"/>
              <a:ext cx="76572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0600" y="5650560"/>
              <a:ext cx="94248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288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8536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PL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463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92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28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766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09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762560" y="3788640"/>
              <a:ext cx="5833080" cy="1148400"/>
              <a:chOff x="1762560" y="3788640"/>
              <a:chExt cx="5833080" cy="1148400"/>
            </a:xfrm>
          </p:grpSpPr>
          <p:sp>
            <p:nvSpPr>
              <p:cNvPr id="276" name=""/>
              <p:cNvSpPr/>
              <p:nvPr/>
            </p:nvSpPr>
            <p:spPr>
              <a:xfrm>
                <a:off x="1762560" y="4362840"/>
                <a:ext cx="5833080" cy="574200"/>
              </a:xfrm>
              <a:prstGeom prst="rect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Data Integr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62560" y="3788640"/>
                <a:ext cx="5833080" cy="57420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Information Exchang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80332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280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2288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6744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2992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Q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e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6572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747800" y="1924200"/>
            <a:ext cx="5872320" cy="1311120"/>
          </a:xfrm>
          <a:prstGeom prst="can">
            <a:avLst>
              <a:gd name="adj" fmla="val 28125"/>
            </a:avLst>
          </a:prstGeom>
          <a:solidFill>
            <a:srgbClr val="3333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3160" y="2252520"/>
            <a:ext cx="42814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ataba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aw and pre-processed measu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ystem configu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647-74CE-4B6D-BF58-E7186D13B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formation Us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015320" y="2298600"/>
          <a:ext cx="124272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5320" y="2298600"/>
                    <a:ext cx="12427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244520" y="2209680"/>
          <a:ext cx="15462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2209680"/>
                    <a:ext cx="15462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140360" y="1973160"/>
          <a:ext cx="1371600" cy="11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7316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7"/>
          <a:srcRect l="0" t="0" r="0" b="27594"/>
          <a:stretch/>
        </p:blipFill>
        <p:spPr>
          <a:xfrm>
            <a:off x="3679920" y="3365640"/>
            <a:ext cx="2200320" cy="723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340760" y="3568680"/>
            <a:ext cx="14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Sum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92240" y="3492360"/>
            <a:ext cx="1871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Comprehen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05280" y="3772080"/>
          <a:ext cx="354960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5280" y="3772080"/>
                    <a:ext cx="3549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054760" y="295920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Brief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2640" y="18914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ngin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9560" y="1891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spat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35840" y="19677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echnic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8280" y="5435640"/>
            <a:ext cx="8610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Report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can be </a:t>
            </a: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customized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according to the need of a particular category of users and disseminated via </a:t>
            </a: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fax, e-mail</a:t>
            </a:r>
            <a:r>
              <a:rPr b="1" lang="en-US" sz="2000" spc="-1" strike="noStrike">
                <a:solidFill>
                  <a:srgbClr val="00ff99"/>
                </a:solidFill>
                <a:latin typeface="Arial Black"/>
              </a:rPr>
              <a:t>, website, pager,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200-819E-43EC-949D-7C4C6CB54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7:49:05Z</dcterms:created>
  <dc:creator>Milos Todorovic</dc:creator>
  <dc:description/>
  <dc:language>en-US</dc:language>
  <cp:lastModifiedBy>mk</cp:lastModifiedBy>
  <dcterms:modified xsi:type="dcterms:W3CDTF">2006-08-03T07:31:54Z</dcterms:modified>
  <cp:revision>654</cp:revision>
  <dc:subject/>
  <dc:title>PowerPoint Presentation</dc:title>
</cp:coreProperties>
</file>