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1BFE-DFA8-44A5-A235-20D4C006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CA6-BD56-45B5-8B76-A25E6428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0721-0DC8-4563-B59D-84F6EA52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6BA-C384-4218-9BCC-CC4068C1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B95F-02A8-4C25-BDB1-79BCF8AF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35D-121B-4004-8400-3CD991C6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B2F-B7A3-42C3-8B53-6BECF517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8A11-E6D5-48F1-8A2C-64C0977C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59C-2737-4896-B165-844DFB87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493-94BD-4BB8-9899-824952C5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911-2736-414D-916A-5B47074A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5408-0FC0-426A-BADC-E9C424E5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0A7A-21FD-4013-850E-A279CAB1D1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About the Center for the Commercialization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Of  Electric Technologies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(CCET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aep_logoHome[1]" descr=""/>
          <p:cNvPicPr/>
          <p:nvPr/>
        </p:nvPicPr>
        <p:blipFill>
          <a:blip r:embed="rId1"/>
          <a:stretch/>
        </p:blipFill>
        <p:spPr>
          <a:xfrm>
            <a:off x="304920" y="5781600"/>
            <a:ext cx="1143000" cy="808200"/>
          </a:xfrm>
          <a:prstGeom prst="rect">
            <a:avLst/>
          </a:prstGeom>
          <a:ln w="0">
            <a:noFill/>
          </a:ln>
        </p:spPr>
      </p:pic>
      <p:pic>
        <p:nvPicPr>
          <p:cNvPr id="43" name="cnp_logo[1]" descr=""/>
          <p:cNvPicPr/>
          <p:nvPr/>
        </p:nvPicPr>
        <p:blipFill>
          <a:blip r:embed="rId2"/>
          <a:stretch/>
        </p:blipFill>
        <p:spPr>
          <a:xfrm>
            <a:off x="1295280" y="6019920"/>
            <a:ext cx="1028880" cy="473040"/>
          </a:xfrm>
          <a:prstGeom prst="rect">
            <a:avLst/>
          </a:prstGeom>
          <a:ln w="0">
            <a:noFill/>
          </a:ln>
        </p:spPr>
      </p:pic>
      <p:pic>
        <p:nvPicPr>
          <p:cNvPr id="44" name="logo_angle[1]" descr=""/>
          <p:cNvPicPr/>
          <p:nvPr/>
        </p:nvPicPr>
        <p:blipFill>
          <a:blip r:embed="rId3"/>
          <a:stretch/>
        </p:blipFill>
        <p:spPr>
          <a:xfrm>
            <a:off x="2666880" y="6095880"/>
            <a:ext cx="1486080" cy="357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99000" y="5715000"/>
            <a:ext cx="704880" cy="800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715000" y="5943600"/>
            <a:ext cx="1371600" cy="557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772400" y="5943600"/>
            <a:ext cx="90504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d in September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: to enhance the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safe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reliabil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secu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efficien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Texas electric transmission and distribution system through research, development and commercialization of emerging technolog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CET’s Objective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evelop and capture 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enefi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dvancing technolog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 energy trans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ion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ringing togeth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extensive existing facilities and technical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apabil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electric utilities, high tech leaders, and Texas universities and colle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CET ORGANIZ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ard of Directors &amp; Offi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ical Advisory Group (TA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ises and assists in development of commercialization proposa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representative from each member company, along with technical representatives from affiliate members that want to participate in the proc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CET’s Role in the Project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all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Project Coordin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Applica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or Texas ET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tity to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Implement a Commercial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lan for Products Arising from th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9:30:38Z</dcterms:created>
  <dc:creator>Milton Halloway</dc:creator>
  <dc:description/>
  <dc:language>en-US</dc:language>
  <cp:lastModifiedBy>Milton Holloway</cp:lastModifiedBy>
  <cp:lastPrinted>2005-12-05T02:47:24Z</cp:lastPrinted>
  <dcterms:modified xsi:type="dcterms:W3CDTF">2006-08-03T15:12:11Z</dcterms:modified>
  <cp:revision>59</cp:revision>
  <dc:subject/>
  <dc:title>Commercialization Priorities Workshop Center for the Commercialization of Electric Technologies Technical Advisory Group Houston, Texas December 5, 2005</dc:title>
</cp:coreProperties>
</file>