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11D-304C-4DA7-83A1-6C691DFA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543-23FB-4F6D-A31B-A41F67EC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B01-6B86-4346-AE7F-0621C03D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684-49E6-4EBF-9A9A-F56DF101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AB7-A85F-4F38-8D5D-63EA5D02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02B-F04E-418E-A0CA-14939AB6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7E9-A561-4214-80CB-07708B91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A97-4B7D-4A8B-853C-67A1C7EE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41E-0672-4AE2-B304-1FF657BE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C4E-E24A-416C-BB03-29C8FFBE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D86-A49A-4922-A817-D61F3B5E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4D4-E1F5-48CA-9192-3C7EFAD3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BD51-3430-4BE0-B190-29EC004B1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5440" y="87480"/>
            <a:ext cx="9043920" cy="6701760"/>
            <a:chOff x="55440" y="87480"/>
            <a:chExt cx="9043920" cy="6701760"/>
          </a:xfrm>
        </p:grpSpPr>
        <p:sp>
          <p:nvSpPr>
            <p:cNvPr id="6" name=""/>
            <p:cNvSpPr/>
            <p:nvPr/>
          </p:nvSpPr>
          <p:spPr>
            <a:xfrm>
              <a:off x="139320" y="87480"/>
              <a:ext cx="8873280" cy="670176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40" y="176040"/>
              <a:ext cx="9043920" cy="65282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8640" y="131760"/>
              <a:ext cx="895716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3940200" y="628164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4038480" y="6346800"/>
            <a:ext cx="99072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190476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2743200"/>
            <a:ext cx="67816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Nodalizing the Operating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81185" dir="1312197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93480" y="331920"/>
            <a:ext cx="679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dalizing the Operating Gu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3716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7000" indent="-26370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Provide ready access to quality information as needed for system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9718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720" indent="-26827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tions:  Keep information in a simple and compact lo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88476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isk of conflicting instructions from differing 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799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reliability governs 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3020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 content gained from experi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ptions Conside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288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 – Incorporate Operating Guide language into the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60600" indent="-2460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 – Apply the format of the current Operating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8954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60600" indent="-2460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 – Remove Protocol replication from the Operating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 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y the format of the current Operating Gu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1295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6765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ity – This is the way it has always been done.  The change and review processes are establ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86000"/>
            <a:ext cx="152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911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– Duplicating information from the Nodacols, results in inconsistenc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ing bulk of the NGuides is negating any advantage of simplicity that once w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038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– Information location mandates use of NGuides and Nodacols, increasing complexity for 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5181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– Managing consistency with Nodacols using a different process, which introduces different thought processes is unrel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2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ove Protocol replication from the Operating Gu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219320"/>
            <a:ext cx="1295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6765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– Duplication would be removed, reducing risk of inconsistency with Noda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4382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ity – The change and review processes are establ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32004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– Eliminate circular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5812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91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- Requires Operators to utiliz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3 – Incorporate Operating Guide language into the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1295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6765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– All of the information on requirements and implementation would be in one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46483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5257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– There is a risk that expanded exposure to changes may delay their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2438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– All of the information in one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895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– One document to manage.  The change and review processes are established and require ROS, and others if delegated, invol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4038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ce – Information expected to be in 3 Nodacol sections making it easy for Operators to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COTs Recommendation: Option 3 – Incorporate Nodal Operating Guide language into the Nodal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9782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– All of the information on requirements and implementation would be in one 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286236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cy – All of the information in one 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30516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– One document to manage.  The change and review processes are established and require ROS, and others if delegated, to be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502776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ience – Information expected to be in 3 Nodacol sections making it easy for Operators to access.  No longer split between 2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mmendation from Chairmen of ROS, OWG &amp; OGRTF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1A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78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3600" indent="-1263600"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86236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3600" indent="-1263600"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30516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se the Operating Guides using only protocol referenc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50277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line for compl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 &amp; 2  to OGRTF by September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ections completed by March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0:14:27Z</dcterms:created>
  <dc:creator>OTStrain01</dc:creator>
  <dc:description/>
  <dc:language>en-US</dc:language>
  <cp:lastModifiedBy>CFrosch</cp:lastModifiedBy>
  <dcterms:modified xsi:type="dcterms:W3CDTF">2006-08-07T22:53:28Z</dcterms:modified>
  <cp:revision>30</cp:revision>
  <dc:subject/>
  <dc:title>Slide 1</dc:title>
</cp:coreProperties>
</file>