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CA2-B4E5-4EEE-9440-5C3542EF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69A-6117-43FB-A743-E8131DD2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0D6-820F-4C0B-812D-1A807971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0CA6-01C6-4BEA-B861-B75B0AC2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547-2C44-404B-808E-2A5C63EF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E1B-C0F6-4937-A163-22ED05B5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E58-9CCC-4934-B762-860CFC12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02E-3A4E-4A89-A586-118DE9F0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12A-BBDC-4B20-B06B-1696048B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D8C-A7C4-47D1-B969-F473CD2F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D58-4B44-40AE-B661-F3150C26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51C-B9F7-41DB-BEC8-601E5829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1833-4136-48D6-B02C-97B71FE11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Load Forecast Uncertainty V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 2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Forec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forecast is load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should not be mani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forecast has some un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ty should be add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should decide the uncertainty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should recommend market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forecast is a system wide con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uncertainty fix should be uplifted system 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Day-Ahead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Forecast = Load forecast (LF) + 1800 M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compares unconstrained on-line capacity to (LF + 18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urchases RPRS if (LF + 1800) exceeds unconstrained on-line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skips capacity bids behind a constr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assumes constrained capacity cannot serve load increase within the constrained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assumes all constrained capacity pockets will experience an N-2 event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arded NSRS is not considered as available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liminary data shows 8 to 10% of on-line capacity being constr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391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-Term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 out load forecast uncertainty (LFU) from R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LFU with on-lin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-Term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ub the model to find inefficiencies in the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uncertainty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distribution of load incr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vailable capacity not being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-Ter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determines load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compares unconstrained on-line capacity to load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urchases RPRS if load forecast exceeds unconstrained on-line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determines L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rocures sufficient capacity equal to the hourly LFU by procuring incremental Ancilla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urement of Ancillary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rocures from Ancillary Services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3 from Responsive Reserv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3 from Up Regulatio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3 from NS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rocures only as much hourly LFU as is required (peak LFU for peak hour and less than 100% LFU for non-peak ho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assigns the incremental AS on a load-ratio-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tlement process remains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Short-Ter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tart charge p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inimum energy (LSL) at hig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is paid only if depl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enerator lead time issues (gen responsibi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enerator min up times (minimizes procur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cern with units failing to start (already on-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across multiple AS markets minimizes depletion of any one bid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RS is handled separately, but this solution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mizes, if not eliminates, RPRS procurement (quantity and h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-Ter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ub the model to confirm that 8 to 10% of on-line capacity is constr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the probability of multiple N-2 events occurring simultaneous is realistic or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the ability of  constraint capacity to serve load increases within the generation po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capability of combine cycle units or other units to provide “reserve” capability during emergencies (duct fired, over-pressure, …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Long-Ter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s, if not eliminates, RPRS procurement (quantity and ho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assigns cost of L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es available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s divergence of Day-Ahead and Real-time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fficient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9T20:55:33Z</dcterms:created>
  <dc:creator>Rafael Lozano</dc:creator>
  <dc:description/>
  <dc:language>en-US</dc:language>
  <cp:lastModifiedBy>Rafael Lozano</cp:lastModifiedBy>
  <dcterms:modified xsi:type="dcterms:W3CDTF">2006-07-31T21:00:07Z</dcterms:modified>
  <cp:revision>7</cp:revision>
  <dc:subject/>
  <dc:title>ERCOT Load Forecast Uncertainty</dc:title>
</cp:coreProperties>
</file>