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922-7579-4CA1-B200-AEBAE3B5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185-A5F3-45B2-9B08-0F486CBB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9C1-96CA-4A55-A5A5-C8CBDE97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377-B52B-4175-AA92-F989882C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B21D-F41B-4341-865C-20A5B1FA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6EA9-73D9-417B-917A-64301BB7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1B0E-2A03-4E44-889C-20105564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913C-488B-49A4-9036-CC6E0E18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21ED-C8AE-46F7-B66D-148B65D2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C6CF-5B5D-40E8-B1A1-DF30638B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E331-2CEB-4BFB-A4A7-BEF8A86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408-AB61-4C68-8C76-F38EA156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665D-59D2-4D14-B591-838CC35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5BC1-D4D4-4B6D-B2B3-6EEC6EC1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E337-1DEC-4433-AB62-37021051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1FA0-DBB8-43AD-B2EE-75AE9403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9459-783B-4359-9117-96BC85B4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24E1-CD91-4539-9990-ECBCCFDA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5856-C11E-4C28-B7AF-CEA756D7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1C3F-1AFA-4117-8D46-FD44517B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0FDB-E3E8-4CC3-8CAC-B8E29BD4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804C-944B-4904-B594-0C411756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9B3-51FE-4F33-AF34-00D3DDC5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EBAF-0920-412A-B605-5FAD4C0E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1C33-449E-446A-A3AA-5A2EBD63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A1F4-EB62-4935-99C8-80609631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905C-CF9E-4548-B323-0047B02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146F-49D5-4FCA-9269-0D3752CF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E1F2-4747-4189-AE42-017D87A9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1562-EF6E-44C5-8575-FDDD2EAE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1741-9ADD-4F64-BB42-96DCD5ED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5A26-6852-4A35-854B-BB1349FC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705E-6B45-4DE5-83E9-27330DF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2D5-94EA-48B6-9183-53A5A0BE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29A4-662F-4F59-8521-0BC7A23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6101-1A55-4457-A2AB-338A4794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BD3E7-5F22-4811-AF19-689C115D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C2F7-1C2B-4966-92C9-4BD416A0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05D49-E02A-4994-91BB-28286B0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C797-A1C9-445C-AD4C-DEBC81F6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4EB5-C923-449E-A68E-9FEE1707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D84B-FBBF-4B5F-AA55-D4FB99C3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CC93-EFFA-493D-B6C9-C05BCD5C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AF33-72A0-48D2-B316-4F9E4278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490-3A9C-494D-8C72-5E0BAB0E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E6D3D-07F7-4020-9CE3-5274F145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0FE5-6014-4CA3-8C33-2CF00E86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80197-EEBF-4643-B075-442B9F8D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7857-8A1E-4DC8-A57A-4CC4452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6119-3C15-45F6-B908-6C1BE731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6D12B-B4D4-4306-A376-8FE9EDC2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F24EA-F88F-41C4-A122-21C95DC3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35B38-61C5-42FF-800F-8742C8F4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BA529-D94E-41BE-AE07-63CBBD10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6F44-BFEF-423F-920B-144DC8CD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5D7-E098-444D-9E64-512E004A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7F161-7A1E-4B05-A5C3-D8E518EE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103-6612-4D3E-8BBA-DDD27338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3E5-18A8-4A25-97AC-BF7EA2FB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6DC-6ED7-4713-8793-83C09246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DABB-3F2B-4C35-A0DA-0C02203A4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3F12-E052-4899-AF9F-25E8D6312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6F49-AE4C-488A-963C-BBD721838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39BA-48BC-408F-BD02-B221F6A6F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4455-7853-4DEF-9D63-A9DEA693B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nterPoint Dynamic Reactive Project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/30/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ption of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1447920"/>
            <a:ext cx="245448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ites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Sites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l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os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Cost $20 – 25 M for devices and all co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-Service by Peak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280" y="1440000"/>
            <a:ext cx="6324840" cy="4140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5800" y="3429000"/>
            <a:ext cx="612720" cy="61272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2971800"/>
            <a:ext cx="609480" cy="6094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1752480"/>
            <a:ext cx="612720" cy="61272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4560" y="228600"/>
            <a:ext cx="63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s Needed for Re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960" y="1560600"/>
            <a:ext cx="786456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 Guide 3.1.4.6, Protective Relaying Requir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enerator terminal voltage deviations exceed five percent (5%) but are within ten percent (10%) of the rated design voltage and persist for less than 10.0 second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Shedding Limit: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imit the amount of load shedding to less than 1250 MW to avoid possible over frequency tripping, loss of significant local demand, and mitigate risk of cascading regional black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and Generation Forecast for Houston Ar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mand exceeded local generation in 2005, in 2007, demand will exceed local generation by 2,000 MW, in 2009 close to 3,000MW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249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uston Area Generation Vs. 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3505320"/>
            <a:ext cx="205740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3960" y="37702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 Area Ret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ependent Review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Houston area retired/mothballed units in the case, the Dynamic Reactive Devices were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neither the Houston area retired/mothballed units nor the Dynamic Reactive Devices, several Houston area generating units did not meet requirements of Op. Guide 3.1.4.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out the Houston area retired/mothballed units but with the Dynamic Reactive Devices, all Houston area generating units met requirements of Op. Guide 3.1.4.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33360" y="1519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Facility Forced Ou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98560" y="1407960"/>
            <a:ext cx="7331040" cy="43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Surveyed Transmission Operators to determine frequency of extreme events resulting in two or more components removed or cascading out or service – NERC Category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Show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19.71 event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3.89 circuits removed per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ime Between Events – 16.67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MAAC Data compiled by PPL Electric Utilities showed an average of 18.4 events per year with 2.4 to 2.6 circuits removed per ev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494960" y="2286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1343160"/>
            <a:ext cx="778824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434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akeholder review period for this project was held in April 20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have been no dissenting comments on this package of projec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S Dynamic Working Group support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7080" y="228600"/>
            <a:ext cx="66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COT Support For th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9714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COT supports the need for this project, as described, and asks that TAC endorse approval by the Boar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40:33Z</dcterms:created>
  <dc:creator>James J. Teixeira</dc:creator>
  <dc:description/>
  <dc:language>en-US</dc:language>
  <cp:lastModifiedBy>Dan Woodfin - ERCOT</cp:lastModifiedBy>
  <dcterms:modified xsi:type="dcterms:W3CDTF">2006-07-27T16:56:19Z</dcterms:modified>
  <cp:revision>38</cp:revision>
  <dc:subject/>
  <dc:title>ERCOT Independent Review AEPTCC Western Region Project June 7, 2006 </dc:title>
</cp:coreProperties>
</file>