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98A4-52D0-4F50-B7DD-25C9CAF3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EBD2-3DC4-4DE6-9A93-76F22D4F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5FF5F-B770-45FB-9F54-0EE89316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D2A8-AE5C-461D-8EB6-EBAB29BF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D909-1478-4268-AB25-4406631B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EEAD-DE74-45FC-877C-54753072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2789D-1272-43C6-ABDC-2B72CE71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6A6B-2BC6-474B-845B-71CD03CA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EE60E-6D25-4FCA-82F7-DED08C30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A8A8-78B1-45AF-97BF-B3A74379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ED60-DA89-411D-B271-1F82F59C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AA645-0E19-43BE-ADD7-7F19D9D6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4A24-DFB1-4230-9DF8-4223ED7E3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 Upd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Working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3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July 6 TAC meeting, we reported that the Credit WG was expected to report to F&amp;A on the remaining outstanding credit exposure surrounding Mass Transition ev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d extreme pos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of common ground or comprom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a conference call on July 12, the Credit WG took a straw vote on a “middle ground” proposal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next pag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no unanimity was reached; 80% voted in favor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18 members voting, 14 voted in favor, 3 were opposed and 1 abst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tes were tabulated by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egments (other than consumers) were repres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C monitored the call but did not 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posal considered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ime to post collateral from 2 bus days to 1 bu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nis and coops may continue to have 2 bus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ime to cure a breach from 2 bus days to 1 bu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requires all QSEs, LSEs, etc. to sign new or amended contracts, which may not be fully complete until April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working credit limit which allows an entity to utilize up to 85% of posted collateral + unsecured credit limit (rather than 10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e collateral calculation at 40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WG and ERCOT staff will continue to evaluate the need for credit insurance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above changes are made, CWG would propose to make no additional changes to the EAL calculation for a year unless significant new risk factors are identified.  This agreement does not change ERCOT’s authorization to use discretion as outlined in the Protoco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&amp;A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gan Davies gave an update to F&amp;A regarding the work the Credit WG had done, including the “middle ground” propos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&amp;A again congratulated the market for all the work that had been d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&amp;A asked that Credit WG begin a PRR on the “middle ground” proposal to engage the full market in discussion of the proposed 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Dreyfus and Kevin Gresham both noted that vetting by the full market wa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&amp;A asked the Credit WG to update the full BOD on the progress made in relation to the Mass Transition iss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&amp;A also asked the Credit WG to review its internal procedures/rules and bring back proposals to F&amp;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redit WG – other topic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redit WG met in Austin for a full day on July 2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consider the follow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PRR draft requested by the F&amp;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review of meeting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review of credit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n’t been updated since market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discussion on credit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ker gave update and status of discu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groups were formed to address the various area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ct to meet again in early September to continue discussion on above topics as well as to address Nodal issues that may arise as business requirements are being develop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rap u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vspells</cp:lastModifiedBy>
  <dcterms:modified xsi:type="dcterms:W3CDTF">2006-07-31T14:17:49Z</dcterms:modified>
  <cp:revision>24</cp:revision>
  <dc:subject/>
  <dc:title>Instructions</dc:title>
</cp:coreProperties>
</file>