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EC33-F18B-4BE2-BBE5-5B1C590C3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496C-423C-4F74-A351-BD23610B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0C45-2455-4629-B0D4-A52A7D10E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1171-B587-44CC-8BAB-2F942A914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E7F6-B1AC-4B11-80C5-552354DA4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DA1A-9A19-4F23-8D67-ACAE2C9A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4EC5-EFC5-45A3-B0FE-375B66C6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D41E-1BD3-492F-8506-2EFBC5C4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4527-7AF2-422E-A816-B36A12B9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1DAF-F779-4E44-AEA3-A32CBC57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8A69-EEC5-4C3D-A8BC-C56D9D81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9096-5D41-4290-8038-1EACA9DD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75A3-ABAD-4679-9441-9B648E65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725B-FD21-493D-BB13-5383BF79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78A4-3322-4F0D-BB28-D190842F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CA17-6CCE-414E-8BEC-3C8F6FA64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74CB-C0D0-4B11-9578-E2EF051CE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B843-06E4-475E-A0E1-EE2897C7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8B5F-7B06-4857-91A1-2602A5DA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6642-5AC8-47FC-A4C2-382B148C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1799-665D-4FAB-94DA-026E36AA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1CB4-6665-400E-80AA-2E1F6171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17D6-4B33-48C0-83D0-3E4CA4D0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5ABE-CFA4-4416-8485-4A16428E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7556-9244-4519-ACE5-2FF705E427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E753-B2A0-40B6-8B7C-75C89351CF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Protocol Revision Subcommittee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Presentation to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ERCOT Technical Advisory Committ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August 3,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64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Revise Non-Spinning Reserve Service Performance Monitoring Criteri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220968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9548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54864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40240" y="23623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45080" y="2286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73600" y="22384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04600" y="548640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40600" y="29192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42040" y="34527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920" y="397512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6960" y="45194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86960" y="505296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88000" y="22384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14800" y="2895480"/>
            <a:ext cx="380880" cy="3812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0400" y="5562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60720" y="2909880"/>
            <a:ext cx="8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$50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32560" y="3443400"/>
            <a:ext cx="367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 incremental impact expe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65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Revise Responsive Reserve Service Performance Monitoring Criteri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1371600"/>
          <a:ext cx="8229600" cy="448776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9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Constellation – IPM, PDC WG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R revises RRS performance monitoring criteria to more accurately reflect compliant performance by QSE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lows for an appropriate measure for delivery of service and correcting the SCE improves reliability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utomation of manual work-arou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/B Ratio – 2.0, Savings from autom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6 Priority 1.1, Rank 14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unanimously recommended approval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ctober 1, 2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65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Revise Responsive Reserve Service Performance Monitoring Criteri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220968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9548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862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54864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40240" y="23623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45080" y="2286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73600" y="22384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04600" y="548640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40600" y="29192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42040" y="34527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81920" y="397512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86960" y="45194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86960" y="505296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88000" y="22384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2895480"/>
            <a:ext cx="380880" cy="3812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5562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60720" y="2909880"/>
            <a:ext cx="8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$50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732560" y="3443400"/>
            <a:ext cx="367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 incremental impact expe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PRR 668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– Distribution Loss Factor Calculation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57200" y="1371600"/>
          <a:ext cx="8229600" cy="461628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9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Constellation – IPM, UFE TF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difies the settlement interval distribution loss factor to better represent the non-linear relationship between the Distribution Loss Factor and the Settlement Interval ERCOT System Loa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arifies protocol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utomation of manual work-arou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/B Ratio – 2.0, Savings from autom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6 Priority 1.1, Rank 32.6 and a 2007 High Priority (Same as PRR 565, Calculation of Losse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unanimously recommended approval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pon System Implemen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PRR 668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– Distribution Loss Factor Calculation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220968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9548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862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006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54864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40240" y="23623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45080" y="2286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73600" y="22384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04600" y="548640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40600" y="29192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42040" y="34527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1920" y="397512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86960" y="45194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86960" y="505296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88000" y="22384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2895480"/>
            <a:ext cx="380880" cy="3812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114800" y="3429000"/>
            <a:ext cx="38088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3962520"/>
            <a:ext cx="38088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00400" y="5562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57840" y="290988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$100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98800" y="3976560"/>
            <a:ext cx="21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difies Lodest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14280" y="3429000"/>
            <a:ext cx="186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nimal Impa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72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Retail Market Timing Necessary for PUCT P29637 -- </a:t>
            </a:r>
            <a:r>
              <a:rPr b="1" i="1" lang="en-US" sz="3200" spc="-1" strike="noStrike">
                <a:solidFill>
                  <a:srgbClr val="ff3300"/>
                </a:solidFill>
                <a:latin typeface="Tahoma"/>
              </a:rPr>
              <a:t>URGEN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57200" y="1371600"/>
          <a:ext cx="8229600" cy="476892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31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Cirro Energy, IREP, RM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vises transaction timing for retail processes to comply with PUC Order in Project 29637 (Amendment to 25.214 &amp; Retail Pro-Forma Delivery Tariff) and Mass Customer Transition Requirement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forms to PUCT Order and clarifies protocol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RCOT/Stakeholders to analyze transaction timing changes by 11/06 RMS meeting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ve-in timing and priority sorting to be included with TXSET 3.0;  Other changes included in existing project with 2006 Priority 1.1, Rank 10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recommended approval with 1 abstention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pon System Implemen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72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Retail Market Timing Necessary for PUCT P29637 -- </a:t>
            </a:r>
            <a:r>
              <a:rPr b="1" i="1" lang="en-US" sz="3200" spc="-1" strike="noStrike">
                <a:solidFill>
                  <a:srgbClr val="ff3300"/>
                </a:solidFill>
                <a:latin typeface="Tahoma"/>
              </a:rPr>
              <a:t>URGEN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220968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62120" y="54864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40240" y="23623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45080" y="2286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73600" y="22384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04600" y="548640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40600" y="29192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42040" y="34527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81920" y="397512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86960" y="45194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86960" y="505296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88000" y="22384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114800" y="2895480"/>
            <a:ext cx="380880" cy="3812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114800" y="3429000"/>
            <a:ext cx="38088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14800" y="3962520"/>
            <a:ext cx="38088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14800" y="4495680"/>
            <a:ext cx="380880" cy="3812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00400" y="5562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28680" y="2909880"/>
            <a:ext cx="26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hase 1 -- $250K-$500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839480" y="3886200"/>
            <a:ext cx="3370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ase 1 – TXSET 3.0; Phases 2 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 to be evalua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14640" y="4510080"/>
            <a:ext cx="27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hase 3 to be evalu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57120" y="3352680"/>
            <a:ext cx="339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ase 1 – 3 FTE; Phase 2 – no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ase 3 to be evalua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Recommended TAC A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Approv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PRR 658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–  Requirements for Entities Re-entering the ERCOT Mark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PRR 663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–  Payment When a Resource Receives an OOME Down to Zero (0) MW Dispatch Instru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PRR 664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--  Revise Non-Spinning Reserve Services Performance Monitoring Criter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PRR 665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--  Revise Responsive Reserve Services Performance Monitoring Criter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PRR 668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--  Distribution Loss Factor Calcul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PRR 672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--  Retail Market Timing Necessary for PUCT Project 29637 -- </a:t>
            </a:r>
            <a:r>
              <a:rPr b="1" i="1" lang="en-US" sz="2000" spc="-1" strike="noStrike">
                <a:solidFill>
                  <a:srgbClr val="ff3300"/>
                </a:solidFill>
                <a:latin typeface="Tahoma"/>
              </a:rPr>
              <a:t>URG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Replacement Reserve Service Updat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AC requested PRS to work on resolving issues related to the redistribution of RPRS Excess Fu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oard discussed several RPRS issues/concerns and requested TAC to add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S established a task force to address the TAC and Board reque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F met July 27 to consider submitted PRRs as of COB July 2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wo PRRs were submitted by the deadline although the TF discussed another proposal that was filed afterwar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Replacement Reserve Service Updat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S met August 2, 2006 to discuss RPRS TF re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eveloped framework of issues for RPRS TF to continue discuss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PRS TF scheduled to meet August 11 with tentative meeting date on August 1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PRS TF will report options to PRS for possible decisions on issues August 1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S will report progress at September TAC mee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PRS 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4 NPRRs for Approv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 PRRs Withdra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6 PRRs for Approv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 Non-System Changes – IA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 System Change – CBA/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 Urg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PRS Upd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Replacement Reserve Service Updat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ssue 1: Handling of load forecast uncertainty and the allocation / accountability of that responsibility (ERCOT’s 1-sigma bi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s the amount of bias appropriat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f so, is the responsibility allocated properly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ne proposal is to acquire A/S to cover load forecast uncertain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nother option is to remove the effect in settlement – short-QSEs should not pay MCPC when there are inappropriate procure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Replacement Reserve Service Updat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ssue 2: Allocation of Excess Fu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verage costing vs. margi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RR 676 (URGENT)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-- Modifies RPRS procurement and cost allocation consistent with that used for RUC in Texas Nodal.  Removes direct assignment of RPRS for zonal congestion to reflect system capabili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RR 678 (URGENT)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-- Allocates excess funds to QSEs that are scheduling the excess capacity that offset the RPRS requirem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Replacement Reserve Service Updat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ssue 3: Apparent stranding of on-line capacity due to local congestion (power balanc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oes this create additional bi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etermine whether the probability of n-2 criteria in a generation pocket happening simultaneously is realistic – is the ERCOT model to determine these generation pocket constraints appropri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Replacement Reserve Service Updat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ssue 4: System-wide Short vs. Zonal Short – RESOLVED by PRR 66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S affirmed Board direction to pursue PRR 666 with the acknowledgment that future system changes would require additional resource use (time/mone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alculation of short positions (Chaparral comments to PRR 678) and mismatches to be discussed in RPRS T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Nodal PR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S unanimously recommended approval of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PRR002 – Section 3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(Management Activities for the ERCOT System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PRR009 – Section 6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(Adjustment Period &amp; Real-Time Operation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PRR0010 – Synchronization of PRR 630 and Section 3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(Management Activities for the ERCOT System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RCOT believes these changes can be absorbed into the initial requirements/design/schedu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S, with 1 abstention, recommended approval of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PRR008 – Inclusion of PRR 307 in Nodal Protoco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RR 307, Load Providing Regulation Services (Controllable Resource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ERCOT will assess impact to cost/schedule by 10/14/06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Withdrawn PR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S unanimously affirmed withdrawal of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R 476 – Ramp Rate Adherence During Local Conges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58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Requirements for Entities 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Re-entering the ERCOT marke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57200" y="1828800"/>
          <a:ext cx="8229600" cy="458784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1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AEP &amp; TXU Energy, IOU, Mass Transition TF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ds protocols detailing registration requirements for entities re-entering the ERCOT market following a termination of its ERCOT contract or a Mass Drop to POLR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ocuments the requirements to re-enter the market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unanimously recommended approval with comments of RMS/CWG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ctober 1, 2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58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Requirements for Entities 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Re-entering the ERCOT marke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20968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54864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40240" y="23623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45080" y="2286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73600" y="22384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04600" y="548640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40600" y="29192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42040" y="34527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81920" y="397512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86960" y="45194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6960" y="505296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88000" y="22384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5562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20320" y="55627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itive impl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63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Payment When a Resource Receives an OOME Down to Zero (0) MW Dispatch Instructio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57200" y="1981080"/>
          <a:ext cx="8229600" cy="447228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1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ANP, IGEN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forms OOME Down to zero MW dispatch instruction cost recovery process to that used for OOMC (e.g., verifiable costs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arification of protocol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recommended approval by a vote of 3.58 to 3.42 with 2 abstentions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ctober 1, 2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63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Payment When a Resource Receives an OOME Down to Zero (0) MW Dispatch Instructio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220968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862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54864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40240" y="23623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45080" y="2286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73600" y="22384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04600" y="548640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40600" y="29192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42040" y="34527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81920" y="397512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86960" y="45194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6960" y="505296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8000" y="22384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5562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64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Revise Non-Spinning Reserve Service Performance Monitoring Criteri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1371600"/>
          <a:ext cx="8229600" cy="448776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9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Constellation – IPM, PDC WG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R revises NSRS performance monitoring criteria to more accurately reflect compliant performance by QSE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lows for an appropriate measure for delivery of servic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utomation of manual work-arou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/B Ratio – 2.0, Savings from autom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6 Priority 1.1, Rank 14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unanimously recommended approval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ctober 1, 2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4:00:20Z</dcterms:created>
  <dc:creator>Reliant</dc:creator>
  <dc:description/>
  <dc:language>en-US</dc:language>
  <cp:lastModifiedBy>Reliant</cp:lastModifiedBy>
  <dcterms:modified xsi:type="dcterms:W3CDTF">2006-08-03T03:27:27Z</dcterms:modified>
  <cp:revision>46</cp:revision>
  <dc:subject/>
  <dc:title>Protocol Revision Subcommittee</dc:title>
</cp:coreProperties>
</file>