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068D35-D9EA-4E4D-89E2-448EA7277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Dumas Report on wind impact on SCE – there is a fudge factor already – at stakeholder request they separated wind error (schedule from actual) out of it, but knowing this may have very little impact on the total fudge factor.  Asked for an update on how well things are working in Dec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Lee Report on 15 minute ramp schedules – is going forward – Deployed in about 6 month – found a TYPO – checking with ERCOT legal on fix process – Patton recommend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on co-opt --</a:t>
            </a:r>
            <a:r>
              <a:rPr b="1" lang="en-US" sz="1200" spc="-1" strike="noStrike">
                <a:solidFill>
                  <a:srgbClr val="000000"/>
                </a:solidFill>
                <a:latin typeface="Arial"/>
              </a:rPr>
              <a:t> Brandon talked to vendors about cost and schedule impacts of  the two co-optimization approa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 reported there would be impacts – not forkliftable – still don’t know the answer – they said the will file something with PUC in response to the order but got some push back from WMS – may be reporting their findings to TAC – WMS asked them to take it to TA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 – two PRRs that will come to TAC via P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 CSCs for next year and outage coordination with TCR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WG – working on PUC project and shuffling officers – told to report through W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 RPRS TF – not optimistic on the zonal RPRS problem – if so we need to strike Protocol language - need to produce clawback for local RPRS PRR to coordinate with 666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 TF – Scaling factor PRR 673 filed with two options – WMS supported option 2 – questions on when info available – some discussion on when scores will be available and if exceptions can be automated.  Ino wanted to be sure we did not True Up the SF with final settlements – Gave us 4 options on how to move with primary freq (see slide) WMS option two – NPR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F – use the slide that was presen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Project Managers Working Group Gary Miller, QSE has not met since last WMS. Wanted to give wording on PRR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607 One Minute Schedules on Start Up – Revision (Possible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ed FPL Energy comments. Only if QSE fails does this come in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elle Jaussaud – will it allow ERCOT to take into account this ramping curve into plans for balancing energy? Will it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y – no, just sett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 – does not benefit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uce – information exchange, ERCOT will prepare IA, etc during PR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ne Morter – drafted when really an issue, now not so much of an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 – appeal of something simple, would be more in favor if there was an FTE as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uce - ERCOT will not do an official IA until you pass a PRR at P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WG – CSCs are being work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to Houston – impact of Hilgie – on the second half the year – Policy question – exact CSC after construction is a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C issues list was one of the WMS goals for the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Increase visibility of TCR revenue adequa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ctivity:  TCR quarterly reports posted – MPs need to provide comments on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Improve outage impact deter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Outage Sensitivity Factor Project (PR-30056-01) pending; this tool allows for a quicker review of specific outage imp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Determine methodology for outage significant 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ctivity:  Currently outages lasting 5 days or more are considered to have an impact; need to review impact of multiple outages lasting less than 5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Review differences in load distribution between TCR case vs. daily operatio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Additional analysis not required at this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Inclusion of generator outages in TCR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ctivity:  Generator outages are protected information for 180 days.  TCR posting requirement is for TCR quantities only.  PRR needed to allow generator outages inclusion in Section 7.5.2.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commend implementation no sooner than 2007 annual a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stion about whether generation outages should be included for Annual auction or only in month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Use of Dynamic &amp; Seasonal Ratings for TCR calc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Leads to TCR underselling, no additional analysis is required at this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Comparison of STNET vs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Leads to TCR underselling, no additional analysis is required at this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Improve accuracy of 45-day outage 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ERCOT emails TOs to update outage list prior to TCR calc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Review possible delays in outage pos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There is no delay in outage postings, therefore no action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ssue:  TCR training for TO personn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lution:  Presented at Outage Scheduler meeting in August 2005.</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WG – working on PUC project and shuffling officers – told to report through WM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 TF – Scaling factor PRR 673 filed with two options – WMS supported option 2 – questions on when info available – some discussion on when scores will be available and if exceptions can be automated.  PUC staff and others raised concerns regarding a scale factor of less than one. Ino wanted to be sure we did not True Up the SF with final settle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e Factor in  PRR 661 set to 1.  Performance dependent where SF moves tenth of a point per point in inverse direction to ERCOT’s CPS1 sc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options in the PR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one 130 is midpoint (means SF changes every mon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two 130 to 140 deadband – will only be more stable if ERCOT stabilizes in that b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ncepts behind a Primary Frequency (Gov Resp service) control ancillary service have been outlined.  With staff and budget concerns, FQFT Gave us options on how to move with primary freq (see slide) WMS option two – NPRR on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E is all about people doing what they say they are going to do with generators.  PRR 525 grades people on 1 minute deviations from schedule but operations can’t accept 1 minute schedules. PRR 607 allows QSEs that are on the edge regarding SCE compliance to enter in advance 1 minute schedules.  These won’t be used by operations because its not worth it to implement, but it will be used by compliance.  WMS recommend PRS approve PRR607 (One-Minute Ramp Schedules)  as reviewed by the QMWG comments submitted on their behalf by FPL energy, Clayton Greer seconded the motion. Voice vote. No negatives. 4 abstentions.</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R 426 discussion – old PRR with a 3.3 – got raised in the process above the line – PRS asked WMS to look at the second part of it which added wind only QSE MW to loads when determining LRS for regulation. – WMS recommend putting it back below the cut line until the more thorough wind integration studies being done by planning are completed and re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 RPRS TF – not optimistic on the zonal RPRS problem – if so we need to strike Protocol language - need to produce clawback for local RPRS PRR to coordinate with 666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dge is to fudge the HSLs of cc trains so that the steamer is zero and the GTs are the sum of the two.  If struck, need to be corrected in Resource Plan within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F – use the slide that wa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w well does an air permit indicate new capac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mit good for three year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5k permit fee; similar $ for preparation &amp; model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NSR permit is the critical path item.</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mit process for a new power plant is likely to take 6-12 months; could be longer.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CEQ’s experience suggests 2010 for new coal capac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coal permits issued (1550 MW), 11 in review (9700 MW).</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7% of gas projects permitted have probably been buil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for information sharing with ERCOT.</a:t>
            </a:r>
            <a:endParaRPr b="0" lang="en-US" sz="1300" spc="-1" strike="noStrike">
              <a:solidFill>
                <a:srgbClr val="000000"/>
              </a:solidFill>
              <a:latin typeface="Arial"/>
            </a:endParaRPr>
          </a:p>
          <a:p>
            <a:pPr indent="0">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tails are on ercot.com for GATF of July 14, 2006.</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F8F7D-47F8-4EE7-9182-2F7478F74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740D-F515-414C-82F2-735A1AD6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01DEA-2246-455A-9FDC-B633B7498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329E4-910B-495B-917F-C9D424ADA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8781B-C059-449C-90C1-6C4B3651B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C530C-D88F-4AE7-81B4-80314E2AD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ED900-1DFA-4A31-B7C5-AA1CAE79F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AC106-7AC4-49F5-B161-4ECEEE82D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9F119-BB24-4298-AF9E-6D87566E4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F4127-F4C2-487D-97F3-6C86BF87C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9409F-75CA-4C1F-8A67-1FE5DAB8F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03CC-E3B9-4FE9-86A7-FBC4F697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1A071-CF24-4679-A40E-906E4707B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4D80-7D15-494F-867C-55EF38E84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3D173-E873-4154-BA8D-05CB66FC8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AAA16-D45D-43F8-89DB-904BD305D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F5DA7-4B6F-4852-B166-F2B43308A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7561-462F-44B4-8339-B0B76411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93AB-2620-4F8A-AA82-B4F98C265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4CD4-B79D-439D-B30D-5EF6FE1C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7594E-BA3B-4DD1-B674-340FC4DA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3472-B7B5-4353-A44C-DB194680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462B-2C99-46BC-A713-FB677E4B6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2A69-A6C4-441E-8D29-F3E122BB9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7F9-CCDE-4C04-B449-9407EF6E87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06B1-E595-4DAF-97F2-9B49FCC8EF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gust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B0C5D0B-BBD3-4FF3-B846-C40C71B5F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impact on SCE and BES deploy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 minute Ramp Schedul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input on Cooptimiz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6FEFED2-D916-4B85-BBFD-D565FC76F8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bgroups of WMS</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d Cycle RPRS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timization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ion Adequacy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Frequency Control Task For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gestion Management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and-Side Response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ering Working Group</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ed Scheduling Entity Managers Working Grou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B4D5DA0-CA3C-433C-BC3E-5F822D10A9F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ECP Action Item Status Update</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urce Plans, Updating Resource Plans, Offline Capacity Not Available, Max Capability in Resource Plans, How Much Wind Capacity to Count as Availabl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mergency Load Response Service, and Quantifying Price Responsiveness of Load Particip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D97D890-D82E-4AA1-9E9B-7C09C0B1D5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ERCOT Staff Present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ndor Discussions on Co-Optimiz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5E6592B-93F0-46DA-ACDA-219FFC5B74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PRRs finalized that will be reported through PR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502F7B1-F402-420B-8591-5880BBBF4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2007 CSC Analysis</a:t>
            </a:r>
            <a:endParaRPr b="0" lang="en-US" sz="3400" spc="-1" strike="noStrike">
              <a:solidFill>
                <a:srgbClr val="ffffff"/>
              </a:solidFill>
              <a:latin typeface="Tahoma"/>
            </a:endParaRPr>
          </a:p>
          <a:p>
            <a:pPr marL="343080" indent="-343080">
              <a:spcBef>
                <a:spcPts val="8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List of issues related to the calculation of TCRs</a:t>
            </a:r>
            <a:endParaRPr b="0" lang="en-US" sz="3400" spc="-1" strike="noStrike">
              <a:solidFill>
                <a:srgbClr val="ffffff"/>
              </a:solidFill>
              <a:latin typeface="Tahoma"/>
            </a:endParaRPr>
          </a:p>
        </p:txBody>
      </p:sp>
      <p:sp>
        <p:nvSpPr>
          <p:cNvPr id="4" name="PlaceHolder 3"/>
          <p:cNvSpPr>
            <a:spLocks noGrp="1"/>
          </p:cNvSpPr>
          <p:nvPr>
            <p:ph type="sldNum" idx="3"/>
          </p:nvPr>
        </p:nvSpPr>
        <p:spPr/>
        <p:txBody>
          <a:bodyPr/>
          <a:p>
            <a:fld id="{1005B989-2BB1-4DF5-82DC-0484E4ACB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dated WMS on issues related to Load Participation Docket at the PUC.</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nomination of WG leadership</a:t>
            </a: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4515E7DF-8348-4F63-A1D6-993EAD051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Frequency (SCE)</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73 Adjust SCE Performance Charge Scale Fac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y Frequency Control Option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607 One Minute Ramp Schedul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R 426 Uninstructed Deviation Calculation for Uncontrollable Renewable Resource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25BDD48-CC38-404C-BB44-F1E2FA05C6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Combined Cycle/RPRS</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fix for Zonal RPRS proble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Clawback language PRR for local RP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capability Cluge can work</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D4BD47E-AC4D-43A3-BD5C-B8B4B27EC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ask Force Reports</a:t>
            </a:r>
            <a:br>
              <a:rPr sz="4000"/>
            </a:br>
            <a:r>
              <a:rPr b="0" lang="en-US" sz="4000" spc="-1" strike="noStrike">
                <a:solidFill>
                  <a:srgbClr val="e5ffff"/>
                </a:solidFill>
                <a:latin typeface="Tahoma"/>
              </a:rPr>
              <a:t>Generation Adequacy</a:t>
            </a:r>
            <a:endParaRPr b="0" lang="en-US" sz="4000" spc="-1" strike="noStrike">
              <a:solidFill>
                <a:srgbClr val="e5ffff"/>
              </a:solidFill>
              <a:latin typeface="Tahoma"/>
            </a:endParaRPr>
          </a:p>
        </p:txBody>
      </p:sp>
      <p:graphicFrame>
        <p:nvGraphicFramePr>
          <p:cNvPr id="106" name=""/>
          <p:cNvGraphicFramePr/>
          <p:nvPr/>
        </p:nvGraphicFramePr>
        <p:xfrm>
          <a:off x="457200" y="1981080"/>
          <a:ext cx="8229240" cy="4114440"/>
        </p:xfrm>
        <a:graphic>
          <a:graphicData uri="http://schemas.openxmlformats.org/drawingml/2006/table">
            <a:tbl>
              <a:tblPr/>
              <a:tblGrid>
                <a:gridCol w="1936080"/>
                <a:gridCol w="62931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e-Examin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DR Compon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ed Uni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 (not this ye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hballed Capac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able Capac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ting of Generation &amp; Load (Private Network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Ties (50% assump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ired Capac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Response Programs (pending PUCT 328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rves by Zone (more detail in CD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C7FC71B-0BC6-426E-B630-C2CE83A5D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8-03T18:42:34Z</dcterms:modified>
  <cp:revision>52</cp:revision>
  <dc:subject/>
  <dc:title>WMS Report TO TAC</dc:title>
</cp:coreProperties>
</file>