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6BE48-780C-4E16-808F-131E70FE5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0F18B-9620-4754-AB6A-A1E0CC2E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A51FC-B6DF-4756-9FC2-60D58BD66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C7DBE-F0B7-41B8-9C1C-87F23F2E2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3683D-B13B-4AF9-BAD8-78FDDFA14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76ED-59EC-4EA0-B015-C70F2BB11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31E07-661D-41D9-9397-A88E0E20F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B8219-98F6-48CE-AB37-7CC8917A3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DFD2E-8F2B-4342-8C55-7340CF06D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4D01-39C4-4A3F-933F-D5FF136AD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0AFF-E6F4-4E22-A733-B2C8758F1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0170E-0322-4227-B8DA-66EDA3D9A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293C-61D1-4010-91C0-7C7BE1295D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S Review of 4/17/06 EECP Event</a:t>
            </a:r>
            <a:br>
              <a:rPr sz="4000"/>
            </a:br>
            <a:br>
              <a:rPr sz="4000"/>
            </a:br>
            <a:endParaRPr b="0" lang="en-US" sz="3200" spc="-1" strike="noStrike">
              <a:solidFill>
                <a:srgbClr val="000000"/>
              </a:solidFill>
              <a:latin typeface="Arial"/>
            </a:endParaRPr>
          </a:p>
        </p:txBody>
      </p:sp>
      <p:sp>
        <p:nvSpPr>
          <p:cNvPr id="4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 met on 5/15/06 to review the ERCOT Operations Report for the 4/17/06 EECP ev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 had no significant issues with the data in the report, or with ERCOT actions taken during the ev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dentified for additional discussion / possible improv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nce on 100% of indicated reserve cap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advance notice to particip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atch / control of additional reser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adequacy of communi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of manual LAAR deploy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of Public Appea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of these points at subsequent ROS meetings resulted in a  determination of more appropriate EECP event triggers and actions at various EECP ste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S Proposed Refinements to EECP</a:t>
            </a:r>
            <a:br>
              <a:rPr sz="4000"/>
            </a:br>
            <a:br>
              <a:rPr sz="4000"/>
            </a:br>
            <a:endParaRPr b="0" lang="en-US" sz="3200" spc="-1" strike="noStrike">
              <a:solidFill>
                <a:srgbClr val="000000"/>
              </a:solidFill>
              <a:latin typeface="Arial"/>
            </a:endParaRPr>
          </a:p>
        </p:txBody>
      </p:sp>
      <p:sp>
        <p:nvSpPr>
          <p:cNvPr id="45"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1: Historically, indicated reserves overstate the true capability of online generation.  This delays initiation of EECP, and creates confusion as to how severe circumstances truly ar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2: Current EECP procedures can be improved to optimize market participant response during the event, and during recovery from the event.</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3: Certain actions can be taken prior to entering EECP that can reduce the severity and/or the need for additional measur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 and OWG have developed OGRR 186 in response, along with the necessary PRR.   These should reach TAC this September (depending on urgency vo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S Solution to Reserve Monitoring</a:t>
            </a:r>
            <a:br>
              <a:rPr sz="4000"/>
            </a:br>
            <a:br>
              <a:rPr sz="4000"/>
            </a:br>
            <a:endParaRPr b="0" lang="en-US" sz="3200" spc="-1" strike="noStrike">
              <a:solidFill>
                <a:srgbClr val="000000"/>
              </a:solidFill>
              <a:latin typeface="Arial"/>
            </a:endParaRPr>
          </a:p>
        </p:txBody>
      </p:sp>
      <p:sp>
        <p:nvSpPr>
          <p:cNvPr id="47"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ponsive Capability (PR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the purpose of determining the probable amount of online responsive reserves that will in fact respond to system emergencies, generating unit capabilities will be reduced by the RDF when determining responsive reserve capabil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 Discount Factor (RD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osed by ERCOT, approved by ROS.  Initial determination shows the RDF should be 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C will be used by ERCOT when determining the appropriate Emergency Notification and appropriate EECP Ste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liminary studies show approximately 1,000 MW of discounted reserves during recent high load day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allowable LaaR Contribution towards RRS is not affec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 of PRC on Responsive Monitoring </a:t>
            </a:r>
            <a:br>
              <a:rPr sz="4000"/>
            </a:br>
            <a:br>
              <a:rPr sz="4000"/>
            </a:br>
            <a:endParaRPr b="0" lang="en-US" sz="3200" spc="-1" strike="noStrike">
              <a:solidFill>
                <a:srgbClr val="000000"/>
              </a:solidFill>
              <a:latin typeface="Arial"/>
            </a:endParaRPr>
          </a:p>
        </p:txBody>
      </p:sp>
      <p:sp>
        <p:nvSpPr>
          <p:cNvPr id="4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MW unit operating at 50 MW (today)</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sponsive capability (20% rule) = 20.0 MW</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MW unit operating at 50 MW (after change)</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sponsive capability (20% rule) = 20%*(100 - 7%) = 18.6 MW</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MW unit operating at 90 MW (today)</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sponsive capability = (100 - 90) = 10.0 MW</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MW unit operating at 90 MW (after change)</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sponsive capability = (100 - 7%) - 90 = 3.0 MW</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MW unit operating at 100 MW has no reserve in either cas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S Proposed EECP Actions</a:t>
            </a:r>
            <a:br>
              <a:rPr sz="4000"/>
            </a:br>
            <a:br>
              <a:rPr sz="4000"/>
            </a:br>
            <a:endParaRPr b="0" lang="en-US" sz="3200" spc="-1" strike="noStrike">
              <a:solidFill>
                <a:srgbClr val="000000"/>
              </a:solidFill>
              <a:latin typeface="Arial"/>
            </a:endParaRPr>
          </a:p>
        </p:txBody>
      </p:sp>
      <p:sp>
        <p:nvSpPr>
          <p:cNvPr id="51"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EECP:</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RMR Units available in the time frame of the emergency and load them to full capability. (was in Step1)</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Replacement and Non-Spin resources. (was in Step 1)</a:t>
            </a:r>
            <a:endParaRPr b="0" lang="en-US" sz="20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EECP STEP 1:</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RC plus RRS from LaaR is less than 2300 MW.</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appeal to public for voluntary load reduction. (was in Step 3)</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ctions remain the same.</a:t>
            </a:r>
            <a:endParaRPr b="0" lang="en-US" sz="20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EECP STEP 2:</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RC plus RRS from LaaR is less than 1750 MW.</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 removal of LaaR load still occurs at this Step.</a:t>
            </a:r>
            <a:endParaRPr b="0" lang="en-US" sz="20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EECP STEP 3:</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RCOT cannot maintain 59.8 Hz.</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load shed in 100 MW blocks occurs at this Step.</a:t>
            </a:r>
            <a:endParaRPr b="0" lang="en-US" sz="20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TEP 4</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lated ERCOT Procedure Changes</a:t>
            </a:r>
            <a:br>
              <a:rPr sz="4000"/>
            </a:br>
            <a:br>
              <a:rPr sz="4000"/>
            </a:br>
            <a:endParaRPr b="0" lang="en-US" sz="3200" spc="-1" strike="noStrike">
              <a:solidFill>
                <a:srgbClr val="000000"/>
              </a:solidFill>
              <a:latin typeface="Arial"/>
            </a:endParaRPr>
          </a:p>
        </p:txBody>
      </p:sp>
      <p:sp>
        <p:nvSpPr>
          <p:cNvPr id="5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to all interested parties of daily ERCOT reports to the PUC on EECP Potenti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n OCN when PRC plus RRS on LaaR shows less than 3000 MW on pea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n Alert when PRC plus RRS on LaaR shows less than 2500 MW on pea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Operations is prepared to implement the entire package of proposed modifications to the EECP on very short notice, and requests early approval.</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20:03:10Z</dcterms:created>
  <dc:creator>Paul Breitzman</dc:creator>
  <dc:description/>
  <dc:language>en-US</dc:language>
  <cp:lastModifiedBy>LCRA Employee</cp:lastModifiedBy>
  <dcterms:modified xsi:type="dcterms:W3CDTF">2006-08-03T13:27:06Z</dcterms:modified>
  <cp:revision>18</cp:revision>
  <dc:subject/>
  <dc:title>ROS Report to TAC – 2/2/06 Major Discussion Items at 1/13/06 RO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9386675</vt:r8>
  </property>
  <property fmtid="{D5CDD505-2E9C-101B-9397-08002B2CF9AE}" pid="3" name="_AuthorEmail">
    <vt:lpwstr>PaulB@gplops.org</vt:lpwstr>
  </property>
  <property fmtid="{D5CDD505-2E9C-101B-9397-08002B2CF9AE}" pid="4" name="_AuthorEmailDisplayName">
    <vt:lpwstr>Breitzman, Paul</vt:lpwstr>
  </property>
  <property fmtid="{D5CDD505-2E9C-101B-9397-08002B2CF9AE}" pid="5" name="_EmailSubject">
    <vt:lpwstr>EECP Report to TAC</vt:lpwstr>
  </property>
  <property fmtid="{D5CDD505-2E9C-101B-9397-08002B2CF9AE}" pid="6" name="_ReviewingToolsShownOnce">
    <vt:lpwstr/>
  </property>
</Properties>
</file>