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ctr" pos="3714840"/>
                <a:tab algn="r" pos="759924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ctr" pos="3714840"/>
                <a:tab algn="r" pos="759924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Implementation Board Presentation July – v1.1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97C52422-BCC6-4218-A46E-A35F81FBD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nodal.erco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3714840"/>
                <a:tab algn="r" pos="75992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ERCOT Board of Directors Meeting</a:t>
            </a:r>
            <a:br>
              <a:rPr sz="2400"/>
            </a:b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gram status briefing</a:t>
            </a:r>
            <a:br>
              <a:rPr sz="1600"/>
            </a:b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July 18,2006</a:t>
            </a:r>
            <a:br>
              <a:rPr sz="1800"/>
            </a:b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Ron Hinsley, Chief Information Officer</a:t>
            </a:r>
            <a:br>
              <a:rPr sz="1800"/>
            </a:b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rhinsley@ERCOT.co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ess this Mont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ket Participant Engagement &amp; Readiness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 TPTF approval of the last large NPRR aimed at addressing ERCOT's &gt;700 protocol clarification questions and syncronizing Zonal PRRs passed since the TNT baseline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red TPTF approval of Course Curriculum Descriptions and a Training Audience Matrix which together propose targets for MP personnel readiness criteria and allow our training group to proceed with scheduling and budgeting of MP Training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ed by TAC, Nodal Market Participant Accountable Executive role &amp; Telemetry and State Estimator criter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ed to TPTF, the 1st iteration of the Market Participant Nodal Activities docu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grated Testing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ablished core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d test lab RFP for b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 Systems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ted Day Ahead Energy requirements to TPTF for appro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Level 4 process diagra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MMS/Network Model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first set of Use Cases and Business Process Diagra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data mapping between EMS/NM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S/OS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substantial portion of EMS requirements and Use Cases; target is TPTF requirement approval in Aug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ved ABB SOW for the Outage Scheduler into execution c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MS/SCED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ed ABB SOW and P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 technical document exchange between ABB and ERC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first major technical review of in-process MMS requirements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gram Control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al received of the Nodal Control and Quality Assurance policy and proced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ed control processes to track and report costs; these will be used in the September 1st program colle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R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ed Nexant SOW for system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 initial deposit of Nexant deliverab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A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RUP training for the Nodal team; completed 1st class for TPTF on Use Case development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d EDW Road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rastructure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red senior project 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development environment install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COT Readiness &amp; Transition 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readiness team expanded to include all ERCOT dir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red third party readiness advisor to track and report ERCOT readiness activities similar to approach used by MI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6840"/>
            <a:ext cx="78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program status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feasibility of 1/1/09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gram plan to be baselined 9/19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3640" y="4448160"/>
            <a:ext cx="8070840" cy="1140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ze, complexity and ris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f the program is not yet contai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612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mon network model, CRR and DAM are subject to significant uncertai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612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ctations for extensive fork-lifting must be tempered by the fact of unique Texas Nodal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612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dgetary implications are not fi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solution of issues top Nodal prior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enario analyses will form options for substantial de-risking of custom Texas Nodal software and integ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3565440"/>
            <a:ext cx="8070840" cy="876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ff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sues rem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s for business requirements are the priority; toughest challenge is securing/growing “Texas Nodal” 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leadership areas vacant – EDW, Integration, Infrastructure, MIS and MP Read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 comprehensive staffing model is now being deployed, utilizing ERCOT staff, short-term staff augmentation, contractors and consult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847880"/>
            <a:ext cx="8070840" cy="1719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siness require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the short-term critical path challe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 of effort required to achieve necessary quality and approval is not yet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ization and productivity levels behind expec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Contracting took longer than 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Vendors requiring more time to assemble their experts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98440">
              <a:lnSpc>
                <a:spcPct val="90000"/>
              </a:lnSpc>
              <a:spcBef>
                <a:spcPts val="312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PRRs will be impacted through the Nodal Change Control post 9/13/06 bas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combined NODAL team is driving to complete business requirements by October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means to accelerate the production of a coherent Nodal work product is dependant upon Key MP protocol experts being dedicated to the Nodal Progr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pending year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47760" y="1019160"/>
            <a:ext cx="718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9999"/>
              </a:buClr>
              <a:buFont typeface="Wingdings" charset="2"/>
              <a:buChar char="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&amp;M (,00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lab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 2,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, tools, suppl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ser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ies and Ut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expe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 and 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&amp;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,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9999"/>
              </a:buClr>
              <a:buFont typeface="Wingdings" charset="2"/>
              <a:buChar char="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tal Capit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 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9999"/>
              </a:buClr>
              <a:buFont typeface="Wingdings" charset="2"/>
              <a:buChar char=""/>
              <a:tabLst>
                <a:tab algn="r" pos="537228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pending through J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35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36760" y="5545080"/>
            <a:ext cx="5756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Total spending through May $2,953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eliminary*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Key Da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/7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ferred vendors selec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5/06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rt joint requirements, use cases, test cases 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6/30/06 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6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W Roadmap comp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10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Participant readiness activities l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30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S &amp; Integration Roadmap comp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/4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tion vendor selec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enario Development and Choices by  9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/19/06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RCOT Board of Directors meeting  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(commitment:  date and dollars)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/30/0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quirements complete and approved *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requires TPTF approv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/31/07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Participant interface specs comp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/1/07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S FAT beg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/1/08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Participant SCED offers begin (EDS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/1/0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et systems, Market Participant offers (EDS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eliminary dates; pre-baselined program plan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9560" y="1204920"/>
            <a:ext cx="581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79560" y="1688760"/>
            <a:ext cx="581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9560" y="1936800"/>
            <a:ext cx="581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Rachel Cheng</dc:creator>
  <dc:description/>
  <dc:language>en-US</dc:language>
  <cp:lastModifiedBy>khager</cp:lastModifiedBy>
  <dcterms:modified xsi:type="dcterms:W3CDTF">2006-07-20T16:37:52Z</dcterms:modified>
  <cp:revision>98</cp:revision>
  <dc:subject/>
  <dc:title>Texas Nodal Executive Leadership Meeting Preparation Material By Rachel Cheng, PA Consulting Group</dc:title>
</cp:coreProperties>
</file>