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D75-CB12-4FE0-A0C5-23273001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7AC-C80B-4768-B9FA-64F70D8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C09-E1DC-4E15-97D6-EB2FEBE4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8BD-99D9-4224-BF22-61B4E889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7DA-3B82-4DD3-9F06-A8894D00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CE75-DCC0-4984-9B39-0BB07A3D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132-1536-4B9A-8584-4C036CA2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3571-4503-471F-BBDD-C2C626C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E462-35C6-4D80-B3C1-A67960B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9DF1-D469-40A2-9F91-D7190B90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5F00-7E90-441E-A14E-81830B16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DB3-AEE4-43A0-BB77-815A0AC6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FA6-3D1F-4EB1-A0F5-9220209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9C1D-4946-4B1C-AB72-F73E8E3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AE0E-9424-4528-8BF7-33C7C4C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166C-6EC2-4BDB-AD8D-EF318A75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24DC-556F-40B1-BD39-B99FD0D1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F4C-D9F3-472A-A3FC-A4FB6EE5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96D-62D8-4A5E-AA73-BCC2E2E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DF6-9731-4688-8079-2120E4CE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D30-5893-423D-BCB7-D47D885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77C-1596-4125-A64B-AC6A9CD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0F8-1686-4086-BB1F-1C1B5A3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C82-7AC2-4143-B78E-2E65FC4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CCAD-EFFD-4535-92A4-1410CDED5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62E1-D476-4DAC-8F7A-07E649F284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Voting Item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GRR005 Process for Competitive Metering Guide Rev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s a revision process consistent with other Market Gu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nimously approved at 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S requests TAC approval of CMGRR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Upda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approved the  2007 Flight Tes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107: TX Set Version 2.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Dec 13,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Dec 19,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Jan 12 – Feb 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407: TX Version 3.0 – T&amp;Cs and POL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March 14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April 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April 13 – May 2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0707: TX Version 3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June 20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June 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July 6 – Aug 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1007: TX Version 3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ight Deadline is Sep 19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nectivity Begins Sep 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ing: Oct 5 – Nov 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RMS Upda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approved establishing a Market Coordination Team to manage the TX SET v3.0 project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T provides Market Participants with a single point of communications fo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CT will communicate and coordinate project progr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Participant Intern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Participant Internal Development/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Cut-over det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/No-Go Criteria and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S Update to T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7-27T14:52:48Z</dcterms:modified>
  <cp:revision>46</cp:revision>
  <dc:subject/>
  <dc:title>RMS Update to TAC</dc:title>
</cp:coreProperties>
</file>