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B8F-6DE6-4871-B004-956A16F3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4E5-81E7-47DB-8F29-9FCE5D1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F4C-93C7-4EF5-9F97-8EF3D314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67F-191F-4C5C-A0D1-C8E71B2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694-B500-4CCB-9188-B23EBF52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DCE-FA21-4EB5-95E1-CB48E29E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A9A-7781-4235-B6F5-686FDAE7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E87-EFEC-4D82-A0E8-2E7999E2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9C9-B199-4629-A6ED-61C172E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379-6786-4006-8443-481AD87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40D-F8F5-426E-9B24-E4B0AAC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CE0-3968-4083-B6D8-F9BD6DF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ECB-D430-4042-A939-DA1B61FF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 Review of PRR 6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1C3-5827-4305-B30B-AB2E120B6D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ypothetical peaking unit would lose more money without the PRR 650 adjustment to M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NSRS deployment suppresses scarcity prices in contrast to PUCT policy, resulting in peaking generation disinvestment in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A59-4F33-49A4-AB53-08E08C3664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619760" cy="48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E6F-4D4A-42E0-83EB-DE741CB81D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 of PRR 650 to the Market and Consu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 the market in a positive way by reducing energy price risk for NSRS while sending the right price signal to the whol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near-term, reduced risk to providers of NSRS will resul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SRS capacity prices as providers remove risk premium from their NSRS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ong-term, reduced risk will also enti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y to the market thereby improving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to MCPE will be relatively minor because of the limited number of NSRS deployments (1.5% of the intervals for the 12 months ending May 31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109-4FC2-45C7-97FC-784E97E6A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Impact of PRR 6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48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FEB-DFCD-4080-A2DD-2245059FA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Impact of PRR 6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934320" cy="43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7B1-6352-4A96-A86E-19F024B0DF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Charge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remanded PRR 650 to TAC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alysis of how to ensure that consumers pay only one time for the Ancillary Services needed for reliability reaso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at PRR 650 is the best way to ensure relia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0240" y="620856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Draft minutes of ERCOT Board Meeting of June 20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876-CD2C-4ABA-AD25-B05742F4D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650 Action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COT Board “voted to remand to TAC for further consideration of issues raised by BOD discussion: review calculation of MCPE and prices paid for non-spin to keep consumers balanced; study double dipping, clawback and economic fairness of payments; and complete economic analysis and determine whether PRR650 is the best way to encourage new genera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1680" y="62085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PRR 650 Action Report dated June 2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4C5-8F59-43FD-9EAD-18C53B05E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RS Bi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 for a capacity payment, a QSE agrees to the following “risk and opportunity” co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e Resource if needed to supply their own capacity shortfall (e.g., loss of a uni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e Resource for its own profit (when market conditions are favorable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y that MCPE will be less than the Resource’s energy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ed MCPE price signal will result in  lower NSRS offer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40E-E303-4221-B7C2-948478318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80" y="7920"/>
            <a:ext cx="913104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DB6-D8DF-4313-9BE2-9A5D5F9DC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RR 650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s MCPE when NSRS is deployed by removing NSRS deployments from the bid stack and manually re-running Scheduling, Pricing and Dispatching (SPD) algorithm to determine a new MCPE for that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ERCOT to provide a notice to the market when NSRS is deployed and when NSRS deployment is discontin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350-819C-4237-87FC-65C00BDAA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ard Concern About Double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RS capacity payment covers lost “risk and opportunity” costs but not the operating cost of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RS energy payments (MCPE) only cover the cost of operating the Resource (possibly with some pro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and energy are separate products with separat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650 does NOT create double-dipping; therefore, no “clawback”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99B-669F-4E03-9313-AB49EFC8E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period: June 2005 through May 2006 (12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MCPEs assuming PRR 650 was in-place for the entire period (based on actual MCPEs for the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eaker Entry Test (PET) model developed for PUCT Project No. 31972, the rulemaking on resource adequacy and market power in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estimated MCPEs to the PET model to determine if PRR 650 would allow a peaker to make enough money to stay i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41F-5F4B-4998-9C81-B9C1D6E8B6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cenarios were r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MCPEs (no adjustment for PRR 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PE adjusted for PRR 650 – with MC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PE adjusted for PRR 650 – without MC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nnual Net Margin (ANM) for a hypothetical peak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M to Target Annual Net Revenue (TANM) to determine if the peaking unit would recover all its annual fixed costs to break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10B-72AE-4DF8-B1CF-72CF48A186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2:40:43Z</dcterms:created>
  <dc:creator>H Durrwachter</dc:creator>
  <dc:description/>
  <dc:language>en-US</dc:language>
  <cp:lastModifiedBy>H Durrwachter</cp:lastModifiedBy>
  <dcterms:modified xsi:type="dcterms:W3CDTF">2006-07-26T18:20:39Z</dcterms:modified>
  <cp:revision>9</cp:revision>
  <dc:subject/>
  <dc:title>TAC Review of PRR 650</dc:title>
</cp:coreProperties>
</file>