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4371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03, 2006 – TAC Meet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fld id="{89EDB623-BB22-4B4E-8CF0-54925A517A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http://nodal.ercot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TPTF Update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1800"/>
            </a:br>
            <a:r>
              <a:rPr b="0" lang="en-GB" sz="2400" spc="-1" strike="noStrike">
                <a:solidFill>
                  <a:srgbClr val="808080"/>
                </a:solidFill>
                <a:latin typeface="Arial Black"/>
              </a:rPr>
              <a:t>Trip Doggett</a:t>
            </a:r>
            <a:br>
              <a:rPr sz="32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ext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792000"/>
            <a:ext cx="8610840" cy="51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August 7 and Tuesday, August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August 21 thru Wednesday, August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discus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rification - Section 3.10.4 on Model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rification - Options for handling CRR time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 on Net Me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 on CRR Settlement without 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comments received on DAM Make Whole Settlement Commercial Operations Business Requirements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Overview of RUC Settlement Commercial Operations Business Requirements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Overview of Real-Time AS Settlement Commercial Operations Business Requirements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on Principles of Consistency TF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AC Approval of Mile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914400"/>
            <a:ext cx="8458200" cy="51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July 25, TPTF approved DAM AS Settlement Business Requirements by a ballot vote of 100% in favor, with abstentions by City of Garland, CenterPoint Energy, Calpine, City of Dallas, Residential Consumers, and Reliant. All market segments, except the Cooperative segment, were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July 25, TPTF approved DAM Energy Settlement Business Requirements by a ballot vote of 100% in favor, with abstentions by LCRA, Austin Energy, City of Garland, CenterPoint Energy, Calpine, City of Dallas, and Residential Consumers. All market segments were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ansition Plan says: “Any declaration of the accomplishment of a major milestone (business requirements, conceptual design, and successful completion of Market Participant testing) or a decision to proceed is contingent on the approval of both ERCOT and TAC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 that TAC approve the milest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val of DAM AS Settlement Busines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val of DAM Energy Settlement Busines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33920" y="2438280"/>
            <a:ext cx="1295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listo MT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listo MT"/>
              <a:ea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04920" y="914400"/>
          <a:ext cx="8305560" cy="3882960"/>
        </p:xfrm>
        <a:graphic>
          <a:graphicData uri="http://schemas.openxmlformats.org/drawingml/2006/table">
            <a:tbl>
              <a:tblPr/>
              <a:tblGrid>
                <a:gridCol w="2439720"/>
                <a:gridCol w="4202280"/>
                <a:gridCol w="1663560"/>
              </a:tblGrid>
              <a:tr h="31752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</a:tr>
              <a:tr h="79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Meeting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400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 of recent TPTF 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Next Meet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400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coming 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pproval of Milest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400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TAC approval of Milestone – Business Requirements Complete f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 DAM AS Settl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 DAM Energy Settlements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Vo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1368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1368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1368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July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826920"/>
            <a:ext cx="807732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s July 10 &amp; 11 and July 24, 25 &amp;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July 10, we discus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ing / Alerting of TPTF Documents for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odal PR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d Section 6 draft NP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July 10, TPTF approved Section 6 draft Nodal PRR by a ballot vote of 100% in favor, with abstentions by Residential Consumers and CenterPoint Energy. All market segments were present.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draft NPRR will be sent to P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ed draft NPRR to incorporate PRR307 functionality in Nodal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July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826920"/>
            <a:ext cx="807732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July 11, we discus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SWG &amp; ERCOT Staff Comments to NPRR002 (Section 3) as requested by P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Overview of DAM Energy Settlement Commercial Operations Business Requirements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odal PR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d draft NPRR to synchronize PRR630 in Nodal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July 11, TPTF approved draft Nodal PRR to synchronize PRR630 by a ballot vote of 100% in favor, with abstentions by Occidental and Exelon. All market segments were present.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draft NPRR will be sent to P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ed draft NPRR to synchronize PRR627 &amp; PRR640 in Nodal Protocols.  After discussion, we did not receive a motion to approve this NPR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ed a draft MP Readiness Activities List and several MP interaction timeline options, requesting TPTF feed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July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826920"/>
            <a:ext cx="8077320" cy="39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July 24, we discus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PR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d Section 22H draft NP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July 24, TPTF approved Section 22H draft Nodal PRR by a ballot vote of 100% in favor, with an abstention by LCRA. All market segments were present.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draft NPRR will be sent to P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ed Section 16 draft NP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July 24, TPTF approved Section 16 draft Nodal PRR (without PRR624) by a ballot vote of 100% in favor, with abstentions by Constellation and Occidental. All market segments were present.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draft NPRR will be sent to P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ed Section 2 draft NP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Upd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July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762120"/>
            <a:ext cx="8077320" cy="51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July 25, we discus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Program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rification - Section 3.10.4 on Model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Metering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rification - CRR Settlement without 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overview of DAM Make Whole Settlement Commercial Operations Business Requirements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comments received on DAM AS Settlement Commercial Operations Business Requirements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July 25, TPTF approved DAM AS Settlement Business Requirements by a ballot vote of 100% in favor, with abstentions by City of Garland, CenterPoint Energy, Calpine, City of Dallas, Residential Consumers, and Reliant. All market segments, except the Cooperative segment, were pres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comments received on DAM Energy Settlement Commercial Operations Business Requirements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July 25, TPTF approved DAM Energy Settlement Business Requirements by a ballot vote of 100% in favor, with abstentions by LCRA, Austin Energy, City of Garland, CenterPoint Energy, Calpine, City of Dallas, and Residential Consumers. All market segments were pres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July 25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826920"/>
            <a:ext cx="807732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July 25, we discus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Nodal PR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d Section 2 draft NP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July 25, TPTF approved Section 2 draft Nodal PRR by a ballot vote of 100% in favor, with abstentions by CenterPoint and NRG Texas. All market segments were present.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draft NPRR will be sent to P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of draft NPRR to synchronize PRR627 &amp; PRR640 in Nodal Protoco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July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826920"/>
            <a:ext cx="8077320" cy="41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July 26, we discus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engineering issues - CR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 for CRR Granularity – Integer vs. tenths of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July 26, TPTF approved a draft NPRR changing granularity of CRRs from whole MWs to tenths of a MW and truncation of results by a ballot vote of 100% in favor, with abstentions by  LCRA, Austin Energy, CenterPoint Energy, and Dynegy.  All market segments were present.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draft NPRR will be sent to P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 for CRR Credit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July 26, TPTF rejected a draft NPRR proposing to check credit limits in a pre-processor instead of the auction engine by a ballot vote of 57.1% in favor, with abstentions by Austin Energy, Reliant, and Dynegy.  All market segments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age Scheduling for Loa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July 26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826920"/>
            <a:ext cx="8077320" cy="48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July 26, we discus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ft NPRR to synchronize PRR627 &amp; PRR640 in Nodal Protoc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July 26, TPTF approved the NPRR to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chronize PRR627 &amp; PRR640 in Nodal Protocols by a ballot vote of 100% in favor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bstentions by LCRA, City of Dallas, Residential Consumers, Stream Energy, StarTex Power, Strategic Energy, Accent Energy, Cirro Group, Excelon, and Reliant. All market segments were present.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draft NPRR will be sent to PR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NPRRs for TPTF Clar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July 26, TPTF approved a draft NPRR containing clean-up changes in Sections 2, 3, and 16 by a ballot vote of 100% in favor, with no abstentions.  All market segments were present.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draft NPRR will be sent to P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les of Consistency TF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d a second draft 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P Readiness Activities List and MP interaction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7:49:24Z</dcterms:created>
  <dc:creator>Trip Doggett</dc:creator>
  <dc:description/>
  <dc:language>en-US</dc:language>
  <cp:lastModifiedBy>tdoggett</cp:lastModifiedBy>
  <dcterms:modified xsi:type="dcterms:W3CDTF">2006-07-26T21:06:36Z</dcterms:modified>
  <cp:revision>139</cp:revision>
  <dc:subject/>
  <dc:title>TAC Update</dc:title>
</cp:coreProperties>
</file>