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FCAF-3BF2-42A1-9FBD-127722F4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B8C-0661-4738-BA08-18BFE201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A907-9ED2-488F-B4B6-C272CD40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0BE-B33A-48A3-823A-208977D2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30C3-80C6-47F0-99B5-8243E332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31D8-FFAC-4F4B-A1CD-B33F01EB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0DBA-2057-400F-AE04-D9D41A0F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49FA-17E7-409E-BBFE-A832371C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55FD-626B-46D4-9B9E-2A0D61BA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AA09-E947-48ED-B484-B0010CB2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F0C-2059-46B9-AEC5-1FC84A84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F73-5291-4F92-9BF5-7D740AE7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5D71-625C-4025-8AA6-9E05F2CFE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ize Approv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June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ize Appro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ordination for System Topology Mod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8.8.1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ordination with ER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 to energizing and placing into service any new or relocated Facility connected to the ERCOT Transmission Grid, TSPs shall coordinate with and receive approval from ERC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ergize Appro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AL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 of Changes to ERCOT Transmission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s and changes to the ERCOT System must be coordinated with ERCOT to accurately represent the ERCOT Transmission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.3.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RCOT Approval of New or Relocated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energizing and placing into service any new or relocated facility connected to the ERCOT Transmission Grid, a TSP, QSE, or Resource Entity shall enter appropriate information in the Outage Scheduler and coordinate with, and receive written Notice of approval from, ERCO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ly the current process is a reactive process.  ERCOT reacts to energized equipment after the fact.  The communication path (a faxed form) is an open loop and provides opportunities for miscommun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orary Re-Route Process contained form for “In-Service Notific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rified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ighlights of revised and clarified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communication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tional awareness is incr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ability awareness is incr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ce of model data and model data flow is emphas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nded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ed and clarified process results in more informed proactive decisions and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required to effectively create a better environment for operational decisions and lay the groundwork for Nodal Market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grades to Outage Scheduler will eventually eliminate fax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03:02:48Z</dcterms:created>
  <dc:creator> </dc:creator>
  <dc:description/>
  <dc:language>en-US</dc:language>
  <cp:lastModifiedBy>SMyers</cp:lastModifiedBy>
  <dcterms:modified xsi:type="dcterms:W3CDTF">2006-06-14T12:49:02Z</dcterms:modified>
  <cp:revision>2</cp:revision>
  <dc:subject/>
  <dc:title>Energize Approval </dc:title>
</cp:coreProperties>
</file>