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DD51-D4A9-4078-A6FC-CBC88E84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869-EF4A-4839-8522-D7AAB1D1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1736-8CFF-4F53-B280-60972BA8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2122-2E33-413E-BAB5-2BB60C8D8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B589-8206-4049-A324-F3AE565C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F28-952D-46FC-8E45-6157943AA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E4BC-939C-475C-9723-9FD04B6E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A73-AB9B-41C9-B3DA-216BD596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C32A-575B-4CF7-B971-A450D18C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14DF-E032-442D-9744-3A49553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8E0F-C205-445C-AE1D-FD12BE5F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C7B5-0749-4CC7-A48C-2BDE9A03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25DC-5DBB-43F2-BD46-B38F45788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304920"/>
            <a:ext cx="8763120" cy="1218960"/>
          </a:xfrm>
          <a:prstGeom prst="rect">
            <a:avLst/>
          </a:prstGeom>
          <a:gradFill rotWithShape="0">
            <a:gsLst>
              <a:gs pos="0">
                <a:srgbClr val="cc6600">
                  <a:alpha val="45098"/>
                </a:srgbClr>
              </a:gs>
              <a:gs pos="100000">
                <a:srgbClr val="ffcc99">
                  <a:alpha val="4313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RCOT PSS Ad Hoc Working Group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5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ort Term Action Plan Upd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y what PSS logs and procedures exist at ERCOT Operations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WG – From PLI study develop list of critical units that must have PSS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SS settings in PLI stu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compliance for critical P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WECC PSS require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2133720"/>
            <a:ext cx="70866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3:51:35Z</dcterms:created>
  <dc:creator>sschneid</dc:creator>
  <dc:description/>
  <dc:language>en-US</dc:language>
  <cp:lastModifiedBy>LCRA Employee</cp:lastModifiedBy>
  <dcterms:modified xsi:type="dcterms:W3CDTF">2006-06-14T19:01:40Z</dcterms:modified>
  <cp:revision>16</cp:revision>
  <dc:subject/>
  <dc:title>Slide 1</dc:title>
</cp:coreProperties>
</file>