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Click to edit the title text format</a:t>
            </a:r>
            <a:endParaRPr b="0" lang="en-US" sz="40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55440" y="87480"/>
            <a:ext cx="9043920" cy="6701760"/>
            <a:chOff x="55440" y="87480"/>
            <a:chExt cx="9043920" cy="6701760"/>
          </a:xfrm>
        </p:grpSpPr>
        <p:sp>
          <p:nvSpPr>
            <p:cNvPr id="4"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7"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3962520" y="6265800"/>
            <a:ext cx="1163520" cy="560520"/>
          </a:xfrm>
          <a:prstGeom prst="rect">
            <a:avLst/>
          </a:prstGeom>
          <a:ln w="0">
            <a:noFill/>
          </a:ln>
        </p:spPr>
      </p:pic>
      <p:sp>
        <p:nvSpPr>
          <p:cNvPr id="9" name=""/>
          <p:cNvSpPr/>
          <p:nvPr/>
        </p:nvSpPr>
        <p:spPr>
          <a:xfrm>
            <a:off x="177840" y="6546960"/>
            <a:ext cx="1228680" cy="122040"/>
          </a:xfrm>
          <a:prstGeom prst="rect">
            <a:avLst/>
          </a:prstGeom>
          <a:noFill/>
          <a:ln w="0">
            <a:noFill/>
          </a:ln>
        </p:spPr>
        <p:style>
          <a:lnRef idx="0"/>
          <a:fillRef idx="0"/>
          <a:effectRef idx="0"/>
          <a:fontRef idx="minor"/>
        </p:style>
        <p:txBody>
          <a:bodyPr lIns="0" rIns="0" tIns="0" bIns="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08/2005 Ken Donohoo</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39760" y="457200"/>
            <a:ext cx="8651880" cy="388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Report on</a:t>
            </a:r>
            <a:br>
              <a:rPr sz="4000"/>
            </a:br>
            <a:r>
              <a:rPr b="1" lang="en-US" sz="4000" spc="-1" strike="noStrike">
                <a:solidFill>
                  <a:srgbClr val="333399"/>
                </a:solidFill>
                <a:latin typeface="Arial"/>
              </a:rPr>
              <a:t>Lessons Learned – Hurricane Rita</a:t>
            </a:r>
            <a:br>
              <a:rPr sz="4000"/>
            </a:br>
            <a:br>
              <a:rPr sz="2400"/>
            </a:br>
            <a:br>
              <a:rPr sz="2400"/>
            </a:br>
            <a:r>
              <a:rPr b="1" lang="en-US" sz="1800" spc="-1" strike="noStrike">
                <a:solidFill>
                  <a:srgbClr val="000000"/>
                </a:solidFill>
                <a:latin typeface="Arial"/>
              </a:rPr>
              <a:t>November 10, 2005</a:t>
            </a:r>
            <a:br>
              <a:rPr sz="1800"/>
            </a:br>
            <a:r>
              <a:rPr b="1" lang="en-US" sz="1800" spc="-1" strike="noStrike">
                <a:solidFill>
                  <a:srgbClr val="000000"/>
                </a:solidFill>
                <a:latin typeface="Arial"/>
              </a:rPr>
              <a:t> ROS Meeting </a:t>
            </a:r>
            <a:br>
              <a:rPr sz="1800"/>
            </a:br>
            <a:r>
              <a:rPr b="1" lang="en-US" sz="1800" spc="-1" strike="noStrike">
                <a:solidFill>
                  <a:srgbClr val="000000"/>
                </a:solidFill>
                <a:latin typeface="Arial"/>
              </a:rPr>
              <a:t>Austin Control Center (MET Ce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57240" y="151920"/>
            <a:ext cx="4876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sson’s Learned</a:t>
            </a:r>
            <a:endParaRPr b="0" lang="en-US" sz="3200" spc="-1" strike="noStrike">
              <a:solidFill>
                <a:srgbClr val="333399"/>
              </a:solidFill>
              <a:latin typeface="Arial"/>
            </a:endParaRPr>
          </a:p>
        </p:txBody>
      </p:sp>
      <p:sp>
        <p:nvSpPr>
          <p:cNvPr id="6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 Brief evaluation of Block Load Transfers (BLTs) in the aftermath of Hurricane Rita to pick up load in Entergy Gulf States Service territory </a:t>
            </a:r>
            <a:endParaRPr b="1" lang="en-US" sz="2000" spc="-1" strike="noStrike">
              <a:solidFill>
                <a:srgbClr val="000000"/>
              </a:solidFill>
              <a:latin typeface="Arial"/>
            </a:endParaRPr>
          </a:p>
          <a:p>
            <a:pPr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olved Parties:</a:t>
            </a:r>
            <a:endParaRPr b="1" lang="en-US" sz="2000" spc="-1" strike="noStrike">
              <a:solidFill>
                <a:srgbClr val="000000"/>
              </a:solidFill>
              <a:latin typeface="Arial"/>
            </a:endParaRPr>
          </a:p>
          <a:p>
            <a:pPr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XU Energy Delivery – Deep East Texas Cooperative BLT (</a:t>
            </a:r>
            <a:r>
              <a:rPr b="1" lang="en-US" sz="2000" spc="-1" strike="noStrike">
                <a:solidFill>
                  <a:srgbClr val="000000"/>
                </a:solidFill>
                <a:latin typeface="Arial"/>
                <a:ea typeface="Arial"/>
              </a:rPr>
              <a:t>≈10 MWs)</a:t>
            </a:r>
            <a:endParaRPr b="1" lang="en-US" sz="2000" spc="-1" strike="noStrike">
              <a:solidFill>
                <a:srgbClr val="000000"/>
              </a:solidFill>
              <a:latin typeface="Arial"/>
            </a:endParaRPr>
          </a:p>
          <a:p>
            <a:pPr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enterpoint – Crosby Station BLT (</a:t>
            </a:r>
            <a:r>
              <a:rPr b="1" lang="en-US" sz="2000" spc="-1" strike="noStrike">
                <a:solidFill>
                  <a:srgbClr val="000000"/>
                </a:solidFill>
                <a:latin typeface="Arial"/>
                <a:ea typeface="Arial"/>
              </a:rPr>
              <a:t>≈80 MWs)</a:t>
            </a:r>
            <a:endParaRPr b="1" lang="en-US" sz="2000" spc="-1" strike="noStrike">
              <a:solidFill>
                <a:srgbClr val="000000"/>
              </a:solidFill>
              <a:latin typeface="Arial"/>
            </a:endParaRPr>
          </a:p>
          <a:p>
            <a:pPr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a:p>
            <a:pPr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ntergy Gulf Stat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657240" y="151920"/>
            <a:ext cx="4876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sson’s Learned</a:t>
            </a:r>
            <a:endParaRPr b="0" lang="en-US" sz="3200" spc="-1" strike="noStrike">
              <a:solidFill>
                <a:srgbClr val="333399"/>
              </a:solidFill>
              <a:latin typeface="Arial"/>
            </a:endParaRPr>
          </a:p>
        </p:txBody>
      </p:sp>
      <p:sp>
        <p:nvSpPr>
          <p:cNvPr id="6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sical Issues:</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little ERCOT can do. Work needed to block load over and all closely associated activities are between TDSPs.</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line drawings delivered ASAP are very important for a timely transfer (acceptable format)</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ual issues between the TDSP’s (how to compensate TDSPs for work) can slow up transfer</a:t>
            </a:r>
            <a:endParaRPr b="1"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657240" y="151920"/>
            <a:ext cx="4876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sson’s Learned</a:t>
            </a:r>
            <a:endParaRPr b="0" lang="en-US" sz="3200" spc="-1" strike="noStrike">
              <a:solidFill>
                <a:srgbClr val="333399"/>
              </a:solidFill>
              <a:latin typeface="Arial"/>
            </a:endParaRPr>
          </a:p>
        </p:txBody>
      </p:sp>
      <p:sp>
        <p:nvSpPr>
          <p:cNvPr id="7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ercial Issues:</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to create a LSE in ERCOT’s system was a hindrance</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actual Issues between the TDSPs should be considered in advance of the need to use an emergency BLT</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tlement quality metering during a BLT for emergency restoration (.2% vs .6% CT accuracy)</a:t>
            </a:r>
            <a:endParaRPr b="1" lang="en-US" sz="2400" spc="-1" strike="noStrike">
              <a:solidFill>
                <a:srgbClr val="000000"/>
              </a:solidFill>
              <a:latin typeface="Arial"/>
            </a:endParaRPr>
          </a:p>
          <a:p>
            <a:pPr marL="457200" indent="-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cy for providing metering data as well as method for providing data</a:t>
            </a:r>
            <a:endParaRPr b="1" lang="en-US" sz="2400" spc="-1" strike="noStrike">
              <a:solidFill>
                <a:srgbClr val="000000"/>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7240" y="151920"/>
            <a:ext cx="4876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sson’s Learned</a:t>
            </a:r>
            <a:endParaRPr b="0" lang="en-US" sz="3200" spc="-1" strike="noStrike">
              <a:solidFill>
                <a:srgbClr val="333399"/>
              </a:solidFill>
              <a:latin typeface="Arial"/>
            </a:endParaRPr>
          </a:p>
        </p:txBody>
      </p:sp>
      <p:sp>
        <p:nvSpPr>
          <p:cNvPr id="7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ations:</a:t>
            </a:r>
            <a:endParaRPr b="1"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investigate the creation entities and their relationships ahead of time (LSE for BLT into ERCOT; RE for BLT into other control area).</a:t>
            </a:r>
            <a:endParaRPr b="1"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ering CT accuracy (.6%) will be allowed for emergency load restoration.    </a:t>
            </a:r>
            <a:endParaRPr b="1"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recommends actual meter data be provided before initial settlement run. Use of default profiles would introduce significant error if used. </a:t>
            </a:r>
            <a:endParaRPr b="1"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will be flexible as to the format for data submittal (Loadstar, Excel, etc.).</a:t>
            </a:r>
            <a:endParaRPr b="1"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gate clearing Interstate Commerce issues in advance for BLTs that could block loads across state lines.</a:t>
            </a:r>
            <a:endParaRPr b="1" lang="en-US" sz="2000" spc="-1" strike="noStrike">
              <a:solidFill>
                <a:srgbClr val="000000"/>
              </a:solidFill>
              <a:latin typeface="Arial"/>
            </a:endParaRPr>
          </a:p>
          <a:p>
            <a:pPr marL="457200" indent="-457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checklist for entities to use as a guide to prepare for an emergency.</a:t>
            </a:r>
            <a:endParaRPr b="1"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MEPA – Lessons Learned During Storm</a:t>
            </a:r>
            <a:endParaRPr b="0" lang="en-US" sz="3600" spc="-1" strike="noStrike">
              <a:solidFill>
                <a:srgbClr val="333399"/>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arms/Events (Avg 25k/day) – During Katrina 6.5K every two minute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Set your alarm prioritie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Make sure your archive size is sufficien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Keep a unit spinning off-line.</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Put the Control Center on emergency power before the storm.</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ou set up in the Control Center for real-time database and display modifications and addi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Single transmission one-line with NSP</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Limit access to the main control roo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SMEPA – Lessons Learned Day After</a:t>
            </a:r>
            <a:endParaRPr b="0" lang="en-US" sz="3600" spc="-1" strike="noStrike">
              <a:solidFill>
                <a:srgbClr val="333399"/>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pproximately 1500 miles of destroyed/down high voltage</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mission</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Almost all distribution, distribution/transmission down/destroyed</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No ties or communication with other utilities (Isolated)</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One unit spinning, supplying it’s own load</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ll communications to plants - Dead</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All roads, state highways, interstate highways – Completely Blocked</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ll SCADA communications – Dead</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ll voice, cell and internet communications – Dead</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Main control center running on backup generator</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ll stores, gas stations, supply houses – Closed (extended time)</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Employee travel impossible to home or to work</a:t>
            </a:r>
            <a:endParaRPr b="1"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Employees at work had no clue about their families or homes the main control room</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MEPA –First Needs</a:t>
            </a:r>
            <a:endParaRPr b="0" lang="en-US" sz="4000" spc="-1" strike="noStrike">
              <a:solidFill>
                <a:srgbClr val="333399"/>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Long term fuel for Control Center emergency generato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Fuel for SMEPA and contractor vehicl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Food and water for local, plant and field personne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No motels – Housing for contract and SMEPA personne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No running water – facilities for both men and wome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Purchasing</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Who is in charge (Emergency organization lis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Overall coordination – from Control Cente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Transmission, Generation/Fuels, Facility Needs, SCADA,</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mmunications (Phone, Radio, Internet, E-Mail)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MEPA – Additional Needs</a:t>
            </a:r>
            <a:endParaRPr b="0" lang="en-US" sz="4000" spc="-1" strike="noStrike">
              <a:solidFill>
                <a:srgbClr val="333399"/>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atellite phon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Additional consoles (Switch, ES), Power Application Studies</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PI Playback</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Have a management command center outside the control center</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Critical Loads, Hospitals, SMEPA facility, VP Call</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Fly transmission lines/substations – visually (open/closed)</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Transmission restoration based 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Critical load list</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Available generation / Can you sustain voltage</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Load needed to stabilize generation</a:t>
            </a:r>
            <a:endParaRPr b="1"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4. Line/Substation condi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MEPA – Additional Needs</a:t>
            </a:r>
            <a:endParaRPr b="0" lang="en-US" sz="4000" spc="-1" strike="noStrike">
              <a:solidFill>
                <a:srgbClr val="333399"/>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ransmission</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Assemble crews (Road passage, ROW passage, Pole/Wire)</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Coordinate work to be done</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 Coordinate transmission and distribution to same area</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Generation</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1. Fuel supply</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 Damage - cooling towers, etc.</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IS network including internet, e-mail (no outside network for over a week)</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hone communications – satellite (some phone communication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 for two to three months) – SCADA &amp; Land Lines</a:t>
            </a:r>
            <a:endParaRPr b="1"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Communications – Radio, Microwave</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MEPA – Lessons </a:t>
            </a:r>
            <a:endParaRPr b="0" lang="en-US" sz="4000" spc="-1" strike="noStrike">
              <a:solidFill>
                <a:srgbClr val="333399"/>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dio Need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ellite – Phone, SCADA, Interne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pboard – NSP, Lines of Resolution</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nel Location by crew/team/individual (GP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dures and Emergency Organization Chart</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losers - Off</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lack-start plan, units-Isoch, Frequency source, 60HZ</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ten Event Log – Lines put in service, Transformers heated</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es closed, …</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uiding principal: 1. Safety 2. Reliability 3. Economics</a:t>
            </a:r>
            <a:endParaRPr b="1"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 restoration</a:t>
            </a:r>
            <a:endParaRPr b="1"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ix patched lines</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Complete right of way clea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It is better to be missed than hit…</a:t>
            </a:r>
            <a:endParaRPr b="0" lang="en-US" sz="4000" spc="-1" strike="noStrike">
              <a:solidFill>
                <a:srgbClr val="333399"/>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was not significantly impacted by hurricane RITA.</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ERGY was significantly impacted; and ERCOT is attempting to learn from their experience.</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does not yet have a respons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PL Preparedness plan</a:t>
            </a:r>
            <a:br>
              <a:rPr sz="3200"/>
            </a:br>
            <a:r>
              <a:rPr b="1" lang="en-US" sz="3200" spc="-1" strike="noStrike">
                <a:solidFill>
                  <a:srgbClr val="000000"/>
                </a:solidFill>
                <a:latin typeface="Arial"/>
              </a:rPr>
              <a:t>Excerpts from the Geisha Testimony – FPL response to FLA PUC</a:t>
            </a:r>
            <a:endParaRPr b="1"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lan Objective</a:t>
            </a:r>
            <a:br>
              <a:rPr sz="3600"/>
            </a:br>
            <a:endParaRPr b="0" lang="en-US" sz="3600" spc="-1" strike="noStrike">
              <a:solidFill>
                <a:srgbClr val="333399"/>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safely restore the greatest number of customers in the least amount of time </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eting this objective is the most prudent response after a major storm. </a:t>
            </a:r>
            <a:endParaRPr b="0" lang="en-US" sz="18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ining</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herence to established storm processes</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ecution </a:t>
            </a:r>
            <a:endParaRPr b="0" lang="en-US" sz="16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Key Components</a:t>
            </a:r>
            <a:endParaRPr b="0" lang="en-US" sz="40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aster response policies and procedur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justable internal organizational structures based on the required respons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line of activities to assure rapid notification and respons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tual assistance agreements and vendor contracts and commitment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s for movement of resources, personnel, materials, and equipment to areas requiring service restor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on and notification plans for employees, customers, community leaders, emergency operating centers, and regulator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Key Components</a:t>
            </a:r>
            <a:endParaRPr b="0" lang="en-US" sz="4000" spc="-1" strike="noStrike">
              <a:solidFill>
                <a:srgbClr val="333399"/>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established centralized command center with an organization for command and control of emergency response forc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lists and conference call agendas to organize, plan, and report situational statu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mage assessment modeling and reporting procedur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and aerial patrols to assess damag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rehensive circuit patrols to gather vital information needed to identify the resources required for effective restoration</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s necessary to support outage management procedures and customer communicat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Staffing</a:t>
            </a:r>
            <a:endParaRPr b="0" lang="en-US" sz="4000" spc="-1" strike="noStrike">
              <a:solidFill>
                <a:srgbClr val="333399"/>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business units in the company identify personnel for staffing the emergency response organization. In many cases, employees assume roles different than their regular responsibilities. Training is conducted for many storm personnel each year regardless of whether they are in a new role or a role in which they have served many times. This includes training on processes that range from analytical and clerical to reinforcing restoration processes for managers and director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ogistics</a:t>
            </a:r>
            <a:endParaRPr b="0" lang="en-US" sz="4000" spc="-1" strike="noStrike">
              <a:solidFill>
                <a:srgbClr val="333399"/>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material inventory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tablishing staging site plans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anding and verifying lodging arrangements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uring agreements and contracts for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r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trailers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se agreements and activities provide the foundation to begin any restoration effor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ogistics - Functions</a:t>
            </a:r>
            <a:endParaRPr b="0" lang="en-US" sz="4000" spc="-1" strike="noStrike">
              <a:solidFill>
                <a:srgbClr val="333399"/>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quisition, preparation and coordination of: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ging sites, environmental, salvage, lodging, laundry, buses, caterers, ice and water, office trailers, light towers, generators, port-o-lets, security guards, communications, and fuel deliver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esting the plan</a:t>
            </a:r>
            <a:endParaRPr b="0" lang="en-US" sz="4000" spc="-1" strike="noStrike">
              <a:solidFill>
                <a:srgbClr val="333399"/>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nual, full scale drill</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participation from employees represented from every business unit in the compan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 72 hours from the mock hurricane’s forecasted time and date of impac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e</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mage assessmen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ing resourc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ing storm system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sponse to a Storm Threat – 72 Hours out</a:t>
            </a:r>
            <a:endParaRPr b="0" lang="en-US" sz="36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 meteorologists are monitoring conditions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te preliminary preparations for addressing internal and external resource requirements, logistics needs, and system operation conditions.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Office Command Center (GOCC) is activated</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m personnel are alerted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ource requirements are forecasted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restoration plans are developed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gency resources are activated </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ailable resources from mutual assistance utilities are identified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sponse to a Storm Threat – 48 Hours out</a:t>
            </a:r>
            <a:endParaRPr b="0" lang="en-US" sz="3600" spc="-1" strike="noStrike">
              <a:solidFill>
                <a:srgbClr val="333399"/>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models are run based on the projected intensity and path of the storm to forecast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ma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oration workloa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customer outag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itments are confirmed for restoration personnel, materials, and logistics suppor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staging site locations based on expected path of storm</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RCOT is able to setup and execute Block Load Transfer rapidly</a:t>
            </a:r>
            <a:endParaRPr b="0" lang="en-US" sz="3600" spc="-1" strike="noStrike">
              <a:solidFill>
                <a:srgbClr val="333399"/>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was able to quickly implement block load transfers within the market structur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ration – Financial qualification was done quickly through picking an existing representative in ERCOT.  We were able to push through the database in 1 day what normally takes 3-4 days. Registered delivery point as a new NOIE LSE.  The LSE pointed to an existing QSE. Set EZID as a wholesale delivery point. Nothing went to M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required by protocol to have metering at BLT’s– Centerpoint and TXU got meters installed and registered EZIDs at ERCOT very quickly.</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sponse to a Storm Threat – 24 Hours out</a:t>
            </a:r>
            <a:endParaRPr b="0" lang="en-US" sz="3600" spc="-1" strike="noStrike">
              <a:solidFill>
                <a:srgbClr val="333399"/>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itioning personnel and supplies to begin restoration as soon as it is safe to do so</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inuously re-run Damage model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ty leaders and County Emergency Operations Centers are contacted to share FPL’s restoration plans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ify critical infrastructure facilities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information to the news media, customers and community leaders regarding storm preparation, what to do in the event of an outage, as well as public safety messages. </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30 DHS Report</a:t>
            </a:r>
            <a:br>
              <a:rPr sz="3600"/>
            </a:br>
            <a:r>
              <a:rPr b="1" lang="en-US" sz="2000" spc="-1" strike="noStrike" u="sng">
                <a:solidFill>
                  <a:srgbClr val="333399"/>
                </a:solidFill>
                <a:uFillTx/>
                <a:latin typeface="Arial"/>
              </a:rPr>
              <a:t>Florida utility prepares for major hurricanes</a:t>
            </a:r>
            <a:r>
              <a:rPr b="0" lang="en-US" sz="3600" spc="-1" strike="noStrike">
                <a:solidFill>
                  <a:srgbClr val="333399"/>
                </a:solidFill>
                <a:latin typeface="Arial"/>
              </a:rPr>
              <a:t>. </a:t>
            </a:r>
            <a:br>
              <a:rPr sz="3600"/>
            </a:br>
            <a:r>
              <a:rPr b="0" lang="en-US" sz="3600" spc="-1" strike="noStrike">
                <a:solidFill>
                  <a:srgbClr val="333399"/>
                </a:solidFill>
                <a:latin typeface="Arial"/>
              </a:rPr>
              <a:t> </a:t>
            </a:r>
            <a:endParaRPr b="0" lang="en-US" sz="3600" spc="-1" strike="noStrike">
              <a:solidFill>
                <a:srgbClr val="333399"/>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arlier this month the Florida Public Service Commission concluded that Florida Power &amp; Light had not done enough to limit hurricane damage to the power grid following Hurricane Wilma in 2005.  Up to 6.5 million people were left without lights, air conditioning, or hot water.  FPL has instituted a five-point plan dubbed “Storm Secure”, to make major steps to strengthen its transmission and distribution system and make it better able to withstand hurricane-force winds, said Geisha Williams, FPL’s vice president of distribution.  She said Storm Secure, launched on January 30, was only just getting underway, however.  And while FPL has improved its reliability by about 50% since 1997, Williams acknowledged it still has a long way to go.  “It won’t be overnight; it’s going to take a long time,” said Williams, referring to a key goal of “hardening” the electric grid to withstand wind gusts up to 150 mp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Backup Center activation</a:t>
            </a:r>
            <a:endParaRPr b="0" lang="en-US" sz="4000" spc="-1" strike="noStrike">
              <a:solidFill>
                <a:srgbClr val="333399"/>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QSE’s/TDSP’s activated their emergency backup centers/plan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QSE’s have backup cent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delegate another service provider to provide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neral, this was successful. </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center did not successfully communicate during the storm perio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m impact was minimal</a:t>
            </a:r>
            <a:endParaRPr b="1"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Loss of Communications </a:t>
            </a:r>
            <a:endParaRPr b="0" lang="en-US" sz="4000" spc="-1" strike="noStrike">
              <a:solidFill>
                <a:srgbClr val="333399"/>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implemented a plan for loss of communication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COT procured satellite telephones for the event.</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was not needed during this even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RCOT Can expect timely government action if needed</a:t>
            </a:r>
            <a:endParaRPr b="0" lang="en-US" sz="3600" spc="-1" strike="noStrike">
              <a:solidFill>
                <a:srgbClr val="333399"/>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or issued order suspending eminent domain requirements for temporary faciliti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9/27 PUCT issued order suspending CCN requirements and allowing ERCOT TDSPs to extend service in ar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 agreed to issue order maintaining ERCOT’s FERC exemption for these emergency connection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49360" y="66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RCOT does NOT have an effective method of forecasting load in either Commercial or Operational systems</a:t>
            </a:r>
            <a:endParaRPr b="0" lang="en-US" sz="3600" spc="-1" strike="noStrike">
              <a:solidFill>
                <a:srgbClr val="333399"/>
              </a:solidFill>
              <a:latin typeface="Arial"/>
            </a:endParaRPr>
          </a:p>
        </p:txBody>
      </p:sp>
      <p:sp>
        <p:nvSpPr>
          <p:cNvPr id="58" name="PlaceHolder 2"/>
          <p:cNvSpPr>
            <a:spLocks noGrp="1"/>
          </p:cNvSpPr>
          <p:nvPr>
            <p:ph/>
          </p:nvPr>
        </p:nvSpPr>
        <p:spPr>
          <a:xfrm>
            <a:off x="487440" y="205272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hould expect high UFE amounts on and around projected hurricanes landfall</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hould expect high errors in the ERCOT operational load forecas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98600" y="2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ERCOT has sent a list of questions to Entergy…</a:t>
            </a:r>
            <a:endParaRPr b="0" lang="en-US" sz="3600" spc="-1" strike="noStrike">
              <a:solidFill>
                <a:srgbClr val="333399"/>
              </a:solidFill>
              <a:latin typeface="Arial"/>
            </a:endParaRPr>
          </a:p>
        </p:txBody>
      </p:sp>
      <p:sp>
        <p:nvSpPr>
          <p:cNvPr id="60" name="PlaceHolder 2"/>
          <p:cNvSpPr>
            <a:spLocks noGrp="1"/>
          </p:cNvSpPr>
          <p:nvPr>
            <p:ph/>
          </p:nvPr>
        </p:nvSpPr>
        <p:spPr>
          <a:xfrm>
            <a:off x="466560" y="1344240"/>
            <a:ext cx="8229600" cy="4815000"/>
          </a:xfrm>
          <a:prstGeom prst="rect">
            <a:avLst/>
          </a:prstGeom>
          <a:noFill/>
          <a:ln w="0">
            <a:noFill/>
          </a:ln>
        </p:spPr>
        <p:txBody>
          <a:bodyPr lIns="90000" rIns="90000" tIns="46800" bIns="46800" anchor="t">
            <a:normAutofit/>
          </a:bodyPr>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id you learn from your experiences with hurricanes this summer?</a:t>
            </a:r>
            <a:endParaRPr b="1"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ould you do differently when preparing for hurricanes in the future?</a:t>
            </a:r>
            <a:endParaRPr b="1"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you have an existing emergency plan that deals with hurricanes? Can you share it?</a:t>
            </a:r>
            <a:endParaRPr b="1"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you shut down plants in preparation for the storm?  Should you have?</a:t>
            </a:r>
            <a:endParaRPr b="1"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dvice can you give us on how to prepare?</a:t>
            </a:r>
            <a:endParaRPr b="1"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uld we have a special emergency plan for hurricane preparation?</a:t>
            </a:r>
            <a:endParaRPr b="1"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you set distribution relays to one-shot near the coast?</a:t>
            </a:r>
            <a:endParaRPr b="1"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you advise us on how to plan for fuel curtailments/issues?</a:t>
            </a:r>
            <a:endParaRPr b="1"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you believe additional units should be gotten on line, or should we reduce the number of units online so we can get under the load?</a:t>
            </a:r>
            <a:endParaRPr b="1" lang="en-US" sz="1800" spc="-1" strike="noStrike">
              <a:solidFill>
                <a:srgbClr val="000000"/>
              </a:solidFill>
              <a:latin typeface="Arial"/>
            </a:endParaRPr>
          </a:p>
          <a:p>
            <a:pPr marL="457200" indent="-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did you do with staff?  Did you put people in critical lo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609480" y="1600200"/>
            <a:ext cx="4038840" cy="1647720"/>
          </a:xfrm>
          <a:prstGeom prst="rect">
            <a:avLst/>
          </a:prstGeom>
          <a:ln w="0">
            <a:noFill/>
          </a:ln>
        </p:spPr>
      </p:pic>
      <p:sp>
        <p:nvSpPr>
          <p:cNvPr id="62" name=""/>
          <p:cNvSpPr/>
          <p:nvPr/>
        </p:nvSpPr>
        <p:spPr>
          <a:xfrm>
            <a:off x="685800" y="3505320"/>
            <a:ext cx="762012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609480" y="3657600"/>
            <a:ext cx="7848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ssons Learned from Block Load Transfers following Hurricane Rita</a:t>
            </a:r>
            <a:endParaRPr b="0" lang="en-US" sz="2800" spc="-1" strike="noStrike">
              <a:solidFill>
                <a:srgbClr val="000000"/>
              </a:solidFill>
              <a:latin typeface="Arial"/>
            </a:endParaRPr>
          </a:p>
        </p:txBody>
      </p:sp>
      <p:sp>
        <p:nvSpPr>
          <p:cNvPr id="64" name=""/>
          <p:cNvSpPr/>
          <p:nvPr/>
        </p:nvSpPr>
        <p:spPr>
          <a:xfrm>
            <a:off x="676080" y="5181480"/>
            <a:ext cx="53136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iability and Operations Subcommittee Meet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nuary 13, 200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1-01-01T06:00:00Z</dcterms:created>
  <dc:creator/>
  <dc:description/>
  <dc:language>en-US</dc:language>
  <cp:lastModifiedBy/>
  <dcterms:modified xsi:type="dcterms:W3CDTF">2006-06-14T23:45:52Z</dcterms:modified>
  <cp:revision>12</cp:revision>
  <dc:subject/>
  <dc:title>Slide 1</dc:title>
</cp:coreProperties>
</file>