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49AB-D820-4250-A724-D159B858E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0C02-5F12-4F13-BFDB-EFDF1AC41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94D1-B33D-4ED5-BD58-433B9BB91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4B77-DB65-42F7-B55B-A568715CC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7086-2EA9-4607-9D97-72DA43547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0AA4-2E6F-44BB-BE6E-52ADB5FE4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6AFF-4618-4004-8893-78AF6B123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E2F5-2F22-46D0-B378-EC69A2DE3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461C-1E57-4BED-81E2-028914FD4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6A58-D138-42DA-9BA7-08F01D1C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BC88-DC89-4BBD-BEB9-26464470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D8DD-9BA6-4E1A-9791-3513E634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B3E38-FAA1-4B10-91DC-3589A4873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760" y="152280"/>
            <a:ext cx="9096480" cy="6705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5800" y="9144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COT CPS1 by Interval April 141.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3760" y="228600"/>
            <a:ext cx="9096480" cy="64008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9907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COT CPS1 by Interval May 146.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7240" y="152280"/>
            <a:ext cx="902952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7240" y="228600"/>
            <a:ext cx="9029520" cy="6400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048120" y="1219320"/>
            <a:ext cx="2514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performance every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066680" y="4495680"/>
            <a:ext cx="21337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is the poorest frequency control month histori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00400" y="4800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200400" y="4876560"/>
            <a:ext cx="19810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200400" y="4952880"/>
            <a:ext cx="35053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00800" y="990720"/>
            <a:ext cx="175248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y 2006, Best Score since Aug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001000" y="1523880"/>
            <a:ext cx="3049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04920" y="415800"/>
            <a:ext cx="8534160" cy="60325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477120" y="9907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il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315200" y="121932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52280" y="360360"/>
            <a:ext cx="883944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5T13:24:46Z</dcterms:created>
  <dc:creator>Sydney L. Niemeyer</dc:creator>
  <dc:description/>
  <dc:language>en-US</dc:language>
  <cp:lastModifiedBy>Sydney L. Niemeyer</cp:lastModifiedBy>
  <dcterms:modified xsi:type="dcterms:W3CDTF">2006-06-02T15:57:49Z</dcterms:modified>
  <cp:revision>7</cp:revision>
  <dc:subject/>
  <dc:title>Slide 1</dc:title>
</cp:coreProperties>
</file>