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8FAC6-FEAA-438D-B890-E5CBC5A4F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1F464-BC52-4E02-BA4E-898522B5D7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9955C-4095-422B-9726-565759400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9518A5-549D-425E-902A-FC83CF64A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B60A4-435C-4CE4-9920-BB8B866B6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7B651-69DF-4F4F-887B-5ABB3049C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D9C8B-4026-4551-9FE3-3B78AD8EE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CA33A-40A8-488E-A6C9-3667E1891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B4287-90E1-4AB1-A861-B2926B8D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C2671-B0A3-4D7C-9A6E-5AE04A38A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93B31-9453-4445-A2AF-557EFA0B6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E0605-4463-4F40-A8EB-EBF37D131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5843-AC30-4F04-8656-3D3EA92518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DSWG 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ne 16,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DSWG Repo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ular meeting held May 16 in Tayl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metry / State Estimator Upd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ming Conven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ical Bus Design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MMS Upda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Comparis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Request Deadlin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Request Form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ming Conventio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oup discussed the naming convention and the interpretation of the rule as passed by R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names will be used in planning cases beginning in Sept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Bus Designa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Bus (Nodal Protocol Section 2.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physical transmission element that connects, using breakers and switches, one or more Loads, line, transformers, generators, capacitors, reactors, and phase shifters to the ERCOT Transmission Grid where there is negligible impedance between the connected transmission elements.  Electrical Buses may be connected to other Electrical Buses using breakers and associated switches.  There are no breakers or switches within an Electrical Bus.  The breakers and associated switches that are used to interconnect Electrical Buses are not themselves an Electrical Bus.  All Electrical Buses are designated by ERCOT and TSPs for modeling the electrical topology of the ERCOT Transmission Gri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Bus (Nodal Protocol 3.10.7.1.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 accommodate the Outage Scheduler, the TSP may define a separate name and Transmission Element for any Electrical Bus that can be physically separated by a manual switch or breaker within a substation.  Breakers and switches may only be connected to the defined Electrical Bus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Bus Designatio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Staff discussed the appropriate locations within the substation where busses would need names.  These are shown in the next slide by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has sent out a suggested list of locations within the substations that will need to be a named b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graphicFrame>
        <p:nvGraphicFramePr>
          <p:cNvPr id="51" name=""/>
          <p:cNvGraphicFramePr/>
          <p:nvPr/>
        </p:nvGraphicFramePr>
        <p:xfrm>
          <a:off x="0" y="-23760"/>
          <a:ext cx="9144000" cy="6907320"/>
        </p:xfrm>
        <a:graphic>
          <a:graphicData uri="http://schemas.openxmlformats.org/presentationml/2006/ole">
            <p:oleObj r:id="rId1" spid="">
              <p:embed/>
              <p:pic>
                <p:nvPicPr>
                  <p:cNvPr id="52" name="" descr=""/>
                  <p:cNvPicPr/>
                  <p:nvPr/>
                </p:nvPicPr>
                <p:blipFill>
                  <a:blip r:embed="rId2"/>
                  <a:stretch/>
                </p:blipFill>
                <p:spPr>
                  <a:xfrm>
                    <a:off x="0" y="-23760"/>
                    <a:ext cx="9144000" cy="690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Comparison</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ed the differences between the Operations and Planning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articipants had made progress on eliminating or explaining differences since the last me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discussion on how to eliminate remaining differ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ssue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MMS Up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Request Deadli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 Request Form Chang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ef5f6"/>
            </a:gs>
            <a:gs pos="50000">
              <a:srgbClr val="eefafb"/>
            </a:gs>
            <a:gs pos="100000">
              <a:srgbClr val="cef5f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9T16:16:41Z</dcterms:created>
  <dc:creator>dgrubbs</dc:creator>
  <dc:description/>
  <dc:language>en-US</dc:language>
  <cp:lastModifiedBy>dgrubbs</cp:lastModifiedBy>
  <dcterms:modified xsi:type="dcterms:W3CDTF">2006-06-13T19:25:55Z</dcterms:modified>
  <cp:revision>6</cp:revision>
  <dc:subject/>
  <dc:title>NDSWG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83391790</vt:r8>
  </property>
  <property fmtid="{D5CDD505-2E9C-101B-9397-08002B2CF9AE}" pid="3" name="_AuthorEmail">
    <vt:lpwstr>DLG@gplops.org</vt:lpwstr>
  </property>
  <property fmtid="{D5CDD505-2E9C-101B-9397-08002B2CF9AE}" pid="4" name="_AuthorEmailDisplayName">
    <vt:lpwstr>Grubbs, David</vt:lpwstr>
  </property>
  <property fmtid="{D5CDD505-2E9C-101B-9397-08002B2CF9AE}" pid="5" name="_EmailSubject">
    <vt:lpwstr>NDSWG Report to ROS</vt:lpwstr>
  </property>
</Properties>
</file>