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BEFD9-56D4-4D52-8B0C-7E7074B4F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AC24C-48E8-48AA-BEB4-BF42C0183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C952B-DB57-4EA9-9ECC-C2D56DDE7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C740F-7EF6-44D3-AA35-BAA85E4F0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BB881-E140-4514-AABC-EDE02100D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74F07-147B-4C8C-A263-7703E0B2A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CE4072-E48F-42EC-B116-BC7EBC0D9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4956C-ECCD-4152-96D4-90025C73B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E59F2-B34D-4770-91CA-380133FF8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2FAB9-8053-4840-AF17-C9725620D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EAEC3-8B66-4B43-96D8-6EAA2F8EC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C6C3C-B7D1-4FB7-ABD2-293FE50B43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FB29-4179-46F3-8A04-E2AC2F2D21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and State Estimator Standard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504960"/>
            <a:ext cx="64008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ata Support Working Group</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6,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itically Important Telemetry Performance Criter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will identify MW/MVAR Telemetry pairs, not exceeding 10% of the lines in ERCOT, and 20 voltage points that are “critically important” to reliability, system observability, support of State Estimator performance, or are of a commercial Market concern. This critically important telemetry must meet more stringent criterion for accuracy and availability where specifically addressed. ERCOT will review and publish this list annually. ERCOT will use the following criterion to identify critically important Telemetr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	</a:t>
            </a:r>
            <a:r>
              <a:rPr b="0" lang="en-US" sz="1400" spc="-1" strike="noStrike">
                <a:solidFill>
                  <a:srgbClr val="000000"/>
                </a:solidFill>
                <a:latin typeface="Arial"/>
              </a:rPr>
              <a:t>Loss of a telemetry point that results in the inability of ERCOT to monitor loading on a transmission line operated at 345 kV or abov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Loss of a telemetry point that results in the inability of ERCOT to monitor loading on a 345/138 kV autotransform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en-US" sz="1400" spc="-1" strike="noStrike">
                <a:solidFill>
                  <a:srgbClr val="000000"/>
                </a:solidFill>
                <a:latin typeface="Arial"/>
              </a:rPr>
              <a:t>	</a:t>
            </a:r>
            <a:r>
              <a:rPr b="0" lang="en-US" sz="1400" spc="-1" strike="noStrike">
                <a:solidFill>
                  <a:srgbClr val="000000"/>
                </a:solidFill>
                <a:latin typeface="Arial"/>
              </a:rPr>
              <a:t>Loss of a telemetry point that results in the inability of ERCOT to monitor the loading on transmission facilities designated as critically important to transmission reliability by ERCOT. A list of critical facilities will be published annuall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r>
              <a:rPr b="0" lang="en-US" sz="1400" spc="-1" strike="noStrike">
                <a:solidFill>
                  <a:srgbClr val="000000"/>
                </a:solidFill>
                <a:latin typeface="Arial"/>
              </a:rPr>
              <a:t>	</a:t>
            </a:r>
            <a:r>
              <a:rPr b="0" lang="en-US" sz="1400" spc="-1" strike="noStrike">
                <a:solidFill>
                  <a:srgbClr val="000000"/>
                </a:solidFill>
                <a:latin typeface="Arial"/>
              </a:rPr>
              <a:t>Telemetry necessary to monitor transmission elements identified as causing 80% of congestion cost in the year for which the most recent data is availabl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r>
              <a:rPr b="0" lang="en-US" sz="1400" spc="-1" strike="noStrike">
                <a:solidFill>
                  <a:srgbClr val="000000"/>
                </a:solidFill>
                <a:latin typeface="Arial"/>
              </a:rPr>
              <a:t>	</a:t>
            </a:r>
            <a:r>
              <a:rPr b="0" lang="en-US" sz="1400" spc="-1" strike="noStrike">
                <a:solidFill>
                  <a:srgbClr val="000000"/>
                </a:solidFill>
                <a:latin typeface="Arial"/>
              </a:rPr>
              <a:t>Telemetry necessary to monitor the 20 most</a:t>
            </a:r>
            <a:r>
              <a:rPr b="1" i="1" lang="en-US" sz="1400" spc="-1" strike="noStrike">
                <a:solidFill>
                  <a:srgbClr val="000000"/>
                </a:solidFill>
                <a:latin typeface="Arial"/>
              </a:rPr>
              <a:t> voltage</a:t>
            </a:r>
            <a:r>
              <a:rPr b="0" lang="en-US" sz="1400" spc="-1" strike="noStrike">
                <a:solidFill>
                  <a:srgbClr val="000000"/>
                </a:solidFill>
                <a:latin typeface="Arial"/>
              </a:rPr>
              <a:t> critical buses designated by ERCOT and approved by TAC each Octob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nety-five (95%) percent of the critically important telemetry defined by ERCOT must achieve a monthly availability of at least ninety-eight (98%) percent, excluding approved planned outages.  Availability will be measured based on end-to-end connectivity of the  communications path and the passing of Real-Time data with valid or manual quality codes at the scheduled periodicity.  This will include establishing a process to coordinate downtime for critically important RTU’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SP/QSE Telemetry Restor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metered data shall be provided continuously.  Lost data or signals, whether failed or in error, must be restored promptly by the provider of the telemetered data.  It is recognized that some data may be more critical than other data.  ERCOT will inform the TDSP or QSE if a data item is critical and needs to be repaired as quickly as possible.  QSE and TDSP repair procedures and records shall be made available to ERCOT upon request.  When ERCOT notifies a data provider of a data element which is providing telemetry data inconsistent with surrounding measurements, the provider shall, within 30 days, either a) Calibrate/repair the mis-behaving equipment b) Request an outage to schedule calibration/repair of the mis-behaving equipment c) Provide ERCOT with a plan to re-calibrate or repair the equipment in a reasonable time frame or d) Provide ERCOT with engineering analysis proving the data element is providing accuracy within its specifications.   Before ERCOT requests review/re-calibration of a problem piece of equipment it shall discuss the problem with the provider to attempt to arrive at a consensus decision on the most appropriate ac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ibration and Tes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he responsibility of the owner to insure that calibration, testing and other routine maintenance of equipment is done on a timely basis, and that accuracy meets or exceeds that which is specified in this Standard, for both the overall system and for individual equipment where detailed herein.  Coordination of outages required for these activities with ERCOT is also the responsibility of the owner.  Each TSP/QSE shall have a plan on file with ERCOT to assure accurate  telemetry of data.   If a TSP/QSE repeatedly fails other telemetry metrics defined in this Standard, ERCOT may require a revision of this pla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CCP Link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ata Quality Code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 Participant’s shall provide documentation to ERCOT describing their native system quality codes and defining the conversion of their quality codes into the ERCOT defined quality cod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us &amp; analogs telemetered to ERCOT will be identified with the following quality cod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id – represents analog or status the TSP considers val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al – represents analog or status entered manually at the market participant (not received from the field electronical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ct - Represents analog or status in which the TSP is unsure of the validity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 – Represents analog or status which the market participant has identified as out of reasonability limi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_fail – informs ERCOT that due to communications failure, the analog or status provided ERCOT is not cur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ability of ICCP Link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CP links must achieve a monthly availability of ninety-eight (98%) percent, excluding approved planned outages.  Availability will be measured based on end-to-end connectivity of the  communications path and the passing of Real-Time data.  A link will be considered as available when at least eighty-five (85%) percent of the data defined on that link is successfully transferred to ERCOT with a Valid or Manual quality code.  This will include establishing a process to coordinate downtime for ICCP links and database maintenanc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SP and QSE shall use fully redundant data communication links (ICCP or RTU) between its control center systems and ERCOT systems such that any single element of the communication system can fail 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lang="en-US" sz="1800" spc="-1" strike="noStrike">
                <a:solidFill>
                  <a:srgbClr val="000000"/>
                </a:solidFill>
                <a:latin typeface="Arial"/>
              </a:rPr>
              <a:t>For server failures, complete information must be re-established within five minutes by automatic failover to alternate server(s); an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For all other failures, complete information must continue to flow between the TSP’s, QSE’s, and ERCOT’s control centers with updates of all data continuing at a 30 second or less scan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 Requests for Telemet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s required to protect transmission assets operated at 60 kV or above from damage.  To do this, ERCOT may request that additional MW, MVAR, and voltage telemetry be installed, while attempting to minimize adding equipment to as few locations as practicabl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may request additional telemetry when it determines that network observability or the measurement redundancy is not adequate to produce acceptable state estimator resul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 to making a request for additional telemetry, ERCOT will provide evidence supporting a congestion or reliability problem requiring additional observability and , define expected improvements in system observiblity needed.  If the request is for telemetry additions at more than one location, ERCOT will prioritize the requested addition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receipt of a request for additional telemetry, the TDSP or QSE will have sixty (60) days to eithe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cept ERCOT’s request for additional telemetry and provide a schedule for its implemen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vide an alternative proposal to ERCOT, for implementation within the next 18 months, which meets the requirements described by ERCO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Propose a normal topology change (change normal status of switch(es)) in the area which would eliminate the security violations which are ERCOT’s concern. (i.e. eliminates the possibility of flow through a networked element and turns the security problem into a planning problem which is un-affected by unit dispatch);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Indicate that the requested telemetry point is at a location where the TDSP or QSE does not have the authority to install the requested telemetry.  For points on privately owned facilities connected to the ERCOT Transmission Grid, an attempt will be made to facilitate ERCOT's telemetry request; or</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File a request with the PUCT requesting expedited action for an Order directing that the responsibility for reliability and protection of this specific element or elements of the transmission system be withdrawn from ERCOT and assigned to the requesting TDSP.  ERCOT will then immediately remove the elements from its Real Time Congestion Management system as monitored elements pending the PUCT decision.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RCOT rejects the alternate solution, the TSP or QSE may appeal the original request to TAC within 30 days.  If, after receiving an appeal, TAC does not resolve the appeal within 65 days, the TSP or QSE may present its appeal to the ERCOT Board.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RCOT has not received acknowledgement that a request has been received within thirty (30) days of its sending, ERCOT will contact the TDSP or QSE for verification of receip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n this section shall limit the TDSP’s appeal process outlined in Nodal Protocol Section 3.10.7.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72" name="PlaceHolder 2"/>
          <p:cNvSpPr>
            <a:spLocks noGrp="1"/>
          </p:cNvSpPr>
          <p:nvPr>
            <p:ph/>
          </p:nvPr>
        </p:nvSpPr>
        <p:spPr>
          <a:xfrm>
            <a:off x="457200" y="1066680"/>
            <a:ext cx="8229600" cy="5943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Request for Redundant Telemetr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maintain redundancy on measurements critical to transmission reliability of the ERCOT interconnection.  ERCOT will identify and produce a list of telemetry points in the ERCOT system that is critical to the state estimator solution.  This list will be published annually.  ERCOT will use this list to identify telemetry points whose loss will result i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Inability of ERCOT to monitor loading on a transmission line operated at 345 kV or abov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Inability of ERCOT to monitor loading on a 345/138 kV autotransform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Inability of ERCOT to monitor loading on transmission facilities designated as critical to transmission reliability by ERCOT. A list of critical facilities will be published annual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metry points identified as critical to the state estimator solution shall demonstrate a historical availability of at least eighty percent (80%) over any two (2) consecutive months in order to be considered an “available telemetry poin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may request additional MW, MVAR and voltage telemetry to make these measurements redundant.  In this request, ERCOT will identify the critical points, and the contingency/overload condition and the unit dispatch which makes this a possible concern. If the request is for telemetry at multiple locations, ERCOT will prioritize the requested addi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74"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on receipt of a request for additional telemetry, a TDSP or QSE has sixty (60) days t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r>
              <a:rPr b="0" lang="en-US" sz="1600" spc="-1" strike="noStrike">
                <a:solidFill>
                  <a:srgbClr val="000000"/>
                </a:solidFill>
                <a:latin typeface="Arial"/>
              </a:rPr>
              <a:t>	</a:t>
            </a:r>
            <a:r>
              <a:rPr b="0" lang="en-US" sz="1600" spc="-1" strike="noStrike">
                <a:solidFill>
                  <a:srgbClr val="000000"/>
                </a:solidFill>
                <a:latin typeface="Arial"/>
              </a:rPr>
              <a:t>Provide ERCOT with a schedule of equipment installations within the next eighteen (18) months which will provide the proposed telemet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r>
              <a:rPr b="0" lang="en-US" sz="1600" spc="-1" strike="noStrike">
                <a:solidFill>
                  <a:srgbClr val="000000"/>
                </a:solidFill>
                <a:latin typeface="Arial"/>
              </a:rPr>
              <a:t>	</a:t>
            </a:r>
            <a:r>
              <a:rPr b="0" lang="en-US" sz="1600" spc="-1" strike="noStrike">
                <a:solidFill>
                  <a:srgbClr val="000000"/>
                </a:solidFill>
                <a:latin typeface="Arial"/>
              </a:rPr>
              <a:t>Propose an alternative solution which will serve the same purpose as the ERCOT identified telemetry additions with a proposed implementation within 18 month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r>
              <a:rPr b="0" lang="en-US" sz="1600" spc="-1" strike="noStrike">
                <a:solidFill>
                  <a:srgbClr val="000000"/>
                </a:solidFill>
                <a:latin typeface="Arial"/>
              </a:rPr>
              <a:t>	</a:t>
            </a:r>
            <a:r>
              <a:rPr b="0" lang="en-US" sz="1600" spc="-1" strike="noStrike">
                <a:solidFill>
                  <a:srgbClr val="000000"/>
                </a:solidFill>
                <a:latin typeface="Arial"/>
              </a:rPr>
              <a:t>In cases where the request is based on the availability rate of an existing telemetry point, the TDSP or QSE will provide a plan to improve the availability rate of the identified critical telemetry to an acceptable level, or provide documentation for why this cannot be accomplish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r>
              <a:rPr b="0" lang="en-US" sz="1600" spc="-1" strike="noStrike">
                <a:solidFill>
                  <a:srgbClr val="000000"/>
                </a:solidFill>
                <a:latin typeface="Arial"/>
              </a:rPr>
              <a:t>	</a:t>
            </a:r>
            <a:r>
              <a:rPr b="0" lang="en-US" sz="1600" spc="-1" strike="noStrike">
                <a:solidFill>
                  <a:srgbClr val="000000"/>
                </a:solidFill>
                <a:latin typeface="Arial"/>
              </a:rPr>
              <a:t>If ERCOT rejects the alternate solution, the TSP or QSE may appeal the original request to TAC within 30 days.  If, after receiving an appeal, TAC does not resolve the appeal within 65 days, the TSP or QSE may present its appeal to the ERCOT Board.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r>
              <a:rPr b="0" lang="en-US" sz="1600" spc="-1" strike="noStrike">
                <a:solidFill>
                  <a:srgbClr val="000000"/>
                </a:solidFill>
                <a:latin typeface="Arial"/>
              </a:rPr>
              <a:t>	</a:t>
            </a:r>
            <a:r>
              <a:rPr b="0" lang="en-US" sz="1600" spc="-1" strike="noStrike">
                <a:solidFill>
                  <a:srgbClr val="000000"/>
                </a:solidFill>
                <a:latin typeface="Arial"/>
              </a:rPr>
              <a:t>Identify and propose a schedule of equipment installations within the next 18 months which would, as a result, make the transmission element identified by ERCOT non-critical; o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r>
              <a:rPr b="0" lang="en-US" sz="1600" spc="-1" strike="noStrike">
                <a:solidFill>
                  <a:srgbClr val="000000"/>
                </a:solidFill>
                <a:latin typeface="Arial"/>
              </a:rPr>
              <a:t>	</a:t>
            </a:r>
            <a:r>
              <a:rPr b="0" lang="en-US" sz="1600" spc="-1" strike="noStrike">
                <a:solidFill>
                  <a:srgbClr val="000000"/>
                </a:solidFill>
                <a:latin typeface="Arial"/>
              </a:rPr>
              <a:t>Indicate that the facility that telemetry is being requested is not owned or covered by an interconnect agreement that allows the requested party to install the additional telemet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ERCOT does not have knowledge that a request has been received within thirty (30) days of its sending, ERCOT will contact the TDSP or QSE for verification of receip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hing in this section shall limit the TDSP’s appeal process outlined in Nodal Protocol Section 3.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Estimator Standard</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e Estimator Dat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RCOT uses a state estimator to produce load flow base cases which are used to analyze the reliability of the transmission grid. Accurate and redundant telemetry and an accurate transmission power system model are required by state estimator in order to produce an optimal estimation of the transmission power system state. The state estimator results are used in contingency analysis, congestion management, and other network analysis real-time sequence fun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lemetry and State Estimator Standard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met weekly for 5 wee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was open to all participa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by confernce call each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meetings were posted on ERCOT calend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Estimator Standard</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metry Status and Analog Measurements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of good telemetry status and analog measurements data (Telemetry) for the transmission power system (System) together with an accurate model of the System are processed by a state estimator to provide an optimal estimate of the System state at a given point in time while filtering measurement noise (error) and detecting gross errors. The quality and availability of telemetry provided to ERCOT are important to the performance of the ERCOT State Estimat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metry is not needed at every node of the System to arrive at a good estimate of the System’s state. There are general telemetry performance criterion, such that sufficient numbers and placement of measurements and accuracy of measurements that are available to achieve System observability and an overall good State Estimator perform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general telemetry performance criterion there are more stringent criterion needed at locations where state estimates are “critically important” (e.g., locations where reliability, security, and Market impact are of more focused conc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Estimator Standard</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Estimator Performance Requirem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Estimator converges 97% of runs during a monthly test perio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ransmission elements identified as causing 80% of congestion cost in the latest year for which data is available, the residual difference between State Estimator results and Power Flow results for critically monitored transmission element MW flows shall be less than 3% of the associated element emergency rating on at least 95% of samples measured in a one month tria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ransmission elements identified as causing 80% of congestion cost in the latest year for which data is available, the difference between the MW telemetry value and the  MW SE value shall be less than 3% of the associated element emergency rating on at least 95% of samples measured in a one month tria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0 most voltage critical buses designated by ERCOT and approved by TAC each October; the telemetered bus voltage minus state estimator voltage shall be within the greater of 2% or the accuracy of the telemetered voltage measurement involved for at least 95% of samples measured during a 1 month trial.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all transmission elements greater than 100kV; the difference between state estimator MW solution and the SCADA measurement will be less than 10 MW or 10% of the associated emergency rating (whichever is greater) on 99.5% of all elements during a 30 day period.  All equipment failing this test will be reported to the associated TSP for repair within 10 days of detectio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Estimator Standard</a:t>
            </a:r>
            <a:endParaRPr b="0" lang="en-US" sz="4400" spc="-1" strike="noStrike">
              <a:solidFill>
                <a:srgbClr val="000000"/>
              </a:solidFill>
              <a:latin typeface="Arial"/>
            </a:endParaRPr>
          </a:p>
        </p:txBody>
      </p:sp>
      <p:sp>
        <p:nvSpPr>
          <p:cNvPr id="84"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eet these objectives ERCOT wi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work with TSP to resolve problem in accordance with ERCOT Guides prior to directing additional equipmen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nt of failure to meet the standard in parts 2 and 3 above, ERCOT may direct additional telemetry be installed on elements contributing most to 80% of congestion costs for the latest year for which data is availab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enforce the requirements of Nodal Protocol 3.10.7.4.2 (5) by alarming any sum of flow around a bus &gt; 5% or 5MW, and requesting that the applicable TSP or QSE correct the failu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will post monthly results for compliance with items 1 through 5 abov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shall consider the quality codes sent by the data provider in assigning confidence factors for the data to be used in the SE.  Valid and manual quality codes shall be considered as good quality.  Quality codes sent as not good quality shall be considered at a lower confidence.  The confidence shall continue to decrease over tim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e Estimator Standard</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perating Guide 8 Revisions</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DSWG prepared a revised Operating Guide 8 that incorporated the proposed Telemetry Standard and the proposed State Estimator Standar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Work</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MP Performance Standar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Upd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MP Standards</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odal Protocols require a LMP Performance Standard be develop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evelopment of this standard has not been assig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mbers of the working group felt they needed more experience working with the LMP calculator before a meaning standard could be develop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Updates</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al Protocols require these standards to be updated each Octo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the Telemetry and SE Standards may need modifications after LMP Standard is develop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lemetry and State Estimator Standard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ed current applicable Operating Gui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ed standards from MI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ulted with technical experts from member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lemetry and State Estimator Standards</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Telemetry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State Estimator Stand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d revised Operating Guide 8 to incorporate the revised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lemetry Status and Analog Measurements Dat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of good telemetry status and analog measurements data (Telemetry) for the transmission power system (System) together with an accurate model of the System are processed by a state estimator to provide an optimal estimate of the System state at a given point in time while filtering measurement noise (error) and detecting gross errors. The quality and availability of telemetry provided to ERCOT are important to the performance of the ERCOT State Estimat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metry is not needed at every node of the System to arrive at a good estimate of the System’s state. There are general telemetry performance criterion, such that sufficient numbers and placement of measurements and accuracy of measurements that are available to achieve System observability and an overall good State Estimator perform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yond general telemetry performance criterion there are more stringent criterion needed at locations where state estimates are “critically important” (e.g., locations where reliability, security, and Market impact are of more focused conc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TSP shall provide telemetered measurements on modeled Transmission Elements to ensure State Estimator observability of any monitored voltage and power flow between their associated transmission breakers to the extent such can be shown to be needed in achieving the TAC-approved SE performance standard.  On monitored non-Load Electrical Buses, each TSP shall install, at the direction of ERCOT, sufficient telemetry such that there is an “N-1 Redundancy.”  An N-1 Redundancy exists if the Electrical Bus remains observable on the loss of any single measurement pair (MW, MVAr) excluding station RTU communication path failures.  In making the determination to request additional telemetry, ERCOT shall consider the economic implications of inaccurate representation of Load Models in LMP results versus the cost to remed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54"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SEs, Resources and TDSPs are required to provide power operation data to ERCOT including, but not limited to:</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generation data from QSE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Outage information from Resources; </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data used by any TDSP’s control center, including:</a:t>
            </a:r>
            <a:endParaRPr b="0" lang="en-US" sz="20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er and line switch status of all ERCOT Transmission Grid devices;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 flow MW and MVAR;</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aker, switches connected to all Resources;</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Facility Voltages; and </a:t>
            </a:r>
            <a:endParaRPr b="0" lang="en-US" sz="1800" spc="-1" strike="noStrike">
              <a:solidFill>
                <a:srgbClr val="000000"/>
              </a:solidFill>
              <a:latin typeface="Arial"/>
            </a:endParaRPr>
          </a:p>
          <a:p>
            <a:pPr lvl="1" marL="735480" indent="-2829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er MW, MVAR and TAP.</a:t>
            </a:r>
            <a:endParaRPr b="0" lang="en-US" sz="18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generation and Load acting as a Resource meter data from QSE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time Generation meter splitting signal from QSE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ed Transmission Outage information from TDSP;</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transmission data (model and constraints) from TDSP;and</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ynamic Schedules from QSEs;</a:t>
            </a: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eal Time data will be provided to ERCOT at the same scan rate as the TDSP or QSE obtains the data from telemetry</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SP and QSE shall provide telemetry, as described in this subsection, to ERCOT on the status of all breakers and switches used to switch any Transmission Element or load modeled by ERCOT.  Each TSP and QSE is not required to install telemetry on individual breakers and switches, where the telemetered status shown to ERCOT is current and free from ambiguous changes in state caused by the TSP or QSE switching operations and TSP or QSE personnel.  Each TSP or QSE shall update the status of any breaker or switch through manual entries, if necessary, to communicate the actual current state of the device to ERCOT, except if the change in state is expected to return to the prior state within one minute.  If in the sole opinion of ERCOT, the manual updates of the TSP or QSE have been unsuccessful in maintaining the accuracy required to support State Estimator performance to the State Estimator Performance Standard, ERCOT may request that the TSP or QSE install complete telemetry from the breaker or switch to the TSP or QSE, and then to ERCOT.  In making the determination to request installation of additional telemetry from a breaker or switch, ERCOT shall consider the economic implications of inaccurate representation of Model Loads in LMP results versus the cost to reme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afced"/>
            </a:gs>
            <a:gs pos="50000">
              <a:srgbClr val="edfcf6"/>
            </a:gs>
            <a:gs pos="100000">
              <a:srgbClr val="dafced"/>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lemetry Standard</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ral Telemetry Performance Criteria</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ollowing criterion will apply in general to Telemetry provided to ERCO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SP shall maintain the sum of flows into any telemetered bus less than the greater of 5 MW or 5% of the largest line rating at each bu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QSE or TDSP shall provide data to ERCOT that meets the following availabil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nety-eight (98%) percent of all telemetry provided to ERCOT must achieve a monthly availability of at least eighty (80%) percent, excluding approved planned outages.  Availability will be measured based on end-to-end connectivity of the communications path and the passing of Real-Time data with good quality codes at the scheduled periodicity.  .  This will include establishing a process to coordinate downtime for RTU’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DSP’s shall make reasonable efforts to obtain this data from retail customers associated with new customer-owned substations to meet this standard or obtain agreement from ERCOT that these retail customers have entered into arrangements with ERCOT to provide this data to ERCOT.  If the data cannot be obtained under either of these methods, ERCOT shall report such case to the Wholesale Electric Market Monito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s to the General Telemetry Performance Criterion shall be made for data points not significant in the solution of the State Estimator or required for the reliable operation of the ERCOT Transmission System.  Some examples of these ar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tion with no more than two transmission lines and less than 10 MW of load;</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ion of Loads along a continuous, non-branching circuit that may be combined for telemetry purposes;</a:t>
            </a:r>
            <a:endParaRPr b="0" lang="en-US" sz="12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tions connected radially to the bulk transmission system.</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19:07:40Z</dcterms:created>
  <dc:creator>dgrubbs</dc:creator>
  <dc:description/>
  <dc:language>en-US</dc:language>
  <cp:lastModifiedBy>dgrubbs</cp:lastModifiedBy>
  <dcterms:modified xsi:type="dcterms:W3CDTF">2006-06-08T21:11:37Z</dcterms:modified>
  <cp:revision>8</cp:revision>
  <dc:subject/>
  <dc:title>Telemetry and State Estimator Standard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42824955</vt:r8>
  </property>
  <property fmtid="{D5CDD505-2E9C-101B-9397-08002B2CF9AE}" pid="3" name="_AuthorEmail">
    <vt:lpwstr>DLG@gplops.org</vt:lpwstr>
  </property>
  <property fmtid="{D5CDD505-2E9C-101B-9397-08002B2CF9AE}" pid="4" name="_AuthorEmailDisplayName">
    <vt:lpwstr>Grubbs, David</vt:lpwstr>
  </property>
  <property fmtid="{D5CDD505-2E9C-101B-9397-08002B2CF9AE}" pid="5" name="_EmailSubject">
    <vt:lpwstr>NDSWG Telemetry and State Estimator Standards</vt:lpwstr>
  </property>
</Properties>
</file>