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7F60-BA24-4A28-9C0E-3B404E143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onvey our interpretation of a simple outage, let’s go over a few defin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MPs are calculated using a DC s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pology refers to the shape of a network, or the network's layout. How different nodes in a network are connected to each other and how they communicate are determined by the network's topology. Topologies are eithe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physic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gica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 Protocol defini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A Planned Outage or Maintenance Outage of any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Transmission Element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in the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Network Operations Model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such that when the Transmission Element is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removed from its normal service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 absent a Forced Outage of other Transmission Elements, the Outage does not cause a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topology change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in the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LMP calculation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and thus cannot cause any </a:t>
            </a:r>
            <a:r>
              <a:rPr b="1" i="1" lang="en-US" sz="1200" spc="-1" strike="noStrike">
                <a:solidFill>
                  <a:srgbClr val="000000"/>
                </a:solidFill>
                <a:latin typeface="Verdana"/>
              </a:rPr>
              <a:t>LMPs to change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 with or without the Transmission Element that is suffering the Outage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3137-3C42-4E93-810A-CF3F24FF4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13F4-DB8B-45BD-A80C-20219115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4105-4FBE-40D5-B8D7-303CABCEC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D13F-BDCA-4900-A315-A85C3EF4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3CE1-A939-4F16-BE60-037E6614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355-55EF-4D98-8A22-FB22249F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0D5-EC25-48FD-85D1-066970E5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00D4-8CC2-4162-A602-FC1D09115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3C3-459C-486F-AFDE-EB096486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5587-9FBE-458B-B021-AAA1FF9C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5F38-7D2D-4FEB-8545-125D1B0C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0D54-4B2C-4470-BDA3-B6FB41FE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14CD-FB53-4312-84AF-B0BF88E09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webopedia.com/quick_ref/network.html" TargetMode="External"/><Relationship Id="rId2" Type="http://schemas.openxmlformats.org/officeDocument/2006/relationships/hyperlink" Target="http://www.webopedia.com/quick_ref/node.html" TargetMode="External"/><Relationship Id="rId3" Type="http://schemas.openxmlformats.org/officeDocument/2006/relationships/hyperlink" Target="http://www.webopedia.com/quick_ref/physical_topology.html" TargetMode="External"/><Relationship Id="rId4" Type="http://schemas.openxmlformats.org/officeDocument/2006/relationships/hyperlink" Target="http://www.webopedia.com/quick_ref/logical_topology.html" TargetMode="External"/><Relationship Id="rId5" Type="http://schemas.openxmlformats.org/officeDocument/2006/relationships/hyperlink" Target="http://www.webopedia.com/quick_ref/node.html" TargetMode="External"/><Relationship Id="rId6" Type="http://schemas.openxmlformats.org/officeDocument/2006/relationships/hyperlink" Target="http://www.webopedia.com/quick_ref/bus.html" TargetMode="External"/><Relationship Id="rId7" Type="http://schemas.openxmlformats.org/officeDocument/2006/relationships/hyperlink" Target="http://www.webopedia.com/quick_ref/backbone.html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NetworkTopologies.pn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swers.com/main/ntquery?dsid=2222&amp;dekey=Electrical+element" TargetMode="External"/><Relationship Id="rId2" Type="http://schemas.openxmlformats.org/officeDocument/2006/relationships/hyperlink" Target="http://www.answers.com/main/ntquery?dsid=2222&amp;dekey=Resistor" TargetMode="External"/><Relationship Id="rId3" Type="http://schemas.openxmlformats.org/officeDocument/2006/relationships/hyperlink" Target="http://www.answers.com/main/ntquery?dsid=2222&amp;dekey=Inductor" TargetMode="External"/><Relationship Id="rId4" Type="http://schemas.openxmlformats.org/officeDocument/2006/relationships/hyperlink" Target="http://www.answers.com/main/ntquery?dsid=2222&amp;dekey=Capacitor" TargetMode="External"/><Relationship Id="rId5" Type="http://schemas.openxmlformats.org/officeDocument/2006/relationships/hyperlink" Target="http://www.answers.com/main/ntquery?dsid=2222&amp;dekey=Switch" TargetMode="External"/><Relationship Id="rId6" Type="http://schemas.openxmlformats.org/officeDocument/2006/relationships/hyperlink" Target="http://www.answers.com/main/ntquery?dsid=2222&amp;dekey=Integrated+circuit" TargetMode="External"/><Relationship Id="rId7" Type="http://schemas.openxmlformats.org/officeDocument/2006/relationships/hyperlink" Target="http://www.answers.com/main/ntquery?dsid=2222&amp;dekey=Electricity+distribution" TargetMode="External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IMPLE TRANSMISSION OU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flipV="1">
            <a:off x="1600200" y="502884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2057400"/>
            <a:ext cx="380880" cy="3808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2346b1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523520" y="22860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286000"/>
            <a:ext cx="1228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048200" y="2286000"/>
            <a:ext cx="49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286000"/>
            <a:ext cx="24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457360" y="2133360"/>
            <a:ext cx="17172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2590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981080"/>
            <a:ext cx="609480" cy="533520"/>
          </a:xfrm>
          <a:prstGeom prst="hexagon">
            <a:avLst>
              <a:gd name="adj" fmla="val 2855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346b1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2666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ad or B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105520"/>
            <a:ext cx="381240" cy="380880"/>
          </a:xfrm>
          <a:prstGeom prst="ellipse">
            <a:avLst/>
          </a:prstGeom>
          <a:gradFill rotWithShape="0">
            <a:gsLst>
              <a:gs pos="0">
                <a:srgbClr val="3366ff"/>
              </a:gs>
              <a:gs pos="50000">
                <a:srgbClr val="2346b1"/>
              </a:gs>
              <a:gs pos="100000">
                <a:srgbClr val="33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99036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548640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600200" y="3962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600200" y="3428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61722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34290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191120"/>
            <a:ext cx="2857680" cy="904680"/>
          </a:xfrm>
          <a:prstGeom prst="wedgeRoundRectCallout">
            <a:avLst>
              <a:gd name="adj1" fmla="val -119055"/>
              <a:gd name="adj2" fmla="val 352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can be taken out as a simple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4191120"/>
            <a:ext cx="4114800" cy="914400"/>
          </a:xfrm>
          <a:prstGeom prst="wedgeRoundRectCallout">
            <a:avLst>
              <a:gd name="adj1" fmla="val -94060"/>
              <a:gd name="adj2" fmla="val -2307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enerator breakers can be taken out as a Simple Outage provided the Unit is on a Planned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4572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657600"/>
            <a:ext cx="30456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133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80060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5562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62120" y="41911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62120" y="34286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46483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1447560" y="45720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1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ing of energized Transmission voltage level devices that directly connect to normally open-ended line segments and will not swap load or change load flow dir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certain restrictions, an ongoing bus outage may be expanded to include directly connected lines that were open-ended by the bus outage if the requesting TO controls all involved equipment. The line(s) must have a single switch or breaker to isolate it from the remaining energized system.  To qualify for this expansion, the opposite end of the line/equipment newly included in the existing outage must be isolated from the next bus through opening a single switch or break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work on breakers that directly connect to a generator if the unit is scheduled off line due to a planned or forced outage.  The maintenance work may be expanded to include the line open ended by that breaker, if the line segment can be isolated by a single switch or breaker.  The maintenance must end prior to the unit becoming available and must not delay the unit’s ability to return to service nor affect the unit(s)’ capabil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Verdana"/>
              </a:rPr>
              <a:t>Questions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pology refers to the shape of a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network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, or the network's layout. How different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nod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in a network are connected to each other and how they communicate are determined by the network's topology. Topologies are eithe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hysic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logical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elow are diagrams of the most common network topolog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esh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ices are connected with many redundant interconnections between network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nod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. In a true mesh topology every node has a connection to every other node in the networ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us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devices are connected to a central cable, called th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bu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 or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backbon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ing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ll devices are connected to one another in the shape of a closed loop, so that each device is connected directly to two other devices, one on either side of i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ree Topology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 hybrid topology. Groups of star-configured networks are connected to a linear bus backb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opolog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odal Protocol Defi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26 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Simple Transmission Ou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lanned Outage or Maintenance Outage of any Transmission Element in the Network Operations Model such that when the Transmission Element is removed from its normal service, absent a Forced Outage of other Transmission Elements, the Outage does not cause a topology change in the LMP calculation and thus cannot cause any LMPs to change with or without the Transmission Element that is suffering the Ou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pology refers to the shape of a network, or the network's layout. How different nodes in a network are connected to each other and how they communicate are determined by the network's topology. Topologies are eithe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physic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logic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opology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Network Top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mage showing different network layou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523880"/>
            <a:ext cx="7925040" cy="42148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60958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dividual symbols in each example represent  a Load,  a Generator, or 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Electrical Networ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ical net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n interconnection of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lectrical el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uch as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sisto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inducto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pacito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and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witche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. It can be as small as 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tegrated circui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n a silicon chip, or as large as a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lectricity distributio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or transmission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imple Transmission Outage bound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age must not cause a topology change in the LMP calc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age request must be submitted at least 1 day prior to the requested start d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 not cause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ll not violate applicable reliability stand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to 8 hours or less in d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restoration time shall not exceed 2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imple Transmission Outage bound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29000" y="4724280"/>
            <a:ext cx="3412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733920" y="4495320"/>
            <a:ext cx="2365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0"/>
            <a:ext cx="3809880" cy="609480"/>
          </a:xfrm>
          <a:prstGeom prst="wedgeRoundRectCallout">
            <a:avLst>
              <a:gd name="adj1" fmla="val 44041"/>
              <a:gd name="adj2" fmla="val 3013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RCOT Model must indicate switch position is normally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2209680"/>
            <a:ext cx="2666880" cy="609840"/>
          </a:xfrm>
          <a:prstGeom prst="wedgeRoundRectCallout">
            <a:avLst>
              <a:gd name="adj1" fmla="val -72856"/>
              <a:gd name="adj2" fmla="val 32291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can be taken out as a simple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1018800" y="3828960"/>
            <a:ext cx="27612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 rot="5400000">
            <a:off x="7581240" y="3819240"/>
            <a:ext cx="276480" cy="343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D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 rot="5400000">
            <a:off x="5514840" y="3848040"/>
            <a:ext cx="276120" cy="34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 rot="5400000">
            <a:off x="3057480" y="3857760"/>
            <a:ext cx="276480" cy="34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504720" y="2238480"/>
            <a:ext cx="609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419720"/>
            <a:ext cx="609840" cy="533160"/>
          </a:xfrm>
          <a:prstGeom prst="hexagon">
            <a:avLst>
              <a:gd name="adj" fmla="val 28596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72428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47242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4724280"/>
            <a:ext cx="129564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99480" y="5943600"/>
            <a:ext cx="52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vidual symbols  represent  a Load or 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91520" y="441972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441972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4419720"/>
            <a:ext cx="609480" cy="533160"/>
          </a:xfrm>
          <a:prstGeom prst="hexagon">
            <a:avLst>
              <a:gd name="adj" fmla="val 28579"/>
              <a:gd name="vf" fmla="val 115470"/>
            </a:avLst>
          </a:prstGeom>
          <a:gradFill rotWithShape="0">
            <a:gsLst>
              <a:gs pos="0">
                <a:srgbClr val="3366ff"/>
              </a:gs>
              <a:gs pos="50000">
                <a:srgbClr val="2953d0"/>
              </a:gs>
              <a:gs pos="100000">
                <a:srgbClr val="3366ff"/>
              </a:gs>
            </a:gsLst>
            <a:lin ang="5400000"/>
          </a:gra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175248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39625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295280" y="175248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2133720"/>
            <a:ext cx="30492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352680"/>
            <a:ext cx="30492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2743200"/>
            <a:ext cx="30492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175248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90920" y="2133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335268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74320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752480"/>
            <a:ext cx="0" cy="2210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2133720"/>
            <a:ext cx="304560" cy="30456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35268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2743200"/>
            <a:ext cx="304560" cy="3049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" y="25909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57200" y="18284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05120" y="25909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1905120" y="18284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3276720" y="25909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3276720" y="182844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742840" y="3200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6324480"/>
            <a:ext cx="3505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10080" y="5715000"/>
            <a:ext cx="30492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562720" y="6019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7010280" y="6019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381880" y="60199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320040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10080" y="4114800"/>
            <a:ext cx="381240" cy="30492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010280" y="5409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81880" y="54097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400440" y="5410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772040" y="5410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5410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72400" y="541008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200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295280" y="32004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32004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2286000"/>
            <a:ext cx="2857680" cy="905040"/>
          </a:xfrm>
          <a:prstGeom prst="wedgeRoundRectCallout">
            <a:avLst>
              <a:gd name="adj1" fmla="val -54000"/>
              <a:gd name="adj2" fmla="val 1228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ine can be taken out as a simple out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4495680"/>
            <a:ext cx="2133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Ou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5715000"/>
            <a:ext cx="30492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29600" y="5715000"/>
            <a:ext cx="304920" cy="3049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2T20:06:54Z</dcterms:created>
  <dc:creator>RPoston</dc:creator>
  <dc:description/>
  <dc:language>en-US</dc:language>
  <cp:lastModifiedBy>RPoston</cp:lastModifiedBy>
  <dcterms:modified xsi:type="dcterms:W3CDTF">2006-07-12T13:20:12Z</dcterms:modified>
  <cp:revision>13</cp:revision>
  <dc:subject/>
  <dc:title>SIMPLE TRANSMISSION OUTAGE</dc:title>
</cp:coreProperties>
</file>