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77945-8310-46B7-9015-08EA4B70E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E5AAD-BFB3-4E9D-853D-A715B615E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8D3C7-B992-4C91-BF95-CA0BEBEFE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C6A93-F790-4848-B796-2DC896BEA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17C1F-15D3-46AB-A48C-C839BE94D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BF502-7F39-4881-8484-BD12F4168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2192D-2623-4480-887F-2776F1CE0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FB7A6-D87B-4B8C-81E6-91BC6A538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E8FDE-53B6-406E-B475-199FEC19C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54D2D-341B-47B9-A6EC-EFC2C0EBB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DCA89-6D1E-4B75-A93E-9F21B0EB9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5347D-7829-4911-8A4B-9ED9AA15E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EDEA-33DF-4D49-9AAB-30F03DDEAF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PTF NET METERING DISCUSSION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3 Off-line Me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TPTF members and interested market participants to have an off-line discussion of the issues surrounding the carry-over of the net metering concepts described in Zonal Protocol Section 10.3.2.3 to the nodal mar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tende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Spangler &amp; Jerry Ward (TXU Wholesa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Payton (OX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vin Opheim (ERCO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nneth Ragsdale (ERCO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rell Scruggs and Randy Jones (Calp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yd Trefny (Reliant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ny Munoz (CenterPoi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ms Siddiqi (LC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yton Greer (Constel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zonal Protocol Section 10.3.2.3 should be carried forward to Nodal Protocol Section 10.3.2.3 without change but, potentially, with 1 addition requir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is discussion the participants were divided on the matter of adding a requirement in the nodal protocols related to ERCOT’s posting of an annual report concerning load shifts between associated generation resource load and ERCOT system load in common switchyards, as these terms are described in Section 10.3.2.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nsus language on this subject may be 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Participants agreed that operational and settlement needs are best addressed by requiring all generation resources to provide ERCOT net generation data in real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Generation  data may be provided by SCADA values that provide net generator output or may be calculated by the QSE using an EROCT approved methodology.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quirement is consistent with the requirement that all generation resources have individual energy offer curves and HSL and LSL that are based on net generation for purposes of the SC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work is required to incorporate into the nodal market implementation for CCCT resourc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cepts that are presently being discussed for implementation in the zonal market; a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tails of calculations of net generation for CC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al settlement will allocate the settlement payment for energy injections to the ERCOT grid under net metering arrangements to generation resources located behind the netted EPS meters based on the net generation data provided as described abo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cess is intended to be similar to the process used in today’s zonal marke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neth Ragsdale committed to bring settlement protocol language to TPTF.</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urposes of settling the Nodal Protocol Base Point Penalty Provisions and for evaluating Generation Resource performance measures, the net generation data provided in as described above will be us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n NPR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 to 10.3.2.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ed Protocol S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1:15:12Z</dcterms:created>
  <dc:creator>Robert Spangler</dc:creator>
  <dc:description/>
  <dc:language>en-US</dc:language>
  <cp:lastModifiedBy>Robert Spangler</cp:lastModifiedBy>
  <dcterms:modified xsi:type="dcterms:W3CDTF">2006-07-25T13:51:03Z</dcterms:modified>
  <cp:revision>3</cp:revision>
  <dc:subject/>
  <dc:title>TPTF NET METERING DISCUSSION SUMMA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9473492</vt:r8>
  </property>
  <property fmtid="{D5CDD505-2E9C-101B-9397-08002B2CF9AE}" pid="3" name="_AuthorEmail">
    <vt:lpwstr>Robert.Spangler@txu.com</vt:lpwstr>
  </property>
  <property fmtid="{D5CDD505-2E9C-101B-9397-08002B2CF9AE}" pid="4" name="_AuthorEmailDisplayName">
    <vt:lpwstr>Spangler, Bob</vt:lpwstr>
  </property>
  <property fmtid="{D5CDD505-2E9C-101B-9397-08002B2CF9AE}" pid="5" name="_EmailSubject">
    <vt:lpwstr>Net Metering presentation file</vt:lpwstr>
  </property>
  <property fmtid="{D5CDD505-2E9C-101B-9397-08002B2CF9AE}" pid="6" name="_NewReviewCycle">
    <vt:lpwstr/>
  </property>
</Properties>
</file>