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6C37-4868-4766-B42B-1E1E464E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983C-2E3F-4E5D-9A25-43312E58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7759-3AEA-4FFD-A4DC-169621C2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B657-80A7-454C-AC5A-153E0675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CB42-61EB-4032-907D-2C90A567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8648-96CF-432D-8BC7-4282B30F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1503-AAE6-4627-ABBE-782E1906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48D4-49E9-4AB6-8B3A-A8465760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E0B5-F2E5-4FCA-AB6A-85034939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0155-92B7-43A2-B545-E853D8D1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59A1-207D-43B2-B173-056942B3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4360-8C30-472E-AA41-8FB94450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E05F-5D6D-4FED-8689-77B8DA2CA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Metric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33440" y="1130400"/>
            <a:ext cx="6477120" cy="4600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4800" y="7621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Metr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33600" y="1301760"/>
            <a:ext cx="6076800" cy="42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4800" y="762120"/>
            <a:ext cx="22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to Date - 20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6-07-07T14:25:23Z</dcterms:modified>
  <cp:revision>18</cp:revision>
  <dc:subject/>
  <dc:title>Instructions</dc:title>
</cp:coreProperties>
</file>