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9839-B555-4A8D-9DA5-349B2E962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A0BA-AAC5-4D97-97B2-1C199D25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32C0-E6E0-4517-8D65-03A6E2081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391A-EFA0-46A5-91FE-43C3F79EF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08EF-4CCA-4497-9D52-2CC16D4B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DAFF-20BA-45A5-AD56-BA993577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BB0A-4041-42BD-BBE9-40891441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BF40-01BA-4E03-AF55-DB320446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6880-487A-4C27-8DC2-273129C8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EE9C-EF48-4F37-8EC8-2A3E0E60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70C6-F187-4085-850E-A4429C6C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2C83-4259-4191-A2C0-45A67033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C954-783E-4493-BBA9-234DEFACF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1295280"/>
            <a:ext cx="78487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cessing Large Volum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14_20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sues / Discussion / Idea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9922-150D-4DCC-9438-D81FEBAA239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 of Iss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May TX SET and June RMS – TXU ED brought forward questions related to processing large volumes of 814_20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 of TXU ED at June RMS –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ablish a task force 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ablish future volumes and processing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aluate current TIBCO project to determine capab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termine options for increasing ERCOT 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ore other transactions or other Market Notification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June RMS – ERCOT said we would discuss internally and bring back ideas to help RMS leadership determine next ste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3A99-3625-4DF9-BC79-037E0EA283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Volumes / Business Reas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tial business reasons for large volumes of 814_2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TDSPs - Annual Valid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TDSPs - T &amp; C’s requirements for duplicate address clarif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TDSPs - Retirement of temporary accounts (volumes may vary by TDS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XU ED - Rate Expansion – approx. 3,000,000 accounts (weekend convers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XU ED - On going conversion of AMR project over next 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XU ED - Future rate and franchise changes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AA25-8493-4739-8FB9-01E8BB9281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Pro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Profiling Guide outlines the process for annual validations.  The TDSP and ERCOT work together on schedule to process large volu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2006 – approx 867,000 will be 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x 200,000 per weekend – across 4 weekends (Fri/Sat/Sun/M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ture volumes expected to drop to approximately 300,000 per 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process capabilities for 814_20 maintenance transactions are currently between 25K to 50K transactions dail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76F1-2433-4AB1-A69C-6D26496CAC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s to Consi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ft protocol language to address large volumes for business reasons other than annual validation – may want to consider the plan of coordination between TDSPs and ERC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protocol changes are approved, then ask TX SET to look 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file format for large volumes of 814_20 maintains to be sent in 'mass update file' to load at ERC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file format for large volumes of 814_20 maintains to be sent to CRs to communicate ‘mass update file’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itional type of 814_20 maintain – separate out information that needs to be sent to ERCOT or CR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k ERCOT for additional analysis after implementation of TIBCO, (in Jan 2007) with volumes and tim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Nodal system design, explore processing window changes (uncouple from bat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780B-4765-4135-AEEE-8ACA92372B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kfarley</cp:lastModifiedBy>
  <cp:lastPrinted>2002-09-24T18:27:58Z</cp:lastPrinted>
  <dcterms:modified xsi:type="dcterms:W3CDTF">2006-07-07T18:17:42Z</dcterms:modified>
  <cp:revision>639</cp:revision>
  <dc:subject/>
  <dc:title>PowerPoint Presentation</dc:title>
</cp:coreProperties>
</file>