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A475-0DEE-4FED-A08A-E07A7B31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A839-B4B2-4A6F-831C-DFC26E4B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677E-FDEA-4F94-AC86-98EABD9E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FCDB-8A9C-44F7-B194-FF4138C0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3D88-960E-4689-A6C7-469971FF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9F51-71B3-4A3A-ADB5-63BB4C65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D43B-2D40-4087-85D3-BBC1A95A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D372-734A-4467-B430-E56880B1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BBD0-E71B-4AA8-BF34-BA161778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DCDD-547A-406B-A659-04BD031E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B8A3-2BCE-49E0-A8EF-C3E7F4EE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EE4D-EBD1-4CA3-B8A0-D6E3D038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5493-5DF5-4065-AF56-B6E0A97A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8686-20CB-4709-8AFE-25A1C813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4865-8022-4873-9D7B-376B8FCE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40A5-D2DE-42C8-A19D-8629A2E1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D4BF-0288-42C2-AF09-4E59E98B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5F75-37EB-4A9F-B452-ADF8AD7E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52A4-A992-4C67-A17E-041D35AC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4CFA-78ED-47FE-A7E4-2005CC35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BAD6-394A-4CF9-B9F7-8B635F81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CB3-3215-4233-9BA6-16510D24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A774-A59B-470B-9BE8-E327E67A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CEE2-CEEE-4937-AA6D-0FDF7B31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75CD-F3C4-440C-B178-6921C2393F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1A6C-DCED-4A10-AD0E-0189BF58B92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cc"/>
                </a:solidFill>
                <a:latin typeface="Arial"/>
              </a:rPr>
              <a:t>Texas SET Version 3.0  </a:t>
            </a:r>
            <a:br>
              <a:rPr sz="4000"/>
            </a:br>
            <a:r>
              <a:rPr b="0" i="1" lang="en-US" sz="4000" spc="-1" strike="noStrike">
                <a:solidFill>
                  <a:srgbClr val="0000cc"/>
                </a:solidFill>
                <a:latin typeface="Arial"/>
              </a:rPr>
              <a:t>Project PR40038_01 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ail Market Subcommittee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ly 12, 2006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roject PR40038_01 Consists of: 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Mass Transition Long Term Automated Solutio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RCOT initiates the TX SET transaction to transfer the affected ESI IDs instead of transactions being initiated by POLRs during a Mass Transi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POLR Rule – Project 31416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velop new requirements and functionality to support Rule approved on June 29, 2006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Terms and Conditions – Project 29637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velop transactional solution, functionality, and processes to support the recently adopted Rul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Approx. 10-12 TX SET approved Change Controls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for Implementation Guid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velop and approve change controls to clarify, correct, resolve problems,  or enhance transaction functionali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tatus of Project –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ass Transition Long Term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ll Change Controls have been identified and approved by TX SET on July 28, 2006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rket Requirements document has been drafted and near final completion, TX SET was awaiting POLR Rule approv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tail Market Guide Revisions drafted and near final completion, TX SET was awaiting POLR Rule approv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isk to Implementation Date of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07/01/2007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w to No Risk based upon-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Requirements are finalized by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7/17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Change Controls approved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7/28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tatus of Project –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OLR  Rule Project 31416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7313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unctionality/Process identified in the Rule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RCOT shall create and manage Customer Billing contact data file in the event of a Mass Transition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cument the process of assigning ESI IDs to POLR during a Mass Transition event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ignment of ESI IDs to POLR documentation has been drafted by ERCOT and will be part of the long term Retail Market Guide Revi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ew customer class for Medium Non-Residential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isk to Implementation Date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07/01/2007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dium Risk based upon-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ket agreed upon process and data requirements are identified and finalized for Customer billing data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ss for Assignment of ESI IDs identified and finaliz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Requirements are finalized by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7/17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Change Controls approved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7/28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tatus of Project –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Terms and Condition Project 29637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7313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Change Controls have been identified and approved by TX SET for the July 28, 2006 Change Control Conference Ca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ket Requirements drafted and finaliz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R 672 – Retail Market Timing Change Necessary for PUCT Project 29637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S approved urgent timeline for August TAC and BOD discussion and possible approval to meet the v3.0 Implementation timel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rket Requirements identified in PRR, however ERCOT requirements and cost benefit analysis yet to be determin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lined changes only affect ERCOT Protocol timing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isk to Implementation Dat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7/01/200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 Risk based upon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ll PRR 672 be approved through the ERCOT governance process in time enough that ERCOT can develop internal requirements and make system changes to meet production implementation dat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RCOT has completed an internal evaluation to determine alternatives for PRR 672 and there is time for Market approval of the alternatives along with time to develo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Requirements are finalized by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07/17/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Change Controls are approved on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07/28/2006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pproved Change Controls outside of T&amp;Cs, POLR, and Mass Transition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ll Change Controls have been identified and approved by TX SET on July 28, 200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quirements document created, if necessary, to capture functionality of change control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k to Implementation Date of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7/01/2007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w to No Risk based upon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Requirements are finalized by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7/17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Change Controls approved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7/28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R40038_01 Timeline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752480"/>
            <a:ext cx="1218960" cy="45720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639720" bIns="639720" anchor="t">
            <a:no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RBP        PR50121_ 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PR40038_01Tx SET 3.0 including Mass Transition and            Ts &amp; Cs (7/1/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1600200"/>
            <a:ext cx="7010640" cy="464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73160" y="1219320"/>
            <a:ext cx="5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Jun 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6680" y="121932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Jul 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0200" y="121932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Aug 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73360" y="1219320"/>
            <a:ext cx="5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Sep 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06880" y="121932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ct 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0400" y="121932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Nov 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73560" y="1219320"/>
            <a:ext cx="5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Dec 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07080" y="121932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Jan 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0600" y="121932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Feb 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73760" y="1219320"/>
            <a:ext cx="5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Mar 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07280" y="121932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Apr 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40800" y="121932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May 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0200" y="1371600"/>
            <a:ext cx="0" cy="449568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33720" y="1371600"/>
            <a:ext cx="0" cy="449568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67240" y="1371600"/>
            <a:ext cx="0" cy="449568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00400" y="1371600"/>
            <a:ext cx="0" cy="449568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3920" y="1371600"/>
            <a:ext cx="0" cy="449568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67440" y="1371600"/>
            <a:ext cx="0" cy="449568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00600" y="1371600"/>
            <a:ext cx="0" cy="449568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34120" y="1371600"/>
            <a:ext cx="0" cy="449568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1752480"/>
            <a:ext cx="0" cy="411480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15200" y="1447920"/>
            <a:ext cx="0" cy="441936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48720" y="1371600"/>
            <a:ext cx="0" cy="449568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2057400"/>
            <a:ext cx="152640" cy="152280"/>
          </a:xfrm>
          <a:prstGeom prst="ellipse">
            <a:avLst/>
          </a:prstGeom>
          <a:gradFill rotWithShape="0">
            <a:gsLst>
              <a:gs pos="0">
                <a:srgbClr val="6b92b5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6b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2057400"/>
            <a:ext cx="152640" cy="152280"/>
          </a:xfrm>
          <a:prstGeom prst="ellipse">
            <a:avLst/>
          </a:prstGeom>
          <a:gradFill rotWithShape="0">
            <a:gsLst>
              <a:gs pos="0">
                <a:srgbClr val="6b92b5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6b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8" idx="6"/>
            <a:endCxn id="129" idx="2"/>
          </p:cNvCxnSpPr>
          <p:nvPr/>
        </p:nvCxnSpPr>
        <p:spPr>
          <a:xfrm>
            <a:off x="1676160" y="2133360"/>
            <a:ext cx="991080" cy="1080"/>
          </a:xfrm>
          <a:prstGeom prst="straightConnector1">
            <a:avLst/>
          </a:prstGeom>
          <a:ln w="6480">
            <a:solidFill>
              <a:srgbClr val="6b92b5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2743200" y="4114800"/>
            <a:ext cx="152280" cy="15228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4114800"/>
            <a:ext cx="152280" cy="152280"/>
          </a:xfrm>
          <a:prstGeom prst="ellipse">
            <a:avLst/>
          </a:prstGeom>
          <a:gradFill rotWithShape="0">
            <a:gsLst>
              <a:gs pos="0">
                <a:srgbClr val="6b92b5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6b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31" idx="6"/>
            <a:endCxn id="132" idx="2"/>
          </p:cNvCxnSpPr>
          <p:nvPr/>
        </p:nvCxnSpPr>
        <p:spPr>
          <a:xfrm>
            <a:off x="2895120" y="4190760"/>
            <a:ext cx="76284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1828800" y="175248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057400"/>
            <a:ext cx="152280" cy="152280"/>
          </a:xfrm>
          <a:prstGeom prst="ellipse">
            <a:avLst/>
          </a:prstGeom>
          <a:gradFill rotWithShape="0">
            <a:gsLst>
              <a:gs pos="0">
                <a:srgbClr val="6b92b5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6b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236232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10/22Pr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220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2286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7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2286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5/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18288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57800" y="2057400"/>
            <a:ext cx="152280" cy="152280"/>
          </a:xfrm>
          <a:prstGeom prst="ellipse">
            <a:avLst/>
          </a:prstGeom>
          <a:gradFill rotWithShape="0">
            <a:gsLst>
              <a:gs pos="0">
                <a:srgbClr val="6b92b5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6b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2362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12/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133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1337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18288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U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18288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Stabi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42670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9/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4267080"/>
            <a:ext cx="533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7/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37339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Business Req’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114800"/>
            <a:ext cx="152280" cy="152280"/>
          </a:xfrm>
          <a:prstGeom prst="ellipse">
            <a:avLst/>
          </a:prstGeom>
          <a:gradFill rotWithShape="0">
            <a:gsLst>
              <a:gs pos="0">
                <a:srgbClr val="6b92b5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6b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4114800"/>
            <a:ext cx="152640" cy="152280"/>
          </a:xfrm>
          <a:prstGeom prst="ellipse">
            <a:avLst/>
          </a:prstGeom>
          <a:gradFill rotWithShape="0">
            <a:gsLst>
              <a:gs pos="0">
                <a:srgbClr val="6b92b5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6b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4114800"/>
            <a:ext cx="152280" cy="152280"/>
          </a:xfrm>
          <a:prstGeom prst="ellipse">
            <a:avLst/>
          </a:prstGeom>
          <a:gradFill rotWithShape="0">
            <a:gsLst>
              <a:gs pos="0">
                <a:srgbClr val="6b92b5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6b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29600" y="4114800"/>
            <a:ext cx="152280" cy="152280"/>
          </a:xfrm>
          <a:prstGeom prst="ellipse">
            <a:avLst/>
          </a:prstGeom>
          <a:gradFill rotWithShape="0">
            <a:gsLst>
              <a:gs pos="0">
                <a:srgbClr val="6b92b5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6b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41911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41911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8660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4267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9/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42670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12/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81680" y="42670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3/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01000" y="42670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5/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373392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Conceptual 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380988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Detail Design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9920" y="38862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38862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U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86800" y="4114800"/>
            <a:ext cx="152280" cy="152280"/>
          </a:xfrm>
          <a:prstGeom prst="ellipse">
            <a:avLst/>
          </a:prstGeom>
          <a:gradFill rotWithShape="0">
            <a:gsLst>
              <a:gs pos="0">
                <a:srgbClr val="6b92b5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6b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1880" y="4191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4267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7/1 Pr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35053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Market Flight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4191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358128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Market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114800"/>
            <a:ext cx="152280" cy="152280"/>
          </a:xfrm>
          <a:prstGeom prst="ellipse">
            <a:avLst/>
          </a:prstGeom>
          <a:gradFill rotWithShape="0">
            <a:gsLst>
              <a:gs pos="0">
                <a:srgbClr val="6b92b5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6b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4267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7/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848720" y="4419720"/>
            <a:ext cx="1143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34343"/>
                </a:solidFill>
                <a:latin typeface="Trebuchet MS"/>
              </a:rPr>
              <a:t>Flight Tes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34343"/>
                </a:solidFill>
                <a:latin typeface="Trebuchet MS"/>
              </a:rPr>
              <a:t>4/16 – connectiv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34343"/>
                </a:solidFill>
                <a:latin typeface="Trebuchet MS"/>
              </a:rPr>
              <a:t>4/27 – Day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34343"/>
                </a:solidFill>
                <a:latin typeface="Trebuchet MS"/>
              </a:rPr>
              <a:t>5/29 – Flight e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4495680"/>
            <a:ext cx="1295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34343"/>
                </a:solidFill>
                <a:latin typeface="Trebuchet MS"/>
              </a:rPr>
              <a:t>Draft 3.0 TX SET Gu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34343"/>
                </a:solidFill>
                <a:latin typeface="Trebuchet MS"/>
              </a:rPr>
              <a:t>9/1 – Due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5486400"/>
            <a:ext cx="152280" cy="152280"/>
          </a:xfrm>
          <a:prstGeom prst="ellipse">
            <a:avLst/>
          </a:prstGeom>
          <a:gradFill rotWithShape="0">
            <a:gsLst>
              <a:gs pos="0">
                <a:srgbClr val="6b92b5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6b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Recommendation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X SET is recommending that RMS establish a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Market Coordination Team (MCT)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anage TX SET v3.0 Project Scop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anage Project Schedules and Implementation Timeli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ordinate and Communicate Project progres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ket Participant Internal Desig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ket Participant Internal Development/Tes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/Cut-over weekend task/timeli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o No-Go Criteria and Deci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llaborate with RMS and/or Working Groups for their assistance when necessary to bring forward and resolve issues throughout the Project in order that the Production timelines can be m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low the Market to have a single point of Communications for Project progress repor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20:41:53Z</dcterms:created>
  <dc:creator>smunson</dc:creator>
  <dc:description/>
  <cp:keywords/>
  <dc:language>en-US</dc:language>
  <cp:lastModifiedBy>smunson</cp:lastModifiedBy>
  <dcterms:modified xsi:type="dcterms:W3CDTF">2006-07-10T22:02:18Z</dcterms:modified>
  <cp:revision>55</cp:revision>
  <dc:subject/>
  <dc:title>Upcoming TX SET Market Project Timeli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27341033</vt:lpwstr>
  </property>
</Properties>
</file>