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1E25-623A-44F7-9369-B6CF7B8C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EEC6-A7BA-44D5-A341-412146BC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E813-65FC-4219-99B2-34959F7D1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3180-34DA-4838-B4FB-26F2BA32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2012-FE91-4062-87FE-1F45A307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A22A-D812-4491-9807-5977AFD5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7116-48B0-4D24-9689-3AE493F4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6DFE-B5AD-4433-8D72-FF4903B6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6BE7-E88B-400A-B2E0-9DF7212E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23FD-6F3A-401C-A182-09E0A06E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B0BE-DA1B-45F8-85FC-4247B8D9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319A-62CC-4EC5-89CD-C72A24AD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CF63-C871-4155-8431-48D309A8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BDE2-C6E3-4545-BF6A-CF3164C7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6F8D-2095-41AE-89D3-AB7588CA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B3C6-D350-4235-ACBD-D0A9145F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C2AC-6676-4663-BB3B-984DC4DF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A1B6D-B6F9-4327-8BEE-6B421115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5734B-262C-4D4E-A16D-3A80CBA5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302EE-5B28-4C0A-89D0-61358046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29675-854A-4064-BB9C-031BB310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02357-CBAE-49CA-88D8-421E649C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B602-5B26-46A0-ACDF-43ED0B43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67B74-E615-4E13-AD1A-D7CB3232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4C4DB-BBA7-4021-B56C-C604334E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F57FE-3D4D-406E-BEA6-E0A9AE04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156AD-B627-4A85-9023-86F9BC58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A6C25-ED5D-4D39-BF54-BFF41305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7E561-24A5-49F9-B750-A487FE35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5F8AB-2656-49FF-8A5C-FCFDA8A5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41B1-2A9E-4585-A263-E6A24728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8C52-D099-434C-8AF7-89FC0370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2410-3DB7-4141-820E-DC4B9DE1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8E27-5C1E-4413-A782-12D4BAF9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ECE7-C263-441C-8A9C-DC28BC86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8C85-CCAD-4824-85AD-8FEED7C6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8E2D-8624-47F9-9A32-3A78A676F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826B-F407-45BF-B3A6-13022AF75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0A05-246E-45BD-BF2C-3EE9F53AF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007 Test Flights &amp; POLR Tes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TPT Presentation for 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ly 12, 200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TPT Approved 4 Test Flights in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0107: TX Set Version 2.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ight Deadline is Dec 13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vity Begins Dec 19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: Jan 12 – Feb 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0407: TX Version 3.0 – T&amp;Cs and POL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ight Deadline is March 14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vity Begins April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: April 13 – May 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0707: TX Version 3.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ight Deadline is June 20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vity Begins June 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: July 6 – Aug 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1007: TX Version 3.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ight Deadline is Sep 19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vity Begins Sep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: Oct 5 – Nov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520" y="533520"/>
            <a:ext cx="697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Flight Schedules for Test Flights in 2007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1158840"/>
          <a:ext cx="8035920" cy="555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58840"/>
                    <a:ext cx="8035920" cy="55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7520" y="533520"/>
            <a:ext cx="697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Flight Schedules for Test Flights in 2007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0" y="1158840"/>
          <a:ext cx="7778880" cy="537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58840"/>
                    <a:ext cx="7778880" cy="53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93320" y="281160"/>
            <a:ext cx="492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2007 Market Test Time Line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320" y="2514600"/>
            <a:ext cx="182880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0107: V2.1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ew CRs 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600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66"/>
                </a:solidFill>
                <a:latin typeface="Times New Roman"/>
              </a:rPr>
              <a:t>Jan 12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Flight Kickoff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68360" y="152388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66"/>
                </a:solidFill>
                <a:latin typeface="Times New Roman"/>
              </a:rPr>
              <a:t>Feb 27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 Flight End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90512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6163400">
            <a:off x="1143360" y="1830240"/>
            <a:ext cx="150840" cy="1219320"/>
          </a:xfrm>
          <a:custGeom>
            <a:avLst/>
            <a:gdLst>
              <a:gd name="textAreaLeft" fmla="*/ 0 w 150840"/>
              <a:gd name="textAreaRight" fmla="*/ 54360 w 1508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2640" y="2163600"/>
            <a:ext cx="82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Times New Roman"/>
              </a:rPr>
              <a:t>6.5 Week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334120" y="3733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13200">
            <a:off x="5828400" y="3616560"/>
            <a:ext cx="152280" cy="11448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4800"/>
              <a:gd name="textAreaBottom" fmla="*/ 1115280 h 114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411480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Flight Deadline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66"/>
                </a:solidFill>
                <a:latin typeface="Times New Roman"/>
              </a:rPr>
              <a:t>June 20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4495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97360" y="3216240"/>
            <a:ext cx="116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66"/>
                </a:solidFill>
                <a:latin typeface="Times New Roman"/>
              </a:rPr>
              <a:t>July 6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 Flight 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Kickoff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89640" y="3916440"/>
            <a:ext cx="82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Times New Roman"/>
              </a:rPr>
              <a:t>6.5 Week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5181480"/>
            <a:ext cx="1752480" cy="533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1007: V3.0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ew CR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13200">
            <a:off x="7922520" y="4493160"/>
            <a:ext cx="81000" cy="1143000"/>
          </a:xfrm>
          <a:custGeom>
            <a:avLst/>
            <a:gdLst>
              <a:gd name="textAreaLeft" fmla="*/ 0 w 81000"/>
              <a:gd name="textAreaRight" fmla="*/ 29160 w 810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59840" y="5029200"/>
            <a:ext cx="130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Flight Deadline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66"/>
                </a:solidFill>
                <a:latin typeface="Times New Roman"/>
              </a:rPr>
              <a:t>Sep 19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0" y="4800600"/>
            <a:ext cx="82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Times New Roman"/>
              </a:rPr>
              <a:t>6.5 Week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35080" y="289548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66"/>
                </a:solidFill>
                <a:latin typeface="Times New Roman"/>
              </a:rPr>
              <a:t>Aug 21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 Flight End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4267080"/>
            <a:ext cx="1752840" cy="53352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0707: V3.0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ew CR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3276720"/>
            <a:ext cx="213336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Times New Roman"/>
              </a:rPr>
              <a:t>F0407: V3.0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66"/>
                </a:solidFill>
                <a:latin typeface="Times New Roman"/>
              </a:rPr>
              <a:t>Version Upgrade: All CR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2286000"/>
            <a:ext cx="192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66"/>
                </a:solidFill>
                <a:latin typeface="Times New Roman"/>
              </a:rPr>
              <a:t>April 13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 Flight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Kickoff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29960" y="22096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66"/>
                </a:solidFill>
                <a:latin typeface="Times New Roman"/>
              </a:rPr>
              <a:t>May 29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 Flight End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267080" y="251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90960" y="2925720"/>
            <a:ext cx="82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Times New Roman"/>
              </a:rPr>
              <a:t>6.5 Week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42670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Flight Deadline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66"/>
                </a:solidFill>
                <a:latin typeface="Times New Roman"/>
              </a:rPr>
              <a:t>Mar 14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1337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610480" y="4419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9152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29600" y="3689280"/>
            <a:ext cx="838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66"/>
                </a:solidFill>
                <a:latin typeface="Times New Roman"/>
              </a:rPr>
              <a:t>Nov 20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 Flight End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35680" y="4130640"/>
            <a:ext cx="111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66"/>
                </a:solidFill>
                <a:latin typeface="Times New Roman"/>
              </a:rPr>
              <a:t>Oct 5</a:t>
            </a: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 Flight 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Kickoff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163400">
            <a:off x="3543120" y="2476080"/>
            <a:ext cx="74520" cy="1373040"/>
          </a:xfrm>
          <a:custGeom>
            <a:avLst/>
            <a:gdLst>
              <a:gd name="textAreaLeft" fmla="*/ 0 w 74520"/>
              <a:gd name="textAreaRight" fmla="*/ 27000 w 74520"/>
              <a:gd name="textAreaTop" fmla="*/ 35640 h 1373040"/>
              <a:gd name="textAreaBottom" fmla="*/ 1337400 h 13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5867280"/>
            <a:ext cx="891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5562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686800" y="5867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5867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5867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5867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59240" y="5867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45040" y="5867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07160" y="5867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68920" y="5867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54720" y="5867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924680" y="5867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7600" y="586728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Times New Roman"/>
              </a:rPr>
              <a:t>Ja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65400" y="586728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Times New Roman"/>
              </a:rPr>
              <a:t>Feb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21320" y="5867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Times New Roman"/>
              </a:rPr>
              <a:t>Ap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48160" y="586728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Times New Roman"/>
              </a:rPr>
              <a:t>Ju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52920" y="5867280"/>
            <a:ext cx="45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Times New Roman"/>
              </a:rPr>
              <a:t>May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5867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Times New Roman"/>
              </a:rPr>
              <a:t>Ma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02200" y="586728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Times New Roman"/>
              </a:rPr>
              <a:t>Aug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33960" y="5867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Times New Roman"/>
              </a:rPr>
              <a:t>July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58200" y="586728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Times New Roman"/>
              </a:rPr>
              <a:t>Sep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44360" y="58672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Times New Roman"/>
              </a:rPr>
              <a:t>Oc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3120" y="586728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Times New Roman"/>
              </a:rPr>
              <a:t>Nov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640360" y="5867280"/>
            <a:ext cx="4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Times New Roman"/>
              </a:rPr>
              <a:t>Dec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5867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14760" y="544824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66"/>
                </a:solidFill>
                <a:latin typeface="Times New Roman"/>
              </a:rPr>
              <a:t>2007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56520" y="545796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66"/>
                </a:solidFill>
                <a:latin typeface="Times New Roman"/>
              </a:rPr>
              <a:t>2006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0825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Flight Deadline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66"/>
                </a:solidFill>
                <a:latin typeface="Times New Roman"/>
              </a:rPr>
              <a:t>Dec 13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228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200" y="5867280"/>
            <a:ext cx="4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Times New Roman"/>
              </a:rPr>
              <a:t>Dec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tion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MS approves the 2007 Market Testing Flight Schedules for Flights 0107, 0407, 0707, and 1007 as adopted by the TTP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X SET 3.0 will initially test in F040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X SET 3.0 includes new POLR &amp; T&amp;Cs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MS further directs that any material changes to these timelines or changes in scope of the test flights must be approved by R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TPT Recommendation: POLR Te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PUCT eligible POLR CRs must test POLR functionality in F04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every LSE, nor all duns must test POLR function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ica has 3 LSE with a multiple duns per LSE certified in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ica is an eligible POLR, so Centrica would choose which 1 of their duns to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20:29:23Z</dcterms:created>
  <dc:creator>cmoore</dc:creator>
  <dc:description/>
  <dc:language>en-US</dc:language>
  <cp:lastModifiedBy>cmoore</cp:lastModifiedBy>
  <dcterms:modified xsi:type="dcterms:W3CDTF">2006-07-11T14:29:21Z</dcterms:modified>
  <cp:revision>18</cp:revision>
  <dc:subject/>
  <dc:title>POLR Tes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5733630</vt:r8>
  </property>
  <property fmtid="{D5CDD505-2E9C-101B-9397-08002B2CF9AE}" pid="3" name="_AuthorEmail">
    <vt:lpwstr>Chuck.Moore@directenergy.com</vt:lpwstr>
  </property>
  <property fmtid="{D5CDD505-2E9C-101B-9397-08002B2CF9AE}" pid="4" name="_AuthorEmailDisplayName">
    <vt:lpwstr>Moore, Chuck</vt:lpwstr>
  </property>
  <property fmtid="{D5CDD505-2E9C-101B-9397-08002B2CF9AE}" pid="5" name="_EmailSubject">
    <vt:lpwstr>TTPT presentation Update</vt:lpwstr>
  </property>
  <property fmtid="{D5CDD505-2E9C-101B-9397-08002B2CF9AE}" pid="6" name="_NewReviewCycle">
    <vt:lpwstr/>
  </property>
</Properties>
</file>