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7E0-9B6D-440C-8ED5-254574B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402-4542-4C0A-A934-3190E371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A89-6F24-4182-A997-7273EEC7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9F4-6431-40EB-B1E6-BB8CF57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9864-46FC-4C2C-A5C4-9895CBE7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8922-3C09-432A-9C17-12C964B4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65A-2BBC-4BFE-AC1C-44A8273E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8971-2E66-40AA-94CA-64C9E531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2876-3C1C-4320-B4B7-85CDAD7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357-6A44-4CD3-AFC8-E397271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A01A-C4F0-4EA1-BD6B-0AED28C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2A3-C95B-421F-BE50-C9F5D0B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45FA-6838-47F8-AB51-220EB8F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39F-0834-4696-B1AB-EC43294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35F7-789E-4419-AEC2-4304D69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0D4-6F25-47E2-A146-7C167E13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12D-0A64-4300-9A29-49B813EA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2E1-60E7-4E6D-A137-D6D4E8E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96C-EE13-46C3-BAA2-E0CF91A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B9D-0896-42BD-A276-988222D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AD7-58F8-4ACF-A13D-4CD5E64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CBB-8868-4A8B-9DEF-16008E2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755-1209-4313-A040-FAA8B58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A28-0EAE-48AB-A8BF-455C7B2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96A1-09A5-498C-A25E-F0AFDA7A8EF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358-20A3-451A-B0D8-64969DDB5CC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228960" y="380880"/>
            <a:ext cx="9372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CTF UPD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828800" y="3922200"/>
            <a:ext cx="49528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Repor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ly 12, 200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7160" y="22824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CTF Updat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viously approv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verall time li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ssues and Action It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wo sub-teams nearing comple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stimation RMGR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afety Net RMGR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maining Items for resolu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R672 ERCOT Tim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voice dispute proc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14400" indent="-3967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MGRR for remainder of chang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36440" y="2362320"/>
          <a:ext cx="8915400" cy="3487680"/>
        </p:xfrm>
        <a:graphic>
          <a:graphicData uri="http://schemas.openxmlformats.org/drawingml/2006/table">
            <a:tbl>
              <a:tblPr/>
              <a:tblGrid>
                <a:gridCol w="547920"/>
                <a:gridCol w="3294000"/>
                <a:gridCol w="958680"/>
                <a:gridCol w="1644840"/>
                <a:gridCol w="1098360"/>
                <a:gridCol w="13716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ction Titl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eed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DSP/C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ion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finition &amp; Acronym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bbie McKeev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n Bore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tail Market Guide Revision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UCT Requirement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huck Moo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n Bore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MS Working Group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rket Process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1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rket Synchroniza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2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advertent Gain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afety Net Move In / Priority Requests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yle Patrick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ndard Historical Usage Reques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bbie McKeev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ob Bevil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ransfer to Provider of Last Resort (POLR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227160" y="228600"/>
            <a:ext cx="685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CTF Updat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36440" y="2286000"/>
          <a:ext cx="8915400" cy="3648240"/>
        </p:xfrm>
        <a:graphic>
          <a:graphicData uri="http://schemas.openxmlformats.org/drawingml/2006/table">
            <a:tbl>
              <a:tblPr/>
              <a:tblGrid>
                <a:gridCol w="547560"/>
                <a:gridCol w="3294000"/>
                <a:gridCol w="959040"/>
                <a:gridCol w="1644480"/>
                <a:gridCol w="1098720"/>
                <a:gridCol w="13716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ction Titl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eed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DSP/C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ion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onnect Reconnect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lake Gro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Jennifer Garci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7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ransaction Timing Matrix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Zach Collar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Jennifer Garci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n Bore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n Hol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8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l Transmission Distribution Service Provider Invoice Dispute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rrie Re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ike Hammock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9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 Retail Electric Provider of Record or Left in Ho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1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67_03 Conting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11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ss Customer Transition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12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ated Meter Reading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ill Reill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.1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val Data Recorder (IDR) Optional Removal/Installation Proces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athy Scot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huck Moo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unicipalities and Cooperativ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rank/Eloise (NEC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Jennifer Garci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n/Sonj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227160" y="228600"/>
            <a:ext cx="685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CTF Updat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228960" y="380880"/>
            <a:ext cx="9372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828800" y="3922200"/>
            <a:ext cx="49528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00:51Z</dcterms:created>
  <dc:creator>Registered User</dc:creator>
  <dc:description/>
  <dc:language>en-US</dc:language>
  <cp:lastModifiedBy>Registered User</cp:lastModifiedBy>
  <dcterms:modified xsi:type="dcterms:W3CDTF">2006-07-12T16:01:20Z</dcterms:modified>
  <cp:revision>40</cp:revision>
  <dc:subject/>
  <dc:title>Terms &amp; Conditions Task Force</dc:title>
</cp:coreProperties>
</file>