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E8F-59A5-47FD-BC75-5CF78BB3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C9F-9593-4029-BCEB-DB821311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27B-48F4-4709-8CF6-6FC4A606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43D-96C4-490F-B9D1-776C108B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819-730D-42A5-BD3B-514221F6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195-002D-4172-A771-E349FAAF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567-CAC4-40D1-92BE-E34D76F7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EE9-6CF3-44E3-8025-1C85E390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40A-273D-4749-A94E-0BCFD60F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8F4-CFEE-430A-BFC5-5EF9F9F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291-A538-433D-B8EC-82CCE2A4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F44-3AE3-47E6-9615-8859D818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880F-8077-41FA-A212-C414476D3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8A6-2B5A-47F1-9EEB-D90C16F17B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ogress (thru 06/30/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4876920"/>
            <a:ext cx="8534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4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9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6,8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486080"/>
            <a:ext cx="7893000" cy="33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B36-592F-4C67-8418-DE66E76A90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jected/Resolved (thru 6/30/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552-7992-4AB9-85D9-932CCA151C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(thru 06/30/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25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665-3E8E-44A9-AED3-88BB3DD46F8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(thru 06/30/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6095880"/>
            <a:ext cx="6324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08 In Progress DEV Issues, 34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9120" y="1494000"/>
            <a:ext cx="8167680" cy="44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7E2-A107-4083-A6FE-119C78FAEC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(thru 06/30/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7980480" cy="25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8A3-D840-4374-BEC0-9540518682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(thru 06/30/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38188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797-69DC-4B02-88E1-97A886AA4B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BF4-DB67-4783-AD19-7666CE56A1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177-BDA8-4F00-A34E-F5A587815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0080" cy="43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CD1-3D94-409F-8046-752D323533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rterly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3B7-1F8F-4B2D-88FB-8CD3BCA573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459240"/>
            <a:ext cx="8512200" cy="255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299-D04D-46E4-A7E4-1F553732ED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379520"/>
            <a:ext cx="7924680" cy="49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4BE-2079-431E-BAF2-61E3017FD6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B68-28A6-4DE8-8181-99FB374624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(thru 06/30/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87692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1048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4DE-2FC2-4B1C-88DF-E13F81477B1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07-06T16:59:17Z</dcterms:modified>
  <cp:revision>634</cp:revision>
  <dc:subject/>
  <dc:title>PowerPoint Presentation</dc:title>
</cp:coreProperties>
</file>