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65A208-DDD5-4E7C-B879-B237070CA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613887-2980-4319-B237-7DBB84C4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4BCE-62DA-496C-9582-83CF74E85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A62C-1E69-4643-A738-0A2569E9F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9F67-E272-46A1-A532-BC917BE67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9500-A9BD-44C7-8D6B-DB56C1355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5E72-745B-4A7F-B281-364BAA7B3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CBA1-4A8B-4AFA-9A47-5CB9DE8EA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E323-F7F8-489B-A130-745B49804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8837-E600-412D-B0BE-E2B603E22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C2FE-EC3D-4F45-90BD-7FC5D614F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20A0-839B-4620-9053-DC0E23841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6C59-948D-4EAD-9948-0007C698F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2007-4FAD-46D9-A827-6E34097CC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6C5BBA96-7736-47E1-B649-95F722E12E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431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66552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2458800"/>
            <a:ext cx="66326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 Projects Update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 PPL Status &amp; Budget Upd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PP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98600" y="3817440"/>
            <a:ext cx="623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2, 20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0440" y="192600"/>
            <a:ext cx="79329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6 PPL Status and Budget Updat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3440" y="914400"/>
          <a:ext cx="8858160" cy="5148360"/>
        </p:xfrm>
        <a:graphic>
          <a:graphicData uri="http://schemas.openxmlformats.org/drawingml/2006/table">
            <a:tbl>
              <a:tblPr/>
              <a:tblGrid>
                <a:gridCol w="638280"/>
                <a:gridCol w="2706480"/>
                <a:gridCol w="644760"/>
                <a:gridCol w="1701720"/>
                <a:gridCol w="568440"/>
                <a:gridCol w="487440"/>
                <a:gridCol w="1228680"/>
                <a:gridCol w="88236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/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6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nning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 Oriented Architecture (TIBCO Paren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eferred 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mbined with TX SET 3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92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ancelled, not on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936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Started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4M-$6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Started;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Started, 2007 PPL impa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EW NAME:  TX SET 3.0, including Mass Transition and T&amp;C'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lanning Phase; major carry-over in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00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24200" y="6114960"/>
            <a:ext cx="8649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s:  3 Closed    0 Initiation    5 Planning    4 Execution    3 Not Started   3 Deferred/Combined/Can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85000"/>
              </a:lnSpc>
              <a:spcBef>
                <a:spcPts val="337"/>
              </a:spcBef>
              <a:buClr>
                <a:srgbClr val="008080"/>
              </a:buClr>
              <a:buSzPct val="16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LEASE NOTE: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since last RMS update noted in 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nt.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PL posted to ERCOT.co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9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://www.ercot.com/services/comm/projects/index.html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flect recent changes noted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F98F-E072-4940-8464-59E8C12DD67F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0440" y="192600"/>
            <a:ext cx="79329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7 PPL Update – Key Dates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3920" y="909720"/>
          <a:ext cx="8669160" cy="5576760"/>
        </p:xfrm>
        <a:graphic>
          <a:graphicData uri="http://schemas.openxmlformats.org/drawingml/2006/table">
            <a:tbl>
              <a:tblPr/>
              <a:tblGrid>
                <a:gridCol w="699840"/>
                <a:gridCol w="2733840"/>
                <a:gridCol w="4168800"/>
                <a:gridCol w="10666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 /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Outcome / Deliver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RO CART reviews current divisional PP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 PPL draft with updated priorities, ranks and new projec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and incorporation of RMS input to 2007 P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RO CART finalizes 2007 PPL for final review by 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 PPL revision with updated priorities, ranks and new projects ad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 Review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MS review and approval of 2007 P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Strategic Review Team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/approval of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Executive Committee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/approval of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PRS Review and Approval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ze recommendation and approval to send to T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C Review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Executive Committee mee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ow up with TAC approval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iew of 2007 PPL with proposed priorities, ranks and requested funding levels by Program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all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of all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al of all divisional PP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6C28-19FF-4E63-BDC4-AFB753A3D609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4080" y="192600"/>
            <a:ext cx="79995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7 PPL Update – TAC Approved Version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9000" y="1009800"/>
          <a:ext cx="8794800" cy="5556240"/>
        </p:xfrm>
        <a:graphic>
          <a:graphicData uri="http://schemas.openxmlformats.org/drawingml/2006/table">
            <a:tbl>
              <a:tblPr/>
              <a:tblGrid>
                <a:gridCol w="658800"/>
                <a:gridCol w="760320"/>
                <a:gridCol w="2354400"/>
                <a:gridCol w="895320"/>
                <a:gridCol w="720720"/>
                <a:gridCol w="768240"/>
                <a:gridCol w="676440"/>
                <a:gridCol w="1003320"/>
                <a:gridCol w="95724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 D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unning Ran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R6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. SET 3.0, including Mass Transition and T&amp;C'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M-$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(Transaction Clearinghouse) Trans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M-$4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(ESIID Tracking System) Transition to ED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 (inc. PaperFree &amp; NAES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Carryo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 Siebel to L* Data Compari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R7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site Enhancements for ERCOT Outa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Enhancements (Workflow &amp; Report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ption Reporting / Monitoring Enhanc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atic Exception Reprocessing Functiona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of Production Reporting to EIS - Reta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tion of Commercial Operations Data in EIS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rmerly Web Services that integrate L* and Siebel data for MP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8_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Yet Sta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–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d Resource Capability - $7,659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1E9D-62D9-4D2B-A7EB-49AF80EDFEA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8160" y="131760"/>
            <a:ext cx="71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uestions /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5608-3982-4598-80E0-770B36DD331E}" type="slidenum">
              <a:t>5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7-12T04:24:58Z</dcterms:modified>
  <cp:revision>138</cp:revision>
  <dc:subject/>
  <dc:title>Slide 1</dc:title>
</cp:coreProperties>
</file>