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F573-E33D-4F8A-8EA5-D8A7FBAD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B54D-5F35-4407-8445-90931788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7DBA-A07D-4A45-ABF8-CF2F64A7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8CC82-EE70-49E7-9FB9-AC6F8157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AE85-2C3C-4414-B072-E423A6B3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7CA4-9C52-4998-BF40-9476D514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27EF-3D2F-4681-85ED-9FE8DFD8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45F3-C32F-4CC0-9487-B93AE8D0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2066-D925-4034-AC9D-6768A2A3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8CCA-5643-4C78-A514-5783913B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9C33-A353-4C94-9217-4AA4AF1E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33C4-1F9A-459D-A3DC-1492B261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E078-9E77-4717-829A-D2470036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7B27-280C-49A2-A689-0F64552E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82F2-7E61-4DAE-9197-933886C2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59D8-CE83-455E-AD97-DABE846B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2C70-4861-44A5-93D5-FA7D2C44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1FA8-8F6C-4FC6-8CEA-D5A9AD7D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0F76-528C-47E9-B5C0-9D4D2652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667F-088C-4A83-8C7B-71B0C0A3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E1C9-623A-4E0E-B0E6-3FA87CFD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2C47-1377-4C56-9A8D-7F21F7BF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1416-3FD6-45DF-B705-0FC3B95B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7E28-D8D5-40A4-ABA4-1C2C5456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8CDB-177F-4B45-9180-162788090B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9C09-3170-4018-AF53-D0B72BE56D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DSP to TDSP Mass Transi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tive Rule 25.74 drives event when assets are invol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drawn from RMGRR025 mid 2005 to maintain pace for CR to CR Trans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ped from PPL June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requent activity with one TDSP to TDSP transition since market open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nsive to develop new transaction with costs to all MP’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ation to RMS is to not purs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21:09:44Z</dcterms:created>
  <dc:creator>AEP</dc:creator>
  <dc:description/>
  <dc:language>en-US</dc:language>
  <cp:lastModifiedBy>AEP</cp:lastModifiedBy>
  <dcterms:modified xsi:type="dcterms:W3CDTF">2006-07-05T22:18:12Z</dcterms:modified>
  <cp:revision>8</cp:revision>
  <dc:subject/>
  <dc:title>TDSP to TDSP Mass Transi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