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28F-1B99-48B4-B819-62BCA389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0E6-4621-4279-AF25-68ED4C0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6D0-E956-4AD9-9A21-C1899016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26F-399E-484E-B8BD-FBB8580F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F98-01B9-49E8-9DA9-6ADD9D85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D32-B766-4547-A687-2393F199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150-8999-41B5-B8A7-ED782DA6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572-94A2-4AFB-8BB3-CE1CD2B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235-41C4-454B-A69F-3BD60B5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6F5-8554-434C-A960-24834523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DE4-6A87-49EB-B65D-F35DAA3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819-FF46-40A7-836E-63856CF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8E67-D2BA-4692-8E3F-69AF04F3A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23 Competitive Retailers reported numbers by the due date for June Reports (07/06/0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f 23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August RMS (July Reports) are due by August 2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174760"/>
                <a:gridCol w="1470240"/>
                <a:gridCol w="1496880"/>
                <a:gridCol w="1316160"/>
                <a:gridCol w="1314360"/>
              </a:tblGrid>
              <a:tr h="98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,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174760"/>
                <a:gridCol w="1470240"/>
                <a:gridCol w="1496880"/>
                <a:gridCol w="1316160"/>
                <a:gridCol w="1314360"/>
              </a:tblGrid>
              <a:tr h="98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174760"/>
                <a:gridCol w="1470240"/>
                <a:gridCol w="1496880"/>
                <a:gridCol w="1316160"/>
                <a:gridCol w="1314360"/>
              </a:tblGrid>
              <a:tr h="98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174760"/>
                <a:gridCol w="1470240"/>
                <a:gridCol w="1496880"/>
                <a:gridCol w="1316160"/>
                <a:gridCol w="1314360"/>
              </a:tblGrid>
              <a:tr h="98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174760"/>
                <a:gridCol w="1470240"/>
                <a:gridCol w="1496880"/>
                <a:gridCol w="1316160"/>
                <a:gridCol w="1314360"/>
              </a:tblGrid>
              <a:tr h="98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ackadams</cp:lastModifiedBy>
  <cp:lastPrinted>2002-09-24T18:27:58Z</cp:lastPrinted>
  <dcterms:modified xsi:type="dcterms:W3CDTF">2006-07-10T16:01:15Z</dcterms:modified>
  <cp:revision>3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2102437</vt:r8>
  </property>
  <property fmtid="{D5CDD505-2E9C-101B-9397-08002B2CF9AE}" pid="3" name="_AuthorEmail">
    <vt:lpwstr>jackadams@ercot.com</vt:lpwstr>
  </property>
  <property fmtid="{D5CDD505-2E9C-101B-9397-08002B2CF9AE}" pid="4" name="_AuthorEmailDisplayName">
    <vt:lpwstr>Adams, Jack</vt:lpwstr>
  </property>
  <property fmtid="{D5CDD505-2E9C-101B-9397-08002B2CF9AE}" pid="5" name="_EmailSubject">
    <vt:lpwstr>RMS July DEV report.</vt:lpwstr>
  </property>
  <property fmtid="{D5CDD505-2E9C-101B-9397-08002B2CF9AE}" pid="6" name="_NewReviewCycle">
    <vt:lpwstr/>
  </property>
  <property fmtid="{D5CDD505-2E9C-101B-9397-08002B2CF9AE}" pid="7" name="_PreviousAdHocReviewCycleID">
    <vt:r8>1797427921</vt:r8>
  </property>
</Properties>
</file>