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F2F-1DA7-436A-B03F-224A1F6D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C48-486F-411C-AF01-EF382592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E18-3D2B-4DEE-B697-C99D4662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722-D7B4-4197-84DE-E6CF49B7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DB1-D956-4D28-B177-2C7852D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059-83A8-43B2-913F-8EFF19B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A57-7871-43F2-85A9-FD20307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398-C0F6-4977-B404-85EF81F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1DF-1843-4B9F-959E-80D8AB29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C8B-8BC3-406D-996D-5E6C67E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0EC-D7AA-4792-87B7-7C3FBF9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C89-521A-47D3-86A7-6793A09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85E8-D78D-4657-858C-E884BE16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14300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 Build Ou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QA Build Out project activities are scheduled to be completed by 7/24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testing is on-schedule and is moving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anticipate any negative impacts to the MarkeTrak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2888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" y="6095880"/>
            <a:ext cx="21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09588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1447920"/>
            <a:ext cx="0" cy="449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447920"/>
            <a:ext cx="0" cy="449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447920"/>
            <a:ext cx="0" cy="449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447920"/>
            <a:ext cx="0" cy="449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86800" y="1447920"/>
            <a:ext cx="0" cy="449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keTrak Project Schedu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05320"/>
            <a:ext cx="8610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6120" y="15303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523880"/>
            <a:ext cx="520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1523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J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1523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0773"/>
                </a:solidFill>
                <a:latin typeface="Trebuchet MS"/>
              </a:rPr>
              <a:t>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90512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352680"/>
            <a:ext cx="228600" cy="228600"/>
          </a:xfrm>
          <a:prstGeom prst="star5">
            <a:avLst/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33560" y="350532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505320"/>
            <a:ext cx="20113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276720"/>
            <a:ext cx="2133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QA Build-out Project Lock 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(UAT &amp; CERT Test Environments unavailable for 5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895480" y="2590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429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1981080"/>
            <a:ext cx="990720" cy="6595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6/26-6/3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CERT Connectivity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581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267080"/>
            <a:ext cx="609480" cy="1087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7/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rain the Trainer Sessions Start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2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4771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943600" y="3504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429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038480"/>
            <a:ext cx="609840" cy="7812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8/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inal User Guides Av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981080"/>
            <a:ext cx="60984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8/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kt CERT Testing 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2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781680" y="2971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3962520"/>
            <a:ext cx="685800" cy="9662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7/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UAT 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(3 wk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4864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133720"/>
            <a:ext cx="685800" cy="7812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8/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MP’s complete Internal 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362320"/>
            <a:ext cx="1067040" cy="6314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8/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Go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3048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286000"/>
            <a:ext cx="685800" cy="9028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6/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GUI/Siebel interface UAT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35812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267080"/>
            <a:ext cx="609480" cy="9028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7/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Train the Trainer Sessions End</a:t>
            </a: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09680"/>
            <a:ext cx="762120" cy="78120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rebuchet MS"/>
              </a:rPr>
              <a:t>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API &amp; Bulk Insert CERT Mi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81916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429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I Connectivity 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the testing during the week of June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Ps registered for this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the test was for the MPs to connect to the MarkeTrak URL and properly authenticate its digital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out of 5 MPs performed a successfu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keTrak Tr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training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8-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Cent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 training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5-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XU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in training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3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RCOT Tay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ining sessions will run from 9:00am to 4:0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only need to attend on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ssion in Houston and Dallas is limited to 24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in session at ERCOT Taylor is limited to 20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keTrak 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Testing API/GUI: 8/7/06 – 8/18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testing is required (5 M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 testing is voluntary (4 M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and GUI combined testing participants (3 M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PI ad-hoc testing will be permitted during testing period (8/7/06 – 8/18/06) only wh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Ps have successfully complete API test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MI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sources will be made available for API ad-hoc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ject Cutover Plan Highligh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Migration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of Issues &gt;6 month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provide a report to MPs of issues older than 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ing Issues &gt;12 month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weeks prior to product migration ERCOT will close issues greater than 12 months old and make available a report to 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Week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Entry of New Issues in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4:00pm on Friday prior to implementation, ERCOT will disable entry of new issues in FasT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gress Issues in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will have the ability to work in-progress issues in FasT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is Operational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 of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start accepting new issues into MarkeTrak on Monday, August 28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ject Cutover Plan Highlights - co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ra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rak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keep the FasTrak tool on-line (view and update only) for 90 calendar days after MarkeTrak is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down of Access to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month prior to shutdown of FasTrak ERCOT will provide MPs a report of remaining open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week prior to shutdown of FasTrak ERCOT will close remaining open issues and provide report to MP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for FasTrak Data After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maintain FasTrak data for a period of no longer than 7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request FasTrak data from ERCOT after MarkeTrak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times for these types of requests will be 7-10 business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520" y="59770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ul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7-07T20:49:25Z</dcterms:modified>
  <cp:revision>24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