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310-D92E-4B09-94AC-D4C623DC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0E6-39C3-4C05-A246-77D3B6A5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615-59B5-489D-A7AE-A043989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4AE-A882-4FF6-839C-5BB5B0CD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803-C30E-4E46-B04D-841FD959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45A-2A89-4CB5-ABE3-C032466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990-5C6F-4055-9526-E3E65CD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6D7-127D-4AC0-98EF-88EE585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DC4-E2E5-44D3-A7CD-5F7D2A47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888-2357-4AD6-9ACA-8F7A989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671-65B7-4421-9329-5910596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F4A-5CAD-4F28-AD80-4C34C6A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A79-178B-4F16-9460-0F3A111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0B13-358A-4EB6-9989-55D21C455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ly 1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F57-9376-42A4-A709-091E588846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idential Migration using ERCOT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idential Regression Algorithm (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45496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006 AV estimated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67,813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tal Cha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8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% of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jected future year to year Mig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40,476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tal Cha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4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% of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CB4-C49A-4F11-9AE7-AA3C3867DF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021360" cy="490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96080" y="4191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7% 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8B7-B3C1-48F2-AA2B-0C3D9AE29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Updates Timeline considerations:</a:t>
            </a:r>
            <a:r>
              <a:rPr b="0" lang="en-US" sz="3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06668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06 AV assignments made to appropriate profile before sett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uly – ERCOT will re-run Load Research analys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th new profile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g – build new revised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pt – Present new models to PWG (first opportunit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MP to perform back office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ct – COPS approve and post profiling 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v – TAC approves ….followed by 150 d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pr/May – Transition to new Profile coeffic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C78-8C8C-4D0C-B2A1-808B32A39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Updat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06668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file Tran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options identified fo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tions documented by PWG and will be discussed in COPS workshop (Date T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tion plan will need to be agreed upon and documented prior to approval of the modified profile model by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anges affect Scheduling, Forecasting, Settlement, Customer Contracting and Billing – please plan to attend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196-06C5-418C-8F79-9E9616ACE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mercial Communications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ECP Communic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ecial meeting held to discuss communication with Market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ppendix A of ERCOT’s Crisis Communications Plan [used to  communicate with State leaders during any significant event] will be utilized before and during an EECP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ocess contains a series of PUC approved messages to provide confidential information to Leaders and Market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RCOT will utilize yet to be developed explod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ppropriate location for this documentation will be described in a future COPMGR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B63-33D9-4E4B-979D-C07DEE322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prove 4 Load Profiling Gui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PGRR012 Process for Load Profiling Guide Revisions -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s the original Load Profiling Guide change procedures, making the LPG change procedures consistent with ERCOT Market Rules change procedures of other ERCOT Guid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PGRR014 Profile Decision Tree Modification and Approval Process -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t the request of COPS, moves the governance of the Profile Decision Tree for profile id assignment calculations to the same governance as the Load Profiling Gu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PGRR015 Profile Model Evaluations and Changes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pdates the original Load Profiling Guide language, leveraging lessons learned from the Load Research Project and ERCOT Staff analysi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F67-7FBD-497B-B19E-7F9EA97D92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PGRR013 Annual Validation Business Timeline Adjustmen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905120"/>
            <a:ext cx="83055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ves the AV Analysis Period closer to the effective date of the profile ID change by approx 45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parates the Business 814_20 transactions dates from the Residential to reduce demand on transac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llows for additional review time in 2006 of business profiles prior to final decisions on AV and Updating of Profil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C approved all 4 Guide Re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52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B0D-6DFB-43B0-9C62-BCEF0145EA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2800" cy="51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8C8-7F17-4799-9F58-5E3400CE69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51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BA3-252D-49B7-8EAE-64637BF1E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vised Profile Decision Tree reflecting the estimated changes during Annual Validation.  Numbers are inclusive of the following f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ERCOT Residential Regression algorithm stabilizing assignment migrations and providing more accurate Profile I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04 - No Residential A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05 - Residential AV modified to account for information gained during customer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06 Annual Validation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275-B9B4-4DA7-9431-FBE5D4E5F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7D6-E53A-4039-8148-9D206589E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339920"/>
            <a:ext cx="6629400" cy="51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FBC-9994-4624-AB85-5CBBE4968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7-07T16:15:09Z</dcterms:modified>
  <cp:revision>177</cp:revision>
  <dc:subject/>
  <dc:title>Point-to-Point</dc:title>
</cp:coreProperties>
</file>