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5D75-E5D0-4D0B-859A-06112B061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B22-AD22-46CB-8D3F-5EE87A78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FE7-11A6-4317-8BE6-1B8AA3A6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88B-2537-4C37-AB28-905964FD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39D-96F3-41AD-A875-5BB2DB58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C09-9B08-4B6F-83DB-374D74BB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2C5-C85D-4FBD-A816-5AC245C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326-D260-44CD-8D4B-0D8ABCEE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35F-1CAD-4FF0-8D69-1918FF1D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AD7-D78E-4E62-BD20-B75FFB31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8FF-0064-4A9F-8CDB-D61C517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193-3437-43C2-A0A7-35D931D8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CD8-A153-4F09-9024-7A9981D5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8DB6-40FD-4ABF-BF27-20124F275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3402000" y="-2286000"/>
            <a:ext cx="13000680" cy="11122920"/>
            <a:chOff x="-3402000" y="-2286000"/>
            <a:chExt cx="13000680" cy="11122920"/>
          </a:xfrm>
        </p:grpSpPr>
        <p:sp>
          <p:nvSpPr>
            <p:cNvPr id="49" name=""/>
            <p:cNvSpPr/>
            <p:nvPr/>
          </p:nvSpPr>
          <p:spPr>
            <a:xfrm>
              <a:off x="-3402000" y="-2286000"/>
              <a:ext cx="13000680" cy="1112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3720" y="3885120"/>
              <a:ext cx="1712520" cy="152064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67960" y="403704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65960" y="417744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3520" y="426960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27400" y="436140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14960" y="446256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99640" y="454320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87200" y="463536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57520" y="401616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20960" y="414756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84760" y="423936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45680" y="432000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9920" y="440064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3720" y="449280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47160" y="4564080"/>
              <a:ext cx="617400" cy="903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10960" y="4655880"/>
              <a:ext cx="556560" cy="85104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5800" y="395424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57520" y="402552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49680" y="4096800"/>
              <a:ext cx="1456560" cy="130896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4720" y="415908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23920" y="421884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960" y="424872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0680" y="4299480"/>
              <a:ext cx="1105560" cy="111564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79880" y="4340880"/>
              <a:ext cx="1026360" cy="107424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74920" y="438228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67440" y="443268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49160" y="447192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41680" y="451332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23400" y="455472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15920" y="459396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7640" y="464436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0160" y="468576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0160" y="473652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3238200" y="-2253600"/>
              <a:ext cx="9308520" cy="637128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2924280" y="-205128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2586240" y="-1848600"/>
              <a:ext cx="8389800" cy="562104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2272320" y="-1655280"/>
              <a:ext cx="7959960" cy="525528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1958040" y="-1482840"/>
              <a:ext cx="7506000" cy="495144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1644120" y="-1289520"/>
              <a:ext cx="7065000" cy="468684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1306080" y="-110772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992160" y="-92592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678240" y="-741960"/>
              <a:ext cx="5713920" cy="390456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353520" y="-56016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3040200" y="-2143080"/>
              <a:ext cx="9031320" cy="615960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865960" y="-2021040"/>
              <a:ext cx="8775360" cy="593640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2667960" y="-1899360"/>
              <a:ext cx="8506080" cy="571320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2483280" y="-1777320"/>
              <a:ext cx="8252640" cy="549000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296080" y="-167616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2111400" y="-156312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1913400" y="-1452960"/>
              <a:ext cx="7450560" cy="492156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1736280" y="-135144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1538640" y="-1238760"/>
              <a:ext cx="6922440" cy="461556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1353600" y="-1137600"/>
              <a:ext cx="6669360" cy="446364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1155960" y="-102708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981720" y="-91440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783720" y="-81324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596160" y="-702720"/>
              <a:ext cx="5608080" cy="384696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-411480" y="-60156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224280" y="-488880"/>
              <a:ext cx="5072400" cy="354096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26280" y="-37584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2354040" y="32547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7080" y="49089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4000" y="36619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6000" y="61563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4200" y="70995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261440" y="55281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203480" y="71823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5320" y="7507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61960" y="2067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5520" y="65700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9480" y="-122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17400" y="-11790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95640" y="-148284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95560" y="3093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59000" y="526356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97560" y="709956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080" y="704916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26280" y="582264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514440" y="46353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715480" y="539676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063880" y="791208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1800" y="112392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27320" y="29304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34800" y="62575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9840" y="4280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7560" y="55072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2053080" y="429948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189720" y="789120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6880" y="108468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03040" y="-116748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43430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T Working Gro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gress Report</a:t>
            </a:r>
            <a:br>
              <a:rPr sz="900"/>
            </a:br>
            <a:br>
              <a:rPr sz="9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ions Related to Advanced Metering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7/12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798200"/>
            <a:ext cx="704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pdate from PUCT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T WG recommendation to approve Competitive Metering Guides Revision Request (CMGRR-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ther Discu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083360" y="1752480"/>
            <a:ext cx="1654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 from PUCT Sta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T meeting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ood forum for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appreciates the Market taking time to discuss thei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will be working on issuing a draft Advanced Metering rule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questing further input on the parking lot items and has no other questions for the COMET WG at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438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320" y="7632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etitive Metering Guid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vision Request CMGRR-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371600"/>
            <a:ext cx="8610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y CMG for consistency with Protocols &amp; other Market Guides and simplify/clarify the process in Section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T WG made some minor grammatical clarifications to th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ails of the CMGRR-005 were sent to RMS members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MGRR-005 was initially posted June 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T WG proposes that RMS approve the recommended revisions to the C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21333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5335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ET Motion for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MS Consid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rove CMGRR-005 as recommended by the COMET WG with consensus at the June 19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629400" y="468360"/>
            <a:ext cx="1447920" cy="1406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186000" y="3657600"/>
            <a:ext cx="2511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ther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1600" y="13712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T WG discuss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 standards and accuracy of time tolerance needed for advanced metering networks for hourly data provided in support of TOU offe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T WG agreed to wait to discuss these items until after the rule i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T WG cancelled the June 29 meeting.  No other meetings schedu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209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6a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41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Terry Bates</cp:lastModifiedBy>
  <dcterms:modified xsi:type="dcterms:W3CDTF">2006-06-21T20:35:01Z</dcterms:modified>
  <cp:revision>139</cp:revision>
  <dc:subject/>
  <dc:title>Slide 1</dc:title>
</cp:coreProperties>
</file>