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11B-853B-4FB9-80BF-0186F6F0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19D-3B4F-4CF3-94F4-B30BE8E0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566-1D09-480D-8FE5-CCB0AE9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F4D-3D60-4956-AFB9-1BE4E909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EA7-CC36-4715-A4FE-CDE32F36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72D-76AF-4B56-B675-3BAE5963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1FE-9A18-4432-A262-0C5C5D2E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0BA-90DC-4388-AD09-17D2AF3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4C8-AB6E-4500-9CBF-08954914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4A5-1DD8-4CFC-948D-C5D3436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23B-0D82-4D71-BFF8-1210386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527-E8C9-498C-8E28-AA929702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88F2-FC1D-4577-BBF5-45FCC3AE0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7/12/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B3D-B19C-4AA6-805F-D96A39127C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kick-off conference call – 07/07/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began – 07/10/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0706 scheduled to conclude 08/22/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y testing scheduled to conclude 09/12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3F1-5893-464A-ADE9-CE6C0B9858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TDS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s – 0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mbrella D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testing in new territory – 4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new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and 1 TDSP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49 Total Tas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189-28D5-4B94-B425-E77B682413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vity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started 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f 07/12/06 at 9:00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4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85% by end 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615-F102-416D-8CEF-A0B88F5A64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7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rak Testing API/GUI: 08/07/06 – 08/18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I required testers (adding business functionality)  - 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I volunteer testers –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I and GUI combined testing participants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esting participant has been paired between a CR and T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scripts created for API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scripts created for GUI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s one Connectivity script to be used for either API or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7 Total Tasks for both API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890-F494-4673-8616-739A22AC3B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sherri slagowski</cp:lastModifiedBy>
  <cp:lastPrinted>2002-09-24T18:27:58Z</cp:lastPrinted>
  <dcterms:modified xsi:type="dcterms:W3CDTF">2006-07-13T15:18:44Z</dcterms:modified>
  <cp:revision>393</cp:revision>
  <dc:subject/>
  <dc:title>PowerPoint Presentation</dc:title>
</cp:coreProperties>
</file>