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6A461-9CD7-4A77-87A8-DD763D8508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0B0CF-3FAD-4907-9F74-C388ABEC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665E2-A5E1-44E4-88F1-1527118D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F058A-1A7A-49EE-9687-99099CB2E6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35EF3-11AB-4EAB-A42A-92394C3C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39EAA-EC8A-446B-9A4E-65466C59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3B80E-94EB-4DFE-A2C8-7D4F641C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EFCD4-82F6-4840-B156-408C7C5F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7C74A-4384-4E71-ADC4-5753D4ED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B0DDD-8C90-4FF4-9A4D-3BF2BC49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8627F-6522-466C-A6E2-72236CFC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4C4AF-9854-4CF3-80AC-14DD4FCB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466D-AFE8-4290-A088-32D7C7D64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ie Podr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Reliant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uly 25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28D51-2E7B-4439-B03E-77696993F41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5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558800"/>
            <a:ext cx="830592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s on 007LPGR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R Requiremen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VO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COPS recommend to the TAC approval of 007LPGR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95488-3BE9-4BFB-8F1A-8CF5AE3641E6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5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295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t’s all there i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010280" cy="441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C44ED-7337-442F-AF78-34863897E9C4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5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076960" cy="426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4136A-FE44-4B07-9BE1-BB1FDB71A58B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5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828800"/>
            <a:ext cx="853416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isting Profile Evaluation and New Profile Recommend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ettlement trade day transition to new profiles shall be of issue and discussed at COPS Workshop of such on July 26,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ntative timeline has been revised, see later sl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RS sample selection round tw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.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ccuracy criteria discuss for sample design per timel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c.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Number of additional meters pending accuracy and allocation crite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A7684-A29F-489B-93B2-F99C26D1DE81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5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47920"/>
            <a:ext cx="8305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pdate 7/14/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0640" y="2390760"/>
            <a:ext cx="7904160" cy="332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9963E-4C73-4A7E-8004-B2C0EF2A381B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5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828800"/>
            <a:ext cx="853416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ing new profile requests – Oil &amp; 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RCOT Recommendation in favor of a flat profile was approved by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WG consensus at the June 28 mee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How to implement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is significant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issue, July 19 conference call to discu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bilizing Annual Validation Migration Iss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WG reviewed Business load factor profile assignment calculation changes at June meeting and made no change to Decision Tre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nnual Validation 2006 on schedu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hall update the default assignments by weather zone at a later d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3FCCA-377D-484D-BA93-61BD29E24BCB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5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5238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ual Validatio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2057400"/>
            <a:ext cx="8534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ne 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hange lists were provided by ERCOT to TDS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ly 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AC approved LPGRR to change timeline for Business Annual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idation; ERCOT notified TDSPs to disregard Business lists provid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June 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ly 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DSPs screened lists for tariff issues and returned them to ERC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ly 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Market Notice sent to CRs to let them know that change lists f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ir ESIIDs are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Prog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RCOT is coordinating with TDSPs to set up schedule for submitting 814_20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ransactions will be effective with first meter read date after August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16786-E13C-43F6-912D-CAF549AE8E75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5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5238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05740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LPGRR007, IDR Requirement Changes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rocess for Load Profiling Guide Revisions was reviewed and filed with Market Ru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eting Procedures for PWG is being developed and pending revie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AB597-6AB5-4361-8BCC-20AA238EBFCA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5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5238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s up to this poi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2906640" cy="281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3F35F-631D-450C-A1DD-701665881963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5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509840"/>
            <a:ext cx="8305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sons to support 007LPG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R Requirement Chan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6510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s the Load Profiling Guide to be consistent with the Retail Market Guide changes agreed to by the Retail Market TF on IDR proced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65440-1BFF-497E-A7DC-317C39C898E5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5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Windows XP ver. 2.2</cp:lastModifiedBy>
  <dcterms:modified xsi:type="dcterms:W3CDTF">2006-07-17T16:56:11Z</dcterms:modified>
  <cp:revision>185</cp:revision>
  <dc:subject/>
  <dc:title>PowerPoint Presentation</dc:title>
</cp:coreProperties>
</file>