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3A86F6-AE74-4621-B680-DEDC36ED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0D88DF-3E6A-4F2E-99A1-5C3AAC5F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995D-5A34-419B-A10F-F4BFEE725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65E8-F459-4306-8178-D8AA5975E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222F-C538-4FF3-8E2D-CD55DB8DC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AACA-B776-4ACC-A83F-AF0D0E7C9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B264-DD46-4C3A-A3E7-3215E7789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1DF5-82A0-4321-BDDC-83AA57A56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B7F7-00A7-47FA-990E-CD4418E75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B7DC-AD81-426C-925D-BC801E675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5E28-C2B9-4676-8ECC-DF4266016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76D9-B729-4717-A712-D7C77ED8C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164C-1BB7-48CF-849E-CBBDC4D81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0590-4423-46E7-B49C-85D4BF42C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3549C74-19E0-426E-9718-873A94E988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431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project_lis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458800"/>
            <a:ext cx="66326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 Projects Update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 PPL Status &amp; Budget Upd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PP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440"/>
            <a:ext cx="623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25,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0440" y="192600"/>
            <a:ext cx="79329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6 PPL Status and Budget Updat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4200" y="6114960"/>
            <a:ext cx="87195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s:  3 Closed    0 Initiation    5 Planning    4 Execution    3 Not Started   3 Deferred/Combined/Can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337"/>
              </a:spcBef>
              <a:buClr>
                <a:srgbClr val="008080"/>
              </a:buClr>
              <a:buSzPct val="16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LEASE NOTE: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since last COPS update noted in 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nt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PL posted to ERCOT.co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9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www.ercot.com/services/comm/projects/index.html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flect recent changes noted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5520" y="958680"/>
          <a:ext cx="8850240" cy="5115240"/>
        </p:xfrm>
        <a:graphic>
          <a:graphicData uri="http://schemas.openxmlformats.org/drawingml/2006/table">
            <a:tbl>
              <a:tblPr/>
              <a:tblGrid>
                <a:gridCol w="531720"/>
                <a:gridCol w="2640240"/>
                <a:gridCol w="971640"/>
                <a:gridCol w="1871640"/>
                <a:gridCol w="639720"/>
                <a:gridCol w="630000"/>
                <a:gridCol w="812880"/>
                <a:gridCol w="75240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6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nning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s to SCR727 - Market Ac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4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;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s to SCR727 - Market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4_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 ESIID Lookup Fun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BI Reporting To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destar Extrac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42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S Meter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 Report Enhancements Phas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5_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 727 Phas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;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tlement Mismatches Inter-QSE Schedules /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cation for Mismatched Inter-QSE Schedu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50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 Cut Line (Initial placement based on consolidated ERCOT PPL; MO Allocation = $2.44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ation of Losses fo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6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ML Phase 3 - Wholesale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103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On Hold (Planning)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destar 4.0 Upgra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66_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sion of Credit Against OOM Start U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estro Upgra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50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 Capability Range (Line placement varies based on Forecasted Spend for Portfol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90 Upgrade Part 2 - Installation of Soft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33_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Lodestar Decommis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;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 Program Modific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7015-AFD5-4725-AC2F-E05388E98B00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4080" y="192600"/>
            <a:ext cx="79995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PPL Updat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200" y="969840"/>
          <a:ext cx="8804520" cy="5646960"/>
        </p:xfrm>
        <a:graphic>
          <a:graphicData uri="http://schemas.openxmlformats.org/drawingml/2006/table">
            <a:tbl>
              <a:tblPr/>
              <a:tblGrid>
                <a:gridCol w="662040"/>
                <a:gridCol w="763560"/>
                <a:gridCol w="2343240"/>
                <a:gridCol w="897120"/>
                <a:gridCol w="880920"/>
                <a:gridCol w="901800"/>
                <a:gridCol w="546120"/>
                <a:gridCol w="880920"/>
                <a:gridCol w="928800"/>
              </a:tblGrid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Budget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unning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23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s to SCR727 - Mkt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4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s to SCR727 – Mkt Enhcm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4_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 727 Pha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7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ML Phase 3 - Wholesale Enhanc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103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destar 4.x Upgr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66_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L* Transition to OD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formerly EDW Lodestar Data Archive Transition to ED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30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CT/ 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 Program Mod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7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5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sion of Credit Against OOM Start Up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** COPS Review Requested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- Crit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 Performance Enforcement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cation of RPRS Under-Scheduled Capacity Charge Calc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 in Stakeholder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PRS Uplift Charge and Under-Scheduled Charge Corr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 in Stakeholder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5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ation of Losses for Settl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6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 Dispute Extra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bel to L* 5 - Rew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Wholes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destar Web 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30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to Load Profiling S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C for Uncontrollable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** WMS Review Requested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57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- High / Medi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$2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d Resource Capability  =  $2,058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8019-7AD4-4E79-82D8-E38AE13A6E2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8480" y="19116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osting of Project Information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k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services/comm/projects/project_lis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ed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O will work with MORO &amp; SO DPOs to address posting of project-related documents to the we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POs to seek input from Mar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process and guidelines for on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ggest posting of subset of standard documents/deliver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ing of final versions on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gal and/or Security review requi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8612-9463-4658-8619-EBE87226DAB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68480" y="19116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Standard Projects Deliverables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4760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Analys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Cha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/ Cost Esti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 Benefi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ptual System 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Plan 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Scri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gration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3BF7-38F1-450D-8BED-B2778608460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31760"/>
            <a:ext cx="71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DBD2-2D06-4C66-B231-AB3FAEF66D29}" type="slidenum">
              <a:t>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7-25T18:27:30Z</dcterms:modified>
  <cp:revision>141</cp:revision>
  <dc:subject/>
  <dc:title>Slide 1</dc:title>
</cp:coreProperties>
</file>