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C89-5EDB-41D3-A7E3-292D5210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8E5-AD17-48B5-8851-DB3547FF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8C7-4352-43C5-B810-4EF0C724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9F7D-B960-4040-8653-F6C7813A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3A9-CDC8-4763-8599-68E962C2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979-0FA8-4D15-AA86-DA05D9DE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263-9C44-4A75-8AB7-FCDC2E15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5243-7562-4A10-8CB3-BA3139CC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021-158C-4692-AF7D-0C58A980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7FCB-14E3-426F-A295-B78AAC09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0D28-D035-49B7-A6A3-0AA03282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7048-2F43-45C1-99DE-A3EBC104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6E83-667C-41A1-9C05-AD63D6DE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FC16-E3D7-40BA-9B32-33792D75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2AC6-817A-430C-AE6D-A0B54666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6811-9D1E-4ABB-AA88-55AC9FD8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7DF6-B06D-4546-B556-B86216D3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7FC7-DFEE-4644-862F-B8F42EB4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0FF1-1C2C-433F-A174-0BEC16FB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6C95-617A-4B1D-ABEB-20A43BC7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F180-DE19-4E91-BDE4-FF1CE887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72E-9BD3-44CC-950F-FEB893D3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C0D-2BD8-4D81-9BDE-73BD2C3A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2C0-F63C-4973-BAEE-08E3F063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589800" y="611496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1307880"/>
            <a:ext cx="774396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02C3-6A9E-4DCB-BAD6-29AB9D7B10C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9360" y="4633200"/>
            <a:ext cx="77770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391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32680" y="5952960"/>
            <a:ext cx="26398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297480" y="5872320"/>
            <a:ext cx="27892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389640" y="5979960"/>
            <a:ext cx="2384640" cy="75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316560" y="5846760"/>
            <a:ext cx="2679840" cy="84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3602-E864-4FED-8E8B-998ABA2F254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FETF Upd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ly 25, 2006 COPS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ck Moore; UFETF Co-Ch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FETF Upd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66"/>
                </a:solidFill>
                <a:latin typeface="Arial"/>
              </a:rPr>
              <a:t>Distribution Loss Factor: PRR 668 filed May 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PRS approved June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PRS prioritized on July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66"/>
                </a:solidFill>
                <a:latin typeface="Arial"/>
              </a:rPr>
              <a:t>Next UFETF meeting is August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Review Protocol Section 11.5.2, Generation Meter Data Aggregation, to update time lines and revis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Sep 2004 action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PUCT Theft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COPMGRR to provide details and PRR to update Chapter 13 (T&amp;D Loses) with gray bo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Close UFTEF by end of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FETF Upd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6666"/>
                </a:solidFill>
                <a:latin typeface="Arial"/>
              </a:rPr>
              <a:t>Any questions?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6:01:52Z</dcterms:created>
  <dc:creator>cmoore</dc:creator>
  <dc:description/>
  <dc:language>en-US</dc:language>
  <cp:lastModifiedBy>cmoore</cp:lastModifiedBy>
  <dcterms:modified xsi:type="dcterms:W3CDTF">2006-07-17T21:47:51Z</dcterms:modified>
  <cp:revision>22</cp:revision>
  <dc:subject/>
  <dc:title>UFETF 2006 Go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9599170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COPS Agenda Planning Conference call</vt:lpwstr>
  </property>
  <property fmtid="{D5CDD505-2E9C-101B-9397-08002B2CF9AE}" pid="6" name="_NewReviewCycle">
    <vt:lpwstr/>
  </property>
</Properties>
</file>