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9EDD-1937-496A-818A-038A55BA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Settlement System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cery Store Receipt Ana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Settlement System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Settlement System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A43-57E9-473D-8885-C86CB65F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72D-FE8D-45D8-A918-EACCD2E6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07A-1FE4-4478-9E57-42556B92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E88-BCE8-44B0-9D1B-0E7E26B6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08FC-4476-4715-B597-D86A4C4A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234B-1BE7-4844-8DFE-69E834A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1A2C-11F5-477B-819D-1C27409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7B4B-DB5C-4E78-B261-8DC86072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68AD-4976-416C-8A27-91A2B98D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B2EA-FF63-4B51-8CD4-C588F08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F888-0B8E-49A7-8C4B-44801932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B26-E649-4D60-8381-28C08E6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A7D-E65A-4409-B162-9115DED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1F43-BAE2-4253-84DC-D8BFCFD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1840-7927-42F9-9B6B-C3981C93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063A-8F50-4EE0-85E2-26A31CE2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51E7-B082-453C-8B88-B246AF7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0F4-A671-4C97-8B12-4A3DF059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2A4-0FBF-4D76-BDEB-B5BC24C2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B7E-99B5-4D9E-9BCC-6C389B46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2EB-D0B1-49B7-997B-A3E7CBC3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ED8-263A-4813-A3E2-36719A9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BAD-3462-4E33-B956-E21B7587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D21-CFA3-4172-952F-8B219CA8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42568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C49-99C3-4014-8600-49241660EC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11A4-CF3A-43FD-A3FD-7288C2D3AC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4876920"/>
            <a:ext cx="8839440" cy="1957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 Delta Calculations and Statements – 7/11/06 Worksho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Objective: Describe design concepts of nodal settlement delta calculations and statements. Brainstorm on nodal settlement design ide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Design Propos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 #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initial statement shows all interval data and down to the resource, settlement point or pairs of sinks and sources.  If all 24 (or 96) intervals are zero ---- it will not be shown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subsequent settlement statements only show totals.  Also, the totals are shown only for those cuts that have a non-zero “BILLAMT” interv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Protocol Complian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1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 Process for the DA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duce daily Settlement Statements for the Day-Ahead Market (DAM), as defined in Section 9.2.2, Settlement Statements for the DAM, that show a breakdown of financial obligations between ERCOT and a Market Participant incurred in the DAM, including any administrative and miscellaneous charges applicable to the DA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2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 Settlement Statements for the DAM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7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ttlement Statements for the DAM must break fees down by Charge Types into the appropriate one-hour Settlement Interval for that typ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3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DAM Settlement Charge Typ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vide, on each Settlement Statement, the dollar amount for each DAM Settlement charge and paym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5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DAM Resettlement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 DAM Resettlement Statement must reflect differences to financial records generated on the previous Settlement Statement for the given DA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1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 Process for the Real-Time Market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duce daily Settlement Statements for the Real-Time Market (RTM), as defined in Section 9.5.2, Settlement Statements for the RTM, that show a breakdown of Charge Types incurred in the RTM, including any administrative and miscellaneous charges applicable to the RT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2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s for the RT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8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 Settlement Statement for the RTM must break the fees down by Charge Type into the appropriate 15-minute or one-hour Settlement Interval for that typ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3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eal-Time Market Settlement Charge Typ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vide, on each RTM Settlement Statement, the dollar amount for each RTM Settlement charge and paym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5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Final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Final Statement will reflect differences to financial records generated on the previous Settlement Statement for the given Operating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6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Resettlement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6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Resettlement Statement will reflect differences to financial records generated on the previous Settlement Statement for the given Operating Day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8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True-Up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True-Up Statement will reflect differences to financial records generated on the previous Settlement Statement for the given Operating Day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the problem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onal Settlement System produces excessive interval data of questionable value to ERCOT and Market Particip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Zero Data Statistics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(Production Lodestar Database as of 4/26/05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76520"/>
          <a:ext cx="8534520" cy="4572000"/>
        </p:xfrm>
        <a:graphic>
          <a:graphicData uri="http://schemas.openxmlformats.org/drawingml/2006/table">
            <a:tbl>
              <a:tblPr/>
              <a:tblGrid>
                <a:gridCol w="838080"/>
                <a:gridCol w="1295640"/>
                <a:gridCol w="1295280"/>
                <a:gridCol w="1219320"/>
                <a:gridCol w="1143000"/>
                <a:gridCol w="914400"/>
                <a:gridCol w="914400"/>
                <a:gridCol w="914400"/>
              </a:tblGrid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Data-base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Total Row Cou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ZC Row Cou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Total Disk Sp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Total ZC Disk Sp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% Row Cou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% Disk Sp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Byte / Ro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RO-CHA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,0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,0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6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8,5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0,6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4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46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5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8,5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0,6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0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54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9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1185840"/>
          <a:ext cx="8229600" cy="5367240"/>
        </p:xfrm>
        <a:graphic>
          <a:graphicData uri="http://schemas.openxmlformats.org/drawingml/2006/table">
            <a:tbl>
              <a:tblPr/>
              <a:tblGrid>
                <a:gridCol w="2286000"/>
                <a:gridCol w="1828800"/>
                <a:gridCol w="2057400"/>
                <a:gridCol w="20574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CM Z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CM Z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 CM Z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Run Tim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M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0 Hou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1 Hou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ro Charge Database Reco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79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3,03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7,42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ction Database Reco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val Database Reco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3,76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Mill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7.9Mill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85800" y="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onal Settlements System Architecture Stress 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360"/>
            <a:ext cx="7086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dal Protocol Nee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number of charge and payment types to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5 to 8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re 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er granularity of settlement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tlement Points, RUC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re 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use of interim calcul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re 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statements and invo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________________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  Differing Architectural Needs for Nodal Settlement and Billing Syst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6960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re Data – Nodal Settlement System Output Estim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suming use of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curren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system architec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ased on 3 trade dates for zonal and 1DA + 3 RT trade dates for nodal per batch (typical daily ru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umbers below represent interval database records per n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30200" y="2895480"/>
          <a:ext cx="6975360" cy="3137040"/>
        </p:xfrm>
        <a:graphic>
          <a:graphicData uri="http://schemas.openxmlformats.org/drawingml/2006/table">
            <a:tbl>
              <a:tblPr/>
              <a:tblGrid>
                <a:gridCol w="2325600"/>
                <a:gridCol w="2324160"/>
                <a:gridCol w="232560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on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d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Aggreg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5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5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fac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tlem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5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200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,100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,705,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914400" y="6172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0000"/>
                </a:solidFill>
                <a:uFillTx/>
                <a:latin typeface="Verdana"/>
              </a:rPr>
              <a:t>Initial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 Nodal Estimate = 7 x Current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urrent Settlements System Inefficienc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put interval cuts are restated as PRICE and QTY c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ltas (BILLQTY, BILLAMT) calculated at interval level (15min, hourl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cessive interval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ero data calculated at interval level and calculated for del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zero data overhead, excessive interval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ments repeat and duplicat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Design Propos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mplify data requirements while still giving the Market what they need – we need to be lean and effici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PRICE and QTY cu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s and Outputs specified in Nodal Protoc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BILLQTY delta cu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ity cuts do not exist in Nodal Protocols so we will not create them nor the corresponding delta c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ILLAMT delta cut NOT at interval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LAMT delta calculated at QSE/Trade Date summary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Verdana"/>
              </a:rPr>
              <a:t>Above 3 bullets reduce settlement output interval data by 80%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ero AMT output saved at QSE/Trade Date summary level unless non-zero values sum to zer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zero amount interval data when every interval is z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ments will not repeat previous settlement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ments roll up charges/payments to statement recipient level (even if charges/payments are at SPP or Resource Node level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put and Output data available in extrac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Design Propos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#1 – Load Imbalance, Norm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#2 – Load Imbalance, No change on Fi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#3 – Load Imbalance, Zero on Initi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#4 – Load Imbalance, Zero scenario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#5 – OOME Energy Unit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barnes</cp:lastModifiedBy>
  <dcterms:modified xsi:type="dcterms:W3CDTF">2006-07-10T22:12:33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