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547-4EDF-4880-AD9A-B22ECEDF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ED3-B561-48DC-842E-1BDE92CA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0C7-66DC-4052-AB96-B3BDA512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20B-4A49-404B-93C3-BF266AAC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230-6BDE-4D92-A4DD-CF247752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67F-3832-4894-9F58-C1892D6A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E35-1CAB-4F9B-8F29-F8886FFC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ACC-5019-412D-8BFE-89ADA8D6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6B7-DCD3-46A0-AC54-2E892DB0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F37-92A0-4FC6-AD39-5CB8EF04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AE8-9F43-40A6-9CF9-2ED8B5E6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52E-770A-4F18-8077-723BB15D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4544-49F3-453A-B329-13298C855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Review of MOS Public and TML Degrad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419360" y="495252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rcial Operations Communications Working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5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252-539F-43F7-BC7D-A2D8C8B6F6E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 and TML Degra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RCOT MOS Public and MOS TML websites have recently been experiencing performance degrad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shows these performance issues are directly related to systems designed to programmatically download data from ERCOT websites at short intervals (“screen scraping”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“scraping” activity results in websites being unusable by the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A58-D6E9-4B15-B49F-4C67365CC75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has taken actions to address performance degradation of ERCOT MOS Public and MOS TML webs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market participants have cooperated with this effort by stopping screen scraping, seeking alternatives, or reducing frequency of h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’s stance continues to be that resources are not sufficient to support the level of screen scraping experienced over the past month without degrading performance of the webs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also realizes that it would be counterproductive to completely stop screen scraping and welcomes market participant involvement for mutual solutions feasible with available resour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 and TML Degra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661-0AA7-4D99-8783-CBCCD3D7CEC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ong with MP’s cooperation ERCOT is addressing this at two fro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)  ERCOT web support and power systems staff are considering changes to ERCOT systems that are expected to help mitigate impacts from screen scraping and XML queries on ERCOT system performan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) ERCOT is contacting those entities who are hitting web pages at high rates, especially hitting pages at rates at much greater frequency than the page is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 and TML Degra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D43-8F2C-4720-B4B4-D284EBD7DB1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ervices, EMMS, Market Operations Support, Web and Data Services Development and Wholesale Client Services met last week to consider op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s and actions being considere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 some issues how web pages are updating to the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loy “PERL Script” to CSC page to improve performance.  This page has been one of the most h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der shifting to a csv format for data delivery, expected to unload MOS Public and TML displ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fix is scheduled to improve Scheduled Mismatch query – it has a priority 1.  This also will help a MOS performance 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 QSE has ICCP over the WAN ERCOT will assist in accessing Total ERCOT Regu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ties with the highest volume and frequency of hits are being identified and for conta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 and TML Degra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924-3627-4080-B46D-DE2F0A6FA41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deller</cp:lastModifiedBy>
  <cp:lastPrinted>2002-09-24T18:27:58Z</cp:lastPrinted>
  <dcterms:modified xsi:type="dcterms:W3CDTF">2006-07-25T00:58:51Z</dcterms:modified>
  <cp:revision>516</cp:revision>
  <dc:subject/>
  <dc:title>PowerPoint Presentation</dc:title>
</cp:coreProperties>
</file>