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8959850" cy="6721475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3FA9-97F3-4D45-848F-67D05F4F9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73CD-2074-47A4-A032-45BDBFF79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1122-69C8-4C64-A23F-A1CE06546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520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5152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522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0520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5152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DB48-FB00-423F-A941-DFEA19B4C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40B9-ED4D-4AC8-8200-BAC63248E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520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5152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522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0520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5152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8963-F650-4868-A86C-5BDC0CDD3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5FB6-73E8-4674-A802-E76DF9B00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7A31-0E25-4613-A34D-68DE2A837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1A4F-E068-43A8-BB5B-CFF5AFEB1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48D2-6A70-4DD6-AB38-9DF6CE8DC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30BC-CB23-4225-ABEC-319CB1802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768D-138A-427F-ADAE-F7DD6F1CF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51800" y="6511680"/>
            <a:ext cx="185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3B3F94A8-9383-4C6F-AD5A-DEF29A18A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14120">
              <a:buClr>
                <a:srgbClr val="006b61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77760" indent="-114120">
              <a:buClr>
                <a:srgbClr val="000000"/>
              </a:buClr>
              <a:buSzPct val="89000"/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5280" y="922320"/>
            <a:ext cx="860292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5280" y="650556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5280" y="19224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" name="McK Slide Elements"/>
          <p:cNvGrpSpPr/>
          <p:nvPr/>
        </p:nvGrpSpPr>
        <p:grpSpPr>
          <a:xfrm>
            <a:off x="136440" y="1122480"/>
            <a:ext cx="8595360" cy="5371920"/>
            <a:chOff x="136440" y="1122480"/>
            <a:chExt cx="8595360" cy="5371920"/>
          </a:xfrm>
        </p:grpSpPr>
        <p:sp>
          <p:nvSpPr>
            <p:cNvPr id="7" name="McK Measure" hidden="1"/>
            <p:cNvSpPr/>
            <p:nvPr/>
          </p:nvSpPr>
          <p:spPr>
            <a:xfrm>
              <a:off x="137520" y="1122480"/>
              <a:ext cx="143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McK Footnote" hidden="1"/>
            <p:cNvSpPr/>
            <p:nvPr/>
          </p:nvSpPr>
          <p:spPr>
            <a:xfrm>
              <a:off x="136440" y="6103440"/>
              <a:ext cx="85917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" name="McK Legend"/>
            <p:cNvGrpSpPr/>
            <p:nvPr/>
          </p:nvGrpSpPr>
          <p:grpSpPr>
            <a:xfrm>
              <a:off x="7872480" y="1538280"/>
              <a:ext cx="859320" cy="767160"/>
              <a:chOff x="7872480" y="1538280"/>
              <a:chExt cx="859320" cy="76716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7872480" y="1538280"/>
                <a:ext cx="859320" cy="182880"/>
                <a:chOff x="7872480" y="1538280"/>
                <a:chExt cx="859320" cy="182880"/>
              </a:xfrm>
            </p:grpSpPr>
            <p:sp>
              <p:nvSpPr>
                <p:cNvPr id="11" name="" hidden="1"/>
                <p:cNvSpPr/>
                <p:nvPr/>
              </p:nvSpPr>
              <p:spPr>
                <a:xfrm>
                  <a:off x="7872480" y="1560600"/>
                  <a:ext cx="28404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McK Footnote" hidden="1"/>
                <p:cNvSpPr/>
                <p:nvPr/>
              </p:nvSpPr>
              <p:spPr>
                <a:xfrm>
                  <a:off x="8219160" y="153828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7872480" y="1731960"/>
                <a:ext cx="859320" cy="182880"/>
                <a:chOff x="7872480" y="1731960"/>
                <a:chExt cx="859320" cy="182880"/>
              </a:xfrm>
            </p:grpSpPr>
            <p:sp>
              <p:nvSpPr>
                <p:cNvPr id="14" name="" hidden="1"/>
                <p:cNvSpPr/>
                <p:nvPr/>
              </p:nvSpPr>
              <p:spPr>
                <a:xfrm>
                  <a:off x="7872480" y="1754280"/>
                  <a:ext cx="284040" cy="139680"/>
                </a:xfrm>
                <a:prstGeom prst="rect">
                  <a:avLst/>
                </a:prstGeom>
                <a:solidFill>
                  <a:srgbClr val="47474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McK Footnote" hidden="1"/>
                <p:cNvSpPr/>
                <p:nvPr/>
              </p:nvSpPr>
              <p:spPr>
                <a:xfrm>
                  <a:off x="8219160" y="17319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872480" y="1927440"/>
                <a:ext cx="859320" cy="182880"/>
                <a:chOff x="7872480" y="1927440"/>
                <a:chExt cx="859320" cy="182880"/>
              </a:xfrm>
            </p:grpSpPr>
            <p:sp>
              <p:nvSpPr>
                <p:cNvPr id="17" name="" hidden="1"/>
                <p:cNvSpPr/>
                <p:nvPr/>
              </p:nvSpPr>
              <p:spPr>
                <a:xfrm>
                  <a:off x="7872480" y="1949400"/>
                  <a:ext cx="284040" cy="1400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McK Footnote" hidden="1"/>
                <p:cNvSpPr/>
                <p:nvPr/>
              </p:nvSpPr>
              <p:spPr>
                <a:xfrm>
                  <a:off x="8219160" y="192744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7872480" y="2122560"/>
                <a:ext cx="859320" cy="182880"/>
                <a:chOff x="7872480" y="2122560"/>
                <a:chExt cx="859320" cy="182880"/>
              </a:xfrm>
            </p:grpSpPr>
            <p:sp>
              <p:nvSpPr>
                <p:cNvPr id="20" name="" hidden="1"/>
                <p:cNvSpPr/>
                <p:nvPr/>
              </p:nvSpPr>
              <p:spPr>
                <a:xfrm>
                  <a:off x="7872480" y="2144880"/>
                  <a:ext cx="284040" cy="139680"/>
                </a:xfrm>
                <a:prstGeom prst="rect">
                  <a:avLst/>
                </a:prstGeom>
                <a:solidFill>
                  <a:srgbClr val="dadad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McK Footnote" hidden="1"/>
                <p:cNvSpPr/>
                <p:nvPr/>
              </p:nvSpPr>
              <p:spPr>
                <a:xfrm>
                  <a:off x="8219160" y="21225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" name="McK Sticker"/>
            <p:cNvGrpSpPr/>
            <p:nvPr/>
          </p:nvGrpSpPr>
          <p:grpSpPr>
            <a:xfrm>
              <a:off x="7289280" y="1166400"/>
              <a:ext cx="1434960" cy="221400"/>
              <a:chOff x="7289280" y="1166400"/>
              <a:chExt cx="1434960" cy="221400"/>
            </a:xfrm>
          </p:grpSpPr>
          <p:sp>
            <p:nvSpPr>
              <p:cNvPr id="23" name="McK Sticker" hidden="1"/>
              <p:cNvSpPr/>
              <p:nvPr/>
            </p:nvSpPr>
            <p:spPr>
              <a:xfrm>
                <a:off x="7289280" y="1166760"/>
                <a:ext cx="1434960" cy="219600"/>
              </a:xfrm>
              <a:prstGeom prst="leftRightArrow">
                <a:avLst>
                  <a:gd name="adj1" fmla="val 100000"/>
                  <a:gd name="adj2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360" bIns="18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STICKER (ALL CA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" name=""/>
              <p:cNvCxnSpPr/>
              <p:nvPr/>
            </p:nvCxnSpPr>
            <p:spPr>
              <a:xfrm>
                <a:off x="7291080" y="116640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" name=""/>
              <p:cNvCxnSpPr/>
              <p:nvPr/>
            </p:nvCxnSpPr>
            <p:spPr>
              <a:xfrm>
                <a:off x="7291080" y="138708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0960" y="2884320"/>
            <a:ext cx="573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46160" y="1677960"/>
            <a:ext cx="8668800" cy="3053880"/>
            <a:chOff x="146160" y="1677960"/>
            <a:chExt cx="8668800" cy="3053880"/>
          </a:xfrm>
        </p:grpSpPr>
        <p:sp>
          <p:nvSpPr>
            <p:cNvPr id="64" name=""/>
            <p:cNvSpPr/>
            <p:nvPr/>
          </p:nvSpPr>
          <p:spPr>
            <a:xfrm>
              <a:off x="146160" y="473184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6160" y="167796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McK Title Elements"/>
          <p:cNvGrpSpPr/>
          <p:nvPr/>
        </p:nvGrpSpPr>
        <p:grpSpPr>
          <a:xfrm>
            <a:off x="7754760" y="1023840"/>
            <a:ext cx="1117800" cy="4138920"/>
            <a:chOff x="7754760" y="1023840"/>
            <a:chExt cx="1117800" cy="4138920"/>
          </a:xfrm>
        </p:grpSpPr>
        <p:sp>
          <p:nvSpPr>
            <p:cNvPr id="67" name="McK Sticker" hidden="1"/>
            <p:cNvSpPr/>
            <p:nvPr/>
          </p:nvSpPr>
          <p:spPr>
            <a:xfrm>
              <a:off x="7754760" y="1023840"/>
              <a:ext cx="111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McK Date" hidden="1"/>
            <p:cNvSpPr/>
            <p:nvPr/>
          </p:nvSpPr>
          <p:spPr>
            <a:xfrm>
              <a:off x="8488440" y="49798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425520" algn="ctr">
              <a:buClr>
                <a:srgbClr val="006b61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97000" indent="566640" algn="ctr">
              <a:buClr>
                <a:srgbClr val="000000"/>
              </a:buClr>
              <a:buSzPct val="89000"/>
              <a:buFont typeface="Arial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433440" indent="71280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33440" indent="712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33440" indent="712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445840"/>
            <a:ext cx="7848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40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WG Update to WM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33400" y="4216320"/>
            <a:ext cx="1589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19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06 DSWG Goals Updat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760" y="1309680"/>
            <a:ext cx="8535960" cy="446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B95C-2A85-4F6A-9688-BE0662E7FD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ne 3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DSWG Meeting Update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480" y="998280"/>
            <a:ext cx="7848360" cy="53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 a new Vice Chairs (WMS Affirmation Requi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lson Nease with Nucor Ste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ve Isser with Good Company Associ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Rule and PRR Updates and Clar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on Negative LaaR Bidding Solutions (Brelinsk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Metering proposal (Tref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er Frequency update from PUC (Mark Smi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ed Bids for LaaR Participation in the RRS and NSRS (Kr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Adequacy Task Force update (Malcolm Sm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Participation Update (Kr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ing Session for Demand Response Pos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up Diesel Generation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il and Gas Profile D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l Merchant Price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Update (Patter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A135-2BF7-482B-9526-5F42FA99F2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xt DSWG Meeting Scheduled for August 25th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6840" y="998640"/>
            <a:ext cx="8076960" cy="276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already identified for August mee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DSWG to Affirm Brelinsky company change (Brelins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28600">
              <a:spcBef>
                <a:spcPts val="400"/>
              </a:spcBef>
              <a:spcAft>
                <a:spcPts val="400"/>
              </a:spcAft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employed by Mpower (REP/Q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Participation Update (Kr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Update (Patter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Response Programs in the Competitive Electric Market; PUC project number is 328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ing Session for Demand Response Possibilities: Stag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604E-F3F0-4470-8213-89B8A6EF1C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y Anne Brelinksy</cp:lastModifiedBy>
  <dcterms:modified xsi:type="dcterms:W3CDTF">2006-07-18T23:25:04Z</dcterms:modified>
  <cp:revision>23</cp:revision>
  <dc:subject/>
  <dc:title>DSWG Update to WMS</dc:title>
</cp:coreProperties>
</file>