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88188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8E740-771A-4C5F-8600-CA76E696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74D40-610E-4A61-9DBB-E290D28E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E9B97-6A72-4E87-B2F1-C8FAE40F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431E4-AE69-4331-8E1F-7A08874A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B050-86F0-4D95-910F-2AED8ED3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E72C-20E4-4218-B9CE-5A83644F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841C-77CF-4644-A7FB-114D5E8B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35C0-0455-422D-972D-420182DA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F900-578A-4D54-B04D-11419335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3948-7359-454E-8B98-D9AF68B9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51C6-8829-4DA6-9F70-5B7FD55A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D6109-E92A-464D-9616-39D15339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271A-A910-4D40-A470-3D694AA4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2565-7271-4C17-AE91-BF6446BD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C316-EC32-43B7-BF31-681C98C6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9C0A-0408-45A4-9333-BA34832D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7675-4056-4F46-8CF7-F873D3F0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35AFD-24C6-4EF1-A3AD-A14D8573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158D6-80AD-417C-9126-4ED82CE0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506CA-4739-4158-B7DB-7D6DFEA1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7933F-C175-4765-B1CC-2CD41F9A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0B867-404E-497E-8EED-C697CA11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EA455-024F-4133-9F89-2002507A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96F6F-2B64-480A-A2F0-846CC97B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8D1D-B103-44A2-98CA-E561CEA76D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9742-FDB8-4AF2-93CF-FFA62A10AB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Frequency Control Task Force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 to W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4B1D-91DE-417F-ACE3-4C405EF607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Possible Directions for FCTF efforts on GRS</a:t>
            </a: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mit GRS PRR for Zonal Market and NPRR for Nodal Mark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mit GRS NPRR for Nodal Market on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mit GRS NPRR for Nodal Market only and authorize ERCOT Operations to procure additional RRS in the Zonal Market in quantities sufficient to produce the required system respon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hing further on this issue and disband the FCT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2AF1E-1EAA-4310-9EA0-1DD058F2F4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673 Adjust SCE Performance Charge Scale Fa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options presented for WMS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te on recommendation for P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Up on SCE-related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or Response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mary of FCTF and PDCWG discus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S guidance on next ste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61AB-B3E4-462A-ADD3-37DE921DEA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PRR 673</a:t>
            </a: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 of June TAC discussion on appropriate level of financial incentive for SCE performance by Resource QSEs and desire to automatically adjust performance charge based on overall ERCOT perform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options discussed at FCT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based on ERCOT CPS_1 sc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can move up or down each mon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set a maximum and minimum value for Scale Fa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are automatic (PRR not needed to adjust performance charge in the fut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D2069-3EF9-4A6F-9345-1948F390DF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PRR 673 Option 1</a:t>
            </a: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F = 1 when ERCOT CPS_1 = 1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F increases 0.1 each point below 130 and decreases 0.1 each point above 1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6577D-B4C0-4D20-A4CD-7093031929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PRR 673 Option 2 </a:t>
            </a: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F = 1 when ERCOT CPS_1 = 125 to 1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F increases 0.1 each point below 125 and decreases 0.1 each point above 1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93132-42C9-458F-8503-B0E00AB3F9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ERCOT CPS_1</a:t>
            </a: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09480" y="990720"/>
          <a:ext cx="7696440" cy="563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769644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D37FC-82B1-4D2F-860E-2BBA95318E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Follow Up on SCE-related work</a:t>
            </a: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going report of persistence forecasting methodology for Uncontrollable Renewable Resources: periodic updates from ERCOT Staff on results – any measurable improvement in BES, RGS, or other are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going monitoring of SCE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COT CPS_1 sc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SE SCE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E Performance Charges / Cred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77814-4371-4469-AB4F-90BC8B85E9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 of FCTF &amp; PDCWG GRS discussions</a:t>
            </a: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DCWG analysis shows that Primary Frequency Response (governor response + natural load response) is not sufficient in the system to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or Response helps to arrest frequency deviations for both high frequency and low frequency excur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’s system bias should be 420 MW/0.1 Hz devi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233A8-9A28-4F77-9088-1E83445259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 of FCTF &amp; PDCWG GRS discussions</a:t>
            </a: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S should be a bid-in A/S, expressed in MW/0.1Hz frequency deviation, and can be self-provi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governors should be in service and free to respond but enforcement should not include non-bidders in an “energy-only” market de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S should be portfolio-based in Zonal market and unit-specific in Nodal mark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envision effective load participation – but possibility not yet ruled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6CD40-579F-41D8-A626-4C7C6F29D4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14:22:16Z</dcterms:created>
  <dc:creator>Registered User</dc:creator>
  <dc:description/>
  <dc:language>en-US</dc:language>
  <cp:lastModifiedBy>FCTF</cp:lastModifiedBy>
  <dcterms:modified xsi:type="dcterms:W3CDTF">2006-07-14T20:56:32Z</dcterms:modified>
  <cp:revision>78</cp:revision>
  <dc:subject/>
  <dc:title>Slide 1</dc:title>
</cp:coreProperties>
</file>