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0BC36F-9642-4F7F-AA68-00A5845D9A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E5C27-19F9-4F32-8705-2FFCF8D415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EF0DF7-612B-44C6-92B9-3C3625C34E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DB4ABA-454A-40A1-B8D4-34F1F77475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83316-D16F-424D-9E92-E6345D1488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0977C0-3E64-4696-915B-F1873384F4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AF1FCF-08FF-43BA-8155-09C5D0B2C8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096C76-A9CE-4D1B-970B-7404A402E3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C05F3-5D7B-4249-86DA-F820567AA2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70D81-7917-4422-9736-3111D4C919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5BD0B-78BD-49BA-93E1-6EDB0BC5FF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85D6C-CB6A-4C60-913E-36F1C9B113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733E7-7500-45D7-8C0A-1007D25EC0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bined Cycle RPRS Task Force Report</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M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ly 19, 200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PRS Issue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30592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stency between OOMC and Local RPRS generic startup payment formula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ed at March WM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R to be filed</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C RPRS Modeling and Startup Payment issues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greement on Proxy Unit representation for CCCT units in DA for RPR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SEs with CCs selected in RPRS must modify Resource Plan values within approx. 15 minutes after RPRS but before ERCOT runs its DA voltage studi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R is likely appropriate to document these procedures (no system changes required)</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nal RPRS Functionality</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 physical CSC limits are not known at the time RPRS is ru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reasonably accurate method exists or has been proposed to determine appropriate OC1 CSC limits to apply in DA RPRS Step 2</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no acceptable solution is put forth or if proposed solutions require system changes, it may be appropriate to remove zonal RPRS from the Protocol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PRS Issue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30592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PRS and Jointly Owned Units</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perceived to be a significant issue at this point; handled as necessary with VDIs</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PRS and Black Start</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 has recently procured some Black Start units for extended periods of time that are run-limited</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 will present the issue to ROS for further discussion</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PRS and NSRS</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 sometimes procures in RPRS units that QSEs plan to use to provide NSR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 currently does not have a way to exclude capacity from offline, available units that are scheduled to provide NSRS.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 currently does not have a way to determine how much NSRS is being provided from online resource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potential solution to address only the RPRS issue would be to identify online and offline units providing NSRS (including MW NSRS).  This would require system changes on QSE interfaces and inputs to the RPRS engin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standing related questions</a:t>
            </a:r>
            <a:endParaRPr b="0" lang="en-US" sz="14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NSRS be provided only from offline units?</a:t>
            </a:r>
            <a:endParaRPr b="0" lang="en-US" sz="1200" spc="-1" strike="noStrike">
              <a:solidFill>
                <a:srgbClr val="000000"/>
              </a:solidFill>
              <a:latin typeface="Arial"/>
            </a:endParaRPr>
          </a:p>
          <a:p>
            <a:pPr lvl="3" marL="16002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ultaneous A/S selection issue of linked bids for RegUp/RRS with NSRS</a:t>
            </a:r>
            <a:endParaRPr b="0" lang="en-US" sz="1000" spc="-1" strike="noStrike">
              <a:solidFill>
                <a:srgbClr val="000000"/>
              </a:solidFill>
              <a:latin typeface="Arial"/>
            </a:endParaRPr>
          </a:p>
          <a:p>
            <a:pPr lvl="3" marL="16002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etitiveness issues</a:t>
            </a:r>
            <a:endParaRPr b="0" lang="en-US" sz="10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the current one standard deviation load adder be procured from NSRS only (if requir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6T22:15:37Z</dcterms:created>
  <dc:creator>dljones</dc:creator>
  <dc:description/>
  <dc:language>en-US</dc:language>
  <cp:lastModifiedBy>dljones</cp:lastModifiedBy>
  <dcterms:modified xsi:type="dcterms:W3CDTF">2006-07-12T22:40:02Z</dcterms:modified>
  <cp:revision>4</cp:revision>
  <dc:subject/>
  <dc:title>Combined Cycle RPRS Task Force Report</dc:title>
</cp:coreProperties>
</file>