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AE551E5-7DA4-4A6B-9F00-D5CF8CF57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5840" y="698400"/>
            <a:ext cx="4656240" cy="3492720"/>
          </a:xfrm>
          <a:prstGeom prst="rect">
            <a:avLst/>
          </a:prstGeom>
          <a:ln w="0">
            <a:noFill/>
          </a:ln>
        </p:spPr>
      </p:sp>
      <p:sp>
        <p:nvSpPr>
          <p:cNvPr id="10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p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 asked ERCOT to propose a methodology of reducing NSRS Recall impa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s out that decreasing block deployments already in place – blocks can be recalled in same blocks as deploy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L Deadband</a:t>
            </a:r>
            <a:r>
              <a:rPr b="0" lang="en-US" sz="1200" spc="-1" strike="noStrike">
                <a:solidFill>
                  <a:srgbClr val="000000"/>
                </a:solidFill>
                <a:latin typeface="Arial"/>
              </a:rPr>
              <a:t> – has gone into effect 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BES Ramp Rate Feasibi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last of the Patton Recommendations – Found a way to achieve what Patton was looking for (less balancing bids invalidated over ramp rates) with a pre-SPD process.  A PRR has been drafted and is about to be submit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w-back provision in RMR contrac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atton recommendation – removes the disincentive to bid in the unused capacity of an RMR unit that has been started.  The working group thinks there may have been some more available bids in the past, but don’t know about the remainder of zonal.  There is about 450 mw of RMR and 190 MW should have gone away this week (july 1) –  maybe half to two thirds of the capacity is above the minimum runs and at least in the summer, most of it is required to run flat out.  More on this next month.  May not be worth pursuing in zon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pra @ Lapalma 190 ending July 1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pra @ Larado 170 will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kins @ Bryan this summer only 100 M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R 607 – One Minute Ram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ted by FPL and assigned to QSE Managers through FCT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t of PRR is to allow QSE’s to better represent start-up and shut-down of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15 minute schedules do not accurately represent these ramps and is causing SCE complianc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Managers agree that technical requirements prohibit timely implementation of solution in ERCO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L has revised the PRR to address issue through a compliance measurement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L will submit revised 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Managers support revi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5840" y="698400"/>
            <a:ext cx="4656240" cy="3492720"/>
          </a:xfrm>
          <a:prstGeom prst="rect">
            <a:avLst/>
          </a:prstGeom>
          <a:ln w="0">
            <a:noFill/>
          </a:ln>
        </p:spPr>
      </p:sp>
      <p:sp>
        <p:nvSpPr>
          <p:cNvPr id="10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vin reported on the PRS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e Factor in  PRR 661 set to 1.  Performance dependent where SF moves tenth of a point per point in inverse direction to ERCOT’s CPS1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ptions in the 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one 130 is midpoint (means SF changes eve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wo 130 to 140 deadband – will only be more stable if ERCOT stabilizes in that b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5840" y="698400"/>
            <a:ext cx="4656240" cy="3492720"/>
          </a:xfrm>
          <a:prstGeom prst="rect">
            <a:avLst/>
          </a:prstGeom>
          <a:ln w="0">
            <a:noFill/>
          </a:ln>
        </p:spPr>
      </p:sp>
      <p:sp>
        <p:nvSpPr>
          <p:cNvPr id="11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t a presentation on the </a:t>
            </a:r>
            <a:r>
              <a:rPr b="1" lang="en-US" sz="800" spc="-1" strike="noStrike">
                <a:solidFill>
                  <a:srgbClr val="000000"/>
                </a:solidFill>
                <a:latin typeface="Arial"/>
              </a:rPr>
              <a:t>LaaR performance</a:t>
            </a:r>
            <a:r>
              <a:rPr b="0" lang="en-US" sz="800" spc="-1" strike="noStrike">
                <a:solidFill>
                  <a:srgbClr val="000000"/>
                </a:solidFill>
                <a:latin typeface="Arial"/>
              </a:rPr>
              <a:t> and had a brief discussion – recognized that ROS and Compliance needed to do its thing – WMS took no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hn Dumas gave presentation on </a:t>
            </a:r>
            <a:r>
              <a:rPr b="1" lang="en-US" sz="800" spc="-1" strike="noStrike">
                <a:solidFill>
                  <a:srgbClr val="000000"/>
                </a:solidFill>
                <a:latin typeface="Arial"/>
              </a:rPr>
              <a:t>Load Forecast</a:t>
            </a:r>
            <a:r>
              <a:rPr b="0" lang="en-US" sz="800" spc="-1" strike="noStrike">
                <a:solidFill>
                  <a:srgbClr val="000000"/>
                </a:solidFill>
                <a:latin typeface="Arial"/>
              </a:rPr>
              <a:t> – punch line being the add one standard deviation to the load – discussion on that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MS asked ERCOT to talk to vendors about Co-Op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cribe your implementation of </a:t>
            </a:r>
            <a:r>
              <a:rPr b="1" lang="en-US" sz="800" spc="-1" strike="noStrike">
                <a:solidFill>
                  <a:srgbClr val="000000"/>
                </a:solidFill>
                <a:latin typeface="Arial"/>
              </a:rPr>
              <a:t>Real-Time Co optimization</a:t>
            </a:r>
            <a:r>
              <a:rPr b="0" lang="en-US" sz="800" spc="-1" strike="noStrike">
                <a:solidFill>
                  <a:srgbClr val="000000"/>
                </a:solidFill>
                <a:latin typeface="Arial"/>
              </a:rPr>
              <a:t> of Energy and Ancillary Service. What are your proposed ideas for this co-optimization being implemented as part of the 5 minute SCED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RCOT market is currently considering an Hour-Ahead co-optimization of Energy and Ancillary Services (excluding Regulation).   How does this fit in with ERCOT’s current market proposal and what is the potential impact to reliability, market rules, costs, and implementation schedu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RCOT market is currently considering a Real-Time co-optimization of Energy and Ancillary Services (excluding Regulation).   How does this fit in with ERCOT’s current market proposal and what is the potential impact to reliability, market rules, costs, and implementation schedu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swer: </a:t>
            </a:r>
            <a:r>
              <a:rPr b="0" lang="en-US" sz="800" spc="-1" strike="noStrike">
                <a:solidFill>
                  <a:srgbClr val="000000"/>
                </a:solidFill>
                <a:latin typeface="Arial"/>
              </a:rPr>
              <a:t> ABB does have forms of real time co-optimization in the NYISO, both a 5 minute SCED and a 2.5 hour real time commitment - in some ways similar to an hour-ahead market.  It is also important to note that there are market structure differences with NYISO and ERCOT which will require modifications to existing software, meaning that this is not a ‘forklift’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has no cost or schedule information to report.  Additional protocol development and discussions with Vendors must take place before estimates can be ma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sues to overcome other than Market software (S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ocols: Scheduling, Settlements, Bid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rcial systems : Settlement systems would be a significant chan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al impact: Although ERCOT currently does not have an opinion until we see more details, there is some operational concer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MS had no questions and confirmation that we had no specific schedule and cost impa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got an update on the </a:t>
            </a:r>
            <a:r>
              <a:rPr b="1" lang="en-US" sz="800" spc="-1" strike="noStrike">
                <a:solidFill>
                  <a:srgbClr val="000000"/>
                </a:solidFill>
                <a:latin typeface="Arial"/>
              </a:rPr>
              <a:t>SB20 work</a:t>
            </a:r>
            <a:r>
              <a:rPr b="0" lang="en-US" sz="800" spc="-1" strike="noStrike">
                <a:solidFill>
                  <a:srgbClr val="000000"/>
                </a:solidFill>
                <a:latin typeface="Arial"/>
              </a:rPr>
              <a:t> being done by transmission planning – promised future reports on how they will manag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71D30-60B3-49B6-9592-30AE9673C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2CC1C-D176-4F25-A7D5-4B9088345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ACB61-DA45-4E5F-BBE7-4D36EA8F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EEB4C-5E2D-495C-B2C1-F20FCA4A9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A55A6-99CC-4CFB-AEA2-C5C3D6AA1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A7E9A-24E0-48AB-86ED-D146FFD27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3611F-D4E4-485B-926A-C65BE424E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FD864-7689-481B-AD65-E81423161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179CF-0B5C-4E7F-8031-F45B186FC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8ECDF-E4E0-4376-822E-3AA45B4D2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BE6A-A6B0-4767-B661-763A98D1B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53DFC-97D8-49B6-B996-DD390FB4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64078-4E0A-4C28-B9CA-7036CEF73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83F52-8884-48AB-AB4E-253828DE3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621FF-EF23-40D2-992E-BDEE4945F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13850-0CEA-46B2-9205-FA313B80A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4D9683-8460-4EF9-B968-73296D2EE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64C75-D234-46FC-9324-109ACD608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4883C-7BE2-4AE4-A175-288B97302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CDAFD-236D-45E2-840D-14A86A43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8AC6E-EC9B-4F96-9824-89FBAF5B9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5E69-CA54-4392-B0EF-C7FADB470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7DBD-3F9F-42C3-AF59-CC2AACE5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8776-43E0-41D7-A27D-6FF84243F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A433-EBC6-4262-9375-48CC5271F5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5380-895E-4ACB-92E2-98A9E022A9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FA5C9FD-453F-45AF-8EA2-3661183E634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ndor Discussions on Co-Optimiz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 ERCOT Staff Present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6D1CFAD-EDD1-463D-A604-5B563ADBBB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graceful recall of Non Spi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L Deadban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BES Ramp Rate Feasibil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w-back provision in RMR contrac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607 – One Minute Rampi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4F96F63-1570-4699-844C-1E74209C38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dated WMS on issues related to Load Participation Docket at the PUC.</a:t>
            </a:r>
            <a:endParaRPr b="0" lang="en-US" sz="4000" spc="-1" strike="noStrike">
              <a:solidFill>
                <a:srgbClr val="ffffff"/>
              </a:solidFill>
              <a:latin typeface="Tahoma"/>
            </a:endParaRPr>
          </a:p>
          <a:p>
            <a:pPr marL="322200" indent="-32220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R removing Sunset provision setting minimum LaaR bid to zero</a:t>
            </a:r>
            <a:endParaRPr b="0" lang="en-US" sz="4000" spc="-1" strike="noStrike">
              <a:solidFill>
                <a:srgbClr val="ffffff"/>
              </a:solidFill>
              <a:latin typeface="Tahoma"/>
            </a:endParaRPr>
          </a:p>
          <a:p>
            <a:pPr marL="322200" indent="-32220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PRR on splitting RRS bid stack</a:t>
            </a:r>
            <a:endParaRPr b="0" lang="en-US" sz="4000" spc="-1" strike="noStrike">
              <a:solidFill>
                <a:srgbClr val="ffffff"/>
              </a:solidFill>
              <a:latin typeface="Tahoma"/>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sldNum" idx="3"/>
          </p:nvPr>
        </p:nvSpPr>
        <p:spPr/>
        <p:txBody>
          <a:bodyPr/>
          <a:p>
            <a:fld id="{3F1F00C1-3DFD-4C8F-86A3-E50566B293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requency Task Force</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E related PRRs wrapped u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C Staff concerns regarding Scaling Facto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EE14AD1-1E01-46D7-B1EF-0D14A9B1F7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requency Task Force</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00"/>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on for WMS to support the following concept presented by Mark Bruce: The scaling factor in the SCE performance charge calculation will be adjusted on a monthly basis tied to the ERCOT CPS1 score. Mark Bruce to file the PRR on an urgent timeline on behalf of the FQTF and WMS to review and vote on the language at the July WMS meeting. </a:t>
            </a:r>
            <a:endParaRPr b="0" lang="en-US" sz="2800" spc="-1" strike="noStrike">
              <a:solidFill>
                <a:srgbClr val="ffffff"/>
              </a:solidFill>
              <a:latin typeface="Tahoma"/>
            </a:endParaRPr>
          </a:p>
          <a:p>
            <a:pPr marL="339480" indent="-339480">
              <a:spcBef>
                <a:spcPts val="700"/>
              </a:spcBef>
              <a:buClr>
                <a:srgbClr val="00ccff"/>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ied by unanimous voice vote.</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E6EDF59-0687-4EB2-843C-25FEA2778A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aR Performance during EEC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ad Forecasting proces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ndor input on Co-Optimiz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mission Planning impacts from SB20</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5E5914E-C985-4FD6-ADB5-A5CC31A2D4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bgroups of WM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d Cycle RPRS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timization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ion Adequacy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Frequency Control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gestion Management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and-Side Response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ering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ed Scheduling Entity Managers Working Grou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EA7B1D5-61B0-46E2-92F1-4BCB1CC77533}"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6-28T21:14:27Z</dcterms:modified>
  <cp:revision>43</cp:revision>
  <dc:subject/>
  <dc:title>WMS Report TO TAC</dc:title>
</cp:coreProperties>
</file>