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DC90-6271-40ED-9F20-DFFA0168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13D6-9C4D-4320-9004-37CEE418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0CCB-FB07-4FD6-8B40-2093AB68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1A29-A40F-438A-943B-CDBA1780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B0D1-487C-40A6-AB77-DB5D2FC4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9567-AEBA-4184-80E3-CC2A6E79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2C9A-D684-4583-8C08-B3D6807E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BCC7-DB7A-45D0-8E26-87CB2C2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7AB9-5153-458D-B1AC-000E42C0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1B91-137A-4BD0-AD05-347DB3F2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D85F-33D8-4635-94BB-9D160E0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8ED2-22EC-4B84-96DC-C12A37D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1F6F-F9C8-46B8-AF20-A41F20CB6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3990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l-time Co-optimiz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MS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randon Whitt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ead, Real-time Market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9 July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ission Ord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ket No. 315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Order 5 April, 2006 Ordering Paragraph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and the electric-market stakeholders shall determine whether co-optimization is feasible and beneficial to implement in the wholesale market as approved by this Order.  Any modifications to the protocols required to implement co-optimization shall be brought to the Commission for final approv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9 July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MS Involv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as asked to question potential vendors about costs and schedule impac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o-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-ahead co-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fic cost or schedule impact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Real-time and Hour-ahead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s to protocols and system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May and June WMS fo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9 July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preparing a formal evaluation of the co-optimization methods, costs, and potential schedule impacts to the Texas Nodal Program with the assistance of our MMS Phase I Vend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 is Vendor for Phase I of MM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– Requirements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– Construction a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Kick-Off for ABB involvement 19 Jul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lans to share the evaluation with WMS when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lans to file this evaluation with the PUCT in response to the Final Order in Docket No. 3154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9 July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ditional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9 July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randon T. Whittle</cp:lastModifiedBy>
  <dcterms:modified xsi:type="dcterms:W3CDTF">2006-07-19T18:08:13Z</dcterms:modified>
  <cp:revision>19</cp:revision>
  <dc:subject/>
  <dc:title>Instructions</dc:title>
</cp:coreProperties>
</file>