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54600" y="-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748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54600" y="8748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914BF24-E47A-4A4F-915D-42EB5E6C6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9080" y="690480"/>
            <a:ext cx="4605120" cy="345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vin reported on the PR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 Factor in  PRR 661 set to 1.  Performance dependent where SF moves tenth of a point per point in inverse direction to ERCOT’s CPS1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ptions in the 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one 130 is midpoint (means SF changes every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two 130 to 140 deadband – will only be more stable if ERCOT stabilizes in that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6EA0-BF7A-4FE8-819E-F23D3724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D7DF-A9C3-46BD-8E33-73FEF1CE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5C49-D1FD-4863-83EA-8294D268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BEC5-5195-47BF-AC07-0403F727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9A40-CDC7-48F2-8A9A-23EF6E74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C33F-FF9D-498F-B9EC-EC5F669A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C837-0CF0-4A03-8BE6-94ECAB50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CA84-CC46-4ACF-9386-6D77C1F8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9114-F2FF-4929-9126-E7EA6C8D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12F4-7297-4E8C-8374-2D8B4209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9AAF-B401-44A1-BE76-69F214F4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086F-21EF-470B-A38B-9D40E80C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7EC0-BD40-40FD-9A89-C4657DFD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201C-D219-47FA-82C0-C685AE3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C257-3709-486D-93A6-C84F7642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67C2-0A13-4342-B93D-21487B23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BBF9-F6E1-417E-BFB2-1455D764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7FCA-7FB3-4BD6-8BEA-7B2DD277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518A-8B90-45AE-A11E-A7AC410F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BD13-5B35-44D0-B4AE-EBBF26C2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DFC5-1848-4DD7-9973-7E4FC5F9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8597-7D52-4805-BD72-2AFA804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03F0-1A58-4D98-AF08-CA0AE675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D1E8-6CBE-4B34-8B5A-2456858C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A23D-6FB1-4A9E-9A2B-27910669F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54A-0A19-451B-8134-D3F938689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MWG updat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1936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 July,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CR Calculation Impa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:  TCR training for TO personne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  Presented at Outage Scheduler meeting in August 200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7 CSC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of issues related to the calculation of TC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007 CSC Analys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 on June 28 to discuss 2007 CS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taff provided 15 cluster analysis scenarios and bus comparisons under a 5 zone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 requested additional analysis for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South to Houston double circui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to T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meeting:  July 28; 9:00 am to 12 no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CR Calculation Impa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:  Increase visibility of TCR revenue adequa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Acti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TCR quarterly reports posted – MPs need to provide comments on cont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: Improve outage impact determin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  Outage Sensitivity Factor Project (PR-30056-01) pending; this tool allows for a quicker review of specific outage imp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CR Calculation Impa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:  Determine methodology for outage significant impa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Acti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Currently outages lasting 5 days or more are considered to have an impact; need to review impact of multiple outages lasting less than 5 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: Review differences in load distribution between TCR case vs. daily operation c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  Additional analysis not required at this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CR Calculation Impa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:  Inclusion of generator outages in TCR c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Acti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Generator outages are protected information for 180 days.  TCR posting requirement is for TCR quantities only.  PRR needed to allow generator outages inclusion in Section 7.5.2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 implementation no sooner than 2007 annual a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 about whether generation outages should be included for Annual auction or only in month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CR Calculation Impa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sue: Use of Dynamic &amp; Seasonal Ratings for TCR calcul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ution:  Leads to TCR underselling, no additional analysis is required at this ti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sue:  Comparison of STNET vs MU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ution: Leads to TCR underselling, no additional analysis is required at this ti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CR Calculation Impa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sue: IDEF vs. Service Request submitta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ution:  Revised TPIT requests to include SR numb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sue:  40% annual TCR limi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Activit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 ERCOT analyzing historical tr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CR Calculation Impa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:  Improve accuracy of 45-day outage li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  ERCOT emails TOs to update outage list prior to TCR calc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sue: Review possible delays in outage post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  There is no delay in outage postings, therefore no action requ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21:13:43Z</dcterms:created>
  <dc:creator>ercot/if</dc:creator>
  <dc:description/>
  <dc:language>en-US</dc:language>
  <cp:lastModifiedBy>ercot/if</cp:lastModifiedBy>
  <dcterms:modified xsi:type="dcterms:W3CDTF">2006-07-17T18:22:13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