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204-A8DB-471C-9A2B-4E5AA974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DD3-F587-48DD-9C5D-7CF2A299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89C-927C-41B0-830D-CC41FEAC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657-73EC-4292-A7FD-B070A8B7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672-B36D-4143-8946-35ED57C4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E73-C138-43BE-B5BD-F0086CB8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2F2-5580-422D-8420-EE2C5950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E47-A430-4507-B82B-ED8822A4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1A9-9248-4619-8DA5-DAEB2DCF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85B-B081-4035-A967-37BF9823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BC5-988E-452F-BCDD-3A224D01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D9E-6993-4880-AA34-90E63F6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BD0A-E906-4B23-8C53-E411DA2D3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TF Update to WM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uly 19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676520"/>
          <a:ext cx="7772400" cy="4098960"/>
        </p:xfrm>
        <a:graphic>
          <a:graphicData uri="http://schemas.openxmlformats.org/drawingml/2006/table">
            <a:tbl>
              <a:tblPr/>
              <a:tblGrid>
                <a:gridCol w="1828800"/>
                <a:gridCol w="59436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-Examin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DR 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(not this ye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balled 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able 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ting of Generation &amp; Load (Private Network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 Ties (50% assump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ired 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Response Programs (pending PUCT 328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 by Zone (more detail in CD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CEQ Air Permits Discus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well does an air permit indicate new capac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 good for three yea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75k permit fee; similar $ for preparation &amp; model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SR permit is the critical path i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 process for a new power plant is likely to take 6-12 months; could be longe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EQ’s experience suggests 2010 for new coal capac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coal permits issued (1550 MW), 11 in review (9700 MW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7% of gas projects permitted have probably been buil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rtunities for information sharing with ERCO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s are on ercot.com for GATF of July 14, 2006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8:57:47Z</dcterms:created>
  <dc:creator>Malcolm Smith</dc:creator>
  <dc:description/>
  <dc:language>en-US</dc:language>
  <cp:lastModifiedBy>Malcolm Smith</cp:lastModifiedBy>
  <dcterms:modified xsi:type="dcterms:W3CDTF">2006-07-17T19:27:32Z</dcterms:modified>
  <cp:revision>3</cp:revision>
  <dc:subject/>
  <dc:title>GATF Update to WMS   July 19, 2006</dc:title>
</cp:coreProperties>
</file>