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8ECA-391F-4297-80EF-88BA2C04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4CE7-38F2-4273-BC38-57B84DB3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D161-0C68-457E-9FA9-C628FDC7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6E2C-6BE8-4621-9415-658D6834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5724-D3EE-44F0-A84E-3DD282A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0F7C-9D9A-4EF4-B63B-A5F7311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7163-F09F-452B-9182-6F1D2B5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8AD1-BFFD-4818-AB35-0FA3668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0A01-F5F2-4D3F-9442-6C48942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9E44-0173-49FA-8A5F-6EE9804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5487-E19D-4E9E-BA71-D48F430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7A16-6ADC-4FBB-9085-6DD5C95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578-E1D7-40D1-9A39-9BA0517B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791320" y="64771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19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520" y="5562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19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18284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5 Minutes Ramping for Energy Schedules and Balancing Energy Services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ng Li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, Market Operations Sup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4825F3-54FC-4EDB-950A-4C751EFC90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601-15 minute ramping for schedule and balancing energy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rease the depth of available balancing energy bid stack;</a:t>
            </a:r>
            <a:endParaRPr b="1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tentially reduce regulation deployment.</a:t>
            </a:r>
            <a:endParaRPr b="1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FA5C-120B-4C82-8D31-9316DDDA6F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7504D1-307B-4C0C-A5C3-CFD2AF893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Minutes Ramping Exampl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990720"/>
          <a:ext cx="7896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896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07E4-9F86-4E02-BFFE-1EFEC1D1A21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7A1B7-9B7A-44B1-A064-663643D08F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Minutes Ramping Exampl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990720"/>
          <a:ext cx="7896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896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9298-9A26-4113-9F1A-3D5A88A0DFB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5B84C-11B6-425E-862B-8FF5024DA9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Time BES proces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1905120"/>
            <a:ext cx="7695720" cy="1828440"/>
            <a:chOff x="838080" y="1905120"/>
            <a:chExt cx="7695720" cy="1828440"/>
          </a:xfrm>
        </p:grpSpPr>
        <p:pic>
          <p:nvPicPr>
            <p:cNvPr id="103" name="j0292020" descr=""/>
            <p:cNvPicPr/>
            <p:nvPr/>
          </p:nvPicPr>
          <p:blipFill>
            <a:blip r:embed="rId1"/>
            <a:stretch/>
          </p:blipFill>
          <p:spPr>
            <a:xfrm>
              <a:off x="838080" y="1905120"/>
              <a:ext cx="1684080" cy="18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MCj04041590000[1]" descr=""/>
            <p:cNvPicPr/>
            <p:nvPr/>
          </p:nvPicPr>
          <p:blipFill>
            <a:blip r:embed="rId2"/>
            <a:stretch/>
          </p:blipFill>
          <p:spPr>
            <a:xfrm>
              <a:off x="6732720" y="2163240"/>
              <a:ext cx="180108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785760" y="2343240"/>
              <a:ext cx="1403280" cy="128124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C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040" y="2824200"/>
              <a:ext cx="154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189040" y="3304440"/>
              <a:ext cx="154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21800" y="303480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2280" y="42667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MD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RTBES 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08B8-273A-4D19-ABCA-C873A7EBDE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048DC5-B6D5-4E9B-9306-F7451EA9A5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Time Market Timelin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4628-871A-4945-A00E-E174684E80D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C031F-8BA1-44E8-944E-BFC7C106CE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MS Inputs on Protocol Section 6.5.2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inputs on boxed Protocol Section 6.5.2: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ed Protocol language: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RCOT will calculate the constant ramp rate for the P1 deployment a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[P1-P0]/10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this be?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COT will calculate the constant ramp rate for the P1 deployment a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[P1-P0]/1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2E7E-7A20-4CBB-BE45-C80D0E792A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9D423C-D9EF-4656-9CBA-CCD2B1C4BB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Young Li</dc:creator>
  <dc:description/>
  <dc:language>en-US</dc:language>
  <cp:lastModifiedBy>yli</cp:lastModifiedBy>
  <dcterms:modified xsi:type="dcterms:W3CDTF">2006-07-18T18:07:12Z</dcterms:modified>
  <cp:revision>124</cp:revision>
  <dc:subject/>
  <dc:title>Instructions</dc:title>
</cp:coreProperties>
</file>