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5AEDD-DD19-42B0-9EE5-05F816599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6795F-1C2C-4236-AEA6-E9AAEDD6E7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F40A3-3A46-434F-9B70-FFA5208138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402F3-CE20-4813-896C-52C38C7658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BBAD3-FE06-4CAD-B9EE-E6BAC4BC04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33BD5-8F95-40C7-AF0F-FBB77D12C2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7622E-21C0-4A39-A1C6-1363773D3B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8B2B3-24C9-44A0-A36E-CAA5D45FE9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B0CB2-6C30-42CD-8974-69433D8110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3CB2D-6F26-4D5E-B3F0-6AB400730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EF328-3692-4E70-BD07-9FFE2FFCAF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493D2-9517-4379-B183-C8C4AA5F6F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90F9-1358-4AAD-A7EB-31F97780C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208476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MO Update to P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20640" y="304812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y And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Management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ly 20, 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roject Prioritization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07 Project Prioritization Approved By TAC !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3880" y="2209680"/>
          <a:ext cx="6629400" cy="3764160"/>
        </p:xfrm>
        <a:graphic>
          <a:graphicData uri="http://schemas.openxmlformats.org/drawingml/2006/table">
            <a:tbl>
              <a:tblPr/>
              <a:tblGrid>
                <a:gridCol w="1904760"/>
                <a:gridCol w="2210040"/>
                <a:gridCol w="251460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gram 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d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5,7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16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2,05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7,659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4,90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 36,37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1ADA6-6968-45E9-A1C1-70C5B34FF1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Project Estimate R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2193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osed Project Estimate Rang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828800" y="2057400"/>
          <a:ext cx="5283360" cy="380988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$1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$5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0k-$1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0k-$5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0k-$25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0k-$50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00k-$1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00k-$1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M-$3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M-$2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M-$3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M-$5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M-$5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gt;$5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gt;$5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51C94-84B7-4596-91AF-3BAD8F713B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676520" y="5076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Monthly Project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295280"/>
            <a:ext cx="86868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400480"/>
                <a:tab algn="l" pos="400068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Iss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Improved understanding of ERCOT projects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2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400480"/>
                <a:tab algn="l" pos="400068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400480"/>
                <a:tab algn="l" pos="400068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Monthly PRS agenda item for a brief overview from one of the five ERCOT Program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400480"/>
                <a:tab algn="l" pos="400068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400480"/>
                <a:tab algn="l" pos="400068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chedu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400480"/>
                <a:tab algn="l" pos="400068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Program Area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400480"/>
                <a:tab algn="l" pos="400068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nu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T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400480"/>
                <a:tab algn="l" pos="400068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bruary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ystem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400480"/>
                <a:tab algn="l" pos="400068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ch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ail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400480"/>
                <a:tab algn="l" pos="400068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ri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400480"/>
                <a:tab algn="l" pos="400068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rket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400480"/>
                <a:tab algn="l" pos="400068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u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T Oper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400480"/>
                <a:tab algn="l" pos="400068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July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400480"/>
                <a:tab algn="l" pos="400068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gu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rporate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3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400480"/>
                <a:tab algn="l" pos="4000680"/>
                <a:tab algn="l" pos="669276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F29C6-AE97-489C-A9B9-09ABCE7885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tanderson</cp:lastModifiedBy>
  <dcterms:modified xsi:type="dcterms:W3CDTF">2006-07-12T19:45:44Z</dcterms:modified>
  <cp:revision>161</cp:revision>
  <dc:subject/>
  <dc:title>Slide 1</dc:title>
</cp:coreProperties>
</file>