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4AC8-EE72-433C-8C72-FD8D12799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Settlement System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cery Store Receipt Ana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9B22-0A09-4911-AD1B-CA4404B1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B0A-E666-4197-879B-CA0EDD37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B6A-0AAD-4022-8CE9-E1E4B4C7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FEC-261A-4516-ACC6-EC5A438E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9618-9A86-46DD-A204-A2365FBA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26E7-FC60-4538-9565-7EC9885D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171E-54F7-4CF3-995A-E2CDE10D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F551-083C-4A3D-BD65-43A556A9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9F49-B726-41EE-B228-CA3AE252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8CCD-00D0-44D0-9A1C-DCF48CC1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1207-C61D-43D9-AB83-2F74A3AE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EB2-D9EF-459B-BDB8-311B77D9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C2E9-9DD5-46A3-B4FC-0126F186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FB64-90EE-4C3B-BFCA-A0F3BEA5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B74C-C4C1-4E89-8772-D9CD3F53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BC45-3DAA-474C-BC40-EEB920F1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5910-8138-4054-9528-F33503C2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109-9843-4988-9A18-B0A696E0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9590-4AE9-4C33-A86F-0421A274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9D0E-4779-4D7C-99A2-D9752A3A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492-9635-4505-A9C6-3E34394B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C06-5D20-4706-A16E-8D7D4895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2CF-8766-4FC8-99F9-1CB87989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E2C-D035-4940-B4E5-ACE4B3D3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38560" y="685800"/>
            <a:ext cx="4114800" cy="31240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2425680" y="0"/>
            <a:ext cx="309384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D47F-0C19-4CCE-87A7-8C462616D1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4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9A85-D69D-48E5-BDFC-C2B17EFDAA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4876920"/>
            <a:ext cx="8839440" cy="19573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1430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 Delta Calculations and Statement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Objective: Describe the recommended design of nodal settlement delta calculations and statement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198360"/>
            <a:ext cx="7086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odal Protocol Nee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creased number of charge and payment types to pro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5 to 80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More da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0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wer granularity of settlement outpu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tlement Points, RUC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More da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0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creased use of interim calcul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More da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0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statements and invoi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______________________________________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=  Differing Architectural Needs for Nodal Settlement and Billing Syst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s System Design Proposa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mplify data requirements while still giving the Market what they need – we need to be lean and effici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o PRICE and QTY cu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puts and Outputs specified in Nodal Protoco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o BILLQTY delta cu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ntity cuts do not exist in Nodal Protocols so we will not create them nor the corresponding delta c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BILLAMT delta cut NOT at interval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LLAMT calculated at Trade Date summary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Zero AMT output saved at Trade Date summary level unless non-zero values sum to zer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zero amount interval data when every interval is z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ments will not repeat previous settlement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ments roll up charges/payments to statement recipient level (even if charges/payments are at SPP or Resource Node level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l Input and Output data available in extrac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s System Example 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6095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First Settlement Ru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rmula: D_AMT = (A + B) * 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A = 5,4,6,5,4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B = 0,0,0,0,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C = 2,2,2,2,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utput Interval Cut D_AMT = 10,8,12,10,8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tal = 48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utput D_BILLAMT = 48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3505320"/>
            <a:ext cx="44956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2100" spc="-1" strike="noStrike" u="sng" baseline="30000">
                <a:solidFill>
                  <a:srgbClr val="000000"/>
                </a:solidFill>
                <a:uFillTx/>
                <a:latin typeface="Verdana"/>
              </a:rPr>
              <a:t>st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val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_AM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_AMT Total = 4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_BILLAMT = 4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s System Example 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6248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Second Settlement Ru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rmula: D_AMT = (A + B) * 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A = 5,4,6,5,4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B = 1,1,1,1,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C = 2,2,2,2,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utput Interval Cut D_AMT = 12,10,14,12,1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tal = 58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utput D_BILLAMT = 1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3505320"/>
            <a:ext cx="44956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0" lang="en-US" sz="2100" spc="-1" strike="noStrike" u="sng" baseline="30000">
                <a:solidFill>
                  <a:srgbClr val="000000"/>
                </a:solidFill>
                <a:uFillTx/>
                <a:latin typeface="Verdana"/>
              </a:rPr>
              <a:t>nd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val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_AM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_AMT Total = 5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_BILLAMT = 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s System Example 1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6248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Third Settlement Ru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rmula: D_AMT = (A + B) * 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A = 5,4,6,5,4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B = 1,1,1,1,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C = 2,2,2,2,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utput Interval Cut D_AMT = 12,10,14,12,1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tal = 58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utput D_BILLAMT = 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3505320"/>
            <a:ext cx="44956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3</a:t>
            </a:r>
            <a:r>
              <a:rPr b="0" lang="en-US" sz="2100" spc="-1" strike="noStrike" u="sng" baseline="30000">
                <a:solidFill>
                  <a:srgbClr val="000000"/>
                </a:solidFill>
                <a:uFillTx/>
                <a:latin typeface="Verdana"/>
              </a:rPr>
              <a:t>rd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_AMT Total = 5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_BILLAMT = 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s System Example 2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6095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First Settlement Ru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rmula: D_AMT = (A + B) * 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A = 5,4,6,5,4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B = 1,1,1,1,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C = 0,0,0,0,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utput D_AMT = 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utput D_BILLAMT = 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505320"/>
            <a:ext cx="44956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2100" spc="-1" strike="noStrike" u="sng" baseline="30000">
                <a:solidFill>
                  <a:srgbClr val="000000"/>
                </a:solidFill>
                <a:uFillTx/>
                <a:latin typeface="Verdana"/>
              </a:rPr>
              <a:t>st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_AMT Total = 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_BILLAMT = 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s System Example 2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6248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Second Settlement Ru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rmula: D_AMT = (A + B) * 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A = 5,4,6,5,4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B = 1,1,1,1,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C = 1,1,1,1,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utput Interval Cut D_AMT = 6,5,7,6,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tal = 29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utput D_BILLAMT = 29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505320"/>
            <a:ext cx="44956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0" lang="en-US" sz="2100" spc="-1" strike="noStrike" u="sng" baseline="30000">
                <a:solidFill>
                  <a:srgbClr val="000000"/>
                </a:solidFill>
                <a:uFillTx/>
                <a:latin typeface="Verdana"/>
              </a:rPr>
              <a:t>nd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val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_AM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_AMT Total = 2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_BILLAMT = 2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s System Example 3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6248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First Settlement Ru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rmula: D_AMT = (A + B) * 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A = 5,4,6,5,4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B = 1,1,1,1,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put Interval Cut C = 0,1,0,0,-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utput Interval Cut D_AMT = 0,5,0,0,-5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tal = 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utput D_BILLAMT = 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505320"/>
            <a:ext cx="44956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2100" spc="-1" strike="noStrike" u="sng" baseline="30000">
                <a:solidFill>
                  <a:srgbClr val="000000"/>
                </a:solidFill>
                <a:uFillTx/>
                <a:latin typeface="Verdana"/>
              </a:rPr>
              <a:t>st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val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_AM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_AMT Total = 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_BILLAMT = 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Protocol Complianc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2.1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Settlement Statement Process for the DA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COT shall produce daily Settlement Statements for the Day-Ahead Market (DAM), as defined in Section 9.2.2, Settlement Statements for the DAM, that show a breakdown of financial obligations between ERCOT and a Market Participant incurred in the DAM, including any administrative and miscellaneous charges applicable to the DAM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2.2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 Settlement Statements for the DAM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7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ttlement Statements for the DAM must break fees down by Charge Types into the appropriate one-hour Settlement Interval for that typ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2.3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DAM Settlement Charge Typ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COT shall provide, on each Settlement Statement, the dollar amount for each DAM Settlement charge and paymen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2.5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DAM Resettlement State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3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 DAM Resettlement Statement must reflect differences to financial records generated on the previous Settlement Statement for the given DAM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1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Settlement Statement Process for the Real-Time Market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COT shall produce daily Settlement Statements for the Real-Time Market (RTM), as defined in Section 9.5.2, Settlement Statements for the RTM, that show a breakdown of Charge Types incurred in the RTM, including any administrative and miscellaneous charges applicable to the RTM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2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Settlement Statements for the RT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8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 Settlement Statement for the RTM must break the fees down by Charge Type into the appropriate 15-minute or one-hour Settlement Interval for that typ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3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Real-Time Market Settlement Charge Typ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COT shall provide, on each RTM Settlement Statement, the dollar amount for each RTM Settlement charge and paymen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5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RTM Final State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2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n RTM Final Statement will reflect differences to financial records generated on the previous Settlement Statement for the given Operating Da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6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RTM Resettlement State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6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n RTM Resettlement Statement will reflect differences to financial records generated on the previous Settlement Statement for the given Operating Day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8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RTM True-Up State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3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n RTM True-Up Statement will reflect differences to financial records generated on the previous Settlement Statement for the given Operating Day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at is the problem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onal Settlement System produces excessive interval data of questionable value to ERCOT and Market Participa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Zero Data Statistics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(Production Lodestar Database as of 4/26/05)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76520"/>
          <a:ext cx="8534520" cy="4572000"/>
        </p:xfrm>
        <a:graphic>
          <a:graphicData uri="http://schemas.openxmlformats.org/drawingml/2006/table">
            <a:tbl>
              <a:tblPr/>
              <a:tblGrid>
                <a:gridCol w="838080"/>
                <a:gridCol w="1295640"/>
                <a:gridCol w="1295280"/>
                <a:gridCol w="1219320"/>
                <a:gridCol w="1143000"/>
                <a:gridCol w="914400"/>
                <a:gridCol w="914400"/>
                <a:gridCol w="914400"/>
              </a:tblGrid>
              <a:tr h="118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Data-base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Total Row Cou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ZC Row Cou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Total Disk Sp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Total ZC Disk Sp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% Row Cou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% Disk Spa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Byte / Ro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ERO-CHA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,000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,000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 G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6 G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9966"/>
                          </a:solidFill>
                          <a:latin typeface="Verdana"/>
                        </a:rPr>
                        <a:t>10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9966"/>
                          </a:solidFill>
                          <a:latin typeface="Verdana"/>
                        </a:rPr>
                        <a:t>10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9966"/>
                          </a:solidFill>
                          <a:latin typeface="Verdana"/>
                        </a:rPr>
                        <a:t>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S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8,500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0,600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4 G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146 G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8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9966"/>
                          </a:solidFill>
                          <a:latin typeface="Verdana"/>
                        </a:rPr>
                        <a:t>56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S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8,500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0,600,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0 G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54 G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8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6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9966"/>
                          </a:solidFill>
                          <a:latin typeface="Verdana"/>
                        </a:rPr>
                        <a:t>9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5800" y="1185840"/>
          <a:ext cx="8229600" cy="5367240"/>
        </p:xfrm>
        <a:graphic>
          <a:graphicData uri="http://schemas.openxmlformats.org/drawingml/2006/table">
            <a:tbl>
              <a:tblPr/>
              <a:tblGrid>
                <a:gridCol w="2286000"/>
                <a:gridCol w="1828800"/>
                <a:gridCol w="2057400"/>
                <a:gridCol w="20574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CM Zon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CM Zon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 CM Zon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Run Tim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Mi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20 Hour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1 Hour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ero Charge Database Record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,79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3,03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7,42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action Database Record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val Database Record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3,76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4Mill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7.9Millio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685800" y="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Zonal Settlements System Architecture Stress Tes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urrent Settlements System Characteristic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ways produce 5 output interval cuts regardless of val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ICE, QUANTITY, AMOUNT, BILLAMT, BILLQ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ce PRICE X QUANTITY form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ltas (BILLQTY, BILLAMT) calculated at interval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ero data calculated at interval level and calculated for del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atements repeat previous settlement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egulation Up Service Charge - LARU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RUAMT = (PCRUAMTew + PCOOMRUAMTew) / (RULRSOBew – RUSAQew) * (RULRSOBqse – RUSAQqs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RUPRICE = (PCRUAMTew + PCOOMRUAMTew) / (RULRSOBew – RUSAQew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RUQTY = (RULRSOBqse – RUSAQqs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RUAMT = LARUPRICE * LARUQ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RUBILLQTY = Current LARUQTY – Previous LARUQ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RUBILLAMT = Current LARUAMT – Previous LARUAM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urrent Settlements System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First Settlement Ru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mula: D_AMT = (A + B) * 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put Interval Cut A = 5,4,6,5,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put Interval Cut B = 0,0,0,0,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put Interval Cut C = 2,2,2,2,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ced PRICE*QTY -&gt; D_QTY = A + B, D_PRICE = 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tput Interval Cut D_QTY = 5,4,6,5,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tput Interval Cut D_PRICE = 2,2,2,2,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tput Interval Cut D_AMT = 10,8,12,10,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tal = 4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tput Interval Cut D_BILLQTY = 5,4,6,5,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tput Interval Cut D_BILLAMT = 10,8,12,10,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tal = 4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urrent Settlements System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Second Settlement Ru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mula for D_AMT = (A + B) * 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put Interval Cut A = 5,4,6,5,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put Interval Cut B = </a:t>
            </a:r>
            <a:r>
              <a:rPr b="0" lang="en-US" sz="2100" spc="-1" strike="noStrike">
                <a:solidFill>
                  <a:srgbClr val="ff0000"/>
                </a:solidFill>
                <a:latin typeface="Verdana"/>
              </a:rPr>
              <a:t>1,1,1,1,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put Interval Cut C = 2,2,2,2,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ced PRICE*QTY -&gt; D_QTY = A + B, D_PRICE = 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tput Interval Cut D_QTY = 6,5,7,6,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tput Interval Cut D_PRICE = 2,2,2,2,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tput Interval Cut D_AMT = 12,10,14,12,1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tal = 5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tput Interval Cut D_BILLQTY = 1,1,1,1,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tput Interval Cut D_BILLAMT = 2,2,2,2,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tal = 1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urrent Settlements System Inefficienci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put interval cuts are restated as PRICE and QTY cu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ltas (BILLQTY, BILLAMT) calculated at interval level (15min, hourly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cessive interval da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ero data calculated at interval level and calculated for del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igh zero data overhead, excessive interval da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barnes</cp:lastModifiedBy>
  <dcterms:modified xsi:type="dcterms:W3CDTF">2006-06-19T14:25:46Z</dcterms:modified>
  <cp:revision>2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