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1CAF-78DF-4A62-A3B6-8A795DAE8A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84E0-1ACA-47B6-8F03-72D84A3A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E970-1650-482E-976B-855A4DB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90A6-C306-4A62-A23A-67ED4CAB94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FB44-A805-4464-8D0A-C7D4B0C1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14F6-091D-45FA-B5A3-4C38DEB9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418D-9B59-4253-A191-B7409098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1466-55DE-4058-AAC2-09A58BFE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C48C-D797-44F6-B2A2-E9684176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801E-94DF-44E3-83BC-368B9D13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96A0-EEF2-4CA5-83CF-F7E7C77D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0648-9A7A-4DB4-AE11-CF93277E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432B-C59C-42EB-B0EC-B39DB0E1F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une 27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5A93-D6F2-47D4-890D-CC5C4AFDBA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Residential Mig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ERCOT Residential Regress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4120" y="2723760"/>
            <a:ext cx="845496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 AV estimated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67,813 Total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8% of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ed future year to year Mig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0,476 over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%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,753 non-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% non-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629B-EBF5-4065-A4DE-0706D8E36F5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021360" cy="490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96080" y="4191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7% 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1F39-E0B2-4CDF-A93B-95893B02378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2943360"/>
            <a:ext cx="8134200" cy="1411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121932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WG request CO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 TAC approval of the following LPGR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2C85-BB25-4AD9-AC5C-B51183B4A48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21932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sons to support 013LPG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Validation Business Timeline Adjus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2286000"/>
            <a:ext cx="83059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the AV Period closer to the effective date of the profile ID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s the Business 814_20 transactions dates from the Residential to reduce demand on transaction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the possibility of an additional change to the calculation of the profile type for the Business Load Factor profiles being evaluated by ERCOT and the PW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s in AV 2006 stabilization of profile id assignment migrations prior to new profile model calibrations and prior to final round 2 load research sample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007D-E2B8-4774-9798-CF67E47D939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2800" cy="51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52796-552E-4F36-9E63-F0751778141A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51880" cy="518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1A3C-C06F-49C6-9642-224AE656A398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219320"/>
            <a:ext cx="8305920" cy="40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 on 013LPG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Validation Business Timeline Adjus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PS recommend to the TAC approval of 013LPG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A9D4-259B-4CF0-AA4C-474E93407E62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21932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sons to support 014LPG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le Decision Tree Modification and Approv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0"/>
            <a:ext cx="8305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the governance of the Profile Decision Tree for profile id assignment calculations to the same governance of the Load Profiling Gu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requested by C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E1590-3AC1-4422-BF80-14D80FDB39A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219320"/>
            <a:ext cx="8305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 on 014LPG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le Decision Tree Modification and Approval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PS recommend to the TAC approval of 014LPG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8711-0865-4F9F-A0C2-D21954EFEE10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21932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sons to support 015LPG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le Model Evaluations and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28600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s the original Load Profiling Guide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rages lessons learned from the Load Research Project and ERCOT Staff analysis to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A9DC-1EE1-4267-A6B5-4FD5BCE4C11B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45820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3EF3-C603-45E1-B4C8-8C876F53402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219320"/>
            <a:ext cx="83059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 on 015LPG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le Model Evaluations and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PS recommend to the TAC approval of 015LPG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52611-75EA-4F26-A8BC-13B0F40D51B7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21932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sons to support 012LPG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 for Load Profiling Guide Rev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28600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s the original Load Profiling Guide change proced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the LPG change procedures consistent with ERCOT Market Rules change procedures of other ERCOT Guid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838A-C3FC-4F27-A1E0-4B2B48D55AAC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219320"/>
            <a:ext cx="83059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 on 012LPG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 for Load Profiling Guide Re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PS recommend to the TAC approval of 012LPG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601D-E7D3-414F-91BB-ECEAA379B6F9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828800"/>
            <a:ext cx="85341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ing Profile Evaluation and New Profile Recommend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ettlement trade day transition to new profiles shall be of 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ntative timeline has been revised, see later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PGRR draft for Section 8 submitted by PWG on 5/24/06 and shall be requested to be on the June COPS meeting for approval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sample selection round tw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ccuracy criteria discuss for sample design moved to PWG June Age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umber of additional meters pending accuracy and allocation cri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A2C98-1C12-4FF4-9ED0-AD4F309B137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828800"/>
            <a:ext cx="85341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new profile requests – Oil &amp;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COT Recommendation in favor of a flat prof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to poll for consensus on the June 28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How to implement may be significant issue if profile appr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zing Annual Validation Migration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agrees to Profile Decision Tree with new residential algorithm; ERCOT Notice sent on June 8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to review Business load factor profile assignment calculation changes at June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New Decision Tree with load factor profile assignment changes to be reviewed at June PWG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PGRR submitted on 5/24/06 by PWG to alter Business segment timeline and shall be requested to be on the June COPS meeting for appr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hall update the default assignments by weather zone at a later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E8631-4CC9-4895-8911-01179767FDA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828800"/>
            <a:ext cx="8534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into the LPG the Decision Tree language where possi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.     LPGRR submitted by PWG on 5/24/06 shall be requested to be on the June COPS meeting for appr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048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7465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PGRR012, Process for Load Profiling Guide Revisions, submitted on 5/2/06 shall be requested to be on the June COPS meeting for appr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eting Procedures for PWG is being developed and pending re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3196-36E0-4EF2-81D9-B7A396EE241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219320"/>
            <a:ext cx="8305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pdate 5/25/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228160" cy="357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B50F-2DA5-49A4-8967-3E1FEC844D4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828800"/>
            <a:ext cx="8305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WG review of Revised Profile Decisio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lecting changes for Annual Validation 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le ID assignment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Residential Seg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ERCOT Residential Regress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tabilize assignment mig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providing more accurate profile ID ass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5E67-CFD9-427C-A76E-7C9F992B625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23888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2E1B-AB95-44AF-9578-FB92608FC206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339920"/>
            <a:ext cx="6629400" cy="513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A488-AB12-4A6B-94B9-8F445E6E1B3E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7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Windows XP ver. 2.2</cp:lastModifiedBy>
  <dcterms:modified xsi:type="dcterms:W3CDTF">2006-06-19T16:38:42Z</dcterms:modified>
  <cp:revision>181</cp:revision>
  <dc:subject/>
  <dc:title>PowerPoint Presentation</dc:title>
</cp:coreProperties>
</file>