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9F02-8B92-489B-8A76-8F39381D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9FE-2DA6-4F68-8738-91F2C9A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63A-C356-4ECD-89AD-E0ACA829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59A-E7F1-4274-9C31-620D4223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C42-1D52-4051-95D7-2F3E7BE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FD2-C27E-4153-B319-7399D25D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549-F40E-433D-880D-65E72386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7FE-15CE-4BC0-8885-4A415D9F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26D-0A9A-4EE4-B9CE-6EF97C84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3D2-23DF-4856-9120-6DD784A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389-D3F9-486A-A852-0AF8967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127-EAF5-4DE9-9EA6-BBA54B4F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E401-2505-4D28-BE2E-DBCBD683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5/29/2006 Initial Settlement Rerun Upd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295-7C53-4654-A54F-D46EB7A4D7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5/29/06 Initial ran on 6/6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match Inter-QSE Schedule calculations in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ally imported MSR and MSD output for 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Lodestar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t cause analysis on-go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to correct Lodestar source after root cause found (to match statem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ments posted on 6/8/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 cause discovered on 6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normal scheduling data in MOS caused Settlements System to receive ba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ed data and reran 5/29/06 Initial Settlement on 6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Lodestar source to match statements posted on 6/8/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al adjustment of MSR/MSD did not get picked up in original BENA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refore, original statements posted on 6/8 would not make sense on the resettl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ted Initial Statements on 6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ute deadline pushed back according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1D6-4A72-428B-8209-31127531A1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wariner</dc:creator>
  <dc:description/>
  <dc:language>en-US</dc:language>
  <cp:lastModifiedBy>bbarnes</cp:lastModifiedBy>
  <cp:lastPrinted>2002-09-24T18:27:58Z</cp:lastPrinted>
  <dcterms:modified xsi:type="dcterms:W3CDTF">2006-06-21T16:22:32Z</dcterms:modified>
  <cp:revision>298</cp:revision>
  <dc:subject>RMS</dc:subject>
  <dc:title>ERCOT RMS Update 10-16-03</dc:title>
</cp:coreProperties>
</file>