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641052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1000" y="4523040"/>
            <a:ext cx="641052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56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1000" y="45230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56000" y="45230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38560" y="13712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05760" y="13712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1000" y="45230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38560" y="45230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505760" y="4523040"/>
            <a:ext cx="206388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1000" y="1371240"/>
            <a:ext cx="64105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641052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312804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56000" y="1371240"/>
            <a:ext cx="312804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480" y="0"/>
            <a:ext cx="67435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456000" y="1371240"/>
            <a:ext cx="312804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1000" y="45230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312804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56000" y="45230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56000" y="1371240"/>
            <a:ext cx="312804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1000" y="4523040"/>
            <a:ext cx="6410520" cy="287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144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1000" y="1371240"/>
            <a:ext cx="641052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66520" y="8577360"/>
            <a:ext cx="3305160" cy="566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ctr" pos="38876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ctr" pos="38876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2006 – EDW roadma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fld id="{C1B7F6F1-4AC9-4311-91DE-11F27F605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803160" y="861048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14480" y="8469360"/>
            <a:ext cx="545760" cy="522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32040"/>
            <a:ext cx="6858000" cy="73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914400"/>
            <a:ext cx="6858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8331120"/>
            <a:ext cx="6858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8331120"/>
            <a:ext cx="6858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257800" y="8432640"/>
            <a:ext cx="1600200" cy="8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 F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r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474516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DW Roadmap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 COPS Solicitation</a:t>
            </a:r>
            <a:br>
              <a:rPr sz="18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une 27, 2006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00440" y="2743200"/>
            <a:ext cx="12571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bjective of the Consultation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6410520" cy="6033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edw will go through a period of further development in order to support the nodal marke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 of ERCOT’s remit is to make periodic consultations with its stakeholde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velopment roadmap is being produced that will allow us to map the edw developments over the next 3 year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consultation is to capture stakeholders needs of the edw as we move into the Nodal market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want to ensure that edw and the users that it serves are aligned and have assurance that they will continue to be align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e want to ensure that what is important to all stakeholders is captured and addressed in the roadma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 summary, the edw roadmap is a look ahead at nodal and will be designed to deliver stakeholders’ needs in increment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ructure of the consultati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1000" y="1142640"/>
            <a:ext cx="6410520" cy="7086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sultation is through interviews and a workshop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interviews are structured in categories covering a range of topics related to the edw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e look for subjective responses; positive or negative answers with three grades of uncertainty between.  You can also decline to answer. 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idence to substantiate the response should be provided, e.g. requirement x is documente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rmally the interview is done face to face, but in this case, we will provide the question prompts and a means to be contacted in case of difficulty understanding or answering ques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rmally, we discuss success criteria – please describe these where they are known or indicate that no success criteria have been determine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We will combine all of the responses and analyze both the general response levels in categories, specific answers and evide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result defines the roadmap contents, with examples of value, costs and requiremen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6743520" cy="70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Questionnair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78016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20:48:54Z</dcterms:created>
  <dc:creator>myeggoni</dc:creator>
  <dc:description/>
  <dc:language>en-US</dc:language>
  <cp:lastModifiedBy>jlavas</cp:lastModifiedBy>
  <dcterms:modified xsi:type="dcterms:W3CDTF">2006-06-23T16:51:21Z</dcterms:modified>
  <cp:revision>265</cp:revision>
  <dc:subject/>
  <dc:title>IT Nodal Project Execution Structure</dc:title>
</cp:coreProperties>
</file>