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42D-0A39-4480-B90B-9F171333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000-E98B-4967-8002-E063C8EE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E5EE-3316-45FE-B763-DCE3A74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014-3914-4256-AAC8-121A4789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9213-7280-4DF1-980A-B800C6B4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2B6-0892-4C46-A13D-71366892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6D3-81FC-47B6-BDA9-639396C9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68AD-001D-4A59-A962-EEC7C98D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F32F-D889-4946-A6DD-2D22AA9D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093E-9F8B-4DF7-B32E-571DF417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7E02-E45B-4B2C-8C97-9A77A28E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A15E-7754-4214-9EBC-57EACDD9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B661-E5D3-4DFD-953A-DB9B2994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B355-BD40-44CD-A627-42F815C7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DD0A-879A-4C1F-A539-E57907F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B9DC-9DE7-4F29-9B43-B5705010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BA93-4E21-4CA5-8B55-06DB6F8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996E-EDEA-45BF-8688-C1C11FCB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2624-942F-4045-9DDF-E1B87FB2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E601-C735-49AA-A36A-5D85E61C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4394-84ED-45CA-BD43-F2A37C66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6F7-9FE1-4E42-AF2C-5D6D3C96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4F1-696B-4BB1-962B-0ABE3C6A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E2D-9EA9-4934-96DB-D4676C99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19A3-A39F-4184-8510-76D84EADBDD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CE0F-B2DE-4E06-95EC-956ECD985C4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FETF 2006 Goals &amp; Upd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ne 27, 2006 COPS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btain a better understanding of the drivers of U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e current line loss calcu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Filed DLF PRR 668 Ma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Will submit COPMGRR (if assigned by CO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Change from current 8 base cases updated annually to 36 base cases updated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Current: 4 seasons; peak &amp; off-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Nodal: Monthly; peak &amp; off-peak, with 18 month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btain a better understanding of the drivers of UF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e inaccuracies in Profile shapes and assignments (this is being addressed by PW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and evaluate other driv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PUCT Staff looking into any available historical theft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Improving/investigating NIDR estimation (future agenda item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aluate the methodology for determining profile scaling factors in the data aggregation proc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ERCOT researched and not much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ng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termine if any Protocols changes are recommended and file PRR if nee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PRR 668 – DLF add 3</a:t>
            </a:r>
            <a:r>
              <a:rPr b="1" lang="en-US" sz="2800" spc="-1" strike="noStrike" baseline="30000">
                <a:solidFill>
                  <a:srgbClr val="336666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e the potential for establishing UFE Analysis Zones by determining if suitable TDSP boundary metering data can be made available to ERCOT; if such data is available compare it to the ERCOT aggregated TDSP loa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alyze historical trends in the volatility and magnitude of UFE and explore the possibility of developing methods to forecast the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1:52Z</dcterms:created>
  <dc:creator>cmoore</dc:creator>
  <dc:description/>
  <dc:language>en-US</dc:language>
  <cp:lastModifiedBy>cmoore</cp:lastModifiedBy>
  <dcterms:modified xsi:type="dcterms:W3CDTF">2006-06-19T16:59:23Z</dcterms:modified>
  <cp:revision>14</cp:revision>
  <dc:subject/>
  <dc:title>UFETF 2006 Go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3090679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Updated: COPS Agenda planning call for the June 27 meeting.</vt:lpwstr>
  </property>
  <property fmtid="{D5CDD505-2E9C-101B-9397-08002B2CF9AE}" pid="6" name="_NewReviewCycle">
    <vt:lpwstr/>
  </property>
</Properties>
</file>