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A611-F116-4819-8FD7-425A82EAD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350532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ril 17, 2006 EECP Ev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1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y Ahead Stud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:00 April 16 Replacement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k load forecast – 49,018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-line peak capacity scheduled – 50,661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cured additional 2,542 MW RPRS and OOMC for HE 16 and 17 on April 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:00 April 17 Replacement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k load forecast – 49,591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-line peak capacity scheduled – 54,382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need seen for additional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17 – Pre-EEC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tracking above fore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:00 Replacement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k load forecast – 51,114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-line peak capacity scheduled – 55,234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d 490 MW that tripped between 12:00 and 13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Plans also showed 1,700 MW off-line capacity available within 3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need seen for additiona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demand at 14:00 was 49,194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480" y="487440"/>
            <a:ext cx="8953200" cy="614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91320" y="4343400"/>
            <a:ext cx="1981080" cy="94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 Plan at 16:00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16 16:00 Study: 45,721 M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17 01:00 Study: 45,850 M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17 12:56 Study: 44,212 M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371600"/>
            <a:ext cx="1905120" cy="94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 Capacity at 16:00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16 16:00 Study: 50,661 M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17 01:00 Study: 54,382 M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17 12:56 Study: 55,234 M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3276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523880"/>
            <a:ext cx="2362320" cy="228600"/>
          </a:xfrm>
          <a:custGeom>
            <a:avLst/>
            <a:gdLst/>
            <a:ahLst/>
            <a:rect l="l" t="t" r="r" b="b"/>
            <a:pathLst>
              <a:path w="1488" h="144">
                <a:moveTo>
                  <a:pt x="0" y="0"/>
                </a:moveTo>
                <a:lnTo>
                  <a:pt x="1488" y="0"/>
                </a:lnTo>
                <a:lnTo>
                  <a:pt x="1488" y="144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412920"/>
            <a:ext cx="8839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68320" y="1123920"/>
          <a:ext cx="5607360" cy="4643640"/>
        </p:xfrm>
        <a:graphic>
          <a:graphicData uri="http://schemas.openxmlformats.org/drawingml/2006/table">
            <a:tbl>
              <a:tblPr/>
              <a:tblGrid>
                <a:gridCol w="1721160"/>
                <a:gridCol w="2057400"/>
                <a:gridCol w="1828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 Year (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E for MTLF run at 16:00 Day A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E for MTLF run at Midn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uary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574164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53383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ary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06754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00958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94087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69912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34206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13976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31541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73933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e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5159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644414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ly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726507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752458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98733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901083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tember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623645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23070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ober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463290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087059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ember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04728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694359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76752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95488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MAPE for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078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844888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68320" y="1335240"/>
          <a:ext cx="5607000" cy="4187520"/>
        </p:xfrm>
        <a:graphic>
          <a:graphicData uri="http://schemas.openxmlformats.org/drawingml/2006/table">
            <a:tbl>
              <a:tblPr/>
              <a:tblGrid>
                <a:gridCol w="1720800"/>
                <a:gridCol w="2057400"/>
                <a:gridCol w="1828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 Year (20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E for MTLF run at 16:00 Day A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E for MTLF run at Midn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uary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182767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4737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ary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667890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1344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13694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40420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704826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581562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8054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52219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e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103750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09840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ly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16269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22393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57837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62858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tember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39396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24027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ober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300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50068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ember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316345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6897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473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37565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MAPE for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5577597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257278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68320" y="2427120"/>
          <a:ext cx="5607000" cy="2003400"/>
        </p:xfrm>
        <a:graphic>
          <a:graphicData uri="http://schemas.openxmlformats.org/drawingml/2006/table">
            <a:tbl>
              <a:tblPr/>
              <a:tblGrid>
                <a:gridCol w="1720800"/>
                <a:gridCol w="2057400"/>
                <a:gridCol w="1828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 Year (2006)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E for MTLF run at 16:00 Day A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E for MTLF run at Midn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uary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88500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16914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ary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091575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12567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51597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97006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89504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48872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MAPE for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034690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993840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David Cantrel</dc:creator>
  <dc:description/>
  <dc:language>en-US</dc:language>
  <cp:lastModifiedBy>jdumas</cp:lastModifiedBy>
  <cp:lastPrinted>2000-09-19T10:42:49Z</cp:lastPrinted>
  <dcterms:modified xsi:type="dcterms:W3CDTF">2006-06-21T15:59:54Z</dcterms:modified>
  <cp:revision>205</cp:revision>
  <dc:subject/>
  <dc:title>No Slide Title</dc:title>
</cp:coreProperties>
</file>