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710B-77B2-401F-9921-14CD1945A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6D35-6AE6-486E-8192-6A83A70F0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4240-E101-42D0-852A-088DAC0BF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10A3-2CD3-4B6A-9F74-53A612C2A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889D-A0B8-4D04-9951-316C4AC7A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64EF-FBFF-476C-8736-894C16F8A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F411-A825-4EB8-935C-CF664641D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557E-026A-49A7-8468-F534F6AC7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72E5-D49A-46ED-A5AD-213259FEA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DF93-FFA0-4AE1-A1C4-367EC0F74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664A-E440-4E69-BC62-D8A1DAAB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7D89-0124-4EFA-9B97-0AD30B10E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CA5F4-E7E4-440E-B591-CB2B8EA75E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SE Managers Working Group Report to WM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une 21, 200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ort from June 14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R 607 – One Minute Ramp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ted by FPL and assigned to QSE Managers through FCTF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nt of PRR is to allow QSE’s to better represent start-up and shut-down of un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15 minute schedules do not accurately represent these ramps and is causing SCE compliance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SE Managers agree that technical requirements prohibit timely implementation of solution in ERCOT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R 607 – One Minute Ramping (co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PL has revised the PRR to address issue through a compliance measurement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PL will submit revised P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SE Managers support re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-Spin Rec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S asked ERCOT to propose a methodology of reducing NSRS Recall imp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May meeting, QSE Managers suggest looking into decreasing block deployments similar to NSRS deployment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COT reported back at the June QSE Manager meeting that decreasing block deployments already in place – blocks can be recalled in same blocks as deploy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L Deadb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COT systems currently discount all RRS on a unit if unit falls 1 mw below L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COT has submitted a system change to implement a 5% deadband such that reserves would not be discounted unless a unit falls below 5% under L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COT will update on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tiple BES Ramp Rate Feasi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600200"/>
          <a:ext cx="8229600" cy="4559400"/>
        </p:xfrm>
        <a:graphic>
          <a:graphicData uri="http://schemas.openxmlformats.org/drawingml/2006/table">
            <a:tbl>
              <a:tblPr/>
              <a:tblGrid>
                <a:gridCol w="1569960"/>
                <a:gridCol w="3132360"/>
                <a:gridCol w="3527280"/>
              </a:tblGrid>
              <a:tr h="3056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tern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6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our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RCOT Inter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E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chnical Feasi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nown Cost (Approx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-Processing for deriving equivalent ramp-rate: $1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D Modification: $2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known C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ML, Portal, MDB, and Participant-related cost, et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ML, Portal, MDB, and Participant-related cost, et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6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st Benef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91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i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233280" indent="-23328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proximate ramp-rates still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3280" indent="-23328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accurate ramp-rate when RR_recall exists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3280" indent="-23328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sible performance impact due to this additional pre-processing step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3280" indent="-23328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233280" indent="-23328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uge and complicated task since almost everything done in R3 will need to be either redesigned/re-implemented/retested or reviewed/retested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3280" indent="-23328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D performance issue due to additional logics in a variety of models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3280" indent="-23328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totype engine needs to be built to give accurate assess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780240" cy="4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processing outside of SP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1143000"/>
            <a:ext cx="3886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Equiv. UBES RR=(160-20)/10=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5867280"/>
            <a:ext cx="3962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Equiv. DBES RR=(170-0)/(10-1.43)=19.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1828800" y="1447920"/>
            <a:ext cx="1371600" cy="609480"/>
          </a:xfrm>
          <a:prstGeom prst="line">
            <a:avLst/>
          </a:prstGeom>
          <a:ln w="6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1905120" y="4647960"/>
            <a:ext cx="1218960" cy="1143000"/>
          </a:xfrm>
          <a:prstGeom prst="line">
            <a:avLst/>
          </a:prstGeom>
          <a:ln w="6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181480" y="1111320"/>
            <a:ext cx="3581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Equiv. UBES RR=(100-20)/10=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952880" y="5835600"/>
            <a:ext cx="3962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Equiv. DBES RR=(140-0)/(10-2.5)=18.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762120"/>
            <a:ext cx="1600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Times New Roman"/>
              </a:rPr>
              <a:t>Bid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19920" y="762120"/>
            <a:ext cx="1600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Times New Roman"/>
              </a:rPr>
              <a:t>Bid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0" y="1371600"/>
          <a:ext cx="3962520" cy="42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3962520" cy="42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4648320" y="1363680"/>
          <a:ext cx="3962160" cy="4205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363680"/>
                    <a:ext cx="3962160" cy="42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 flipH="1" flipV="1">
            <a:off x="6171840" y="3886200"/>
            <a:ext cx="228600" cy="1752480"/>
          </a:xfrm>
          <a:prstGeom prst="line">
            <a:avLst/>
          </a:prstGeom>
          <a:ln w="6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6552720" y="1447920"/>
            <a:ext cx="228600" cy="1066680"/>
          </a:xfrm>
          <a:prstGeom prst="line">
            <a:avLst/>
          </a:prstGeom>
          <a:ln w="6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tiple BES Ramp Rate Feasibility 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SE Managers suggest not pursuing Alternative II due to cost and resource commitment by ERC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al (Ryan Thomas / Jeff Brown) has drafted a PRR.  Will be submitted through the PRR pro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SE Managers support P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aw-back provision in RMR contract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MS directed QSEMWG to investigate the significance of RMR capacity not offered in B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COT data indicates some intervals where RMR capacity could have been uti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SE Managers to possibly sponsor PRR to address – draft to be discussed at August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380880" y="190440"/>
          <a:ext cx="8506080" cy="637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0440"/>
                    <a:ext cx="8506080" cy="637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R 476 – Ramp Rate Adherence During Local Conges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ed by Exelon 11/13/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MS asked QSE Managers to take back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lon states that PRR’s 653 and 662 address the iss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PRR 662 is approved, Exelon intends to withdraw PRR 47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2T14:31:46Z</dcterms:created>
  <dc:creator>Larry Gurley</dc:creator>
  <dc:description/>
  <dc:language>en-US</dc:language>
  <cp:lastModifiedBy>Gary D Miller</cp:lastModifiedBy>
  <dcterms:modified xsi:type="dcterms:W3CDTF">2006-06-19T20:23:18Z</dcterms:modified>
  <cp:revision>7</cp:revision>
  <dc:subject/>
  <dc:title>QSE Managers Working Group Report to WMS February 22, 2006</dc:title>
</cp:coreProperties>
</file>