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8959850" cy="6721475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E497-CEE1-4AF3-AAEB-6ADA5EC8B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333A-BCAA-48A2-89DB-480FCA5FE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6C5C-73E8-4A61-8867-C5EAC374A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520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5152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522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0520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5152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5F5F-9455-4058-A821-8AB923567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6440" y="31176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B554-8F7E-482A-9D89-23A12F187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520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5152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522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0520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5152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72600-8323-4BE0-BF9B-D1043A7EB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816B-0D99-4EA5-B628-C26C6F421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24A3-0F2B-4FDC-8588-1CF6AFB20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6440" y="31176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2746-FE86-4639-A0B4-2ECF36FAC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6594-2371-4C83-98A7-9C6BD8226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711F-D2D9-4127-9120-F613FE0BB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8D90-3561-43BD-B48C-753F7A3D9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551800" y="6511680"/>
            <a:ext cx="185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BD9CBE8A-62EF-4DC3-B77E-B149F8EC5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14120">
              <a:buClr>
                <a:srgbClr val="006b61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77760" indent="-114120">
              <a:buClr>
                <a:srgbClr val="000000"/>
              </a:buClr>
              <a:buSzPct val="89000"/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5280" y="922320"/>
            <a:ext cx="860292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5280" y="650556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5280" y="19224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" name="McK Slide Elements"/>
          <p:cNvGrpSpPr/>
          <p:nvPr/>
        </p:nvGrpSpPr>
        <p:grpSpPr>
          <a:xfrm>
            <a:off x="136440" y="1122480"/>
            <a:ext cx="8595360" cy="5371920"/>
            <a:chOff x="136440" y="1122480"/>
            <a:chExt cx="8595360" cy="5371920"/>
          </a:xfrm>
        </p:grpSpPr>
        <p:sp>
          <p:nvSpPr>
            <p:cNvPr id="7" name="McK Measure" hidden="1"/>
            <p:cNvSpPr/>
            <p:nvPr/>
          </p:nvSpPr>
          <p:spPr>
            <a:xfrm>
              <a:off x="137520" y="1122480"/>
              <a:ext cx="1433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McK Footnote" hidden="1"/>
            <p:cNvSpPr/>
            <p:nvPr/>
          </p:nvSpPr>
          <p:spPr>
            <a:xfrm>
              <a:off x="136440" y="6103440"/>
              <a:ext cx="85917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" name="McK Legend"/>
            <p:cNvGrpSpPr/>
            <p:nvPr/>
          </p:nvGrpSpPr>
          <p:grpSpPr>
            <a:xfrm>
              <a:off x="7872480" y="1538280"/>
              <a:ext cx="859320" cy="767160"/>
              <a:chOff x="7872480" y="1538280"/>
              <a:chExt cx="859320" cy="76716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7872480" y="1538280"/>
                <a:ext cx="859320" cy="182880"/>
                <a:chOff x="7872480" y="1538280"/>
                <a:chExt cx="859320" cy="182880"/>
              </a:xfrm>
            </p:grpSpPr>
            <p:sp>
              <p:nvSpPr>
                <p:cNvPr id="11" name="" hidden="1"/>
                <p:cNvSpPr/>
                <p:nvPr/>
              </p:nvSpPr>
              <p:spPr>
                <a:xfrm>
                  <a:off x="7872480" y="1560600"/>
                  <a:ext cx="28404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McK Footnote" hidden="1"/>
                <p:cNvSpPr/>
                <p:nvPr/>
              </p:nvSpPr>
              <p:spPr>
                <a:xfrm>
                  <a:off x="8219160" y="153828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7872480" y="1731960"/>
                <a:ext cx="859320" cy="182880"/>
                <a:chOff x="7872480" y="1731960"/>
                <a:chExt cx="859320" cy="182880"/>
              </a:xfrm>
            </p:grpSpPr>
            <p:sp>
              <p:nvSpPr>
                <p:cNvPr id="14" name="" hidden="1"/>
                <p:cNvSpPr/>
                <p:nvPr/>
              </p:nvSpPr>
              <p:spPr>
                <a:xfrm>
                  <a:off x="7872480" y="1754280"/>
                  <a:ext cx="284040" cy="139680"/>
                </a:xfrm>
                <a:prstGeom prst="rect">
                  <a:avLst/>
                </a:prstGeom>
                <a:solidFill>
                  <a:srgbClr val="47474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McK Footnote" hidden="1"/>
                <p:cNvSpPr/>
                <p:nvPr/>
              </p:nvSpPr>
              <p:spPr>
                <a:xfrm>
                  <a:off x="8219160" y="17319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872480" y="1927440"/>
                <a:ext cx="859320" cy="182880"/>
                <a:chOff x="7872480" y="1927440"/>
                <a:chExt cx="859320" cy="182880"/>
              </a:xfrm>
            </p:grpSpPr>
            <p:sp>
              <p:nvSpPr>
                <p:cNvPr id="17" name="" hidden="1"/>
                <p:cNvSpPr/>
                <p:nvPr/>
              </p:nvSpPr>
              <p:spPr>
                <a:xfrm>
                  <a:off x="7872480" y="1949400"/>
                  <a:ext cx="284040" cy="1400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McK Footnote" hidden="1"/>
                <p:cNvSpPr/>
                <p:nvPr/>
              </p:nvSpPr>
              <p:spPr>
                <a:xfrm>
                  <a:off x="8219160" y="192744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7872480" y="2122560"/>
                <a:ext cx="859320" cy="182880"/>
                <a:chOff x="7872480" y="2122560"/>
                <a:chExt cx="859320" cy="182880"/>
              </a:xfrm>
            </p:grpSpPr>
            <p:sp>
              <p:nvSpPr>
                <p:cNvPr id="20" name="" hidden="1"/>
                <p:cNvSpPr/>
                <p:nvPr/>
              </p:nvSpPr>
              <p:spPr>
                <a:xfrm>
                  <a:off x="7872480" y="2144880"/>
                  <a:ext cx="284040" cy="139680"/>
                </a:xfrm>
                <a:prstGeom prst="rect">
                  <a:avLst/>
                </a:prstGeom>
                <a:solidFill>
                  <a:srgbClr val="dadad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McK Footnote" hidden="1"/>
                <p:cNvSpPr/>
                <p:nvPr/>
              </p:nvSpPr>
              <p:spPr>
                <a:xfrm>
                  <a:off x="8219160" y="21225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" name="McK Sticker"/>
            <p:cNvGrpSpPr/>
            <p:nvPr/>
          </p:nvGrpSpPr>
          <p:grpSpPr>
            <a:xfrm>
              <a:off x="7289280" y="1166400"/>
              <a:ext cx="1434960" cy="221400"/>
              <a:chOff x="7289280" y="1166400"/>
              <a:chExt cx="1434960" cy="221400"/>
            </a:xfrm>
          </p:grpSpPr>
          <p:sp>
            <p:nvSpPr>
              <p:cNvPr id="23" name="McK Sticker" hidden="1"/>
              <p:cNvSpPr/>
              <p:nvPr/>
            </p:nvSpPr>
            <p:spPr>
              <a:xfrm>
                <a:off x="7289280" y="1166760"/>
                <a:ext cx="1434960" cy="219600"/>
              </a:xfrm>
              <a:prstGeom prst="leftRightArrow">
                <a:avLst>
                  <a:gd name="adj1" fmla="val 100000"/>
                  <a:gd name="adj2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360" bIns="18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812880"/>
                    <a:tab algn="l" pos="1625760"/>
                    <a:tab algn="l" pos="2438280"/>
                    <a:tab algn="l" pos="3251160"/>
                    <a:tab algn="l" pos="4064040"/>
                    <a:tab algn="l" pos="4876920"/>
                    <a:tab algn="l" pos="5689440"/>
                    <a:tab algn="l" pos="6502320"/>
                    <a:tab algn="l" pos="7315200"/>
                    <a:tab algn="l" pos="8128080"/>
                    <a:tab algn="l" pos="8940960"/>
                    <a:tab algn="l" pos="9753480"/>
                    <a:tab algn="l" pos="1056636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STICKER (ALL CA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" name=""/>
              <p:cNvCxnSpPr/>
              <p:nvPr/>
            </p:nvCxnSpPr>
            <p:spPr>
              <a:xfrm>
                <a:off x="7291080" y="116640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" name=""/>
              <p:cNvCxnSpPr/>
              <p:nvPr/>
            </p:nvCxnSpPr>
            <p:spPr>
              <a:xfrm>
                <a:off x="7291080" y="138708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0960" y="2884320"/>
            <a:ext cx="573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46160" y="1677960"/>
            <a:ext cx="8668800" cy="3053880"/>
            <a:chOff x="146160" y="1677960"/>
            <a:chExt cx="8668800" cy="3053880"/>
          </a:xfrm>
        </p:grpSpPr>
        <p:sp>
          <p:nvSpPr>
            <p:cNvPr id="64" name=""/>
            <p:cNvSpPr/>
            <p:nvPr/>
          </p:nvSpPr>
          <p:spPr>
            <a:xfrm>
              <a:off x="146160" y="473184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6160" y="167796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McK Title Elements"/>
          <p:cNvGrpSpPr/>
          <p:nvPr/>
        </p:nvGrpSpPr>
        <p:grpSpPr>
          <a:xfrm>
            <a:off x="7754760" y="1023840"/>
            <a:ext cx="1117800" cy="4138920"/>
            <a:chOff x="7754760" y="1023840"/>
            <a:chExt cx="1117800" cy="4138920"/>
          </a:xfrm>
        </p:grpSpPr>
        <p:sp>
          <p:nvSpPr>
            <p:cNvPr id="67" name="McK Sticker" hidden="1"/>
            <p:cNvSpPr/>
            <p:nvPr/>
          </p:nvSpPr>
          <p:spPr>
            <a:xfrm>
              <a:off x="7754760" y="1023840"/>
              <a:ext cx="1117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I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McK Date" hidden="1"/>
            <p:cNvSpPr/>
            <p:nvPr/>
          </p:nvSpPr>
          <p:spPr>
            <a:xfrm>
              <a:off x="8488440" y="49798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6160" indent="425520" algn="ctr">
              <a:buClr>
                <a:srgbClr val="006b61"/>
              </a:buClr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97000" indent="566640" algn="ctr">
              <a:buClr>
                <a:srgbClr val="000000"/>
              </a:buClr>
              <a:buSzPct val="89000"/>
              <a:buFont typeface="Arial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433440" indent="71280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33440" indent="712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33440" indent="712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445840"/>
            <a:ext cx="7848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40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WG Update to WM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57440" y="4216320"/>
            <a:ext cx="1665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1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06 DSWG Goals Updat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8240" y="1150920"/>
            <a:ext cx="8610480" cy="507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AC69-B9F7-4ACC-BF5E-D66D03C813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iered Frequency Response Updat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480" y="998280"/>
            <a:ext cx="78483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6040" indent="-1760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has issued an ord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ny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petition for a rule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red Frequency Response, along with other demand side management proposals, will be addressed in a new project in which the Commission will consider a range of issues associated with increasing demand participation in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226080">
              <a:spcBef>
                <a:spcPts val="451"/>
              </a:spcBef>
              <a:spcAft>
                <a:spcPts val="451"/>
              </a:spcAft>
              <a:buClr>
                <a:srgbClr val="00279f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ssion felt that this project should not be handled on a stand alone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226080">
              <a:spcBef>
                <a:spcPts val="451"/>
              </a:spcBef>
              <a:spcAft>
                <a:spcPts val="451"/>
              </a:spcAft>
              <a:buClr>
                <a:srgbClr val="00279f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addressed with a broader level of load participation under Nod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226080">
              <a:spcBef>
                <a:spcPts val="451"/>
              </a:spcBef>
              <a:spcAft>
                <a:spcPts val="451"/>
              </a:spcAft>
              <a:buClr>
                <a:srgbClr val="00279f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C will hold a series of workshops to identify load participations products and form an 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226080">
              <a:spcBef>
                <a:spcPts val="451"/>
              </a:spcBef>
              <a:spcAft>
                <a:spcPts val="451"/>
              </a:spcAft>
              <a:buClr>
                <a:srgbClr val="00279f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s are expected to be more centered around price responsiveness and less on re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226080">
              <a:spcBef>
                <a:spcPts val="451"/>
              </a:spcBef>
              <a:spcAft>
                <a:spcPts val="451"/>
              </a:spcAft>
              <a:buClr>
                <a:srgbClr val="00279f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lly, Commission would like to see mass markets and small C&amp;I loads targ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C292-0721-4958-95DF-ABB9057B61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SWG June Meeting Scheduled for June 30th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6480" y="998640"/>
            <a:ext cx="7848360" cy="505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da items for June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e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 a new Vice Cha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Rule and PRR Updates and Clar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on Negative LaaR Bidding Solutions (Brelinsk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 Metering proposal (Tref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er Frequency update from PUC (Brelinsk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ed Bids for LaaR Participation in the RRS and NSRS (Kre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Adequacy Task Force update (Sm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Participation Update (Kre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storming Session for Demand Response Pos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up Diesel Generation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il and Gas Profile D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ail Merchant Price Respons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Update (Patter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61B1-E22C-4E8D-AD8A-4989105E09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y Anne Brelinsky</cp:lastModifiedBy>
  <dcterms:modified xsi:type="dcterms:W3CDTF">2006-06-20T22:29:00Z</dcterms:modified>
  <cp:revision>19</cp:revision>
  <dc:subject/>
  <dc:title>DSWG Update to WMS</dc:title>
</cp:coreProperties>
</file>