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B64-933A-4E99-B89E-255CA9B8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826-8D08-417A-8911-725AC1F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A4-6B74-499D-BC5C-89CA38F9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12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14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12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14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012-897E-40BE-9BB6-8A7A6C5F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362-E9DC-474D-8F7B-5540139C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BDAA-6B2B-4AE5-93EF-468D114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D03F-BE3A-435F-9A64-7CEBDAF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D50C-551C-4E8B-8A8A-0812F4A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152E-F337-4228-A50D-4129257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BD6-9A76-4C52-BD83-7CEF278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6E0-3DDF-4028-A96A-3FF5074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909-4697-45D0-8C11-BAA04E3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9BF-EE93-4C4D-A129-4F6DD23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C13-C073-4521-ACE2-6744C4F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E646-129F-4043-AD74-A00C5627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8868-1739-4384-8D94-88B77831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912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14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912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14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263-B296-4FB8-9ADD-A874E1AA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62E-10E5-4829-8A0D-94A4CA9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0B3-9FF6-42DD-B418-547A6FA6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E04-BFC2-4B3C-A38A-B03B898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0DA-ABB3-4894-819D-D7B4AD3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570-8A27-4473-A4A6-B8A8F527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D5E-ADBF-454A-AF9D-415960F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795-B105-456D-8860-D27AD90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31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26200" y="306360"/>
            <a:ext cx="1600200" cy="86220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80D5-2438-4512-ADE0-BD3AAD73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79160" y="1185840"/>
            <a:ext cx="66373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28B6-D661-4499-973A-868EFBB7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Z and Other Wind Studies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21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n Woodf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RCOT Regional Pla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Z Next Steps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1600" y="1498320"/>
            <a:ext cx="8169120" cy="491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WS Truewind will be supplying representative wind data for each of the 25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, working with RPGs, will study transmission necessary to connect the 10 areas and logical combinations and resolve any uneconomic 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will select RFQ vendor and initiate study of A/S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is to have package of data available to PUCT in Oct/No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nd Interconnection Activity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228680"/>
            <a:ext cx="7029360" cy="562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71600" y="4665600"/>
            <a:ext cx="3857760" cy="15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ion Interconnections by Fuel Typ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 Public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99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,24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,23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9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3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,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d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0,608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,175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3,78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,86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,55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,20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5800680"/>
            <a:ext cx="3286080" cy="200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7 Wind Study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3360" y="1847520"/>
            <a:ext cx="5742000" cy="397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reasonable level of wind likely to be operational by EO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units chosen from full interconnection requests and sited to show transmission impacts yet maintain confidentiality       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near-term plan for congestion relief for implementation if sufficient units sign 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rojects that are needed even if portion of additional units sign 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16640" y="1413000"/>
            <a:ext cx="197820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7 Wind Study- Next Steps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been doing some studies using in-house wind profiles, but will re-run using representative profiles from AWS True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post likely congested elements and work with RPG to develop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tudy is being undertaken as part of annual 5-Year study and so will eventually look at futur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ral Items related to Wind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69120" cy="478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B 20 Studies - Long Term System Assessment (LTSA) and Competitive Renewable Energy Zone (CREZ)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Interconnection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Year Plan – 2007 Wind Scenario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B 20 Studies Background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69120" cy="478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ate Bill 20 requires the PUC to designate CREZ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is providing the cost and benefit analyses for potential CREZs for the P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is evaluating the potential CREZs as a part of the LTSA that is also required by SB2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CT has on-going rulemaking, but studies are being done presumptively to meet d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TSA Components and Schedul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2000" y="1569960"/>
          <a:ext cx="8467200" cy="5241960"/>
        </p:xfrm>
        <a:graphic>
          <a:graphicData uri="http://schemas.openxmlformats.org/drawingml/2006/table">
            <a:tbl>
              <a:tblPr/>
              <a:tblGrid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  <a:gridCol w="705600"/>
              </a:tblGrid>
              <a:tr h="49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V="1">
            <a:off x="6648480" y="3733560"/>
            <a:ext cx="0" cy="99036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00960" y="3733920"/>
            <a:ext cx="609840" cy="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5316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T System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48080" y="3733920"/>
            <a:ext cx="5029200" cy="0"/>
          </a:xfrm>
          <a:prstGeom prst="line">
            <a:avLst/>
          </a:prstGeom>
          <a:ln w="5724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2240" y="263844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nd Integration R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95600" y="2133720"/>
            <a:ext cx="0" cy="4572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133720"/>
            <a:ext cx="1295640" cy="0"/>
          </a:xfrm>
          <a:prstGeom prst="line">
            <a:avLst/>
          </a:prstGeom>
          <a:ln w="5724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10160" y="3819240"/>
            <a:ext cx="0" cy="15238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3760" y="54100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Z Criteria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3480" y="5411880"/>
            <a:ext cx="266688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92800" y="548640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Z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62880" y="540864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24400" y="5410080"/>
            <a:ext cx="4038480" cy="0"/>
          </a:xfrm>
          <a:prstGeom prst="line">
            <a:avLst/>
          </a:prstGeom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48080" y="3897000"/>
            <a:ext cx="0" cy="82692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6200" y="4724280"/>
            <a:ext cx="217188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8880" y="3019320"/>
            <a:ext cx="266688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62880" y="4800600"/>
            <a:ext cx="0" cy="53352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4800600"/>
            <a:ext cx="914400" cy="0"/>
          </a:xfrm>
          <a:prstGeom prst="line">
            <a:avLst/>
          </a:prstGeom>
          <a:ln w="5724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934480" y="3809880"/>
            <a:ext cx="0" cy="152424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27320" y="44197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Z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096400" y="3124080"/>
            <a:ext cx="0" cy="53352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1905120"/>
            <a:ext cx="228600" cy="152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2133720"/>
            <a:ext cx="2286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7600" y="18622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3440" y="208296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40" y="1676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keholder Input on CREZ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48000" y="2628720"/>
            <a:ext cx="0" cy="106668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0000" y="2209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nd Consultant R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248000" y="2629080"/>
            <a:ext cx="0" cy="4572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2960" y="2590920"/>
            <a:ext cx="2724120" cy="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019320"/>
            <a:ext cx="205740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Input on Potential CREZ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1160" y="1282680"/>
            <a:ext cx="6343560" cy="557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7840" y="5334120"/>
            <a:ext cx="3390840" cy="105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k Counties indicate areas of single stakeholder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 and Black Counties indicate areas of multiple stakeholder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Best, Geographically-Distributed Wind Sit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01920" y="1314360"/>
            <a:ext cx="6210000" cy="5210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200" y="5172120"/>
            <a:ext cx="3390840" cy="115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identified by AWS Truewind with highest annual capacity factor sites down to level that provided geographic coverage of features identified by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ea Information – Higher CF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00560" y="3181320"/>
            <a:ext cx="484344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21428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214280"/>
            <a:ext cx="4340160" cy="4052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34040" y="3219480"/>
            <a:ext cx="4809960" cy="3638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ea Information – Lower CF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3171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for Transmission Analys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7600" y="1231920"/>
            <a:ext cx="7045560" cy="562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42880" y="5067360"/>
            <a:ext cx="3390840" cy="148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(and black) shapes generally contain the best 4000MW of wind sites in each area, as identified by AWS Truew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shapes represent the best 1000MW sites in each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62640" y="1590840"/>
            <a:ext cx="33908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will be analyzed for areas 2,4,5,6,7,9,10,12,14 &amp;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03:19Z</dcterms:created>
  <dc:creator>Dan Woodfin - ERCOT</dc:creator>
  <dc:description/>
  <dc:language>en-US</dc:language>
  <cp:lastModifiedBy>Dan Woodfin - ERCOT</cp:lastModifiedBy>
  <dcterms:modified xsi:type="dcterms:W3CDTF">2006-06-20T18:12:0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18C1381093C1154AA2FB6B04A5A1B8E40700DC68C4C4B0AF7D4FB9504FAD5D129F6C00000002978C0000605C27899AC7AB4EADB940B71A15C89500000080A50F0000</vt:lpwstr>
  </property>
  <property fmtid="{D5CDD505-2E9C-101B-9397-08002B2CF9AE}" pid="3" name="_EmailStoreID">
    <vt:lpwstr>0000000038A1BB1005E5101AA1BB08002B2A56C200006D737073742E646C6C00000000004E495441F9BFB80100AA0037D96E0000000043003A005C0044006100740061005C004F00750074006C006F006F006B005C00570050004C0034002E007000730074000000</vt:lpwstr>
  </property>
  <property fmtid="{D5CDD505-2E9C-101B-9397-08002B2CF9AE}" pid="4" name="_NewReviewCycle">
    <vt:lpwstr/>
  </property>
  <property fmtid="{D5CDD505-2E9C-101B-9397-08002B2CF9AE}" pid="5" name="_ReviewCycleID">
    <vt:r8>1502449705</vt:r8>
  </property>
  <property fmtid="{D5CDD505-2E9C-101B-9397-08002B2CF9AE}" pid="6" name="_TentativeReviewCycleID">
    <vt:r8>1502449705</vt:r8>
  </property>
</Properties>
</file>