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28B-F3FC-4D0B-A6F8-4113FE48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1BA-EA3D-4F69-A9A0-2E54292B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C67-5167-425D-80E7-FCAE9C18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F38-9D3F-4EF3-8AB8-551D56F7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98F-059D-452E-AF1E-EB0177EB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3B8-EE6C-467B-AE2C-0796B706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44F-6015-45CD-AFC9-3CEAFE60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A89-F766-4E0C-BE15-20B15CC9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B3C-DE06-492E-8F94-E0F099E6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8D6-F18E-406A-BF68-7762611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BC9-0E09-43D1-A8A7-F7E367D8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6E1-7475-4D0E-B930-92893A4E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CE59-9AF7-4399-9227-4998F3CB4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n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118 Competitive Retailers reported numbers by the due date for May Reports (06/02/0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of 15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July RMS (June Reports) are due by July 5,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676520"/>
          <a:ext cx="8076960" cy="4495320"/>
        </p:xfrm>
        <a:graphic>
          <a:graphicData uri="http://schemas.openxmlformats.org/drawingml/2006/table">
            <a:tbl>
              <a:tblPr/>
              <a:tblGrid>
                <a:gridCol w="2259720"/>
                <a:gridCol w="1528200"/>
                <a:gridCol w="1555560"/>
                <a:gridCol w="1367640"/>
                <a:gridCol w="1365840"/>
              </a:tblGrid>
              <a:tr h="108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9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,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,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76520"/>
          <a:ext cx="8076960" cy="4495320"/>
        </p:xfrm>
        <a:graphic>
          <a:graphicData uri="http://schemas.openxmlformats.org/drawingml/2006/table">
            <a:tbl>
              <a:tblPr/>
              <a:tblGrid>
                <a:gridCol w="2259720"/>
                <a:gridCol w="1528200"/>
                <a:gridCol w="1555560"/>
                <a:gridCol w="1367640"/>
                <a:gridCol w="1365840"/>
              </a:tblGrid>
              <a:tr h="108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600200"/>
          <a:ext cx="8076960" cy="4647960"/>
        </p:xfrm>
        <a:graphic>
          <a:graphicData uri="http://schemas.openxmlformats.org/drawingml/2006/table">
            <a:tbl>
              <a:tblPr/>
              <a:tblGrid>
                <a:gridCol w="2259720"/>
                <a:gridCol w="1528200"/>
                <a:gridCol w="1555560"/>
                <a:gridCol w="1367640"/>
                <a:gridCol w="136584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76520"/>
          <a:ext cx="8152920" cy="457164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69960"/>
                <a:gridCol w="1380960"/>
                <a:gridCol w="1378440"/>
              </a:tblGrid>
              <a:tr h="105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8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6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,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,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7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600200"/>
          <a:ext cx="8153280" cy="472392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70320"/>
                <a:gridCol w="1380600"/>
                <a:gridCol w="137880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152920" cy="472392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69960"/>
                <a:gridCol w="1380960"/>
                <a:gridCol w="137844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6-06-05T14:21:50Z</dcterms:modified>
  <cp:revision>326</cp:revision>
  <dc:subject/>
  <dc:title>PowerPoint Presentation</dc:title>
</cp:coreProperties>
</file>