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631-A50A-4EEF-B14F-83C2227C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F4F-C23C-4263-B3E9-576E9BC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2D2-F02C-4EBD-9816-0BC90307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071-A961-40C0-BD85-2356168D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5E6-B57D-407D-BD6D-93C0A6D4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31D-7986-4421-891F-B5EE740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A28-F1CE-484E-BB37-EEA1796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B4A-F39B-43B6-A61F-47E33048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763-50CB-48CF-A122-28496B3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B5C-7277-40CB-884B-97F4C7A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492-384F-4481-A095-D46CBD01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CB4-A186-4646-AA11-27F1B3D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D55-282A-4814-864C-0BCDC36D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400800" cy="44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40080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2280" y="228600"/>
            <a:ext cx="832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Transaction processing availability in this slide reflects treating the production domain migration as an unplanned outage, when treated as planned outage, Transaction Processing Availability for May was 99.10%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5:25:42Z</dcterms:created>
  <dc:creator>djohnson2</dc:creator>
  <dc:description/>
  <dc:language>en-US</dc:language>
  <cp:lastModifiedBy>ERCOT</cp:lastModifiedBy>
  <dcterms:modified xsi:type="dcterms:W3CDTF">2006-06-16T16:30:02Z</dcterms:modified>
  <cp:revision>2</cp:revision>
  <dc:subject/>
  <dc:title>Slide 1</dc:title>
</cp:coreProperties>
</file>