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88C-3216-4EF8-A923-114873CF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504-53D5-4F12-AA99-EBAD2BFB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120-3939-4A02-B029-885BFA1C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4F5F-2D0F-49D7-81A9-74F3E689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895D-29EB-4239-B031-9030A621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CDEB-09F1-4701-B98C-80CC3C0F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DAA4-7F9E-499D-A6F6-D1E9B6A6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8B0-B27A-4FB9-9643-6EEE2483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9C36-7EB1-4E78-8B1E-F4FE520D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5E4-85F1-4C08-9B6C-CB3937E2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1137-D584-4FDF-A5E9-CB051F6B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A641-BB94-42A4-8743-7B9FFB77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0C59-0240-40CC-ACE0-08192BAD1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Upda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6/14/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449E-45B5-470F-A92B-8AFB651C31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4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ails – Flight 04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esting for Flight 0406 completed success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8A9-9E0B-4BDE-80BB-BB81AF0997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7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Flight - 07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s intending to use API will be required to test MarkeTr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UI Interface testing volunteers will also be accep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 Meeting: held yesterday - 06/13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light Deadline: 06/21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Kick-Off Conference Call: 06/27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CE7-8BB8-4FC5-B8A7-D1DFCB67C8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7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Flight – 0706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Kick-Off Conference Call: 07/07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begins: 07/10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rak Testing API/GUI: 08/07/06 – 08/18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scheduled to conclude: 08/22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24C-994B-4498-AED7-D6FE00E829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sherri slagowski</cp:lastModifiedBy>
  <cp:lastPrinted>2002-09-24T18:27:58Z</cp:lastPrinted>
  <dcterms:modified xsi:type="dcterms:W3CDTF">2006-06-06T18:27:50Z</dcterms:modified>
  <cp:revision>385</cp:revision>
  <dc:subject/>
  <dc:title>PowerPoint Presentation</dc:title>
</cp:coreProperties>
</file>