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90600" y="-360"/>
            <a:ext cx="2994120" cy="4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77560" y="679320"/>
            <a:ext cx="462924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29360"/>
            <a:ext cx="3070080" cy="4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90600" y="8829360"/>
            <a:ext cx="2994120" cy="4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89C61D-F117-488B-B07A-5E17FE2EC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ing changed slightly from “approving market changes” to “final approval of market chang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lightly more interest in future training compared to 2004 with 74% interested compared to 67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deems CSRs to be performing very well in all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7920" y="67932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0520" y="4376880"/>
            <a:ext cx="5143320" cy="4225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question changed from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4, respondents were asked who they feel is most responsible for introducing market cha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2006 survey asks about initiating protocol and guide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ly, board members said market participant committees were 100% responsible for introducing market changes - a significant change from 60% who feel that Market Participant Committees are most responsible for initiating protocol and guide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4, 94% of committee members said market participant committees were most responsible and 6% said ERCOT Staff were most 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4, 78% of Market  Participant Staff said Market Participant Committees were most responsible and 22% said ERCOT Staff were most 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FB7-49A1-4011-8922-44B18083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B8F-F589-40C6-BE1A-D2E26E5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F43-BC50-44EF-B13E-3F49C667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F6E-F222-42B9-A082-698D5547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05B-4C82-4216-AA4D-BB2180E3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56B-4C04-4816-BAF3-8D89C776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91D-1075-4843-9D85-68D90E0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EB2-B9F9-448C-AF9E-3BD1C0DD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E7A-229E-45D4-A0F3-32DFF969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6A1-1793-4AE8-8A2D-48D718F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B55-11F8-401B-BB3C-AED9DF45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400-DBD8-432C-9D1F-88FB9C0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" y="645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68C0-EE27-46F6-BC60-9772D8EE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80880"/>
            <a:ext cx="0" cy="59436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0" cy="59436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73880" y="380880"/>
            <a:ext cx="932040" cy="40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"/>
          <p:cNvGraphicFramePr/>
          <p:nvPr/>
        </p:nvGraphicFramePr>
        <p:xfrm>
          <a:off x="762120" y="228600"/>
          <a:ext cx="612612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"/>
                    <a:ext cx="6126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6095880"/>
            <a:ext cx="796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epared by      Opinion Dynamics Corporation      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rcot%20CenterArt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6766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04920" y="228600"/>
          <a:ext cx="860112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6011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20880" y="1682640"/>
          <a:ext cx="728640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82640"/>
                    <a:ext cx="72864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90720" y="1752480"/>
          <a:ext cx="723888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23888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91440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Interest in Future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82640"/>
          <a:ext cx="89154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2640"/>
                    <a:ext cx="89154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94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Overview of Perceived 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81532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of ERCOT staff -- particularly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account managers -- officers and direc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Communications -- ERCOT webs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Timeliness, accuracy and format of data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rovid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roviding effective trai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lor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28800" y="1984320"/>
          <a:ext cx="66308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4320"/>
                    <a:ext cx="66308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257800" y="363204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6 to 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77504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5 or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48904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or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362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743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505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886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03480" y="4648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03480" y="5029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24382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657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800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868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Corporate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12408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ing Reliability/Adequacy of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06800" y="1301760"/>
          <a:ext cx="7207200" cy="48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0" y="1301760"/>
                    <a:ext cx="72072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22096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discriminatory access to transmission/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9625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 accounting of electric production &amp;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769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information about customer’s choice of 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25576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560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124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34290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0086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3131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49230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2275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89856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84320" y="1371600"/>
          <a:ext cx="7365960" cy="50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4320" y="1371600"/>
                    <a:ext cx="736596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04920" y="52578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048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362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4956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veness to Market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733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0" y="21798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0" y="24843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51200" y="294156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51200" y="3200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0" y="368784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0" y="39625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51200" y="44658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51200" y="47242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200" y="5197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51200" y="54561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89856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Officers &amp; Dir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38480" y="1380960"/>
          <a:ext cx="711180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1380960"/>
                    <a:ext cx="711180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7200" y="2971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86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47401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veness to Market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4191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5425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of ERCOT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79800" y="21337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79800" y="2408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79800" y="28656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79800" y="3094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79800" y="3475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79800" y="3703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79800" y="41148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79800" y="4343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79800" y="47545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9800" y="49989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79800" y="5410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79800" y="56847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Account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4952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5022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/ 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365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590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 of inqui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809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905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/Willingness to resolv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32004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22640" y="1143000"/>
          <a:ext cx="722304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143000"/>
                    <a:ext cx="722304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133720" y="19051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21337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25146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2743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0942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3322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7036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39322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267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495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48769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1055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54864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57150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89856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Functional Areas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968480" y="1371600"/>
          <a:ext cx="718812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1371600"/>
                    <a:ext cx="718812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80880" y="199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276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4382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Transaction Processing/ Customer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733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-Lateral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267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3341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and B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47242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lements Dispute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51200" y="2011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51200" y="2209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5909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7892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51200" y="3124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51200" y="3322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51200" y="36576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51200" y="38559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51200" y="4267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51200" y="4465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51200" y="48006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51200" y="49989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51200" y="53341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51200" y="5532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990800"/>
            <a:ext cx="81536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Opinion Dynamics was contracted to conduct a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rimary research effort to measure Market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articipant perceptions of ERCOT’s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with respect to meeting its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esponsibil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Follow up and expansion of the 2004 Market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articipant Surv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esults allow for comparisons between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 perceptions and operational realities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and trending of performance over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Introductio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89856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P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38480" y="1380960"/>
          <a:ext cx="711180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1380960"/>
                    <a:ext cx="711180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33520" y="29718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344484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oftwar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14956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ering th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80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standing the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1148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5562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ing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79800" y="21337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9800" y="2408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79800" y="28656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9800" y="3094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79800" y="3475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79800" y="3703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9800" y="41148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9800" y="4343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79800" y="47545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79800" y="49989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79800" y="5410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79800" y="56847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89856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Metering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38480" y="1380960"/>
          <a:ext cx="711180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1380960"/>
                    <a:ext cx="711180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990720" y="5410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ing need for data 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8862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cy of data 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1240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362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ng data 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6483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ss of data 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6248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New Question in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89856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Varianc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35160" y="1384200"/>
          <a:ext cx="63500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5160" y="1384200"/>
                    <a:ext cx="63500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228600" y="54864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Var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5146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Transaction Var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3505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Extract Var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5486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25146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35053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2832120" y="1549440"/>
          <a:ext cx="60706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1549440"/>
                    <a:ext cx="60706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04920" y="868320"/>
            <a:ext cx="8839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Staff Performance: Finance and Accounting Credit Standards*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69892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ly communicates collateral requirements to market particip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0552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ds well or effectively to questions regarding collateral require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38098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ds in a timely manner to questions regarding collateral require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64008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w questions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8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unt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3760" y="45867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rity of ERCOT Staff’s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3351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ten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0374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400480" y="1333440"/>
          <a:ext cx="711180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1333440"/>
                    <a:ext cx="71118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93760" y="53330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27421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Appropriate Mailing Lists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6400800"/>
            <a:ext cx="37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55760" y="21034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55760" y="23320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55760" y="271296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55760" y="29415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55760" y="33228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55760" y="3551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55760" y="39625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55760" y="41911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55760" y="4618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55760" y="4846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55760" y="52578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55760" y="5486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6305400"/>
            <a:ext cx="6553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New question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2286000" y="1219320"/>
          <a:ext cx="687060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19320"/>
                    <a:ext cx="68706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33520" y="94464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: Functional Areas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362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3276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4267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d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5181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360" y="611028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55760" y="22096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55760" y="2560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55760" y="3124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55760" y="34750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55760" y="41148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55760" y="4465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5760" y="50292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5760" y="5380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057400" y="1219320"/>
          <a:ext cx="687060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68706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533520" y="94464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: Functional Areas* (cont.)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214956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teral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32004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191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s to I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0292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360" y="611028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6305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w questions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89856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Satisfaction with the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260440" y="1371600"/>
          <a:ext cx="712476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1371600"/>
                    <a:ext cx="712476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33520" y="32767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ss of posted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2438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k of the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4267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functionality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1213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e of finding documents and inf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79800" y="22860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79800" y="26370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9800" y="32004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9800" y="3551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79800" y="414504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79800" y="4495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79800" y="51055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9800" y="54100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6305400"/>
            <a:ext cx="6553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New question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Timeliness of Data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60440" y="1371600"/>
          <a:ext cx="712476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1371600"/>
                    <a:ext cx="712476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457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2362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ssion Congestion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41911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 Cr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52578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Ex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9800" y="22860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79800" y="26370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79800" y="32004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79800" y="3551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9800" y="414504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79800" y="4495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79800" y="51055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79800" y="54100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Accuracy of Data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489040" y="1371600"/>
          <a:ext cx="689616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371600"/>
                    <a:ext cx="689616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609480" y="3429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lements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30184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ssion Congestion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2670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 Cr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257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Ex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32080" y="22860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32080" y="26370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32080" y="32004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32080" y="35812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32080" y="414504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32080" y="454176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32080" y="51055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32080" y="54864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828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Three Phas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571840"/>
            <a:ext cx="4038840" cy="12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Phase 1: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Review 2004 Market Participant Survey Instru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905360"/>
            <a:ext cx="4038840" cy="12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Phase 2: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In-depth interviews with key ERCOT stakehol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3324240"/>
            <a:ext cx="2514600" cy="207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Phase 3: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Survey of ERCOT’s Market Particip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81520" y="3333600"/>
            <a:ext cx="1162080" cy="711360"/>
          </a:xfrm>
          <a:prstGeom prst="rightArrow">
            <a:avLst>
              <a:gd name="adj1" fmla="val 50000"/>
              <a:gd name="adj2" fmla="val 408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78280" y="4727520"/>
            <a:ext cx="1162080" cy="711360"/>
          </a:xfrm>
          <a:prstGeom prst="rightArrow">
            <a:avLst>
              <a:gd name="adj1" fmla="val 50000"/>
              <a:gd name="adj2" fmla="val 408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Format of Data*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057400" y="1371600"/>
          <a:ext cx="689616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689616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762120" y="5105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37497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ssion Congestion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2514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 Cre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6305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w questions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90180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ffectiveness of Training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260440" y="1359000"/>
          <a:ext cx="689616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1359000"/>
                    <a:ext cx="689616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33520" y="24382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and Dispute Semin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37497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Training Semin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49687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Operations Semin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79800" y="48769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79800" y="53341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79800" y="36576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79800" y="4114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79800" y="2362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9800" y="28195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1020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Overview of Areas for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77156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pending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Technical Help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e &amp; Accounting Credit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413080" y="1320840"/>
          <a:ext cx="71373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1320840"/>
                    <a:ext cx="71373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304920" y="8683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pending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24541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Equita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365760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on Things that are Important to Your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49687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Cost Eff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32080" y="48769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32080" y="53341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32080" y="36576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32080" y="4114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32080" y="2362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32080" y="28195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1447920" y="1601640"/>
          <a:ext cx="6832440" cy="48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1640"/>
                    <a:ext cx="6832440" cy="48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04920" y="9748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Usefulness of Technical Helpde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6354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ly different from 2004 at 95% confidence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832120" y="1447920"/>
          <a:ext cx="60706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1447920"/>
                    <a:ext cx="60706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304920" y="8683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Finance and Accounting Credit Standards*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247032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exposure and related collateral requirements are calculated consistent with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498492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llateral requirements are adequate to mitigate the credit exposure in the mark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37339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llateral requirements and credit standards are fairly implemented across the mark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4008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w questions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Project Management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43592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4908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tly applying cost-benefit analysis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2514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ng progress of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5022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money eff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1905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wledge/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2280" y="306396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ing projects based on system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768760" y="1143000"/>
          <a:ext cx="643860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143000"/>
                    <a:ext cx="64386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2484360" y="19051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84360" y="21337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84360" y="25146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84360" y="27432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84360" y="3094200"/>
            <a:ext cx="639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84360" y="33228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84360" y="37036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84360" y="39322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84360" y="42670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84360" y="44956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84360" y="48769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84360" y="510552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54864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84360" y="571500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367344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ing projects that meet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63817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New question in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09480" y="1990800"/>
            <a:ext cx="815364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 perceived areas of strengt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with respect to corporat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Systems are providing timely and accurat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ERCOT staff performance across virtually all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functional are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of Account Manag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3720" y="6324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09480" y="199080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Specific areas for strategic conside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’s understanding of the role of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committees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/ governance in setting spending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rior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Defining and communicating ERCOT staff’s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 fun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The market is critical of ERCOT’s project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nagement -- More research on this issue is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necessa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nclusions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23720" y="6324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752480"/>
            <a:ext cx="81532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ODC developed a sample of 920 unique Market Participants using the following lists provided by ERCOT staf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Appropriate points of contact at market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articipant firms provided by Account Manag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Current ERCOT Board memb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Current Committee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44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Survey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9144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Response Rate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287 completed surveys from a sample of 920 Market Participants (3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2075040"/>
          <a:ext cx="8077320" cy="4020840"/>
        </p:xfrm>
        <a:graphic>
          <a:graphicData uri="http://schemas.openxmlformats.org/drawingml/2006/table">
            <a:tbl>
              <a:tblPr/>
              <a:tblGrid>
                <a:gridCol w="5791320"/>
                <a:gridCol w="22860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Board Member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 Memb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9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Staf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9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 of respondent based on self-selected descriptions – Q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7242120" y="63244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pons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914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y Market Participant Firm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682640"/>
          <a:ext cx="89154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2640"/>
                    <a:ext cx="89154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94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Survey Approach: 10 poin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59120"/>
            <a:ext cx="815328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ny questions based on a 10 point scale: 1-3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= negative response, 8-10 = positiv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espo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ean responses will trend toward the middle of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a 10 point scale – only those with passionat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opinion are likely to provide a rating in top or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bottom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In general, mean responses of 6.6 or above ar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favorable ratings, 7.5 and above are extremely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ositive respon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838080"/>
            <a:ext cx="8839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17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 Opinions Regarding</a:t>
            </a:r>
            <a:br>
              <a:rPr sz="1700"/>
            </a:br>
            <a:r>
              <a:rPr b="0" lang="en-US" sz="17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’s Role In Developing Market Ru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905120"/>
          <a:ext cx="8076960" cy="4481280"/>
        </p:xfrm>
        <a:graphic>
          <a:graphicData uri="http://schemas.openxmlformats.org/drawingml/2006/table">
            <a:tbl>
              <a:tblPr/>
              <a:tblGrid>
                <a:gridCol w="3276360"/>
                <a:gridCol w="1447920"/>
                <a:gridCol w="1630440"/>
                <a:gridCol w="1722240"/>
              </a:tblGrid>
              <a:tr h="9741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ard Memb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=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e Memb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=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Participant Staf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=1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shoul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ke a 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development of market r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60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shoul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vide individual professional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7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staff should support the development of market rules by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providing data and analysis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6012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staff shoul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nly adminis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 market r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80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20880" y="1682640"/>
          <a:ext cx="728640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82640"/>
                    <a:ext cx="72864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4:23:39Z</dcterms:created>
  <dc:creator>ODC</dc:creator>
  <dc:description/>
  <dc:language>en-US</dc:language>
  <cp:lastModifiedBy>Bill Norton</cp:lastModifiedBy>
  <cp:lastPrinted>2004-05-07T21:00:52Z</cp:lastPrinted>
  <dcterms:modified xsi:type="dcterms:W3CDTF">2006-05-16T14:53:51Z</dcterms:modified>
  <cp:revision>543</cp:revision>
  <dc:subject/>
  <dc:title>PowerPoint Presentation</dc:title>
</cp:coreProperties>
</file>