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777-174B-4ED0-94AF-398252BF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FE2-595C-4C26-A635-30DD49B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F38-F8A7-42A3-809E-FA9FE03F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4A8-3B08-4C12-91D5-0125B82C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81D-A1A4-4678-AB86-447A8B5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503-B1C5-43C6-9FD4-FA9F2755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304-6976-4D6D-A79E-113324BE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5DA-89AB-4377-8773-01E33697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952-6FA1-4716-9CD8-DBA07933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B0C-6566-49D6-B5B4-D5222E63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3E2-4963-452D-B3C8-6EA0E14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08B-D071-4695-8950-C17663A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E93D-4BFE-442E-A134-9247B22F3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ne 14, 2006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st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6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295280"/>
          <a:ext cx="8686800" cy="5369040"/>
        </p:xfrm>
        <a:graphic>
          <a:graphicData uri="http://schemas.openxmlformats.org/drawingml/2006/table">
            <a:tbl>
              <a:tblPr/>
              <a:tblGrid>
                <a:gridCol w="1986120"/>
                <a:gridCol w="1164960"/>
                <a:gridCol w="1111320"/>
                <a:gridCol w="1163520"/>
                <a:gridCol w="1109880"/>
                <a:gridCol w="1168200"/>
                <a:gridCol w="982800"/>
              </a:tblGrid>
              <a:tr h="3841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ket Metrics Working 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7,6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,7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9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7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1,9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,5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,3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1,4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,2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,2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0,1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,2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,9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2,6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,58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6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0,3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,3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,7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3,2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7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,8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1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3,2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,8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4,9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,68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,13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8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295280"/>
          <a:ext cx="8686800" cy="5333760"/>
        </p:xfrm>
        <a:graphic>
          <a:graphicData uri="http://schemas.openxmlformats.org/drawingml/2006/table">
            <a:tbl>
              <a:tblPr/>
              <a:tblGrid>
                <a:gridCol w="1727280"/>
                <a:gridCol w="1125360"/>
                <a:gridCol w="978120"/>
                <a:gridCol w="1017360"/>
                <a:gridCol w="978120"/>
                <a:gridCol w="1015920"/>
                <a:gridCol w="869760"/>
                <a:gridCol w="974880"/>
              </a:tblGrid>
              <a:tr h="41472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n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34,5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4,9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3,9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6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9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7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2.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7.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24,2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9,0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2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4,7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9.6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08,9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3,1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,2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00,7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3.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3,9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,8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5.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3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9,8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,2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,3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1,1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7,5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,9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3,2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,3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,8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3,2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,3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0,5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,4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,0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,7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7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6-06-06T19:16:02Z</dcterms:modified>
  <cp:revision>397</cp:revision>
  <dc:subject/>
  <dc:title>PowerPoint Presentation</dc:title>
</cp:coreProperties>
</file>