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2A4-80AA-4116-A1F7-F8531A85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F23-9466-45E9-AEBC-F97F033A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05A-53E7-45E1-A3FF-5246D176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09D-F277-40F7-9E93-C1B524BA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2C8F-DD41-49FA-B7CB-6585D23D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DCDE-AFB0-4E62-A082-C985F6EC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7338-F6C6-4C1D-AE65-9D2C27BC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7DB2-915B-4AE8-905C-AD1E37A2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5952-4205-4095-A31F-3B86CA5D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D9CE-0172-4C36-93C5-B7BA4D33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B2DB-A88F-4353-A131-41AB6B57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F9D-AEA7-4F14-AF33-2FB0A1BD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015E-9713-4E3D-AD71-FAC5BAA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3D6C-925B-43EA-B45F-C2456E8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7F4F-A0D4-4ADD-AE30-9D6750D7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6783-90DA-4146-BACB-8ED827C9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24CD-0317-45FB-AE71-46693A7E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1FB-5713-41C2-922B-54DFE819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8C0-09A8-431D-BA07-E0D62B11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301-42E9-4890-A17A-58001BC2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639-DE1A-4973-A586-E8D88620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F13-8D2D-4F32-8B39-4B95DC6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9E2-F493-40BF-A8CA-9DD71310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CBE-D33A-4394-BAB8-FF075361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DA7A-F330-4395-AF49-16A0B5B3E2DF}" type="slidenum">
              <a:rPr b="1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2172960"/>
            <a:ext cx="495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ABBA-AC8A-4FA4-AB60-4AC680D69635}" type="slidenum">
              <a:rPr b="1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2172960"/>
            <a:ext cx="495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erms &amp; Conditions Task Forc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3429000"/>
            <a:ext cx="4952880" cy="18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ail Market Timing PR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e 14,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R - Retail Market Timing Necessary for PUCT Project 29637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Little Bit of History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y 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and 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TF identifies need for protocol timing chang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y 1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TF Protocol Team drafts initial redl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y 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TF Protocol Team meets with ERCOT and shares initial draf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y 3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and Jun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TF considers TCTF Protocol Teams draft, allows additional days for com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ne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TF submits draft PRR to RMS for June 1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vote (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</a:rPr>
              <a:t>tod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ne 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RCOT requests meeting with TCTF team members to document/understand business reasons behind the changes proposed in draft PRR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ne 1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and June 1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TF incorporates ERCOT suggestions from June 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meeting and submits improved PRR to R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R - Retail Market Timing Necessary for PUCT Project 29637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PRR proposes placing ERCOT transaction timings into four categories based on their priority in the marketplac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 Transactions –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ithin 1 Retail Business Hou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14_16 Priority Move-Ins and 814_20 Creates (adds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 Transactions –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ithin 2 Retail Business Hou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ndard Move-Ins, Move-Outs, Off Cycle Drops to AREP and Off Cycle Switch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 Transactions –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ithin 4 Retail Business Hou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storical Usage Transactions, and 814_20 Chang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4 Transactions –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ithin 1 Retail Business D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ycle Switches, On Cycle Drops, 814_26 Ad HocUsage Request, Establishing/Deleting C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R - Retail Market Timing Necessary for PUCT Project 29637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MS V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MS submits and recommends approval for the PRR on Retail Market Timing Necessary for RUCT Project 296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MS further acknowledges that the Terms and Conditions Task Force (TCTF) also recommends this PR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9:00:51Z</dcterms:created>
  <dc:creator>Registered User</dc:creator>
  <dc:description/>
  <dc:language>en-US</dc:language>
  <cp:lastModifiedBy>00208429</cp:lastModifiedBy>
  <dcterms:modified xsi:type="dcterms:W3CDTF">2006-06-14T13:46:57Z</dcterms:modified>
  <cp:revision>3</cp:revision>
  <dc:subject/>
  <dc:title>Terms &amp; Conditions Task Force</dc:title>
</cp:coreProperties>
</file>