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ED0-5EEC-4EE2-A3BF-5408B735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BD0C-125A-4440-80A4-17768535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D9A-F8E1-4C12-92B1-AB6D4FF4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F53-D3B7-4C8D-BECF-717F7798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B7A-80BF-4A33-992C-8EA64DB8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E1B-00C4-4A21-B4A6-BDA6C955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291-8472-4DEE-8019-52A008CD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87B-85B1-41E6-BEB1-BCE86D70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018-7A4F-40EE-B46D-889A1E8C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5B5-DC42-40D5-8D7A-A35A3C3E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3D7-10C2-4D35-9152-CDBDEBE5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C8B-3F51-4385-9134-1F7A6307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28E7-3043-4661-AD4E-BD41DEF5F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M ENERGY / VOLUNTARY MASS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586" t="21741" r="2586" b="8696"/>
          <a:stretch/>
        </p:blipFill>
        <p:spPr>
          <a:xfrm>
            <a:off x="152280" y="838080"/>
            <a:ext cx="8763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4:11:44Z</dcterms:created>
  <dc:creator>pjanacek</dc:creator>
  <dc:description/>
  <dc:language>en-US</dc:language>
  <cp:lastModifiedBy>jackadams</cp:lastModifiedBy>
  <dcterms:modified xsi:type="dcterms:W3CDTF">2006-06-05T14:57:18Z</dcterms:modified>
  <cp:revision>3</cp:revision>
  <dc:subject/>
  <dc:title>NM ENERGY / MASS TRANSI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84073157</vt:r8>
  </property>
  <property fmtid="{D5CDD505-2E9C-101B-9397-08002B2CF9AE}" pid="3" name="_AuthorEmail">
    <vt:lpwstr>jackadams@ercot.com</vt:lpwstr>
  </property>
  <property fmtid="{D5CDD505-2E9C-101B-9397-08002B2CF9AE}" pid="4" name="_AuthorEmailDisplayName">
    <vt:lpwstr>Adams, Jack</vt:lpwstr>
  </property>
  <property fmtid="{D5CDD505-2E9C-101B-9397-08002B2CF9AE}" pid="5" name="_EmailSubject">
    <vt:lpwstr>June RMS back ground material </vt:lpwstr>
  </property>
  <property fmtid="{D5CDD505-2E9C-101B-9397-08002B2CF9AE}" pid="6" name="_NewReviewCycle">
    <vt:lpwstr/>
  </property>
</Properties>
</file>