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6DC-7072-4A64-94FF-B4AE640D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778-A003-43C9-A9A2-74F96DC5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13B-92DF-4F43-94CE-A024DF6D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802-EA59-463C-89A2-E7185AF4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E898-A918-4894-B5D2-78DF7B44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1AA2-443F-494D-8D1C-6E6925AA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2BDE-9FA4-4805-B061-99A993F1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1496-353E-4458-87C7-B9EBA54D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C507-46BA-4E3E-ACE4-5B70F1A8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6C2F-E436-47A1-8CAA-CF04AA4A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A979-4A63-4BDE-9A54-2712A0F2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D8E-D668-41D2-A959-B091AF2A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CEE1-2D8F-4103-9DE2-6303DFD2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8FED-EF1A-4EAE-8EBE-FD514165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0C4F-D845-406B-879F-30C97437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B963-3B78-4209-B754-46ECCDBD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84B5-8D49-4BE7-A93B-2583C53A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5C8-083C-41A0-A6F4-B962E0B7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5CF-258B-46AA-8D69-5DCEA80A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C44-630A-433A-A79F-8A46120B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39E-E4D2-41E7-B18F-33C9A04D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6E2-8EA3-4D17-A77D-8853B78E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6CF-0AA0-4556-8B87-0C4DE013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272-7CF8-4EAE-9017-7F0D4AAF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1832-7EFF-4D66-8D09-67562C3EF9AC}" type="slidenum">
              <a:rPr b="1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2172960"/>
            <a:ext cx="49546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3DF0-C460-4248-B443-3B0064D5D027}" type="slidenum">
              <a:rPr b="1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2172960"/>
            <a:ext cx="49546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erms &amp; Conditions Task Forc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3922200"/>
            <a:ext cx="4952880" cy="18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ne 14,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-15264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s &amp; Conditions Task For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CTF Significant 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arch 14t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and Responsibility, Scope and Purpo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ay 8th and 9t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line, Issues Matrix and Action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33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Tahoma"/>
              </a:rPr>
              <a:t>May 31</a:t>
            </a:r>
            <a:r>
              <a:rPr b="0" lang="en-US" sz="2100" spc="-1" strike="noStrike" baseline="30000">
                <a:solidFill>
                  <a:srgbClr val="336699"/>
                </a:solidFill>
                <a:latin typeface="Tahoma"/>
              </a:rPr>
              <a:t>st</a:t>
            </a:r>
            <a:r>
              <a:rPr b="0" lang="en-US" sz="2100" spc="-1" strike="noStrike">
                <a:solidFill>
                  <a:srgbClr val="336699"/>
                </a:solidFill>
                <a:latin typeface="Tahoma"/>
              </a:rPr>
              <a:t> and June 1</a:t>
            </a:r>
            <a:r>
              <a:rPr b="0" lang="en-US" sz="2100" spc="-1" strike="noStrike" baseline="30000">
                <a:solidFill>
                  <a:srgbClr val="336699"/>
                </a:solidFill>
                <a:latin typeface="Tahoma"/>
              </a:rPr>
              <a:t>s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TCTF Protocol Team – Transaction Ti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afety Net Team - RMGR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stimation/Denial of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33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Tahoma"/>
              </a:rPr>
              <a:t>June 12</a:t>
            </a:r>
            <a:r>
              <a:rPr b="0" lang="en-US" sz="2100" spc="-1" strike="noStrike" baseline="30000">
                <a:solidFill>
                  <a:srgbClr val="336699"/>
                </a:solidFill>
                <a:latin typeface="Tahoma"/>
              </a:rPr>
              <a:t>th</a:t>
            </a:r>
            <a:r>
              <a:rPr b="0" lang="en-US" sz="2100" spc="-1" strike="noStrike">
                <a:solidFill>
                  <a:srgbClr val="336699"/>
                </a:solidFill>
                <a:latin typeface="Tahoma"/>
              </a:rPr>
              <a:t> and June 13</a:t>
            </a:r>
            <a:r>
              <a:rPr b="0" lang="en-US" sz="2100" spc="-1" strike="noStrike" baseline="30000">
                <a:solidFill>
                  <a:srgbClr val="336699"/>
                </a:solidFill>
                <a:latin typeface="Tahoma"/>
              </a:rPr>
              <a:t>t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greement of Protocol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Progress on Estimation and Safety 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0160" y="-15264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s &amp; Conditions Task For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mplementation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TF agreement on issues matri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9 20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TF  agreement on TX SET chang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ne 1 20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TF develop Protocol/RMG revis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ne 20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X SET requirements agre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ly 2006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ariff stipulated implementation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July 15 20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X SET change requests comple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 1 20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and RMGRR submitted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Sept 1 20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P/ERCOT Detailed design begi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 1 20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P/ERCOT Build/Development begi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ct 20 20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P/ERCOT Build/Develop comple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ch 20 200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P/ERCOT UAT activities begi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ch 20 2007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P/ERCOT UAT complet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ril 28 200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 Connectivity testing begin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ril 28 2007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 Testing begins Flight 0507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15 2007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 Testing end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ne 23 200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ut-over Implementation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June 30 - July 1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0160" y="-15264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s &amp; Conditions Task For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ssue Re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ection of the rule was closely analyzed for Market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d system or process chang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a TX SET Chang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a Protocol or Retail Market Guide Chang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d Action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d Teams to resolve/recommend re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0160" y="-15264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s &amp; Conditions Task For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CTF Significant 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33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Tahoma"/>
              </a:rPr>
              <a:t>March 14t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ole and Responsibility, Scope and Purpo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33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Tahoma"/>
              </a:rPr>
              <a:t>May 8th and 9t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Time line, Issues Matrix and Action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ay 3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nd June 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TF Protocol Team – Transaction Ti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TF Safety Net Team - RMGR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TF Estimation/Denial of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33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Tahoma"/>
              </a:rPr>
              <a:t>June 12</a:t>
            </a:r>
            <a:r>
              <a:rPr b="0" lang="en-US" sz="2100" spc="-1" strike="noStrike" baseline="30000">
                <a:solidFill>
                  <a:srgbClr val="336699"/>
                </a:solidFill>
                <a:latin typeface="Tahoma"/>
              </a:rPr>
              <a:t>th</a:t>
            </a:r>
            <a:r>
              <a:rPr b="0" lang="en-US" sz="2100" spc="-1" strike="noStrike">
                <a:solidFill>
                  <a:srgbClr val="336699"/>
                </a:solidFill>
                <a:latin typeface="Tahoma"/>
              </a:rPr>
              <a:t> and June 13</a:t>
            </a:r>
            <a:r>
              <a:rPr b="0" lang="en-US" sz="2100" spc="-1" strike="noStrike" baseline="30000">
                <a:solidFill>
                  <a:srgbClr val="336699"/>
                </a:solidFill>
                <a:latin typeface="Tahoma"/>
              </a:rPr>
              <a:t>t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greement of Protocol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Progress on Estimation and Safety 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-15264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s &amp; Conditions Task For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CTF Significant 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33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Tahoma"/>
              </a:rPr>
              <a:t>March 14t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ole and Responsibility, Scope and Purpo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33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Tahoma"/>
              </a:rPr>
              <a:t>May 8th and 9t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Time line, Issues Matrix and Action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33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Tahoma"/>
              </a:rPr>
              <a:t>May 31</a:t>
            </a:r>
            <a:r>
              <a:rPr b="0" lang="en-US" sz="2100" spc="-1" strike="noStrike" baseline="30000">
                <a:solidFill>
                  <a:srgbClr val="336699"/>
                </a:solidFill>
                <a:latin typeface="Tahoma"/>
              </a:rPr>
              <a:t>st</a:t>
            </a:r>
            <a:r>
              <a:rPr b="0" lang="en-US" sz="2100" spc="-1" strike="noStrike">
                <a:solidFill>
                  <a:srgbClr val="336699"/>
                </a:solidFill>
                <a:latin typeface="Tahoma"/>
              </a:rPr>
              <a:t> and June 1</a:t>
            </a:r>
            <a:r>
              <a:rPr b="0" lang="en-US" sz="2100" spc="-1" strike="noStrike" baseline="30000">
                <a:solidFill>
                  <a:srgbClr val="336699"/>
                </a:solidFill>
                <a:latin typeface="Tahoma"/>
              </a:rPr>
              <a:t>s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TCTF Protocol Team – Transaction Ti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afety Net Team - RMGR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stimation/Denial of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June 1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and June 1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reement of Protocol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ess on Estimation and Safety 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-15264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s &amp; Conditions Task For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apping It Up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ny Remaining Implementation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lve all Outstanding Action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 Texas SET Business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Protoco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 Retail Market Guide Mod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X SET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9:00:51Z</dcterms:created>
  <dc:creator>Registered User</dc:creator>
  <dc:description/>
  <dc:language>en-US</dc:language>
  <cp:lastModifiedBy>ssanders</cp:lastModifiedBy>
  <dcterms:modified xsi:type="dcterms:W3CDTF">2006-06-14T14:42:37Z</dcterms:modified>
  <cp:revision>8</cp:revision>
  <dc:subject/>
  <dc:title>Terms &amp; Conditions Task Force</dc:title>
</cp:coreProperties>
</file>