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035-56DF-4413-8C0A-7A256EFC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B77-16B3-4087-B698-062C733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2AF-F909-4A25-AF56-A4A62984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9DF-2D5A-402A-95B3-5F7C6ACE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058-7D8A-4054-A5B9-4AA41DB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A79-C8D6-4680-AD58-7FD0E2F4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1A4-C24F-4A65-B4AD-93418A8D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FF3-8F16-4AAC-8CC7-62240E3C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B9D-822A-4436-A266-162A6E0F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4FC-009B-4232-B0BA-ED3BF13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704-2B34-45CE-B9CD-0916217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3DA-18B3-4371-B07F-C4E9B6B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152-89C4-48DF-80B9-304C1989B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044-427D-434B-AC46-0F5216BC14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43 In Progress DEV Issues, 66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F92-CBF0-4EA7-9A12-727829D71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10A-58EE-4131-A78C-9FCEF57A6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EDC-DC73-40A5-BF80-3AC8F20D7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A1E-263B-4CEB-8A70-DA9A8C616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1FE-5C25-4216-AA3C-1FF042323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C4A-8CC7-4F1E-9426-3E092BDC26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F16-6844-4479-B5CA-C93A74907A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5/31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9568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31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A14-AD39-4E66-BD87-FD43C2F313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876920"/>
            <a:ext cx="8534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5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,1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25F-2753-476E-A709-3E27FFCF3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96252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05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FBB-93C8-417D-BA60-D2CE1D5143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5/31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F9C-55F7-4112-BDE4-82BC7D0A63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6-01T20:30:47Z</dcterms:modified>
  <cp:revision>624</cp:revision>
  <dc:subject/>
  <dc:title>PowerPoint Presentation</dc:title>
</cp:coreProperties>
</file>