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29F-BEFE-4F3C-97FC-710C235C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CE4-10FF-437D-B195-0AB77554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C5E-9C6C-4A8A-BAD0-8FC220B4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EEE-1D51-44D5-BF38-C56C8469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637-6564-4272-A59A-DDDA52D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2D1-31CA-434C-AA1F-B791A40C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55A-8A54-4495-A2B4-C14E3260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23A-E1D0-4E20-BB13-17F0C69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DBD-4B62-430A-AFAA-308D3E6D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331-A8FD-457D-A354-9CA7930A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A34-734E-406A-9B07-D18B01F6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486-A36A-450D-90A7-58DDBB9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0F13-39E9-400D-9ED8-B46A9F696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10552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’s retail availability was down with 4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with See-Beyond  queue corru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issue with Paper-Free due to a network interru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MS availability was down for 1 issue due to a network interru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70536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92120"/>
            <a:ext cx="838224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5:12:39Z</dcterms:created>
  <dc:creator>ERCOT</dc:creator>
  <dc:description/>
  <dc:language>en-US</dc:language>
  <cp:lastModifiedBy>ERCOT</cp:lastModifiedBy>
  <dcterms:modified xsi:type="dcterms:W3CDTF">2006-06-05T15:12:47Z</dcterms:modified>
  <cp:revision>1</cp:revision>
  <dc:subject/>
  <dc:title>Slide 1</dc:title>
</cp:coreProperties>
</file>