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6A3-2948-40B0-BD14-9B1BA3E9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265-EF76-4A4C-B4CA-D6AB5FB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56D-DA34-4C99-8EDD-C594D4C6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E0-A845-4D4C-91AF-38ACF4B2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34D-3A16-4FB6-95D3-89BF9A0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63-FA4B-426F-B237-CDD81271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C78-8956-47E2-B49F-6FD4657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ED2-BB1C-4EE5-B69A-414C42B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612-E04E-47AA-8E81-F0698EE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A4E-8D09-47BD-B616-E9AFB00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558-69F4-4A88-9C3A-3A1F2CE1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FC-69F5-40AB-ABC3-B79E333C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BFD9-DD56-4FEF-B3C3-12EF196F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XU Electric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ssu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 In January 2007, TXU ED may convert from a 2 digit rate code to an 8 digit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 Market notifications via the 814_2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Cod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XU ED may convert from a 2 digit rate code to 8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required for Underground Surcharges pursuant to city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SET supports up to 30 charac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Market Notification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814_20’s to ERCOT, passed to C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SV files to each C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“conversion table” on TXU ED web-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) Market notifications via the 814_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Market Capabilities for processing 814_20 maintenance transactions are limited to 25K to 50K transactions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814_20 transaction requires an 814_21 response (duplicates vol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cipated Requirements for TXUED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ansion – approx. 3,000,000 accounts (weekend conver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going conversion of AMR project over nex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 C’s requirements for duplicate address clar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ment of several hundred thousand temporar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rate and franchis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term Recommendation for Item 1 – Rate Conversion if necess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814_20’s is not feasible due to current limitations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that TXU ED post a conversion chart on our internal web-site to identify the rate code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U ED will contact all CR’s and provide a CSV file for any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Term Recommendation for Item 2, on going 814_20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task forc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uture volumes and processing require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urrent TIPCo project to determine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options for increasing ERCO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other transactions or other Market Notification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1:00:01Z</dcterms:created>
  <dc:creator>Registered User</dc:creator>
  <dc:description/>
  <dc:language>en-US</dc:language>
  <cp:lastModifiedBy>Registered User</cp:lastModifiedBy>
  <dcterms:modified xsi:type="dcterms:W3CDTF">2006-06-06T11:57:24Z</dcterms:modified>
  <cp:revision>4</cp:revision>
  <dc:subject/>
  <dc:title>TXU Electric Delivery</dc:title>
</cp:coreProperties>
</file>